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822D-1A22-438C-AF57-9163AAE0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9C54-DC17-465E-A957-7432F486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9206-FE20-4ADE-AB6A-03B19033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CE7E-D4D5-401E-BB3A-EDCE226D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7631-071B-4282-B8C3-07412675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16C5-F687-47C4-B317-2C51D1F9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448B-DDF3-4C81-A5D3-AE8B9FF6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10EB-532C-47FD-8EA8-2CC84C7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8436-E008-476E-8A70-C7340794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CF0D-2FCD-4998-A132-7649FDDF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AB1F-13A1-442D-8785-9ED90640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471B-2BE1-4339-8DD5-00DA2C8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8A57-419E-4997-A254-10C5EDC4C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E53A-080B-4733-A398-A55C388FE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4/09/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ter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4/0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er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cess 000 Update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unications Problems with EPS Met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trick Vin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pervisor, Meter Data Acquisi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cess 000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Operation/Repair Time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change to Process 000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the Chang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/Qu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cess 000 Update - Current Operation/Repair Timeli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-hour notice is issued w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rimary and Back-up meter communications is d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business day notice is issued w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rima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ackup meter communications is dow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cess 000 Update – What is the change to Process 000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ies language to reflect current MDAS operation implemented in late 2005.  That operation i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 meter point becomes a 12-hour notice, it remains a 12-nour notice regardless if one of the meter’s communications is re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cess 000 Update – Why the Change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existed where notices were toggling between a 12-hour notice and a 5-business day notice without ERCOT ever communicating with the Primary meter.  The resul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as unable to fulfill it’s protocol obligation of performing a “redundant validation check” between the meters prior to settlements being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ke the cycle of closing and re-issuing notices thus ensuring facility repairs are performed in accordance with Process 000, the SMOG and Protocol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ed ERCOT to fulfill it’s protocol obligation to perform a “redundant validation check” between the meters prior to settlements being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cess 000 Update – Discussion/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r Working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pvinton</cp:lastModifiedBy>
  <dcterms:modified xsi:type="dcterms:W3CDTF">2010-03-31T19:35:00Z</dcterms:modified>
  <cp:revision>34</cp:revision>
  <dc:subject/>
  <dc:title>Instructions</dc:title>
</cp:coreProperties>
</file>