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23DF-6BF6-4AEE-8FD6-F749AA86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5D3D-C044-47D5-9B29-1B043CE5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746E-701C-4169-9E51-48C9931A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863B-AB7C-4C54-84FF-D74A426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03F1-D04B-47EE-9B8E-BE736508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E6BC-541F-4670-AC52-0AA81839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D676-7036-4593-AEA5-9BD4839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D776-233A-409C-9096-97228B1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B289-8EEF-4DEA-9BF9-FAED7DA9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E325-1272-48B6-A7B9-1F2B41C6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F6BF-828A-4276-9E2A-04802697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7B47-FBAE-4143-82C6-3118443A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99E2-9825-4390-9F2E-30EB6FE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89A0-F8C8-4F0D-9867-A741B26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75C1-6E34-4167-8238-DE031646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D6E-351E-464B-9884-EDE83681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4/09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er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/0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r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P Metering for EPS Met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trick Vin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pervisor, Meter Data Acqui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P Meter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’s Methodology for IP Me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/Overview of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P Metering -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657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P Metering – Current Status/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existing WAN connection between ERCOT and TDS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“PAT” (port address translation) on TDSP networ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the time “on-line” with the meter from approximately 2 minutes per interrogation to 15-20 seconds per interrog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communications related issues with IP communications is significantly lower than phone-based comms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munications fixes appear to be accomplished remotely by the TDSP resetting the IP/protocol conver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have 4 TDSPs actively using IP for some, or all, of their EPS Meter communi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P Metering – “Next Steps”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interested in IP, contact the MDAS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provide the IP addresses that the TDSP must allow at the firewal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rrange a conference call between the TDSP’s and ERCOT’s I.T. group’s if technical issues need clarification or discu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P Metering – 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vinton</cp:lastModifiedBy>
  <dcterms:modified xsi:type="dcterms:W3CDTF">2010-03-31T18:22:02Z</dcterms:modified>
  <cp:revision>25</cp:revision>
  <dc:subject/>
  <dc:title>Instructions</dc:title>
</cp:coreProperties>
</file>