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dt" idx="11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ftr" idx="12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 type="sldNum" idx="13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D172961-F5FF-43A8-A072-8D65275CCD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F3BA257-4FDD-4896-B7A0-40AE0877A5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A046889-254B-409C-B2BD-C9F7451612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8691BB5-B7CA-4D23-82AD-64A38A92B9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B098B35-3AB3-45DB-A10F-7D5EAE0018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E19B500-55B9-4A44-8D70-DE4F71DE7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AF113-4E94-4083-BFB7-8EACDFB6E1C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45603-7BF7-4479-AA9C-BD0D42857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AA2B9-9891-41BE-9D29-A9BDE76A1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E33C2-A339-448C-BF51-6067AA6ACBB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B1137-28F7-44F6-8EFC-41C10A730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ACEEAF-B4F1-4246-B786-8A82EE297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B27E3D-8FE6-4CBD-A2CC-BBB31978B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C1E882-00CF-4D18-868F-420FA680E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332478-8C44-4BEB-82EE-FE399B665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98802E-DBCB-4EDD-A767-B92CA6B79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F8015-9A01-4926-A94D-DC8D8F316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5E2AB6-B7A3-40F7-8CE6-5C7843C20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82286E-56CE-48EF-9A3D-111FF97F7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FC0732-B2C5-4EC8-B55A-373C96C0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D31486-CDCA-4F31-9777-43C4D9DF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A2DDA6-B7A7-4461-AC0D-109BCE58D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EFC0E0-1C20-4E38-946E-68DCCF897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D50EB6-B6C9-43BB-A6A7-4B26E3E93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D1485F-B82A-4A4C-BDC8-123A62C5B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350E1E-0086-4F3F-B86A-AB7F7A6AF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131CA0-3820-4501-996D-941E1E156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7770D-A1B2-41B4-BD7E-F145A08DF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7E08A5-B318-4F3C-9FAD-97E2FC4DA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E48757-5331-49DC-AC5F-BC6C3EA10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833405-9FA6-485C-AD36-83150BF6B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E92960-66EB-4ED2-AEBB-5E83148EC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397000-7CCD-4D1F-9634-B56C26456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09B881-A898-4A4B-B027-E55EA832F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572BD2-3734-4962-8AB3-8C97A5DBF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793FF4-8120-4C80-BDC8-58B6F022F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0C8EEE-1100-489D-92B1-F7562B942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2D296-BE6A-4B54-B552-6EEF06CE0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D3EBA-76A6-40BC-BED7-586192C53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E3479-EF41-4944-A525-CD28ECD7B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BF795-AFAD-4F10-9A03-13DDA9B1F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83DE4-8D27-4640-A674-5845CB25B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82621-895B-41DF-89D8-9FCC868C01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3"/>
          <p:cNvSpPr/>
          <p:nvPr/>
        </p:nvSpPr>
        <p:spPr>
          <a:xfrm>
            <a:off x="8229600" y="6248520"/>
            <a:ext cx="533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1E100-050A-47EE-ACC5-954F63EA74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4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eeting Title (option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3"/>
          <p:cNvSpPr/>
          <p:nvPr/>
        </p:nvSpPr>
        <p:spPr>
          <a:xfrm>
            <a:off x="8229600" y="6248520"/>
            <a:ext cx="533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890F4-587C-4C87-8EB1-0DABE3F1F7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DD476-E888-4FD6-97A7-7BE98ACB4A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dt" idx="7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3"/>
          <p:cNvSpPr/>
          <p:nvPr/>
        </p:nvSpPr>
        <p:spPr>
          <a:xfrm>
            <a:off x="8229600" y="6248520"/>
            <a:ext cx="533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C1B47-5952-4142-B4AA-C0EADE32D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41B36-8AE0-4ACD-A5FB-D70941C717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dt" idx="10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PMO Update to PR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2343240" y="3580920"/>
            <a:ext cx="64958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roy Anders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ERCOT Program Management Off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March 25, 20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 - Agenda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838080"/>
            <a:ext cx="7620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201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10 Project Spending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of 3/22/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dal Parking De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of 3/24/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bruary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11 Project Priorit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65534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10 Project Spending Update – 3/22/2010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304920" y="762120"/>
          <a:ext cx="8305560" cy="5108400"/>
        </p:xfrm>
        <a:graphic>
          <a:graphicData uri="http://schemas.openxmlformats.org/drawingml/2006/table">
            <a:tbl>
              <a:tblPr/>
              <a:tblGrid>
                <a:gridCol w="2036520"/>
                <a:gridCol w="1890720"/>
                <a:gridCol w="2113200"/>
                <a:gridCol w="2265120"/>
              </a:tblGrid>
              <a:tr h="38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l Budge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Budge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nding Forecas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1,150,00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1,150,00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1,254,38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1,450,00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1,450,00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1,544,26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1,500,00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1,297,64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1,205,64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1,900,00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1,892,11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1,749,69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150,000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144,068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148,001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or Cap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750,000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750,00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750,00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eased but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Yet Reallocate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      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  5,93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      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total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6,900,00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6,689,76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6,651,97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</a:tr>
              <a:tr h="43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 Center Replacement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31,900,00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38,000,00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38,004,41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Center Hardwar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7,500,00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7,500,00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7,453,82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nd Total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46,300,00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52,189,76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52,110,21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</a:tr>
            </a:tbl>
          </a:graphicData>
        </a:graphic>
      </p:graphicFrame>
      <p:sp>
        <p:nvSpPr>
          <p:cNvPr id="196" name="Text Box 70"/>
          <p:cNvSpPr/>
          <p:nvPr/>
        </p:nvSpPr>
        <p:spPr>
          <a:xfrm>
            <a:off x="2525760" y="6037200"/>
            <a:ext cx="6807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71"/>
          <p:cNvSpPr/>
          <p:nvPr/>
        </p:nvSpPr>
        <p:spPr>
          <a:xfrm>
            <a:off x="1295280" y="5943600"/>
            <a:ext cx="67057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94"/>
          <p:cNvSpPr/>
          <p:nvPr/>
        </p:nvSpPr>
        <p:spPr>
          <a:xfrm>
            <a:off x="4377960" y="6019920"/>
            <a:ext cx="7232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1048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Nodal Parking Deck - Approved by Board of Director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228600" y="1066680"/>
          <a:ext cx="8686800" cy="4181760"/>
        </p:xfrm>
        <a:graphic>
          <a:graphicData uri="http://schemas.openxmlformats.org/drawingml/2006/table">
            <a:tbl>
              <a:tblPr/>
              <a:tblGrid>
                <a:gridCol w="1219320"/>
                <a:gridCol w="4190760"/>
                <a:gridCol w="1143000"/>
                <a:gridCol w="2133720"/>
              </a:tblGrid>
              <a:tr h="72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urce Docume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949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949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orit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949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rrent Statu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949a"/>
                    </a:solidFill>
                  </a:tcPr>
                </a:tc>
              </a:tr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PRR13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cillary Service Trades with ERCO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D Approved 1/19/201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4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PRR18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P Definition Revis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D Approved 1/19/201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2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PRR15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tion Resource Fixed Quantity Block Off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um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D Approved 1/19/201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722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PRR16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ubmitting Ancillary Service offers in SASM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um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D Approved 1/19/201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2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R75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COT.com Website Enhancement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um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D Approved 2/16/201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Nodal Parking Deck – Pending Approva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52280" y="990720"/>
          <a:ext cx="8839440" cy="3022560"/>
        </p:xfrm>
        <a:graphic>
          <a:graphicData uri="http://schemas.openxmlformats.org/drawingml/2006/table">
            <a:tbl>
              <a:tblPr/>
              <a:tblGrid>
                <a:gridCol w="1306800"/>
                <a:gridCol w="3919320"/>
                <a:gridCol w="1306440"/>
                <a:gridCol w="2306880"/>
              </a:tblGrid>
              <a:tr h="637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urce Docume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949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949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ggested Priorit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949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rrent Statu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949a"/>
                    </a:solidFill>
                  </a:tcPr>
                </a:tc>
              </a:tr>
              <a:tr h="571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PRR14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CP Telemetry Information Submitt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d at TAC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S approved 2/19/200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9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PRR20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ur Start Unit Deselection and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lf Hour Start Unit RUC Clawback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d at TAC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S approved 2/19/200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PRR21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ify RUC Capacity Short Charge to Use Final Energy Trade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ding at WM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3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R75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hancements to the MarkeTrack 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d at RM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03" name="Rectangle 2"/>
          <p:cNvSpPr/>
          <p:nvPr/>
        </p:nvSpPr>
        <p:spPr>
          <a:xfrm>
            <a:off x="457200" y="4724280"/>
            <a:ext cx="8229600" cy="1219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following items were removed from the Parking Deck in the past month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PRR156 – Language revisions and other clarifications eliminated system chang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PRR169 – Recent developments in system design allowed for an acceptable delivery approach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R757 – Withdrawn by submitt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228600" y="1600200"/>
            <a:ext cx="8610480" cy="1143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  -  YTD 2010 Project Implementatio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anuary 201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40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bruary 201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400" indent="-2214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-80047_02 DAM Control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400" indent="-2214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-90009_01 Infrastructure Monitoring Enhancemen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emedy Phase 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ch 2010  (projected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40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-90024-0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R Rule and Expedited 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8564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LR Rule por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440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-50029-0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to VSA/DSA Phase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40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-90002-0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 Wind Power Production Ramp Foreca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40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-60029-0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prise Records Management Frame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ril 2010  (projected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40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  PR-90011-0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S Meter F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40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-50088-0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Research and Repo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40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-90006-0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Lifecycle Management Phase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  -  YTD 2010 Project Implementatio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8458200" cy="500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y 2010  (projected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ne 2010  (projected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-90010-0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itoring &amp; Reporting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ly -December 2010  (projected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-80001-0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 Center Dis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-10015-0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com Equi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-10016-0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Ge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810B5-46CF-4F1B-84EA-148DDA2837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11 Project Prioritization Schedul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219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ril 200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8640" indent="-219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Ts develop draft 2011 project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quest and incorporate input from the mark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 year project forecast referenced and upd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y 200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8640" indent="-219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review at market subcommittee mee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P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May 1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May 1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S, W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May 13 / May 1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ne 200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8640" indent="-219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val/endorsement by market subcommitt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P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June 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June 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S, W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June 10 / June 1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, IO, MO, RO, SO – PR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June 1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ly 200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8640" indent="-219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val/endorsement by TA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July 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8640" indent="-219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for F&amp;A and Board re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July 2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AD1BA-849E-4F61-81F1-53BE65ED04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11 Project Prioritization – Additional Consideratio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dal Syst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, 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bilization will be the focus for much of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de freeze will likely extend into Q2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 major release planned for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1 funding will be estimated fo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bil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nning for 2012 major rele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ther CAR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, IO, 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vironment freeze will be lifted when reaso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1 funding to be requested in the usual mann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 list of proposed pro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lete Project Charters, CBAs, and Time &amp; Cost Estim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timate cutline based on resource and environment limi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tanderson</cp:lastModifiedBy>
  <dcterms:modified xsi:type="dcterms:W3CDTF">2010-03-24T22:19:08Z</dcterms:modified>
  <cp:revision>555</cp:revision>
  <dc:subject/>
  <dc:title>Instructions</dc:title>
</cp:coreProperties>
</file>