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BE2D-8FA8-42D3-97E4-B5B0455FF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786A-3AFC-45A2-BA89-4079CDED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4D99-EA42-4A48-BE5A-A302802DC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952C-913B-42A8-A91A-8F8EB148A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C0D6-5994-42FB-8C25-269B69FD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6C97-5D4B-4978-8DEA-F98CEA11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162D-2D96-4486-8172-86A96E84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100B-DDCB-4F20-B57E-E12A0D5D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6996-030A-482A-9902-648EC64D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A2A3-666E-4AC5-A421-E87ACDC4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45B2-4535-4A65-B6EB-70E5C8AD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DAB1-D80E-4ED5-B9FF-0CCC29BE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7C0D-025D-4BC3-8974-45FF26475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Report to 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11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dney Nieme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37960" y="311040"/>
            <a:ext cx="866808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37960" y="230040"/>
            <a:ext cx="86680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ison of Governor Deadband &amp; Droop Settings of a Single 600 MW 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0.01666 Hz Deadband with a Straight Line Proportional 5% Droop Curve Compared to a 0.036 Hz Deadband with a “Step” Straight Line Proportional 5% Droop Curve from the Deadb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61722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dney Niemeyer – February 9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or Settings Prior to November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 Had Ten Months of Operation with no Governor setting chan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Operating Guides called for a maximum +/-0.036 Hz deadband on Govern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% Droop Setting with no clarification as to implementation.  With or without a step function at the deadb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eet the 5% droop performance, Governors were encouraged to “step” into the 5% droop curve at the deadb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or Settings After November 3,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dbands were decreased to +/-0.0166 Hz (1 rpm on a 3600 rpm turbi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roop curve implemented was a straight line proportional curve from the deadband eliminating any “step”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ly only 4 Unit’s Governors were changed.  Total Capacity of 2486 MW or approximately 82.8 MW/0.1 Hz of Primary Frequency 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ordinated Boiler Control System implemented the same Droop curve and deadband as the turbine Govern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Units changed their Governor settings throughout 2009 and 2010, mostly after July 200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s of March 1, 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s with Governors presently set with an intentional deadband less than or equal to +/-0.01666 Hz and droop curve with no step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,767 MW Total Capacity Identified by PDCWG me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90 MW Lign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39 MW C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780 MW Combustion Turbine Combined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19 MW Combustion Turbine Simpl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99 MW Steam Turbine – natural gas f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0 MW Hyd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8080" y="996840"/>
            <a:ext cx="7772400" cy="5861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3520" y="152280"/>
            <a:ext cx="5333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522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W-Minute Primary Frequency Response of a 600 MW Unit To All Frequency Deviations During The First 10 Months of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6200000">
            <a:off x="640080" y="301716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Min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57400" y="2666880"/>
            <a:ext cx="4038480" cy="946440"/>
          </a:xfrm>
          <a:prstGeom prst="rect">
            <a:avLst/>
          </a:prstGeom>
          <a:solidFill>
            <a:srgbClr val="ff66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compares the difference a single 600 MW unit would have experienced as a result of Primary Frequency Response if on-line the first 10 months of 2008 and had margin to mov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14400" y="995400"/>
            <a:ext cx="7772400" cy="5862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8600" y="1522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W-Minute Primary Frequency Response of a 600 MW Unit To All Frequency Deviations in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716040" y="301716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Min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57400" y="2666880"/>
            <a:ext cx="4038480" cy="946440"/>
          </a:xfrm>
          <a:prstGeom prst="rect">
            <a:avLst/>
          </a:prstGeom>
          <a:solidFill>
            <a:srgbClr val="ff66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compares the difference a single 600 MW unit would have experienced as a result of Primary Frequency Response if on-line all of 2008 and had margin to mov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969840"/>
            <a:ext cx="9144000" cy="5888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447920" y="2743200"/>
            <a:ext cx="4572000" cy="1739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ever, the 692039.8 MW Response of the 0.0166 db unit is only 29465.8 MW more than the 2008 MW Response of the 0.036 db unit (662574.0 MW).  A 4.45% increase with the benefit of the improved frequency pro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010280" y="2590920"/>
            <a:ext cx="2133720" cy="2288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W response of the 0.036 db unit decreased 216330.0 MW in 2009 from 2008.  This is a 32.645% decrease in mov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522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W-Minute Primary Frequency Response of a 600 MW Unit To All Frequency Deviations in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-198000" y="294120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Min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10280" y="2666880"/>
            <a:ext cx="2133720" cy="2288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W response of the 0.0166 db unit decreased 201124.4 MW in 2009 from 2008.  This is a 22.518% decrease in mov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629400" y="1523880"/>
            <a:ext cx="2514600" cy="2014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 Frequency Profile more “Normal” than 2008.  Note: 2008 had two months of operation at the lower governor deadband settings (Nov &amp; De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28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Frequency Profile 2008 and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meet March 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February and  remaining January disturba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Guide and Protocol synchron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and prepare report on Wind Event January 28,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R833 Primary Frequency Response Requirement from Existing WGRs. – Submitted recommendation to the 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d Sc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meeting April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3520" y="1098720"/>
            <a:ext cx="8153280" cy="5759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0880" y="152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Frequency Profile Had Additional Improvement in December 2009 and January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8600" y="1522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W-Minute Primary Frequency Response of a 600 MW Unit To All Frequency Deviations During January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1065240"/>
            <a:ext cx="866304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ly the MW-Minute Movement of a Unit with a lower deadband setting is more than that of a larger deadb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W-Minute movement of the lower deadband has a gradual injection of Primary Frequency Response compared to the “step” implementation of the larger deadb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Unit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Frequency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more Units implement the lower deadband and non-”step” droop curve, the frequency profile improves and the total MW-Minute movement of the grid decre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23760" y="0"/>
            <a:ext cx="91915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629400" y="762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S1 = 150.46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6400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Unofficial sco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553080" y="5335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240" y="458640"/>
            <a:ext cx="9029520" cy="5943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477120" y="4572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324480" y="457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560" y="453960"/>
            <a:ext cx="9038880" cy="59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28440" y="220680"/>
            <a:ext cx="9200880" cy="6419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410080" y="4572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ERCOT 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62920" y="1447920"/>
            <a:ext cx="1752480" cy="307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uary 28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610480" y="17524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1371600"/>
            <a:ext cx="1752840" cy="307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1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91120" y="16002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990720"/>
            <a:ext cx="1752840" cy="307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ril 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1295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8160" y="353880"/>
            <a:ext cx="9220320" cy="6153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781680" y="1600200"/>
            <a:ext cx="1752840" cy="307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 18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458200" y="1905120"/>
            <a:ext cx="5335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30320"/>
            <a:ext cx="9144000" cy="6600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124080" y="380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CPS1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43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S1 12 Month Rolling Average = 142.35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848720" y="175248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9920" y="63244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Unofficial s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35080" y="473040"/>
            <a:ext cx="8673840" cy="59151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"/>
          <p:cNvSpPr/>
          <p:nvPr/>
        </p:nvSpPr>
        <p:spPr>
          <a:xfrm>
            <a:off x="6915240" y="123840"/>
            <a:ext cx="16192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2304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ERCOT as a single control area is exempt from CPS2.  These scores are For Information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95880" y="1143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.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1371600"/>
            <a:ext cx="990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7:13:32Z</dcterms:created>
  <dc:creator>Sydney L. Niemeyer</dc:creator>
  <dc:description/>
  <dc:language>en-US</dc:language>
  <cp:lastModifiedBy>sniemeyer</cp:lastModifiedBy>
  <dcterms:modified xsi:type="dcterms:W3CDTF">2010-03-04T21:56:14Z</dcterms:modified>
  <cp:revision>56</cp:revision>
  <dc:subject/>
  <dc:title>Slide 1</dc:title>
</cp:coreProperties>
</file>