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06B48-5FA1-4CB6-ACFA-7030B1EA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308AB-B9B7-4D0E-8274-37F7BC81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AEA74-8AC2-431C-8F48-E91A2595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AEC1C-E553-4198-BAB6-7F12C4DCE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11F69-6BFC-4D50-A153-8410E07E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F498F-DBA1-4D5B-8B08-8837CAF0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DC650-1B94-4985-8000-85DA9D0F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5DCEA-7657-4F72-9467-47506D06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BBB7A-0E33-458B-AF3D-03BD35F9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C1E20-2ABA-4D3C-9418-AB6AEEF7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E2531-64EE-43D9-AB9D-F471B8CE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31422-6817-4AD4-B191-A6082D54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B7F9-DB1C-4BF6-8A38-D6A0F2066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 16,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8EC7-645E-4B95-90A7-240D833B4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ch 16,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COT Board of Dir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c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S/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formation Technolog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rvice Availability Metric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rey Felt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nager, IT Administ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Board of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h 16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010 Net Service Availabilit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457200" y="895320"/>
            <a:ext cx="82360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Board of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h 16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ebruary 2010 Net Service Availabilit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2296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Board of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h 16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609480" y="811080"/>
            <a:ext cx="807732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Board of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h 16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tail Transaction Processing Availability Summary (contd.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977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Board of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h 16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ML Availability Summar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1654200" y="838080"/>
            <a:ext cx="5985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Board of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h 16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rkeTrak Availability Summar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1523880" y="844560"/>
            <a:ext cx="635184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Board of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h 16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ML Report Explorer Availability Summar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1143000" y="826920"/>
            <a:ext cx="708660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Board of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h 16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tail API Availability Summar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1143000" y="826920"/>
            <a:ext cx="708660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felton</cp:lastModifiedBy>
  <dcterms:modified xsi:type="dcterms:W3CDTF">2010-03-04T16:55:09Z</dcterms:modified>
  <cp:revision>163</cp:revision>
  <dc:subject/>
  <dc:title>Instructions</dc:title>
</cp:coreProperties>
</file>