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2FD9-D439-4B7F-A152-E9A9A25AD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6454-810D-4079-8BB8-481B85FA6A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DD21-9903-47C5-A8DB-3694263B34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3100-D215-4CBB-821B-6948C4E6BA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5C56-8A12-40BA-A122-97FB61A32D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5C22-0103-4B94-87F8-FAA697420C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B76F-989A-4AE4-A2CF-5FC7BB2FB75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6EA7-1666-4386-BBBF-220D0C0295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CCDC-C78A-4666-BA0A-43392B12F8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8483-F44D-4431-8B16-5C3FC07ED4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CC08-E10D-4C01-ADAF-C6121EAF75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5F8E-DA61-4D29-8BC7-8DB40E3D0D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0F8-5211-41B4-BF58-76F398D7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8A3-BB84-429C-8E4B-C21BA48C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3B7-4C09-41FB-B1DC-D05AC2B5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2FF-0B7A-4EFF-B668-0FE2597A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6FE3-B333-4EE1-81E3-7627B209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F3A4-B5F5-4489-A670-AEEDCFEF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AA75-FAA7-44D4-9C7A-61CEA617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1209-2395-47BD-9F8B-E6881F54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5F7E-DD7D-4619-B2C3-CB789F5D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02CD-B328-4C48-9DDE-64DDC0FE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A334-8199-48EE-815E-E410096D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0E9D-B26E-49AC-B3C1-24CA2270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B171-A2B4-4E50-803D-1B136273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F70F-204D-4F64-BED6-68A617AC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98EC-3F2D-44DC-974A-4DE3342F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7764-2808-407D-87BD-3C0B9EFF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016A-F98A-4224-A79A-B4FE159D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C8D-1CD8-41CC-9CE0-E0622498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117-2A79-463B-A992-1F53A22C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877-E5D2-4633-9F5C-F88E8D77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B69-E18B-465D-855C-84212879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345-68DE-4565-A39C-143ABCDF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04D-ED1D-4BBD-9448-DCE2606B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B98-2DE0-4D22-A775-8B12A219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1EBD-5ACC-48F5-BCCF-A261ACAC32F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C012-43CF-428A-9897-09C6C435F2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AEB2-5D9A-4200-8C22-3AE330D6EA87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8321-7F93-45B3-8380-E07D7E21498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uc.state.tx.us/electric/projects/34610/34610.cf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uc.state.tx.us/electric/projects/34610/34610.cfm" TargetMode="External"/><Relationship Id="rId2" Type="http://schemas.openxmlformats.org/officeDocument/2006/relationships/hyperlink" Target="http://www.puc.state.tx.us/electric/projects/34610/34610.cf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uc.state.tx.us/electric/projects/34610/34610.cf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MS Update March 10, 201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523880"/>
            <a:ext cx="8610480" cy="563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JULY 2010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6-7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 –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Projects TBA (F2F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19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13-14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– Projects TBA (F2F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19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3452-5B8C-4320-9C89-1043FC22C47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AF27-FAAD-4D62-926B-1D710C70E21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C:\Documents and Settings\00015621\Local Settings\Temporary Internet Files\Content.IE5\UZYJAF85\MCj04344110000[1].wmf"/>
          <p:cNvPicPr/>
          <p:nvPr/>
        </p:nvPicPr>
        <p:blipFill>
          <a:blip r:embed="rId1"/>
          <a:stretch/>
        </p:blipFill>
        <p:spPr>
          <a:xfrm>
            <a:off x="380880" y="1905120"/>
            <a:ext cx="208296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1" name="Picture 3" descr="C:\Documents and Settings\00015621\Local Settings\Temporary Internet Files\Content.IE5\2NCNMXYB\MCj03833080000[1].wmf"/>
          <p:cNvPicPr/>
          <p:nvPr/>
        </p:nvPicPr>
        <p:blipFill>
          <a:blip r:embed="rId2"/>
          <a:stretch/>
        </p:blipFill>
        <p:spPr>
          <a:xfrm>
            <a:off x="4952880" y="182880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:\Documents and Settings\00015621\Local Settings\Temporary Internet Files\Content.IE5\W7FBEKXX\MCj00787620000[1].wmf"/>
          <p:cNvPicPr/>
          <p:nvPr/>
        </p:nvPicPr>
        <p:blipFill>
          <a:blip r:embed="rId3"/>
          <a:stretch/>
        </p:blipFill>
        <p:spPr>
          <a:xfrm>
            <a:off x="2428920" y="3733920"/>
            <a:ext cx="25239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1"/>
          <p:cNvSpPr/>
          <p:nvPr/>
        </p:nvSpPr>
        <p:spPr>
          <a:xfrm>
            <a:off x="914400" y="-609480"/>
            <a:ext cx="7696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Interim Settlement S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03/10 Status Re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705720" y="640080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6320" y="1676520"/>
          <a:ext cx="8991360" cy="3338280"/>
        </p:xfrm>
        <a:graphic>
          <a:graphicData uri="http://schemas.openxmlformats.org/drawingml/2006/table">
            <a:tbl>
              <a:tblPr/>
              <a:tblGrid>
                <a:gridCol w="3146400"/>
                <a:gridCol w="1724040"/>
                <a:gridCol w="1798560"/>
                <a:gridCol w="2322360"/>
              </a:tblGrid>
              <a:tr h="36180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 Milest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</a:tr>
              <a:tr h="149724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biliz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/19/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chedu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724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ompl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/21/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chedule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Next Steps for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4000"/>
          </a:bodyPr>
          <a:p>
            <a:pPr lvl="1" marL="322200" indent="-322200">
              <a:lnSpc>
                <a:spcPct val="9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m members are currently participating in the Advanced Metering Implementation Team (AMIT) workshop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expecting that the long term deliverables would come from AMIT’s Project 8 objectives and business requir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22200" indent="-322200">
              <a:lnSpc>
                <a:spcPct val="9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roject 8- Long Term Settlement Solu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velop and implement a centralized location for AMS settlement data that the whole market uses (long term solution as identified in the 2008 ERCOT Settlement Study).  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Not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 This may not be the only objective for Project 8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322200" indent="-32220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486080" indent="-321840">
              <a:lnSpc>
                <a:spcPct val="90000"/>
              </a:lnSpc>
              <a:spcBef>
                <a:spcPts val="5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5954-9880-4D71-85BC-ADB838F0040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Next Steps for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en we schedule our next meeting it would include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scussing and documenting Lessons Learned from AMIT Project 3 – AMS Interim Settlement Solu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ose out any outstanding action items or tasks related to Project 3 Interim Settlement Solution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djusting the MARS Taskforce Scope statement to include AMIT Project 8 Long-Term Settlement Solution deliverab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askforce recommended changes to Scope statement will be provided to RMS for Approval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stablish future meeting schedul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31BB-CF8B-408E-9214-79EE4B6EC39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UCT Project 34610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0512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vanced Metering Implementation Team (AMIT) Documentation &amp; Meeting Schedules can be found on: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blic Utility Commission of Texas Project 34610 Websi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76212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59f07"/>
                </a:solidFill>
                <a:uFillTx/>
                <a:latin typeface="Tahoma"/>
                <a:hlinkClick r:id="rId1"/>
              </a:rPr>
              <a:t>http://www.puc.state.tx.us/electric/projects/34610/34610.cf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9020-26CE-4A94-9FC6-9ADB86562B0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294920"/>
            <a:ext cx="861048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MARCH 2010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8-9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– Lessons Learned Wrap Up &amp; SMT Technical Team Update (F2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: 1:30-5:30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(Lessons Learn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e: 8:30-4:30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(SMT Technical Team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2000" spc="-1" strike="noStrike" u="sng">
                <a:solidFill>
                  <a:srgbClr val="d59f07"/>
                </a:solidFill>
                <a:uFillTx/>
                <a:latin typeface="Tahoma"/>
                <a:hlinkClick r:id="rId1"/>
              </a:rPr>
              <a:t>http://www.puc.state.tx.us/electric/projects/34610/34610.cf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29-3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–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jects #2, #4– Web Portal &amp; HAN (F2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: 1:30-5: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e: 8:30-4:30              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State Capitol Extension, 112 East 11th Street, Room E2.0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2000" spc="-1" strike="noStrike" u="sng">
                <a:solidFill>
                  <a:srgbClr val="d59f07"/>
                </a:solidFill>
                <a:uFillTx/>
                <a:latin typeface="Tahoma"/>
                <a:hlinkClick r:id="rId2"/>
              </a:rPr>
              <a:t>http://www.puc.state.tx.us/electric/projects/34610/34610.cf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8185-E4DF-4F2C-B793-E8CB40AE1B0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523520"/>
            <a:ext cx="861048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RIL 20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6-7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 –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Project # 4, HAN (F2F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Location: State Capitol Extension, 112 East 11th Street, Room E2.03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900" spc="-1" strike="noStrike" u="sng">
                <a:solidFill>
                  <a:srgbClr val="d59f07"/>
                </a:solidFill>
                <a:uFillTx/>
                <a:latin typeface="Tahoma"/>
                <a:hlinkClick r:id="rId1"/>
              </a:rPr>
              <a:t>http://www.puc.state.tx.us/electric/projects/34610/34610.cfm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19-20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– Project #5 – Retail Market Interface (F2F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Mon: 1:30-5:3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ue: 9:30-4:30               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Location: State Capitol Extension, 112 East 11th Street, Room E2.03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E06B-8879-4D1C-A399-2313A95A9F6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523520"/>
            <a:ext cx="861048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Y 20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4-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–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jects #2, #4– Web Portal &amp; HAN (F2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tion:  TBD 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24-2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–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oject #8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– Long-Term Settlement Solution (F2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: 1:30-5: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: 8:30-4:30        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tion:  TB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6E52-E75F-461A-A688-A17E65F379C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523520"/>
            <a:ext cx="8610480" cy="579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UNE 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8-9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– </a:t>
            </a:r>
            <a:r>
              <a:rPr b="1" lang="en-US" sz="1500" spc="-1" strike="noStrike" u="sng">
                <a:solidFill>
                  <a:srgbClr val="ffff00"/>
                </a:solidFill>
                <a:uFillTx/>
                <a:latin typeface="Tahoma"/>
              </a:rPr>
              <a:t>Projects #8</a:t>
            </a: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– Long Term Settlement Solution (F2F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13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22-23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 – </a:t>
            </a: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Projects TBA (F2F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13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28-29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– Projects TBA (F2F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Mon: 1:30-5:30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ue: 8:30-4:30               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13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A3E9-3BB5-46A2-B553-5990241986F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21:15Z</dcterms:created>
  <dc:creator>Scott, Kathy D.</dc:creator>
  <dc:description/>
  <dc:language>en-US</dc:language>
  <cp:lastModifiedBy>Scott, Kathy D.</cp:lastModifiedBy>
  <dcterms:modified xsi:type="dcterms:W3CDTF">2010-03-02T21:21:16Z</dcterms:modified>
  <cp:revision>276</cp:revision>
  <dc:subject/>
  <dc:title>MARS Taskforce </dc:title>
</cp:coreProperties>
</file>