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950-55FE-4644-ABB7-1718902E6E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DCB-F900-4EC0-B62B-8E30261A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85CF-D9B9-4307-B70B-DCFA3C432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E67C-5D83-42D3-9E12-152251EC9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F584-02CA-47DB-8E20-B228716E2AC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4DE0-5609-4F34-87F6-539E0CF35EF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D43C-1678-411F-9852-05B4D91A9A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1130-D4EA-4498-9CB3-7D09DE552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AE9F-D3CE-4C58-976F-41689AE25FD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32DB-6A59-4F89-9D74-C3FB50890EB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26C7-1001-4626-B462-CB7255F9208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93E7-E5CB-4100-9A2C-DF758714C89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C646-9A4F-44D8-B267-24A4A0F82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9242-8C13-49B5-96B4-B43F835DE0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00CA-27AE-41C5-A67C-B7433FD3BA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F08E-61D0-42E9-AC36-E34AE17E43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8D62-B15D-4EA6-941B-A12203057E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5718-5C80-46F8-A85F-7097305123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23CE-2E4F-480D-B70F-1E86F416E7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FB06-F056-4FA4-8504-28320BA01F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F278-36EA-4813-A45E-62DA3139E1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8013-597F-4C3A-95C1-C75003A5F6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1F59-E512-4E93-9C9E-34CB7C7E4F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4A1E-2DB9-48AC-81C4-161D975D56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CD68-EAB3-45CD-9F11-E2C50159B8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7AEF-90D4-4589-A23C-39FE095485A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8A27-D4DB-4DFB-BB2C-1DA2EBC2130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FC3C-9357-4DB0-BA58-060BA9AC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9A15FC-351D-41C1-B033-2919D638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203AE8-E593-4977-B5E7-7606999B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75E052-DB51-49B7-B13A-450E1F7EA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733997-E1E4-44A6-89BE-14DC1DF9D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9BD3C9-41F2-47C2-85A6-98524D40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F9C3BF-4A48-4F98-B498-D9045E65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85F355-4067-4759-B8A6-D8FAC425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EEA62E-9000-46D1-9691-3F2C35A88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BA29D5-7943-4910-8906-4BAB6D29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01ADF5-D257-4371-9428-C0CCB046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A96AA5-3A00-43DF-8114-EA2853D5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191496-8A54-4C0A-AEF1-605884BD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FAB673-87DC-46D6-96DD-2491592B8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59F43E-D135-4862-8812-24382917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6F3097-FEDD-4BF9-AD45-C1B3F73C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DDD3A5-9920-478D-B50B-3C41C390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CA3-05DE-4C0A-B580-0CA45BF3A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9B0D3F-2DCD-47D2-B33F-5DA7E9B0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92AC0B-E3BD-4A41-A78E-C84A4AC36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9A1723-FCA8-42F0-A121-F9856EC3B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1AB339-2C8E-4AA2-9D74-DEA146DB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F74924-A772-4AF1-B720-EBD541F38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02CDF4-6103-4FE0-AE46-FD27F3A7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rch 10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7"/>
          <p:cNvGraphicFramePr/>
          <p:nvPr/>
        </p:nvGraphicFramePr>
        <p:xfrm>
          <a:off x="276120" y="914400"/>
          <a:ext cx="859176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914400"/>
                    <a:ext cx="85917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TextBox 6"/>
          <p:cNvSpPr/>
          <p:nvPr/>
        </p:nvSpPr>
        <p:spPr>
          <a:xfrm>
            <a:off x="762120" y="33526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27_01 is scheduled to gate to Closing by 03/19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31_01 is scheduled to gate to Closing by 03/19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24_01 is scheduled to go-live on 03/27.  (Final Releas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Object 6"/>
          <p:cNvGraphicFramePr/>
          <p:nvPr/>
        </p:nvGraphicFramePr>
        <p:xfrm>
          <a:off x="657360" y="914400"/>
          <a:ext cx="782928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914400"/>
                    <a:ext cx="78292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Object 6"/>
          <p:cNvGraphicFramePr/>
          <p:nvPr/>
        </p:nvGraphicFramePr>
        <p:xfrm>
          <a:off x="657360" y="990720"/>
          <a:ext cx="782928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990720"/>
                    <a:ext cx="78292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TextBox 4"/>
          <p:cNvSpPr/>
          <p:nvPr/>
        </p:nvSpPr>
        <p:spPr>
          <a:xfrm>
            <a:off x="533520" y="243828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11_01 is scheduled to gate to Execution by 03/12 and go-live on 04/25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6" name="Object 6"/>
          <p:cNvGraphicFramePr/>
          <p:nvPr/>
        </p:nvGraphicFramePr>
        <p:xfrm>
          <a:off x="533520" y="990720"/>
          <a:ext cx="8186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86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9" name="TextBox 3"/>
          <p:cNvSpPr/>
          <p:nvPr/>
        </p:nvSpPr>
        <p:spPr>
          <a:xfrm>
            <a:off x="609480" y="121932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closing, closed or cancell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3/01/2010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8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7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3-09T21:42:25Z</dcterms:modified>
  <cp:revision>633</cp:revision>
  <dc:subject/>
  <dc:title>Role of Account Management at ERCOT</dc:title>
</cp:coreProperties>
</file>