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4"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dt" idx="4"/>
          </p:nvPr>
        </p:nvSpPr>
        <p:spPr>
          <a:xfrm>
            <a:off x="388440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15840" y="4416120"/>
            <a:ext cx="502632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31160"/>
            <a:ext cx="297324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type="sldNum" idx="6"/>
          </p:nvPr>
        </p:nvSpPr>
        <p:spPr>
          <a:xfrm>
            <a:off x="3884400" y="8831160"/>
            <a:ext cx="297324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B961474-A5EB-49DD-BBC6-A8C91E443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548F699-0804-4572-98C0-09D79A7C3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6640" y="696960"/>
            <a:ext cx="4647960" cy="3486240"/>
          </a:xfrm>
          <a:prstGeom prst="rect">
            <a:avLst/>
          </a:prstGeom>
          <a:ln w="0">
            <a:noFill/>
          </a:ln>
        </p:spPr>
      </p:sp>
      <p:sp>
        <p:nvSpPr>
          <p:cNvPr id="13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38A2EFE-DE1A-4FC0-AC99-B34F552B2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06640" y="696960"/>
            <a:ext cx="4647960" cy="3486240"/>
          </a:xfrm>
          <a:prstGeom prst="rect">
            <a:avLst/>
          </a:prstGeom>
          <a:ln w="0">
            <a:noFill/>
          </a:ln>
        </p:spPr>
      </p:sp>
      <p:sp>
        <p:nvSpPr>
          <p:cNvPr id="138"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216F41E-5FBA-4ABD-831C-3C1F6B390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6640" y="696960"/>
            <a:ext cx="4647960" cy="3486240"/>
          </a:xfrm>
          <a:prstGeom prst="rect">
            <a:avLst/>
          </a:prstGeom>
          <a:ln w="0">
            <a:noFill/>
          </a:ln>
        </p:spPr>
      </p:sp>
      <p:sp>
        <p:nvSpPr>
          <p:cNvPr id="141"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324903E-90D6-49C6-B9E9-6D29052BE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06640" y="696960"/>
            <a:ext cx="4647960" cy="3486240"/>
          </a:xfrm>
          <a:prstGeom prst="rect">
            <a:avLst/>
          </a:prstGeom>
          <a:ln w="0">
            <a:noFill/>
          </a:ln>
        </p:spPr>
      </p:sp>
      <p:sp>
        <p:nvSpPr>
          <p:cNvPr id="144"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79CE65E-BAA1-40AC-BF3F-4C4A09F94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06640" y="696960"/>
            <a:ext cx="4647960" cy="3486240"/>
          </a:xfrm>
          <a:prstGeom prst="rect">
            <a:avLst/>
          </a:prstGeom>
          <a:ln w="0">
            <a:noFill/>
          </a:ln>
        </p:spPr>
      </p:sp>
      <p:sp>
        <p:nvSpPr>
          <p:cNvPr id="147"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8E9C2AC-C8A4-40A2-9C13-EC981CB2E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06640" y="696960"/>
            <a:ext cx="4647960" cy="3486240"/>
          </a:xfrm>
          <a:prstGeom prst="rect">
            <a:avLst/>
          </a:prstGeom>
          <a:ln w="0">
            <a:noFill/>
          </a:ln>
        </p:spPr>
      </p:sp>
      <p:sp>
        <p:nvSpPr>
          <p:cNvPr id="150"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879E97A-F5B1-4DD0-BB2D-DE5CEB1D2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06640" y="696960"/>
            <a:ext cx="4647960" cy="3486240"/>
          </a:xfrm>
          <a:prstGeom prst="rect">
            <a:avLst/>
          </a:prstGeom>
          <a:ln w="0">
            <a:noFill/>
          </a:ln>
        </p:spPr>
      </p:sp>
      <p:sp>
        <p:nvSpPr>
          <p:cNvPr id="153"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3E67BE3-E7A7-4779-A992-73F6CA551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06640" y="696960"/>
            <a:ext cx="4647960" cy="3486240"/>
          </a:xfrm>
          <a:prstGeom prst="rect">
            <a:avLst/>
          </a:prstGeom>
          <a:ln w="0">
            <a:noFill/>
          </a:ln>
        </p:spPr>
      </p:sp>
      <p:sp>
        <p:nvSpPr>
          <p:cNvPr id="156"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DC93D-10C2-463A-A965-0FF96F501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779CB-FABF-4552-B1CA-7D9FA24A5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1D5A5-92CC-4358-A431-B0912A2BA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C980E-F5B4-4446-A0DF-37D4C7361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89739-2DE5-429F-922D-4C1758E55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E66F6-DED4-4A16-AF38-6D577AB9B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9B13D-2527-4AA5-B789-B4423B2A1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04894-C0DD-4A76-968D-E232D565A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FDEE7-82C6-4714-991B-4A0670078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4EC3A-9753-473E-A9F7-01F9ECF35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206A7-F95B-42DE-919F-3DCB74E64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54E94-80D2-4E1F-8852-5B786F401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BC4D-3F6E-460E-BD2B-3166A1384A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py of Ercot Logo"/>
          <p:cNvPicPr/>
          <p:nvPr/>
        </p:nvPicPr>
        <p:blipFill>
          <a:blip r:embed="rId2"/>
          <a:stretch/>
        </p:blipFill>
        <p:spPr>
          <a:xfrm>
            <a:off x="152280" y="152280"/>
            <a:ext cx="1828800" cy="982800"/>
          </a:xfrm>
          <a:prstGeom prst="rect">
            <a:avLst/>
          </a:prstGeom>
          <a:ln w="0">
            <a:noFill/>
          </a:ln>
        </p:spPr>
      </p:pic>
      <p:sp>
        <p:nvSpPr>
          <p:cNvPr id="6" name="Rectangle 9"/>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635F-E8DA-4396-91C6-E9B2746F36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2"/>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0070-409F-43AC-8524-C74CAA620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83" name="Rectangle 229"/>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Rectangle 276"/>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5" name=""/>
          <p:cNvGraphicFramePr/>
          <p:nvPr/>
        </p:nvGraphicFramePr>
        <p:xfrm>
          <a:off x="609480" y="1486080"/>
          <a:ext cx="8229600" cy="4805280"/>
        </p:xfrm>
        <a:graphic>
          <a:graphicData uri="http://schemas.openxmlformats.org/drawingml/2006/table">
            <a:tbl>
              <a:tblPr/>
              <a:tblGrid>
                <a:gridCol w="2178000"/>
                <a:gridCol w="60516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Gain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gained (or is pending the gain)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Los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lost (or is pending the loss)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requesting cancellation of an initiating transaction in instances submitting an 814_08 would result in a rejec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o 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requesting cancellation of an initiating transaction for market defined reasons that do not require approval from the C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ng Trans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is missing any expected 814, 867_04 or 867_03 Fin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age/Billing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point-to-point transactions excluding the 867 Contingency Pla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ject Transac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rejected transactions or reject reason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P of Recor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ERCOT LSE or TDSP LSE relationship histori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jec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issues pertaining to internal/market projects, system trouble, or related problems as defined by the submitt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ebel/Chg Inf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questioning a discrepancy pertaining to Siebel service order status changes and Start/Stop time issues when transactions are present in ERCOT system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997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verification of a 997 sent/receiv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th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Day to Day issues that do not fit one of the Sub Types indicated above such as: Siebel/997 reports, CSA’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Order – 65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missing EDI transactions or 650 transactions which are missing, not completed, or reject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ve Out With Meter Rem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notifying the CR of 650_04 previously sent and the need for the MVO coded B44 to terminate the meter on the accou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emise Typ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premise type for a particular ESIID when an out of sync condition exis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Addres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service address for a particular ESII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fety Ne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has questions pertaining to missing EDI transactions and who the TDSP shows as the Rep of Record  in TDSP system.</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Text Box 514"/>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87" name="Text Box 519"/>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29C3-175D-48AB-BB39-017080AB6B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Rectangle 2498"/>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91" name="Rectangle 81"/>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2" name="Picture 7" descr=""/>
          <p:cNvPicPr/>
          <p:nvPr/>
        </p:nvPicPr>
        <p:blipFill>
          <a:blip r:embed="rId1"/>
          <a:stretch/>
        </p:blipFill>
        <p:spPr>
          <a:xfrm>
            <a:off x="142920" y="1508040"/>
            <a:ext cx="8808840" cy="4664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61E7-75F1-4D9E-9B7C-C3DA745D4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Rectangle 5"/>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Text Box 140"/>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8" name="Text Box 141"/>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99" name=""/>
          <p:cNvGraphicFramePr/>
          <p:nvPr/>
        </p:nvGraphicFramePr>
        <p:xfrm>
          <a:off x="228600" y="1523880"/>
          <a:ext cx="8534520" cy="478656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E3F7-3C13-4DF1-9CAC-0D814D3D57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Rectangle 4"/>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Text Box 5"/>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5" name="Text Box 6"/>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6" name=""/>
          <p:cNvGraphicFramePr/>
          <p:nvPr/>
        </p:nvGraphicFramePr>
        <p:xfrm>
          <a:off x="228600" y="1828800"/>
          <a:ext cx="8763120" cy="39225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FF32-EE99-4C54-8DC3-A199B4EE00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109" name="Rectangle 10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Picture 6" descr=""/>
          <p:cNvPicPr/>
          <p:nvPr/>
        </p:nvPicPr>
        <p:blipFill>
          <a:blip r:embed="rId1"/>
          <a:stretch/>
        </p:blipFill>
        <p:spPr>
          <a:xfrm>
            <a:off x="90360" y="1568520"/>
            <a:ext cx="8967960" cy="30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7D18-0C8D-4665-9CAB-E3B7A30E02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11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13"/>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Rectangle 60"/>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Rectangle 107"/>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Text Box 324"/>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18" name="Text Box 325"/>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19" name=""/>
          <p:cNvGraphicFramePr/>
          <p:nvPr/>
        </p:nvGraphicFramePr>
        <p:xfrm>
          <a:off x="380880" y="1457280"/>
          <a:ext cx="8305920" cy="478476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F140-9484-41C3-B2D8-D43CFA860F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22" name="Rectangle 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Picture 6" descr=""/>
          <p:cNvPicPr/>
          <p:nvPr/>
        </p:nvPicPr>
        <p:blipFill>
          <a:blip r:embed="rId1"/>
          <a:stretch/>
        </p:blipFill>
        <p:spPr>
          <a:xfrm>
            <a:off x="142920" y="1639800"/>
            <a:ext cx="8848800" cy="29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5306-DBA6-4FAA-AD48-E8CD3CC7E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2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Rectangle 4"/>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Rectangle 5"/>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Rectangle 6"/>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0" name=""/>
          <p:cNvGraphicFramePr/>
          <p:nvPr/>
        </p:nvGraphicFramePr>
        <p:xfrm>
          <a:off x="380880" y="2133720"/>
          <a:ext cx="8305920" cy="3546360"/>
        </p:xfrm>
        <a:graphic>
          <a:graphicData uri="http://schemas.openxmlformats.org/drawingml/2006/table">
            <a:tbl>
              <a:tblPr/>
              <a:tblGrid>
                <a:gridCol w="3000600"/>
                <a:gridCol w="5305320"/>
              </a:tblGrid>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Text Box 80"/>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32" name="Text Box 81"/>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1710-F7D5-43F3-9FE0-4548BB7B35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2"/>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54" name="Rectangle 3"/>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44AD-A35D-4EEE-AA57-2EDF63D6AE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2"/>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3E56-4E32-4C23-A935-C9C9FE4DDE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10</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2514600" y="1676520"/>
            <a:ext cx="4230720" cy="420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E466-D71F-488E-97E5-7E2F33BBF7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B4E5D-3F21-4102-8324-E1BB85694F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228600" y="3809880"/>
            <a:ext cx="868032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0713-E6A7-417D-95A5-3ABC82383E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69" name=""/>
          <p:cNvGraphicFramePr/>
          <p:nvPr/>
        </p:nvGraphicFramePr>
        <p:xfrm>
          <a:off x="797040" y="-150192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0" name=""/>
          <p:cNvGraphicFramePr/>
          <p:nvPr/>
        </p:nvGraphicFramePr>
        <p:xfrm>
          <a:off x="797040" y="-130500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1" name=""/>
          <p:cNvGraphicFramePr/>
          <p:nvPr/>
        </p:nvGraphicFramePr>
        <p:xfrm>
          <a:off x="455760" y="-1116000"/>
          <a:ext cx="599760" cy="39672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72" name="Picture 13" descr=""/>
          <p:cNvPicPr/>
          <p:nvPr/>
        </p:nvPicPr>
        <p:blipFill>
          <a:blip r:embed="rId1"/>
          <a:stretch/>
        </p:blipFill>
        <p:spPr>
          <a:xfrm>
            <a:off x="838080" y="1600200"/>
            <a:ext cx="758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F1F3-17CF-4ADB-A6C5-E47ED29748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75" name="Rectangle 3"/>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C7C3-AF32-44A2-AD04-8E5F6085B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78" name="Rectangle 4"/>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Rectangle 5"/>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Picture 7" descr=""/>
          <p:cNvPicPr/>
          <p:nvPr/>
        </p:nvPicPr>
        <p:blipFill>
          <a:blip r:embed="rId1"/>
          <a:stretch/>
        </p:blipFill>
        <p:spPr>
          <a:xfrm>
            <a:off x="133200" y="1523880"/>
            <a:ext cx="889812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10-03-04T15:15:13Z</dcterms:modified>
  <cp:revision>876</cp:revision>
  <dc:subject/>
  <dc:title>PowerPoint Presentation</dc:title>
</cp:coreProperties>
</file>