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E680-EDD7-4452-AB75-AB46C7E2C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6C2F-5477-4326-8701-B8CC3BA7F5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C85A-F60E-4D63-ADAA-3E9AD67F0A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A052-D352-4BBD-84E3-43713DDD01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03A2-8CE4-47EF-BE16-7D670EEE13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280B-1756-42C4-9EE7-7465052317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EADC-AF57-4294-8D6D-C61775BB63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8CED-588B-4AF9-B3D9-410A83D62F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B447-10FD-4D72-A11D-430195130D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0280-3E26-4D3E-837B-9D16AEA8C1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87ED-C97D-4D67-A78A-3E8AD9C8A3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EBB2-66A6-4B69-A112-65CAB1ECE9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57B-6E19-4907-9380-90F96A6F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716-B91D-46D0-9D6A-3FFE411B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2E6-94CA-432E-BB9C-488E8A1D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ACD-C13A-44BD-A58C-509AECCE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5824-390D-48FA-BCAC-FC4BAA2C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8C2E-29CA-4460-B2B8-C5893081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61A2-5E31-4093-A848-4AEAB406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EC39-F1FA-4915-99FB-8C90D4B6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A98B-1004-4600-98E0-5946D313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586F-57B9-466D-BEB8-FBBB5249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4241-774B-4982-B6F3-91DA69D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B39-4638-4E0E-950F-751669F0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1838-0E87-4BF2-B931-FB77BAE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CC5B-3018-49D8-9177-E68E4F1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F696-D360-4C73-90A6-3072D34C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93E2-B8B0-4F2D-AAED-F2F05343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E4D7-6261-42A1-9409-FFCCA0F6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FEE-89F6-4722-9E2C-24056E1A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1F3-E554-49BE-8B3E-63765C76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9CB-4796-4FB0-8DEA-D8F4C022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89A-1874-4796-AE21-4FBA89D1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092-C563-42A8-9BDA-267AE35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EF3-1DC7-4868-A643-147D1B85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9C0-7515-49BB-BF6C-031B1B28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18C4-DB95-4FC1-B7C4-AA6A374708C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5D50-755A-4B30-B2CB-447CC8E35A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66BD-54E4-476B-BB4D-3B6FB504C5B5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063B-F70A-40B7-95BB-2E084FEC035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hyperlink" Target="http://www.puc.state.tx.us/electric/projects/34610/34610.cf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S Update March 9, 20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523520"/>
            <a:ext cx="8610480" cy="57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JULY 2010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6-7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jects TBA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7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13-14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– Projects TBA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7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FACA-DB07-4025-8864-C5D4232FF36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8F17-4E06-44A2-99A4-9E4CF0EEBF5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00015621\Local Settings\Temporary Internet Files\Content.IE5\UZYJAF85\MCj04344110000[1].wmf"/>
          <p:cNvPicPr/>
          <p:nvPr/>
        </p:nvPicPr>
        <p:blipFill>
          <a:blip r:embed="rId1"/>
          <a:stretch/>
        </p:blipFill>
        <p:spPr>
          <a:xfrm>
            <a:off x="380880" y="1905120"/>
            <a:ext cx="208296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1" name="Picture 3" descr="C:\Documents and Settings\00015621\Local Settings\Temporary Internet Files\Content.IE5\2NCNMXYB\MCj03833080000[1].wmf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Documents and Settings\00015621\Local Settings\Temporary Internet Files\Content.IE5\W7FBEKXX\MCj00787620000[1].wmf"/>
          <p:cNvPicPr/>
          <p:nvPr/>
        </p:nvPicPr>
        <p:blipFill>
          <a:blip r:embed="rId3"/>
          <a:stretch/>
        </p:blipFill>
        <p:spPr>
          <a:xfrm>
            <a:off x="2428920" y="3733920"/>
            <a:ext cx="252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914400" y="-60948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Interim Settlement S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03/10 Status Re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705720" y="640080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320" y="1676520"/>
          <a:ext cx="8991360" cy="3338280"/>
        </p:xfrm>
        <a:graphic>
          <a:graphicData uri="http://schemas.openxmlformats.org/drawingml/2006/table">
            <a:tbl>
              <a:tblPr/>
              <a:tblGrid>
                <a:gridCol w="3146400"/>
                <a:gridCol w="1724040"/>
                <a:gridCol w="1798560"/>
                <a:gridCol w="2322360"/>
              </a:tblGrid>
              <a:tr h="36180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Milest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</a:tr>
              <a:tr h="149724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biliz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19/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ched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724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21/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chedule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xt Steps for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4000"/>
          </a:bodyPr>
          <a:p>
            <a:pPr lvl="1" marL="322200" indent="-32220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m members are currently participating in the Advanced Metering Implementation Team (AMIT) workshop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expecting that the long term deliverables would come from AMIT’s Project 8 objectives and business requi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22200" indent="-32220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roject 8- Long Term Settlement Solu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and implement a centralized location for AMS settlement data that the whole market uses (long term solution as identified in the 2008 ERCOT Settlement Study).  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Not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 This may not be the only objective for Project 8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322200" indent="-32220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486080" indent="-32184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D136-4112-48FD-AC88-BC52893CCF5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xt Steps for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en we schedule our next meeting it would include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cussing and documenting Lessons Learned from AMIT Project 3 – AMS Interim Settlement Solu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ose out any outstanding action items or tasks related to Project 3 Interim Settlement Solution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djusting the MARS Taskforce Scope statement to include AMIT Project 8 Long-Term Settlement Solution deliverab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askforce recommended changes to Scope statement will be provided to RMS for Approva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stablish future meeting schedul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A994-BA9A-4E9D-8A67-BB82A07FBC9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UCT Project 34610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0512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ced Metering Implementation Team (AMIT) Documentation &amp; Meeting Schedules can be found 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Utility Commission of Texas Project 34610 Webs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76212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2AF1-89FD-4027-9F3A-F8E2CFA584F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294920"/>
            <a:ext cx="861048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MARCH 2010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8-9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– Lessons Learned Wrap Up &amp; SMT Technical Team Update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: 1:30-5:30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Lessons Learn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e: 8:30-4:30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SMT Technical Tea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20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29-3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jects #2, #4– Web Portal &amp; HAN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e: 8:30-4:30              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State Capitol Extension, 112 East 11th Street, Room E2.0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2000" spc="-1" strike="noStrike" u="sng">
                <a:solidFill>
                  <a:srgbClr val="d59f07"/>
                </a:solidFill>
                <a:uFillTx/>
                <a:latin typeface="Tahoma"/>
                <a:hlinkClick r:id="rId2"/>
              </a:rPr>
              <a:t>http://www.puc.state.tx.us/electric/projects/34610/34610.cf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CB5C-F809-45E0-A9BC-87BEF267FD0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523520"/>
            <a:ext cx="861048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RIL 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6-7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Project # 4, HAN (F2F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ocation: State Capitol Extension, 112 East 11th Street, Room E2.0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9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19-20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– Project #5 – Retail Market Interface (F2F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ue: 9:30-4:30               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ocation: State Capitol Extension, 112 East 11th Street, Room E2.0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A898-C083-432D-9BD6-D0E6BCA9339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523520"/>
            <a:ext cx="861048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Y 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4-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jects #2, #4– Web Portal &amp; HAN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 TBD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24-2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oject #8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– Long-Term Settlement Solution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: 8:30-4:30       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 TB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15F1-BAC5-4438-983C-E334B796644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523520"/>
            <a:ext cx="8610480" cy="57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NE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8-9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– </a:t>
            </a:r>
            <a:r>
              <a:rPr b="1" lang="en-US" sz="1500" spc="-1" strike="noStrike" u="sng">
                <a:solidFill>
                  <a:srgbClr val="ffff00"/>
                </a:solidFill>
                <a:uFillTx/>
                <a:latin typeface="Tahoma"/>
              </a:rPr>
              <a:t>Projects #8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– Long Term Settlement Solution (F2F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3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22-23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Projects TBA (F2F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3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28-29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– Projects TBA (F2F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ue: 8:30-4:30               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3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3B88-B9A7-4F2E-8902-C6D28F7E9D3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10-03-02T20:07:00Z</dcterms:modified>
  <cp:revision>271</cp:revision>
  <dc:subject/>
  <dc:title>MARS Taskforce </dc:title>
</cp:coreProperties>
</file>