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F0C-41DC-4157-95DE-012436CF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48D-0A8F-4790-8800-A8EA085F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824-1DB0-4C57-BFD2-29B44CA0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242-419B-4F3D-8DA3-BE8AEE7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2A7-F474-4B1F-808D-A02E7AC9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2E5-6A7A-4ED3-90A7-392D3329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E2A-6B55-47E3-ABE6-4B557DC5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E933-27C8-4070-B9F8-53CC283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8DA9-D9F0-4500-B9E6-A8854A4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1B30-9B58-4D3E-9198-3E008233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EE3A-636D-4FB9-BD59-6D5444B8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2135-FAFC-4208-9A0D-D3F6880A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FA0A-DFC7-4DB4-8104-E6AC271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FF4E-4C59-41DE-8174-B13C754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495-B3D0-4D9C-A8EC-FAD8DB2C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690-E262-448F-B2C0-955BABB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2597-B95A-443D-919D-568F8EE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921-5283-499B-9EEB-00FA431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B74A-239F-4171-A1CC-63195C7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8797-EC08-4B41-AA25-BC24378E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159-1867-46F6-80D8-C2C6C5E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AEA-EBD5-4014-93D2-C480686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969-C96E-42DC-9BF8-478628C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0E5-058D-425F-AD56-0EDF9CA0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212-23CB-428B-9C2A-BA2BAA1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0EF-4CD9-4E1B-B91A-D5ADBF71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923-62EE-4277-AC6C-436340E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47D-1D0D-4194-8D7C-3BCFA2F8B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EDD-A217-4FBB-BAB5-090A99781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AEA-FE68-49CB-AF67-21054DAD4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SS Feeds Upd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y Apodaca, ERCOT Web Content Coordinator, reported that the RSS Feeds application was launched on 2/25/2010 and was ready for Market Participants on 2/26/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ail notification was sent to COPS on 2/26/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rket Notice was sent on 3/2/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the App Calendar programming is complete and will be available to MPs by the end of March 201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E1A-B768-4049-9772-82BC454A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SS Feeds Upd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 Deller – Demonstration of RSS Feeds cap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4F63-053A-4D45-B2ED-88EEBFF0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IE DRG COPMGRR Dra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ed and added options under Technology Type and Primary Fu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MGRR017, Creating Section 8.2, Settlement Statements and Invo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bled at CCW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e to review and impro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6E1-BF1E-4085-AFEB-9B7114F1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ti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6, Commercial Systems Model / Market Processes / Market Overview (Not sure of name ye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8, ERCOT Invoice and Settlement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66F-5C66-461B-BD69-541E08AF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d special CCWG meeting on March 8 to develop TDSP Outage Communication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March 25, but conflicts with MRS for Nodal Pha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to change to March 30; 9:30am – 12:00pm, with a workshop from 1:00pm – 3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7, Creating Section 8.2, Settlement Statements and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EA5-2964-4283-968A-4BB24224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1B1-F961-405B-8252-CAAE0903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10-03-02T20:18:02Z</dcterms:modified>
  <cp:revision>242</cp:revision>
  <dc:subject/>
  <dc:title>CCWG 2006 Accomplishments</dc:title>
</cp:coreProperties>
</file>