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4AA7D-27F0-442B-A463-5656F3BCCC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99B34-5969-41B8-AD65-98D63E9A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6C055-9140-4ECC-99A3-923138E2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8AC49-1C6A-48E1-AFEF-E5A4D17096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5798-A17F-4050-8975-AFAD0D955D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BF91-8922-4BEF-BC7F-C00B5563EC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584A-C7DF-403C-9E1F-313F9361D3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29E8-B224-4BD6-825A-AE59FEFEE7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4319-D9CA-42E2-8DF9-7C07A5D810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CE26-8434-4A6D-9C62-55A80E9EAF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85A6-9ED7-405A-BD92-20A9F982C8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C97A7-C16B-44E5-BE0D-801016BA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14B4-7FA7-4618-A02B-9566ED3E1F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F93F-FE4B-4347-9646-0E37E09075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8A57-F2AB-49CE-AEDF-586203C88F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42F8-89C9-4554-8BBD-D33FCAB01D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5B2A-441E-4D32-932F-8E45F00415C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AFA39-44F4-49C0-A03A-ECC9B8B0D6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FD9F9-0DB2-4CD7-9FA6-88609F18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81D2D-45E5-4A7E-870A-33C210FD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0DD33-B8D1-4326-8C72-8CAF4BBA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A50BE-EC43-49CF-BF36-52CC50573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AFE64-DC2C-4D1F-B7C8-08067CEC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A20EC-B7F1-4DE6-80F0-53D3A2641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7D4AF-F5A1-4EC6-8788-96992B8D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2E895-B8F0-4A35-88F3-66D3E823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F3E4C-F418-4F51-A1D5-EDEDF2AC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559588-9687-4635-804B-C2597EAA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704C3-CD33-4731-9B5E-7AA6A256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966CE-B31B-4272-92DF-70F5D858D2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E7513A-F2C7-4BB2-9F31-AB56A0BD7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D98B1C-3142-4DE2-8FF7-DCB25DB4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FE0C02-F5D8-46B9-9EF4-2A0F3FFD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D9167-39B0-44C5-8681-9CA8E91D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EEE0CB-B6E8-4D67-93E6-58FA1579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3CCB6B-1349-4A07-9623-812CE635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1D8FE1-4756-4D77-9E94-BF886845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A262A1-5BA1-4D24-B4A8-09512C4A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228A1A-6F49-4B6C-B9CD-FBD3C626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3D7149-3D30-4A5F-B096-5600C92B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7221FC-3A2D-46C1-8D34-0DC28076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96F220-C3D5-4BFB-9632-FEF4F1764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83729A-2A73-426E-A298-8CD2D4761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BB347-F205-4D93-A1B0-31EDF5963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2D9F4-E59D-4B3D-9DFC-BBD68FA94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8C0DB-6E45-4CDC-B1A1-60BC3669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335E0-BE63-4AF2-9ADF-223D698F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215D0-ECE8-4CE5-99F5-D6FB1928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76320"/>
            <a:ext cx="2590920" cy="1050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6256-A244-4022-898E-1C8CC57E5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52680" y="3808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filing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4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4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6915240" y="6194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5E5F-FB4B-4717-82D7-68468204D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88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33D7-0EEA-4EA5-98CA-551B7B55D07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C375-3F6F-40AD-93E1-2D721CAED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rcot.com/calendar/2010/02/20100224-PWG" TargetMode="External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rcot.com/mktrules/issues/lpgrr/025-049/036/index" TargetMode="External"/><Relationship Id="rId2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WG Update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nie Podr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Direct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PWG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 Ech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Onc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PWG Vice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PS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arch 9,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2EE4C-89B4-456D-96FD-5E19CD58C9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4600" y="1295280"/>
            <a:ext cx="8740800" cy="248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BFAD0-0F6D-4F5B-B62A-ECA6990DE0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09600" y="395280"/>
            <a:ext cx="7221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und 2 Sample (Goal 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DSPs completing data collection through December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il Report to PWG delta of current profiles vs. Round 2 s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il 2011 target new Load Profile Mode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alendar/2010/02/20100224-PW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28713C-D522-4FEE-A517-D0D0A63F48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09600" y="395280"/>
            <a:ext cx="7221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Load Profile Model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WG needs feedback from REPs on incremental cost of updating round 2 models vs. benefi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model updates at all are needed, 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-estimate existing load profiling model coefficients, 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ild models with new structures to address weather transitions per UFE presentation “profile discontinuity”, 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round 3 samples in TDSP areas that are not installing AMS or have later timelines, 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file model transition likely to be needed due to difference in round 2 sample population mean to current profile models just like the last model implementati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ERCOT forecast of profile models needed after AMS implementati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951804-DECE-474E-8AA4-F2E89944CA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7986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aft in progress for Annual Validation suspension per AMS has been discussed and is a work in progress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nsensus that AMS premises should not be subject to the same annual validation of Profile Type as NIDR premises.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(Goal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PGRR shall be in order for changes per the NOIE DRG TF NPRR 208. On Jan. 27 the PWG reviewed the language and is filing language change recommend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ending PRS review on March 25. Once approved then the PWG shall review LPGRR langu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PGRR036 Delete Document Control Section on a normal timeli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ent to the COPS for March Vote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PGRR037 Replace Wording Truncated from LPGRR03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he TAC Approved on 02/04/2010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aft LPGRR that takes the LRS TDSP CSV Operations Guide and makes it Appendix A of the Load Profiling Guide (LPG)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ntroduced at PWG in Febru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9600" y="395280"/>
            <a:ext cx="7221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PGRR  and PRR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FA06D6-6878-4CBD-9909-A45F91ADB5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700200" y="1066680"/>
            <a:ext cx="77580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raft PRR was presented by Direct Energy proposing that both IDR and NIDR distribution metered premises have an equal allocation factor of 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No cons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Discuss about the relative allocation of transmission vs.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AMIT stakeholders discussed and decided no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. PWG discussed in Febr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. SEWG shall discuss in M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9600" y="395280"/>
            <a:ext cx="7221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FE Al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E751BD-3F3D-43C6-8790-AB7C1A3161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09600" y="395280"/>
            <a:ext cx="7221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FE Performance post 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January 27, 2010, PWG discussed the recent high values of positive Initial UFE (up to 10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severe weather swings and affects on scaling factors in sett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S premises appear to be underreported if settled using profiles (ref. ERCOT SEWG UFE presentation 2/22/1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WG plans discussion for 1 pm Feb 22, 2010  – PWG members are encouraged to participate in joint discussion at SE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WG continued discuss at the Feb. 24, 2010 mee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scussion to continue at SEWG and PW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4E5EAF-DF72-4371-B1DD-142E7E9461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09600" y="395280"/>
            <a:ext cx="7221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PGRR V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PGRR0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ete Document Control S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WG requests the following mo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COPS recommend to the TAC approval of this non-substantive change with Normal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mktrules/issues/lpgrr/025-049/036/index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EE6199-AB3F-487B-9989-8AA92705C7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4959360"/>
            <a:ext cx="800100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WG 2010 meeting dates - 4th Wednesday of the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76720" y="1371600"/>
            <a:ext cx="5248080" cy="306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2419200" cy="304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9EBA1-ECA2-43E9-93EC-EF6BCF2DBB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1:33:53Z</dcterms:created>
  <dc:creator>Administrator</dc:creator>
  <dc:description/>
  <dc:language>en-US</dc:language>
  <cp:lastModifiedBy>epodraza</cp:lastModifiedBy>
  <dcterms:modified xsi:type="dcterms:W3CDTF">2010-03-02T19:49:54Z</dcterms:modified>
  <cp:revision>390</cp:revision>
  <dc:subject/>
  <dc:title>PowerPoint Presentation</dc:title>
</cp:coreProperties>
</file>