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A7F8-2522-4B93-99AB-0337D1FA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3FF7-7F14-429E-8A67-9759D4C2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2279-5CB9-435A-9347-B92FFA84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2C05-2B60-42D2-AD77-75C1D6EF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F06D-8B44-46AF-B126-0F32060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09A0-E05D-4963-BCE8-8432BEF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FD4-22B8-4E73-B046-ED31B85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75BE-C745-4BAD-943B-4083708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D9CF-898D-4056-A8E8-D813B4D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992B-300E-49B7-8377-C2C726FE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E541-B592-434E-A51F-FAB9185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8B7D-FE4A-46D4-9FD9-811D187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805-D67F-4934-8AEB-FEC0F983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E4B6-6FFE-43EF-9C99-996EA663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16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7200" y="895320"/>
            <a:ext cx="8236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ebruary 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09480" y="811080"/>
            <a:ext cx="80773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 (contd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7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654200" y="838080"/>
            <a:ext cx="598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523880" y="844560"/>
            <a:ext cx="63518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143000" y="826920"/>
            <a:ext cx="7086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43000" y="826920"/>
            <a:ext cx="7086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10-03-04T16:55:09Z</dcterms:modified>
  <cp:revision>163</cp:revision>
  <dc:subject/>
  <dc:title>Instructions</dc:title>
</cp:coreProperties>
</file>