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DEC29-3745-4216-A08A-62487508E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11BA-DF6C-4E84-ACC6-04EFB9C7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B3DBF-DAE3-4C72-8125-FC4FB63AE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CA171-6D62-4774-88B2-B154E512F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D4DB4-DA9E-4349-BC54-14BACE766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35A89-2290-4A19-95FD-497136584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94A93-E176-4C43-AD83-E81455C26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67B9C-95EC-4C7A-BC1C-8BC1DAF84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6AF5C-0DE7-44EA-8BC0-A8B4697E0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DA56D-1870-48BA-BD64-87893D233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F827-E318-4C4C-852D-F8C8B1F72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7BEF9-52AB-4645-95AA-1DA94A54E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629FB-3ABF-4DBF-A1CB-CCF64EEB7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08350-6F35-47C7-9F94-D25E5D104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B76FF-9194-4C80-8917-27B1A904E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7F9C0-A7F5-4275-B469-E5609E073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CDC10-89FA-4DAD-8B4D-D1A60EEA0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CC860-1712-4EAA-A996-C0B3F292A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6F15-3946-40F9-B43E-39841B7F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7479-0913-4915-9A41-654459211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A9C4-5E95-40CE-ADED-D833E83C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DA389-5D3E-4FA2-B0A0-96FE832B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95DA-F9A4-4455-8C2D-0162618E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E150-C034-4B0F-B107-9578DCF1B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6B96-6A80-4CCB-9367-C6B3A11F5C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EBF6-47FA-43D2-BE91-E872A5EBE1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ind Cost Allocation Task Force</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o WM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17,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WGR can reduce the energy used in the WPLRS calculation by qualifying for reliability credit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add up to 100% reduction in obligation for qualified generators </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reduce the energy contribution to WPLRS (like UFE adjustment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Reliability Credits)</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828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Reliability Credits are:</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Frequency Response (or in-service governor) – 30% reduc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Support – 20% reduc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rtia or an inertial-like response – 30% reduction</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rtial-like responses could include “black box” electronic control responses that solve the substantively similar issues</a:t>
            </a:r>
            <a:endParaRPr b="0" lang="en-US" sz="20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red Contribution to ERCOT peak – 20%</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s WGRs with wind resources more coincident with ERCOT pea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y?</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6765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wind’s variable fuel supply, ERCOT manages wind as “net load” or negative load, making awind plus load ratio share appropriate</a:t>
            </a:r>
            <a:endParaRPr b="0" lang="en-US" sz="2400" spc="-1" strike="noStrike">
              <a:solidFill>
                <a:srgbClr val="000000"/>
              </a:solidFill>
              <a:latin typeface="Arial"/>
            </a:endParaRPr>
          </a:p>
          <a:p>
            <a:pPr marL="318960" indent="-31896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 Wind Ancillary Service study stated:</a:t>
            </a:r>
            <a:endParaRPr b="0" lang="en-US" sz="24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Unlike conventional generation, the electrical output of wind generation plants cannot be dispatched, but is inherently variable and imprecisely predictable. Thus, addition of wind generation resources increases the amount of variability and unpredictability that must be addressed in system operations. The integration of increasing amounts of wind generation capacity into the ERCOT system inevitably leads to changing requirements for ancillary services procurement”</a:t>
            </a:r>
            <a:r>
              <a:rPr b="0" i="1" lang="en-US" sz="2000" spc="-1" strike="noStrike">
                <a:solidFill>
                  <a:srgbClr val="000000"/>
                </a:solidFill>
                <a:latin typeface="Arial"/>
              </a:rPr>
              <a:t> </a:t>
            </a:r>
            <a:r>
              <a:rPr b="0" lang="en-US" sz="1200" spc="-1" strike="noStrike">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wind workshop for docket 37339, ERCOT staff declared “Any energy schedule from a wind resource is a forecast with associated uncertainty that must be covered by reserve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1600200" y="624852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 Energy, Executive Summary, “Analysis of Wind Generation Impact on ERCOT Ancillary Services Requirements”, March 28, 200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013 High Wind Week</a:t>
            </a:r>
            <a:endParaRPr b="0" lang="en-US" sz="4400" spc="-1" strike="noStrike">
              <a:solidFill>
                <a:srgbClr val="003366"/>
              </a:solidFill>
              <a:latin typeface="Times New Roman"/>
            </a:endParaRPr>
          </a:p>
        </p:txBody>
      </p:sp>
      <p:pic>
        <p:nvPicPr>
          <p:cNvPr id="154" name="Picture 3" descr=""/>
          <p:cNvPicPr/>
          <p:nvPr/>
        </p:nvPicPr>
        <p:blipFill>
          <a:blip r:embed="rId1"/>
          <a:stretch/>
        </p:blipFill>
        <p:spPr>
          <a:xfrm>
            <a:off x="1623960" y="1981080"/>
            <a:ext cx="6870600" cy="4114800"/>
          </a:xfrm>
          <a:prstGeom prst="rect">
            <a:avLst/>
          </a:prstGeom>
          <a:ln w="0">
            <a:noFill/>
          </a:ln>
        </p:spPr>
      </p:pic>
      <p:sp>
        <p:nvSpPr>
          <p:cNvPr id="155" name=""/>
          <p:cNvSpPr/>
          <p:nvPr/>
        </p:nvSpPr>
        <p:spPr>
          <a:xfrm>
            <a:off x="914400" y="6248520"/>
            <a:ext cx="7086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ERCOT’s August 20</a:t>
            </a:r>
            <a:r>
              <a:rPr b="0" lang="en-US" sz="1000" spc="-1" strike="noStrike" baseline="30000">
                <a:solidFill>
                  <a:srgbClr val="000000"/>
                </a:solidFill>
                <a:latin typeface="Arial"/>
              </a:rPr>
              <a:t>th</a:t>
            </a:r>
            <a:r>
              <a:rPr b="0" lang="en-US" sz="1000" spc="-1" strike="noStrike">
                <a:solidFill>
                  <a:srgbClr val="000000"/>
                </a:solidFill>
                <a:latin typeface="Arial"/>
              </a:rPr>
              <a:t> presentation in workshop for Project 3733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ponse to Questions</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cillary services are include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 Reserves, Non-Spinning reserves, Regulation Up, &amp; Regulation Down</a:t>
            </a:r>
            <a:endParaRPr b="0" lang="en-US" sz="2400" spc="-1" strike="noStrike">
              <a:solidFill>
                <a:srgbClr val="000000"/>
              </a:solidFill>
              <a:latin typeface="Arial"/>
            </a:endParaRPr>
          </a:p>
          <a:p>
            <a:pPr marL="322200" indent="-32220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obligation based on installed capacity or metered energ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red Energy</a:t>
            </a:r>
            <a:endParaRPr b="0" lang="en-US" sz="2400" spc="-1" strike="noStrike">
              <a:solidFill>
                <a:srgbClr val="000000"/>
              </a:solidFill>
              <a:latin typeface="Arial"/>
            </a:endParaRPr>
          </a:p>
          <a:p>
            <a:pPr marL="322200" indent="-32220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roposal include Reliability Credits?</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Although the specific credits and their values may be determined through the stakeholder process, reliability credits are an essential part of the proposed re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ponse to Questions (PUCT Staff)</a:t>
            </a:r>
            <a:endParaRPr b="0" lang="en-US" sz="40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the proposal meets the principle of cost causa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causation assigns costs to operational characteristics that cause those costs, to create an incentive for those participants to reduce the costs.  Because the reliability credits and tradable ancillary service obligations provide these incentives, the proposal is aligned with cost cau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ponse to Questions (PUCT Staff)</a:t>
            </a:r>
            <a:endParaRPr b="0" lang="en-US" sz="4000" spc="-1" strike="noStrike">
              <a:solidFill>
                <a:srgbClr val="003366"/>
              </a:solidFill>
              <a:latin typeface="Times New Roman"/>
            </a:endParaRPr>
          </a:p>
        </p:txBody>
      </p:sp>
      <p:sp>
        <p:nvSpPr>
          <p:cNvPr id="1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pact will this have on wind generation develop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will create incentives for developers to invest early to qualify for all reliability credits.  Existing generators will have the same incentives.  These incentives will lead to a more reliable grid and mature wind development efforts in Texas.</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ponse to Questions (PUCT Staff)</a:t>
            </a:r>
            <a:endParaRPr b="0" lang="en-US" sz="4000" spc="-1" strike="noStrike">
              <a:solidFill>
                <a:srgbClr val="003366"/>
              </a:solidFill>
              <a:latin typeface="Times New Roman"/>
            </a:endParaRPr>
          </a:p>
        </p:txBody>
      </p:sp>
      <p:sp>
        <p:nvSpPr>
          <p:cNvPr id="1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incentives for meeting reliability concer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reliability credits provide these incentiv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posal static or dynamic with relation to additional wind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 the obligations for each generator will vary wit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iability credits the WGR has qualified fo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GR’s share of total wind outpu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ncillary service obligations</a:t>
            </a:r>
            <a:endParaRPr b="0" lang="en-US" sz="18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roposal recognize geographic diversity?</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Rs located with better load coincidence are eligible for an obligation re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estion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cremental Alloca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We Got Here</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1" name="PlaceHolder 2"/>
          <p:cNvSpPr>
            <a:spLocks noGrp="1"/>
          </p:cNvSpPr>
          <p:nvPr>
            <p:ph/>
          </p:nvPr>
        </p:nvSpPr>
        <p:spPr>
          <a:xfrm>
            <a:off x="1173240" y="1828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Board Members have asked repeatedly about allocating Ancillary Service Costs to Wind Generators</a:t>
            </a:r>
            <a:endParaRPr b="0" lang="en-US" sz="2400" spc="-1" strike="noStrike">
              <a:solidFill>
                <a:srgbClr val="000000"/>
              </a:solidFill>
              <a:latin typeface="Arial"/>
            </a:endParaRPr>
          </a:p>
          <a:p>
            <a:pPr marL="339480" indent="-3394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eptember 2009 meeting, PRS made a recommendation to TAC that a task force be created to consider how to allocate Ancillary Service Costs to Wind Generators</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was tied to a motion to rehear a motion to approve PRR828, Remove QSE SCE Performance Exemption for QSEs with only Uncontrollable Renewable Resources On-line</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828 was ultimately reject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P volunteered to lead the task force</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to apply the principles of cost causation to the allocation of ancillary services costs to wind generators by identifying the incremental amount of ancillary services that are required by ERCOT that are directly related to wind generation.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amounts of ancillary services necessary to accommodate wind generation are specifically identifiable in ERCOT’s methodology for determining the amount of required ancillary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cremental Allocation of Reg Up and Reg Down (URS and DRS):</a:t>
            </a:r>
            <a:endParaRPr b="0" lang="en-US" sz="4000" spc="-1" strike="noStrike">
              <a:solidFill>
                <a:srgbClr val="003366"/>
              </a:solidFill>
              <a:latin typeface="Times New Roman"/>
            </a:endParaRPr>
          </a:p>
        </p:txBody>
      </p:sp>
      <p:sp>
        <p:nvSpPr>
          <p:cNvPr id="16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alculates the increased amount of wind penetration each month and utilize tables provided by GE in their final report to ERCOT in the calculation of Regulation Service requirements. </a:t>
            </a:r>
            <a:endParaRPr b="0" lang="en-US" sz="2400" spc="-1" strike="noStrike">
              <a:solidFill>
                <a:srgbClr val="000000"/>
              </a:solidFill>
              <a:latin typeface="Arial"/>
            </a:endParaRPr>
          </a:p>
          <a:p>
            <a:pPr marL="332640" indent="-33264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s clearly indicate the incremental MW of URS and DRS that are required per 1000 MW of wind generation capacity</a:t>
            </a:r>
            <a:r>
              <a:rPr b="0" lang="en-US" sz="2400" spc="-1" strike="noStrike" u="sng">
                <a:solidFill>
                  <a:srgbClr val="99ccff"/>
                </a:solidFill>
                <a:uFillTx/>
                <a:latin typeface="Arial"/>
                <a:hlinkClick r:id="rId1" action="ppaction://hlinksldjump"/>
              </a:rPr>
              <a:t>[1]</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32640" indent="-33264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 tables could easily be adapted to allocate ancillary services requirements to wind generators based upon installed MW.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hlinkClick r:id="rId2" action="ppaction://hlinksldjump"/>
              </a:rPr>
              <a:t>1]</a:t>
            </a:r>
            <a:r>
              <a:rPr b="0" lang="en-US" sz="2400" spc="-1" strike="noStrike" u="sng">
                <a:solidFill>
                  <a:srgbClr val="000000"/>
                </a:solidFill>
                <a:uFillTx/>
                <a:latin typeface="Arial"/>
              </a:rPr>
              <a:t> 2010 ERCOT Methodologies for Determining Ancillary Service Requirements pgs 6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cremental Allocation of Non-Spin Reserves Service (NSRS):</a:t>
            </a:r>
            <a:endParaRPr b="0" lang="en-US" sz="40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Load is defined as the ERCOT load less wind generation.</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Load uncertainty is then defined as the difference between the actual metered Net Load and the forecasted Net Load.</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 of determining the amount of NSRS to purchase for each hour of the day during the upcoming month, ERCOT will determine the 95th percentile of the Net Load uncertainty using data from the 30 days prior to the study and the same month of the previous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cremental Allocation of Non-Spin Reserves Service (NSRS):</a:t>
            </a:r>
            <a:endParaRPr b="0" lang="en-US" sz="4000" spc="-1" strike="noStrike">
              <a:solidFill>
                <a:srgbClr val="003366"/>
              </a:solidFill>
              <a:latin typeface="Times New Roman"/>
            </a:endParaRPr>
          </a:p>
        </p:txBody>
      </p:sp>
      <p:sp>
        <p:nvSpPr>
          <p:cNvPr id="17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then requires an amount of NSRS such that the combination of NSRS and Regulation Up Services cover 95% of the calculated uncertainty from the Net Load analysis.</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uncertainty could then be determined as a percentage of the total net load uncertainty.  To calculate this percentage, ERCOT would determine the load uncertainty as the 95th percentile of the Mid-Term Load Forecast (MTLF).  </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ubtracting the 95th percentile of the MTLF from the 95th percentile of the Net Load uncertainty, ERCOT would be able to determine the amount of Net Load uncertainty attributable to wi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cremental Allocation of Non-Spin Reserves Service (NSRS):</a:t>
            </a:r>
            <a:endParaRPr b="0" lang="en-US" sz="4000" spc="-1" strike="noStrike">
              <a:solidFill>
                <a:srgbClr val="003366"/>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ERCOT would calculate the wind uncertainty as a percentage of the total Net Load uncertainty at the 95th percentile.</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ould calculate the allocable portion of the 95th percentile amount of NSRS to wind.</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then allocates this to the wind generators based upon installed MW.</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similar manner, ERCOT would determine the impact of wind on the net load bias.  ERCOT will determine the average Net Load forecast error and subtract the average MTLF error such that the result is the average wind forecast err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ncremental Allocation of Non-Spin Reserves Service (NSRS):</a:t>
            </a:r>
            <a:endParaRPr b="0" lang="en-US" sz="40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average wind forecast error is a contributor to the Net Load bias, the percentage allocable to wind will be the average wind forecast error as a percentage of the average net load forecast error.</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ercentage will then be multiplied by the amount that the load bias impacts the NSRS requiremen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load bias impact on NSRS requirement is often less than the total calculated load bias due to the NSRS maximum requirement cap of 2000 MW.)</a:t>
            </a:r>
            <a:endParaRPr b="0" lang="en-US" sz="20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 1 uses actual values from January 2010 to estimate the wind allocation of NSRS under this methodology.</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 2 uses actual values from February 2010 to estimate the wind allocation of NSRS under this methodolog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cremental Allocation of Responsive Reserves and Replacement Reserves (RRS, RPRS):</a:t>
            </a:r>
            <a:endParaRPr b="0" lang="en-US" sz="2800" spc="-1" strike="noStrike">
              <a:solidFill>
                <a:srgbClr val="003366"/>
              </a:solidFill>
              <a:latin typeface="Times New Roman"/>
            </a:endParaRPr>
          </a:p>
        </p:txBody>
      </p:sp>
      <p:sp>
        <p:nvSpPr>
          <p:cNvPr id="17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one.</a:t>
            </a:r>
            <a:r>
              <a:rPr b="0" lang="en-US" sz="3200" spc="-1" strike="noStrike">
                <a:solidFill>
                  <a:srgbClr val="000000"/>
                </a:solidFill>
                <a:latin typeface="Arial"/>
              </a:rPr>
              <a:t>  There is no allocation of these services to wind generation under the Incremental Allocation method because the ERCOT Ancillary Services Methodology does not identify wind generation as a contributor to incremental amounts of thes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able 1: January 2010</a:t>
            </a:r>
            <a:endParaRPr b="0" lang="en-US" sz="4400" spc="-1" strike="noStrike">
              <a:solidFill>
                <a:srgbClr val="003366"/>
              </a:solidFill>
              <a:latin typeface="Times New Roman"/>
            </a:endParaRPr>
          </a:p>
        </p:txBody>
      </p:sp>
      <p:pic>
        <p:nvPicPr>
          <p:cNvPr id="181" name="" descr=""/>
          <p:cNvPicPr/>
          <p:nvPr/>
        </p:nvPicPr>
        <p:blipFill>
          <a:blip r:embed="rId1"/>
          <a:stretch/>
        </p:blipFill>
        <p:spPr>
          <a:xfrm>
            <a:off x="609480" y="1981080"/>
            <a:ext cx="830592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able 2: February 2010</a:t>
            </a:r>
            <a:endParaRPr b="0" lang="en-US" sz="4400" spc="-1" strike="noStrike">
              <a:solidFill>
                <a:srgbClr val="003366"/>
              </a:solidFill>
              <a:latin typeface="Times New Roman"/>
            </a:endParaRPr>
          </a:p>
        </p:txBody>
      </p:sp>
      <p:pic>
        <p:nvPicPr>
          <p:cNvPr id="183" name="" descr=""/>
          <p:cNvPicPr/>
          <p:nvPr/>
        </p:nvPicPr>
        <p:blipFill>
          <a:blip r:embed="rId1"/>
          <a:stretch/>
        </p:blipFill>
        <p:spPr>
          <a:xfrm>
            <a:off x="990720" y="1981080"/>
            <a:ext cx="7772400" cy="38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ick Comparison</a:t>
            </a:r>
            <a:endParaRPr b="0" lang="en-US" sz="4400" spc="-1" strike="noStrike">
              <a:solidFill>
                <a:srgbClr val="003366"/>
              </a:solidFill>
              <a:latin typeface="Times New Roman"/>
            </a:endParaRPr>
          </a:p>
        </p:txBody>
      </p:sp>
      <p:graphicFrame>
        <p:nvGraphicFramePr>
          <p:cNvPr id="185" name=""/>
          <p:cNvGraphicFramePr/>
          <p:nvPr/>
        </p:nvGraphicFramePr>
        <p:xfrm>
          <a:off x="1173240" y="1981080"/>
          <a:ext cx="7772400" cy="2646360"/>
        </p:xfrm>
        <a:graphic>
          <a:graphicData uri="http://schemas.openxmlformats.org/drawingml/2006/table">
            <a:tbl>
              <a:tblPr/>
              <a:tblGrid>
                <a:gridCol w="2703600"/>
                <a:gridCol w="2765160"/>
                <a:gridCol w="230364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crement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ind Plus Load Ratio Sh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74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cillary Services Inclu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RS, DRS, NS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l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termina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stalled Wind Capacity (M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nd Production (MW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0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liability Credi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Proposed but Opt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clu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CATF Charter</a:t>
            </a:r>
            <a:endParaRPr b="0" lang="en-US" sz="4400" spc="-1" strike="noStrike">
              <a:solidFill>
                <a:srgbClr val="003366"/>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nd Cost Allocation Task Force (WCATF) is a WMS Task Force formed to address the allocation of the cost of Ancillary Services to Wind Generation Resources.</a:t>
            </a:r>
            <a:endParaRPr b="0" lang="en-US" sz="32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by WMS on November 18,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ponse to Questions (PUCT Staff)</a:t>
            </a:r>
            <a:endParaRPr b="0" lang="en-US" sz="4000" spc="-1" strike="noStrike">
              <a:solidFill>
                <a:srgbClr val="003366"/>
              </a:solidFill>
              <a:latin typeface="Times New Roman"/>
            </a:endParaRPr>
          </a:p>
        </p:txBody>
      </p:sp>
      <p:sp>
        <p:nvSpPr>
          <p:cNvPr id="187" name="PlaceHolder 2"/>
          <p:cNvSpPr>
            <a:spLocks noGrp="1"/>
          </p:cNvSpPr>
          <p:nvPr>
            <p:ph/>
          </p:nvPr>
        </p:nvSpPr>
        <p:spPr>
          <a:xfrm>
            <a:off x="1173240" y="1752120"/>
            <a:ext cx="77724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is meets principles of cost caus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mental Allocation methodology meets the principles of cost causation in that it only allocates the incremental amount of ancillary services to wind generators that are specifically identified as being caused by wind in the ERCOT Ancillary Services Methodolog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has increased its requirements for Ancillary Services in order to reliably integrate additional wind generation and has documented in its methodology those amounts incrementally attributable to wind generation.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mpact will this have on wind generation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n wind generation development is likely to be extremely small.  The only impact on generation development related to this issue is the uncertainty associated with whether or not such an allocation will be implemented.  Resolution of this issue will allow developers to include this cost in their pro-for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ponse to Questions (PUCT Staff)</a:t>
            </a:r>
            <a:endParaRPr b="0" lang="en-US" sz="4000" spc="-1" strike="noStrike">
              <a:solidFill>
                <a:srgbClr val="003366"/>
              </a:solidFill>
              <a:latin typeface="Times New Roman"/>
            </a:endParaRPr>
          </a:p>
        </p:txBody>
      </p:sp>
      <p:sp>
        <p:nvSpPr>
          <p:cNvPr id="189" name="PlaceHolder 2"/>
          <p:cNvSpPr>
            <a:spLocks noGrp="1"/>
          </p:cNvSpPr>
          <p:nvPr>
            <p:ph/>
          </p:nvPr>
        </p:nvSpPr>
        <p:spPr>
          <a:xfrm>
            <a:off x="990720" y="1676520"/>
            <a:ext cx="7772400" cy="5029200"/>
          </a:xfrm>
          <a:prstGeom prst="rect">
            <a:avLst/>
          </a:prstGeom>
          <a:noFill/>
          <a:ln w="0">
            <a:noFill/>
          </a:ln>
        </p:spPr>
        <p:txBody>
          <a:bodyPr lIns="90000" rIns="90000" tIns="46800" bIns="46800" anchor="t">
            <a:normAutofit/>
          </a:bodyPr>
          <a:p>
            <a:pPr marL="609480" indent="-60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there incentives for meeting reliability concerns?</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mental approach encourages accurate scheduling of wind generation.  If it were possible to forecast and schedule perfectly accurately, there would be absolutely </a:t>
            </a:r>
            <a:r>
              <a:rPr b="0" lang="en-US" sz="2000" spc="-1" strike="noStrike" u="sng">
                <a:solidFill>
                  <a:srgbClr val="000000"/>
                </a:solidFill>
                <a:uFillTx/>
                <a:latin typeface="Arial"/>
              </a:rPr>
              <a:t>no</a:t>
            </a:r>
            <a:r>
              <a:rPr b="0" lang="en-US" sz="2000" spc="-1" strike="noStrike">
                <a:solidFill>
                  <a:srgbClr val="000000"/>
                </a:solidFill>
                <a:latin typeface="Arial"/>
              </a:rPr>
              <a:t> allocation of any NSRS to wind generators under this methodology.  Of course, we all understand that perfect scheduling would be difficult to achieve but the incentive to schedule accurately is still very much a part of this methodology.</a:t>
            </a:r>
            <a:endParaRPr b="0" lang="en-US" sz="2000" spc="-1" strike="noStrike">
              <a:solidFill>
                <a:srgbClr val="000000"/>
              </a:solidFill>
              <a:latin typeface="Arial"/>
            </a:endParaRPr>
          </a:p>
          <a:p>
            <a:pPr lvl="1" marL="990720" indent="-533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no reliability credit-backs currently contemplated in the Incremental Allocation methodology.  The Incremental Approach was designed with the understanding that reliability concerns should be addressed through mandates and not through options to comply.  Providing credits back to wind generators that are in compliant with mandatory reliability requirements is a false incentive.</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ponse to Questions (PUCT Staff)</a:t>
            </a:r>
            <a:endParaRPr b="0" lang="en-US" sz="4000" spc="-1" strike="noStrike">
              <a:solidFill>
                <a:srgbClr val="003366"/>
              </a:solidFill>
              <a:latin typeface="Times New Roman"/>
            </a:endParaRPr>
          </a:p>
        </p:txBody>
      </p:sp>
      <p:sp>
        <p:nvSpPr>
          <p:cNvPr id="19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static or is it dynamic with relation to additional wind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mental Allocation method is dynamic relative to increased amounts of wind generation for the allocable Ancillary Services (URS, DRS, and NSR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it recognize geographic divers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mental Allocation methodology recognizes the beneficial aspect of geographic diversity through increased predictability of wind generation output.  This increased predictability decreases the allocation of NSRS to wind generato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estion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or WMS Consideration</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Plus Load Ratio Share Propos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includes Reliability Credits</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mental Allocation Propos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currently include Reliability Credits but WMS could choose to include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CATF Goals</a:t>
            </a:r>
            <a:endParaRPr b="0" lang="en-US" sz="4400" spc="-1" strike="noStrike">
              <a:solidFill>
                <a:srgbClr val="003366"/>
              </a:solidFill>
              <a:latin typeface="Times New Roman"/>
            </a:endParaRPr>
          </a:p>
        </p:txBody>
      </p:sp>
      <p:sp>
        <p:nvSpPr>
          <p:cNvPr id="135" name="PlaceHolder 2"/>
          <p:cNvSpPr>
            <a:spLocks noGrp="1"/>
          </p:cNvSpPr>
          <p:nvPr>
            <p:ph/>
          </p:nvPr>
        </p:nvSpPr>
        <p:spPr>
          <a:xfrm>
            <a:off x="1173240" y="167652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primary goal is to develop one or more methodologies with supporting rationales for allocating the cost of Ancillary Services to Intermittent Renewable Resources, specifically, Wind Generation Resources.</a:t>
            </a:r>
            <a:endParaRPr b="0" lang="en-US" sz="2000" spc="-1" strike="noStrike">
              <a:solidFill>
                <a:srgbClr val="000000"/>
              </a:solidFill>
              <a:latin typeface="Arial"/>
            </a:endParaRPr>
          </a:p>
          <a:p>
            <a:pPr marL="325800" indent="-325800">
              <a:lnSpc>
                <a:spcPct val="8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secondary goal is to consider and potentially develop additional methodologies for the allocation of Ancillary Services to other Intermittent Renewable Resources (e.g. solar resources).</a:t>
            </a:r>
            <a:endParaRPr b="0" lang="en-US" sz="2000" spc="-1" strike="noStrike">
              <a:solidFill>
                <a:srgbClr val="000000"/>
              </a:solidFill>
              <a:latin typeface="Arial"/>
            </a:endParaRPr>
          </a:p>
          <a:p>
            <a:pPr marL="325800" indent="-325800">
              <a:lnSpc>
                <a:spcPct val="8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present to WMS a whitepaper that summarizes the discussion and development of proposed methodologies.</a:t>
            </a:r>
            <a:endParaRPr b="0" lang="en-US" sz="2000" spc="-1" strike="noStrike">
              <a:solidFill>
                <a:srgbClr val="000000"/>
              </a:solidFill>
              <a:latin typeface="Arial"/>
            </a:endParaRPr>
          </a:p>
          <a:p>
            <a:pPr marL="325800" indent="-32580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goals will not include debating the appropriateness of utilizing one or more of the methodologies being considered.  Similarly, our goals will not include a full analysis for assigning costs of Ancillary Services to all Market Participants.</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by WMS on November 18, 2009</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t’s Be Clear</a:t>
            </a:r>
            <a:endParaRPr b="0" lang="en-US" sz="4400" spc="-1" strike="noStrike">
              <a:solidFill>
                <a:srgbClr val="003366"/>
              </a:solidFill>
              <a:latin typeface="Times New Roman"/>
            </a:endParaRPr>
          </a:p>
        </p:txBody>
      </p:sp>
      <p:sp>
        <p:nvSpPr>
          <p:cNvPr id="1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CATF was asked to develop potential methodologies for “how” to allocate Ancillary Services</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CATF did not discuss whether Ancillary Services “should” be allocated</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CATF is not endorsing or recommending approval of either of the proposals presented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posed Methodologies</a:t>
            </a:r>
            <a:endParaRPr b="0" lang="en-US" sz="4400" spc="-1" strike="noStrike">
              <a:solidFill>
                <a:srgbClr val="003366"/>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llocation methodologies have been proposed for WMS Consid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Plus Load Ratio Share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Allocation Propo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3809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cillary Service Obligations with Reductions for Upgrades</a:t>
            </a:r>
            <a:endParaRPr b="0" lang="en-US" sz="3200" spc="-1" strike="noStrike">
              <a:solidFill>
                <a:srgbClr val="003366"/>
              </a:solidFill>
              <a:latin typeface="Times New Roman"/>
            </a:endParaRPr>
          </a:p>
        </p:txBody>
      </p:sp>
      <p:sp>
        <p:nvSpPr>
          <p:cNvPr id="141" name=""/>
          <p:cNvSpPr/>
          <p:nvPr/>
        </p:nvSpPr>
        <p:spPr>
          <a:xfrm>
            <a:off x="990720" y="9144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ind Plus Load Ratio Sha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generators receive a hedgeable ancillary service obligation for responsive reserves, non-spinning reserves, regulation up, and regulation dow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generators can reduce the obligation by qualifying for “reliability credi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a:t>
            </a:r>
            <a:endParaRPr b="0" lang="en-US" sz="4400" spc="-1" strike="noStrike">
              <a:solidFill>
                <a:srgbClr val="003366"/>
              </a:solidFill>
              <a:latin typeface="Times New Roman"/>
            </a:endParaRPr>
          </a:p>
        </p:txBody>
      </p:sp>
      <p:sp>
        <p:nvSpPr>
          <p:cNvPr id="145" name="PlaceHolder 2"/>
          <p:cNvSpPr>
            <a:spLocks noGrp="1"/>
          </p:cNvSpPr>
          <p:nvPr>
            <p:ph/>
          </p:nvPr>
        </p:nvSpPr>
        <p:spPr>
          <a:xfrm>
            <a:off x="1173240" y="167652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 based on “Wind Plus Load Ratio Share” not just Load Ratio Share</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s sum of energy from WGRs and load from LSEs in the numerator</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wide sum of energy from WGRs and load from LSEs in the denominator</a:t>
            </a:r>
            <a:endParaRPr b="0" lang="en-US" sz="2400" spc="-1" strike="noStrike">
              <a:solidFill>
                <a:srgbClr val="000000"/>
              </a:solidFill>
              <a:latin typeface="Arial"/>
            </a:endParaRPr>
          </a:p>
          <a:p>
            <a:pPr marL="315360" indent="-3153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 calculations are provided to LSEs and WGRs at the same time</a:t>
            </a:r>
            <a:endParaRPr b="0" lang="en-US" sz="2800" spc="-1" strike="noStrike">
              <a:solidFill>
                <a:srgbClr val="000000"/>
              </a:solidFill>
              <a:latin typeface="Arial"/>
            </a:endParaRPr>
          </a:p>
          <a:p>
            <a:pPr marL="315360" indent="-3153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bligations are hedgeable in the bilateral market</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5:41:42Z</dcterms:created>
  <dc:creator>jtroutman</dc:creator>
  <dc:description/>
  <dc:language>en-US</dc:language>
  <cp:lastModifiedBy>klandry</cp:lastModifiedBy>
  <dcterms:modified xsi:type="dcterms:W3CDTF">2010-02-10T22:16:54Z</dcterms:modified>
  <cp:revision>28</cp:revision>
  <dc:subject/>
  <dc:title>Wind Cost Allocation Task Force</dc:title>
</cp:coreProperties>
</file>