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7F07405-096B-47B1-965D-29A440B56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692D47-136A-4DC4-9052-BF43C5548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CE9FDD-C6DE-41D1-869D-C8802F04F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34A5D3-BF53-415E-9EDE-0A2BA6F73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8E627F-C864-4B6B-B5DE-7FBE1C9D4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99CBA-1689-468A-B391-BC31E4958F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017E5-26FA-4964-A6D8-ED786857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CD808-6757-40AE-90DB-726B630B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09252-C07E-4C2A-BCB5-A6BACABCAA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6AC26-2382-48DB-825E-D96FB3C3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3F58B-CD01-4E45-B578-6668147C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4A3E5-D0E4-40A1-BBD4-264B62F7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CE446-1918-4B68-89DF-ACB819C5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1442F-B029-4F08-A236-AE2E34EE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5C3D0-3E0A-41CC-8F09-C249F3FA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6EE9-DC96-44D0-B46B-812C330E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6C336-B0E7-4B33-89CA-1F539D50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78ECF-F529-4207-9DC6-01BCD7A4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45CE8-DF3C-4FE8-81F3-DEF57227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510A6-4E12-4ECC-97B0-7494FA13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57336-3182-48B6-8F9C-C836F13F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49B41-7176-4D87-A99F-69175D59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B733F-F111-456F-A21B-179650A9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203A3-5161-4403-BD07-96112D85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11F20-21C5-425A-8311-7CB85288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ACF6AB-E644-46DB-A1A7-4C698537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1FEB5-8033-4295-91BE-1EAAC5AB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17A03-E6F0-4BB9-BA4D-4F6BC1E3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D8B110-6507-401C-A369-3AEA0189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740C5F-9BBE-4F5E-ADE8-4BC7CC5E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255B8-F98C-4D6A-89C0-1E98F3C7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2F1EEF-3A0D-49B1-8195-006EE834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91698C-93F1-4711-9399-81A2357E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B040EC-8F39-4ED3-957C-0CA807E5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CA5B9B-7F43-4F3C-8388-869CE72EB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BFF8B6-1F85-495E-9661-4A82EDE1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12998-DDC8-4788-9354-5588ACA7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53BD-C31D-4A30-9D27-A8050108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F9046-7571-41B4-B627-C71E5A19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D974-BA81-4D31-B228-0274CA16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5FB0-1A29-4D35-8B51-BCA48F91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BC27-DDFA-4B17-A7FC-ED44AC628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8229600" y="62485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DD65-4158-46E2-94B5-C23ADAC30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eting Title (opt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8229600" y="62485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08FF-596D-40FF-B9D6-1F7C4315E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E55F-A3D1-4BAF-B01B-035B83ADF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dt" idx="7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8229600" y="62485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FB8D-0700-4F23-B077-13F339C5A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6B8C-BA4E-4311-B1CE-5F28BA602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dt" idx="10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projects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arking Deck Overview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6495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ebruary 2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king Deck Discussion – Backgroun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king deck concept approv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on 4/23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on 5/7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Nodal Program Committee on 7/20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remanded to TAC on 7/21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on 8/6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of Directors on 8/19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king Deck Discussion – What is the Parking Deck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34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list of revision requests for Nodal post-Go-Live consid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8680" indent="-203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emed “Not Needed for Nodal Go-Live” by ERCOT CE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er PRR7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3600" indent="-203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ard can overturn the CEO determination on app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3600" indent="-203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O determination can be reconsidered if language is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8680" indent="-203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Board-approved and in-flight items are tra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8680" indent="0">
              <a:spcBef>
                <a:spcPts val="499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4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8680" indent="-203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-Nodal-Go-Live changes to the ERCOT systems will be managed in structured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8680" indent="-203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king deck will serve as input to release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8680" indent="0">
              <a:spcBef>
                <a:spcPts val="499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4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8680" indent="-203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 worksheet on the PPL spreadsheet on 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3600" indent="-203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services/project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3600" indent="0">
              <a:spcBef>
                <a:spcPts val="451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king Deck Discuss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” stakeholder review process takes place for items on the parking de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S, TAC, and Board review and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in gray-boxed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 provided by PRS to indicate relative 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Analysis (IA) deferred to a futur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a future date (probably mid-2010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begin completing IAs on parking deck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recommend parking deck items for inclusion in planned post-Go-Live Nodal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akeholder process will consider the proposed releases during the yearly project prioritization process and make recommendations to the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king Deck Discussion – Next Step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 and PRS have began prioritizing items on the parking d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reviews are being conducted with impacted market sub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Parking Deck - Approved by Board of Directo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8600" y="1066680"/>
          <a:ext cx="8686800" cy="3459240"/>
        </p:xfrm>
        <a:graphic>
          <a:graphicData uri="http://schemas.openxmlformats.org/drawingml/2006/table">
            <a:tbl>
              <a:tblPr/>
              <a:tblGrid>
                <a:gridCol w="1219320"/>
                <a:gridCol w="4190760"/>
                <a:gridCol w="1143000"/>
                <a:gridCol w="2133720"/>
              </a:tblGrid>
              <a:tr h="72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 Docume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orit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 Statu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3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illary Service Trades with ERCO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 Approved 1/19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8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P Definition Revis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 Approved 1/19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5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Resource Fixed Quantity Block Off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 Approved 1/19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2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6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bmitting Ancillary Service offers in SAS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 Approved 1/19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Parking Deck – Pending Approva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52280" y="762120"/>
          <a:ext cx="8839440" cy="5335560"/>
        </p:xfrm>
        <a:graphic>
          <a:graphicData uri="http://schemas.openxmlformats.org/drawingml/2006/table">
            <a:tbl>
              <a:tblPr/>
              <a:tblGrid>
                <a:gridCol w="1306800"/>
                <a:gridCol w="3919320"/>
                <a:gridCol w="1306440"/>
                <a:gridCol w="2306880"/>
              </a:tblGrid>
              <a:tr h="63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 Docume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ggested Priorit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 Statu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</a:tr>
              <a:tr h="65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6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y the Calculation and Posting of LMPs for the Load Zone and LMPs for each Hub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d at Bo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C approved 1/6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75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.com Website Enhancemen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ng at Bo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C approved 1/6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4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CP Telemetry Information Submitt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d at TA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S approved 2/19/200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5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ency for PSS and Full Interconnection Studi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d at PR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TF approved 2/23/200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0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r Start Unit Deselection and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f Hour Start Unit RUC Clawbac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ng at PR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y RUC Capacity Short Charge to Use Final Energy Trad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ng at PR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75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hancements to the MarkeTrack 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d at RM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75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-Time Wind Production by Zo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drawn on 2/4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anderson</cp:lastModifiedBy>
  <dcterms:modified xsi:type="dcterms:W3CDTF">2010-02-15T15:51:40Z</dcterms:modified>
  <cp:revision>447</cp:revision>
  <dc:subject/>
  <dc:title>Instructions</dc:title>
</cp:coreProperties>
</file>