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E79-830F-40A4-9044-733FD48C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AAD-0372-4BD5-A6BF-0FFC7016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30-F444-47EA-90BF-61A411B1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203-8077-457E-B8E6-38B8ECCC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78A-43D4-415B-9D0A-42962EE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562-9720-425A-A585-557D037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5FF-8C20-49FE-B7BE-8812943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507-5484-486A-A6A6-FBCD214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5DE-64A5-4469-8797-73BEF2EA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489-CA42-4753-9884-E52A927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D86-D6EC-4202-9081-132A66F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947-84C5-403D-85A2-3868E8C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AE3-5BCD-4148-BBFF-E407D127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17520">
            <a:solidFill>
              <a:srgbClr val="d85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2-17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lores—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Wagner--PSEG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WG Met 1/27 &amp; 2/15/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 of Phase Shifting Trans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Competitiveness Tes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ights on Operation of Phase Shifting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 Jacket Phase Shifter In Service Date 1-2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ordinating with AEP to optimiz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communication between ERCOT and TOs about how elements ar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 needed to enhance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ettin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hange process for setting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ocumen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raint Competitiveness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of Action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 Entity from Siebel to CCT Tool (by 3/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Case—2011 peak from 12/09 SSWG case (Wednesday 2-17-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Modeled as expected on-peak wind output (Nodal Prot 3.19.1(1)(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del with CSCs/CREs and double circuit contingencies that contain CSCs or 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sults with tool and present on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dditional Information to enhance market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I import ex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I export to 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al Play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raint Competitiveness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to Tackle—2nd Round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dditional ‘heavy hitter’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—recommendation of Competitive Constraints to April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CMWG meet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PSEG TX </dc:creator>
  <dc:description/>
  <dc:language>en-US</dc:language>
  <cp:lastModifiedBy>PDMAW</cp:lastModifiedBy>
  <dcterms:modified xsi:type="dcterms:W3CDTF">2010-02-16T18:00:46Z</dcterms:modified>
  <cp:revision>84</cp:revision>
  <dc:subject/>
  <dc:title>Congestion Management Work Group Update</dc:title>
</cp:coreProperties>
</file>