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BF3A52F-CD98-4219-BE25-506A131FE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E658512-FEF5-4B83-A94F-D70A1276B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8CCB811-80C6-453C-9CC3-287ECEC86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122DFBB-4E7E-46A0-A918-8C20C8E31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18A0BA-2CCE-4D0B-91A0-C4D67883E9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F6E4B-B7FC-4570-B76C-B4E51DD60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DDAE2-2685-4B62-8C4C-E600B7A8D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83D42-AA43-41E4-B2C0-4A249BE7E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54D15-E93A-4B62-810C-7F3F63D84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F70C4-F4EA-45DF-ACE9-CC184D809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2AF13-6C60-43C4-B392-583168CAE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0F12116-FD47-40BF-BA5C-E73D84E9B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33E66-AC10-4D10-A476-F8F9CF825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D867D-B5D0-41C2-99F4-A95B6F6A9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58D75-4A65-4784-A4F8-59C6EFA32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9DC76B-2B02-4246-9C36-FA28F937CE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0F6510-C9D3-40CD-89BF-5BCF9FE8D2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4C10D35-D0B0-4B91-9694-CFC49D409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8372DE4-9292-42AC-B43C-351287C96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C03B971-F818-4B81-9349-0891A360F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BE1E87A-A330-4135-993A-F576E2BC9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5080504-B36E-4990-B3D5-FB2FEB2C8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6E9D837-6094-4896-8D98-038557BD7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8624266-19E8-4998-BAF1-C5579ADC0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CA5D-1DA7-42C1-BE4D-498F9735C00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B848E-9DF5-4BE0-A79E-5CA0D78C8F8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Market Credit Working Group Update to WM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d. February 17, 2010</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MCWG Meetings Since January Update</a:t>
            </a:r>
            <a:endParaRPr b="1" lang="en-US" sz="4000" spc="-1" strike="noStrike">
              <a:solidFill>
                <a:srgbClr val="e5e5ff"/>
              </a:solidFill>
              <a:latin typeface="Garamond"/>
            </a:endParaRPr>
          </a:p>
        </p:txBody>
      </p:sp>
      <p:sp>
        <p:nvSpPr>
          <p:cNvPr id="103" name="PlaceHolder 2"/>
          <p:cNvSpPr>
            <a:spLocks noGrp="1"/>
          </p:cNvSpPr>
          <p:nvPr>
            <p:ph/>
          </p:nvPr>
        </p:nvSpPr>
        <p:spPr>
          <a:xfrm>
            <a:off x="457200" y="2133720"/>
            <a:ext cx="8229600" cy="399240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January 18, 2010, at Reliant’s offices (face-to-face + Webex)</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January 22, 2010 at Luminant’s offices (face-to-face + Webex)</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January 25, 2010 (face-to-face + Webex)</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ebruary 1, 2010 (face-to-face + Webex)</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CWG February  2010 Overview</a:t>
            </a:r>
            <a:endParaRPr b="1" lang="en-US" sz="40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AM Collateral Requirements –NPRR 206</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pdate on the endorsed DAM NPRR:</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panded loss mutualization for entire market AND accelerated DAM</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pdate on Short-Pay Fund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010 Goals (and parking lot)</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AM Collateral Requirements</a:t>
            </a:r>
            <a:endParaRPr b="1" lang="en-US" sz="4400" spc="-1" strike="noStrike">
              <a:solidFill>
                <a:srgbClr val="e5e5ff"/>
              </a:solidFill>
              <a:latin typeface="Garamond"/>
            </a:endParaRPr>
          </a:p>
        </p:txBody>
      </p:sp>
      <p:sp>
        <p:nvSpPr>
          <p:cNvPr id="107" name="PlaceHolder 2"/>
          <p:cNvSpPr>
            <a:spLocks noGrp="1"/>
          </p:cNvSpPr>
          <p:nvPr>
            <p:ph/>
          </p:nvPr>
        </p:nvSpPr>
        <p:spPr>
          <a:xfrm>
            <a:off x="228600" y="1371600"/>
            <a:ext cx="8763120" cy="51055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PRR 206 approved by TAC</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BOD Tuesday February 16, 2010</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WG reviewed on February 12, 2010</a:t>
            </a:r>
            <a:endParaRPr b="0" lang="en-US" sz="2400" spc="-1" strike="noStrike">
              <a:solidFill>
                <a:srgbClr val="ffffff"/>
              </a:solidFill>
              <a:latin typeface="Garamond"/>
            </a:endParaRPr>
          </a:p>
          <a:p>
            <a:pPr lvl="1" marL="727920" indent="-2800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PRR206 does have a credit impact that can’t be fully quantified at this time.  NPRR206 establishes the framework for ERCOT credit staff to establish appropriate Day-Ahead Market (DAM) collateral requirements for Market Participants. The framework established by NPRR 206 has been proposed prior to completion of the process to determine the factors to meet ERCOT nodal system deadlines.  Development of the process to determine the factors will begin shortly within the guidelines provided by the TAC approved version of NPRR 206.  CWG will 1) participate with the Market Credit Working Group (MCWG) to develop the “e” factor process and will 2) provide a credit impact analysis to F&amp;A along with TAC’s recommendation to the Board on variables and ‘e’ factors and/or processes.  It is CWG’s understanding that the process to establish “e” factors will be approved by the Board.</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AM Collateral Requirements</a:t>
            </a:r>
            <a:br>
              <a:rPr sz="4000"/>
            </a:br>
            <a:endParaRPr b="1" lang="en-US" sz="4000" spc="-1" strike="noStrike">
              <a:solidFill>
                <a:srgbClr val="e5e5ff"/>
              </a:solidFill>
              <a:latin typeface="Garamond"/>
            </a:endParaRPr>
          </a:p>
        </p:txBody>
      </p:sp>
      <p:sp>
        <p:nvSpPr>
          <p:cNvPr id="109"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CWG will continue work on the ‘e’ factor at the meeting on Friday, February 19, 2010</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WG has been invited to participa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iming for completion is prior to March 2010 WMS meetin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raft NPRR Statu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e NPRR has been drafte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panded loss mutualization for entire market AND accelerated DAM</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hams has drafted the draft NPRR and the NPRR has been circulated for review</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pdate on Short-Pay Fund</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pen issue is crafting a short-pay fund that allows for participants to maintain an ownership interest in the fund as well as initial funding</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layton has been tasked with setting-up a subgroup to take on this issue</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ayton has prepared a discussion paper</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pectation is that a proposal will be available for WMS for March 2010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CWG Parking Lot for 2010</a:t>
            </a:r>
            <a:br>
              <a:rPr sz="4000"/>
            </a:b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rection of invoice timing chang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erform bottom up review of existing creditworthiness standards (after CCRO Best Practices effort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tion of settlement cycle due to PRR 568 (7day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rther reductions in settlement cycles</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s includes looking at the potential to reduce the settlement cycle 30% with improved metering</a:t>
            </a:r>
            <a:endParaRPr b="0" lang="en-US" sz="24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ext Meeting ~MCWG</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eting Friday February 19, 2009, 9:30 AM -12:30 CST (in person + Webex)</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e’ factor is the topic of discussion</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07:11:00Z</dcterms:created>
  <dc:creator>daviesm</dc:creator>
  <dc:description/>
  <dc:language>en-US</dc:language>
  <cp:lastModifiedBy>daviesm</cp:lastModifiedBy>
  <dcterms:modified xsi:type="dcterms:W3CDTF">2010-02-15T23:18:41Z</dcterms:modified>
  <cp:revision>40</cp:revision>
  <dc:subject/>
  <dc:title>Market Credit Working Group Update to WMS</dc:title>
</cp:coreProperties>
</file>