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61F5-9827-420F-AFFE-1D0FF93C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CCDC-6B50-41D2-8DB8-FF4E7AAE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CFC7-D582-4ACF-B872-3ECCB611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120E-9ACF-4DD2-9D41-226E4D7D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3C5E-D83B-4682-8F0A-C3606B18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606F-AD9C-4E13-90D0-4C8AF759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89EE-4142-4F2D-81DE-FBC1F04C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44B4-926C-4616-8824-A7906673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0600-7A77-47D7-9D62-FA38B8B7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974B-05BF-42B8-9FBD-12B95143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0512-471D-4A83-9D9A-B63FB7FF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8926-D9C3-45AB-B57B-F478B0F0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D519-A2D1-43CC-BC87-65EB99C3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1EAC-AAC9-43C2-BCAB-624D69ED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9BE4-8B34-45FF-8417-AACC0319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82CF-1A51-4818-BAF2-C79E9688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47F3-31A8-4463-89FF-D3780589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04DA-A9A5-4658-AA3B-CEA0ECE5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383B-FBA8-49BB-889D-3785CAE8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BBF-CC54-4D1A-AE8E-1B2C1F88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444E-D0A9-4918-8274-A7EBC37D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4488-BBC5-4DDC-9CBA-4BCA49AB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F405-EC5E-4CAD-9F4F-BF309018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27AF-230D-48BF-8E65-AA2226CD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FF8A-35E9-4B68-BFC8-F1330C7280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CE3B-7F7E-46A1-A163-54456F0517E6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QSE Managers Working Group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eting Not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3 February, 2010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port to WM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7 February, 2010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vid Detelich - Chairpers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xt me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xt Meeting: March 8, 20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nd generation forecast accuracy calcula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Load Forecasting Accuracy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Comments on PRR833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Decommitment process for RUC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nd Generation Nodal Issu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QMWG Topic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finition of WGR and implementation of PRR83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GRPP Forecast Accuracy Updat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ad Forecasting Accurac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Zonal RPRS unit de-sele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mplementation of PRR81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raft NPRR, WGR HSL update process (possible Vot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CR757, Real Time Wind Production by Zo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recasting Ancillary Service Requi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finition of WG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C assignment based on PRR830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viewed OGRR23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GWR – Aggregated Wind Resour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ggregating for testing purpo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alter Reid submitted OGR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ther implementation issu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ARF updates affect zonal and Nodal test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ew telemetry is due 6/1/201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t the same as Nodal availability telemet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ill a Nodal PRR be required for thi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liance deadline suspended – what about rest of PR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GRPP Forecast accuracy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aw data supplied by ERCO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ussion of 1/28/10 and 2/1/2008 ev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/28 experienced sudden changes; 2/1 gradual drop in wind outpu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es AWS forecast cutouts due to high wind and/or ice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mping tool being developed will hel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MWG asks that metrics presented to TAC be supplied to QMW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ad Forecast Accura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rket participant will analyze the data for QMWG – requested historical dat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uestions on the RPRS monthly reports addressed with Robbie Stap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port to be updated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533520" y="4495680"/>
            <a:ext cx="76294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onal RPRS unit de-sel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ice not sent out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update on implementation da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Draft NPRR, WGR HSL update process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viewed draft NPRR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vailable at QMWG meeting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lter Reid to submit to Revision Reque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R757, Real Time Wind Production by Z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ion by region (?) is required in the Nodal Protoc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R757 withdraw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914400" y="358128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4.2.2          Wind-Powered Generation Resource Production Potenti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6)        ERCOT shall post to the MIS on a regional basis a rolling 48 hour actual wind power production and the forecasted amounts from the STWPF and the TEWPF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ecasting Ancillary Service Requir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5:02:42Z</dcterms:created>
  <dc:creator>Brandon Whittle</dc:creator>
  <dc:description/>
  <dc:language>en-US</dc:language>
  <cp:lastModifiedBy>David Detelich</cp:lastModifiedBy>
  <dcterms:modified xsi:type="dcterms:W3CDTF">2010-02-11T17:07:25Z</dcterms:modified>
  <cp:revision>152</cp:revision>
  <dc:subject/>
  <dc:title>QSE Managers Working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