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dt" idx="1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1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 type="sldNum" idx="1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64EF219-6962-4311-BDCA-6656A708C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BDBF547-52E4-40EF-94F5-267640B8A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98D4C42-DF5A-4F69-9EA1-8E238DED5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C2A8572-149F-433C-B484-C174684BA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54B6AE8-AB49-4294-A416-97BA340E9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D3C8C-1E4D-41F4-ACD8-072746BD2A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3935A-62A7-4AE1-946F-221B9444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16056-C6AC-4313-9F1C-37A072BB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72FE6-9AE0-43AC-854E-6EA20FFBC1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0C18C-8A76-40D3-A0EB-C1959D22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F86E9-FEE8-4069-8FF6-F7FEE019B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CDF58-7BC4-426A-91FB-94C62FC8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02B2B1-705A-4B5D-B05D-BD617322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333C5-903E-493F-B129-6A3968FE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56ACAF-5EFA-46FF-9A54-5D298AD8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F3AB4-597E-4E74-BFB6-DC498207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314E4-731B-4125-96C9-47F91094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4E4BD-591C-4A42-B1F8-10273929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88260-EC4C-4B44-8CDD-94F0A9BA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CB4B9-C4C5-41DD-AD91-076B08CE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E41D05-4CE5-4193-8143-653E9DB9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0DF4A-06FA-44FA-A5B6-2B352522E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74F13-6F17-4EAF-A290-4C85A6EDE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6C58A9-89A3-4639-9EB8-29E3F8E3B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F2A12F-E912-4665-B8A5-4DD753D2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964E89-E920-4AD3-906E-B76961EF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54110-69D0-440C-AC6B-788D69F0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BDAF0D-8946-45A2-A9FF-91D1A134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A83B53-DC98-415B-9997-43DB863A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9995F9-F1C8-4D36-B276-6048766B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08FA79-3FA4-4FBE-8D1A-B94FB1BF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7F4108-E0C0-4C7A-8EA4-9C1F735B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B7A5FF-3337-4E41-8D01-2E47A067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D0C2AC-9212-4A96-9906-7C9472B3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C7A073-74B3-49BE-8110-ECAED6976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A4761C-45EE-46F7-BCAD-CCC6E3527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F8725-97C8-4899-9513-4E95B0C6F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559EE-20D1-4AAB-BFE9-CF70F4F2D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52D15-2BEC-45CE-9B4E-E63A6356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95CEF-CE80-4CFC-A5AB-74473377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ED5F9-94F1-4222-ADD4-83E1EE12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79D1-7D77-4FAD-B1C7-FA6B2880A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>
            <a:off x="8229600" y="624852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246E-E27D-4BFC-8169-313FAA599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4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eting Title (opt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3"/>
          <p:cNvSpPr/>
          <p:nvPr/>
        </p:nvSpPr>
        <p:spPr>
          <a:xfrm>
            <a:off x="8229600" y="624852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5CAD-CF57-4E76-AF7E-5EC5B052B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CBA8-3A79-4D5F-8B91-24431D02A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dt" idx="7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8229600" y="624852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56A4-911D-403C-A02F-2D99E8F29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F685-3B3B-45E3-A92C-97F121C16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dt" idx="10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MO Update to PR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6495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roy Ander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RCOT Program Management Off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ebruary 18, 20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- Agend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0 Project Spending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of 2/15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al Parking D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of 2/15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uary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cast for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0 Project Spending Update – 2/15/2010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04920" y="762120"/>
          <a:ext cx="8305560" cy="5108400"/>
        </p:xfrm>
        <a:graphic>
          <a:graphicData uri="http://schemas.openxmlformats.org/drawingml/2006/table">
            <a:tbl>
              <a:tblPr/>
              <a:tblGrid>
                <a:gridCol w="2036520"/>
                <a:gridCol w="1890720"/>
                <a:gridCol w="2113200"/>
                <a:gridCol w="2265120"/>
              </a:tblGrid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Budge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Budge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nding Forecas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150,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150,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946,18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450,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450,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473,08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500,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297,64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209,95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900,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892,11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869,31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150,000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144,068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140,821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or Cap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750,000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750,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750,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ased but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Yet Reallocate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    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5,93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    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ot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900,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689,76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389,36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43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 Center Replacemen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31,900,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38,000,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37,588,72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Center Hardwar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7,500,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7,500,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7,482,46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 Tot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46,300,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52,189,76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51,460,54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</a:tbl>
          </a:graphicData>
        </a:graphic>
      </p:graphicFrame>
      <p:sp>
        <p:nvSpPr>
          <p:cNvPr id="196" name="Text Box 70"/>
          <p:cNvSpPr/>
          <p:nvPr/>
        </p:nvSpPr>
        <p:spPr>
          <a:xfrm>
            <a:off x="2525760" y="6037200"/>
            <a:ext cx="6807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71"/>
          <p:cNvSpPr/>
          <p:nvPr/>
        </p:nvSpPr>
        <p:spPr>
          <a:xfrm>
            <a:off x="1295280" y="5943600"/>
            <a:ext cx="6705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4"/>
          <p:cNvSpPr/>
          <p:nvPr/>
        </p:nvSpPr>
        <p:spPr>
          <a:xfrm>
            <a:off x="1230840" y="6019920"/>
            <a:ext cx="70174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over of unspent 2009 funds for Met Center Disposition project – authorized by the Boa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01"/>
          <p:cNvSpPr/>
          <p:nvPr/>
        </p:nvSpPr>
        <p:spPr>
          <a:xfrm>
            <a:off x="1336680" y="597852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99"/>
          <p:cNvSpPr/>
          <p:nvPr/>
        </p:nvSpPr>
        <p:spPr>
          <a:xfrm>
            <a:off x="1338120" y="60642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01"/>
          <p:cNvSpPr/>
          <p:nvPr/>
        </p:nvSpPr>
        <p:spPr>
          <a:xfrm>
            <a:off x="4267080" y="468000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01"/>
          <p:cNvSpPr/>
          <p:nvPr/>
        </p:nvSpPr>
        <p:spPr>
          <a:xfrm>
            <a:off x="4267080" y="551808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01"/>
          <p:cNvSpPr/>
          <p:nvPr/>
        </p:nvSpPr>
        <p:spPr>
          <a:xfrm>
            <a:off x="6423120" y="467028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01"/>
          <p:cNvSpPr/>
          <p:nvPr/>
        </p:nvSpPr>
        <p:spPr>
          <a:xfrm>
            <a:off x="6400800" y="550872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odal Parking Deck - Approved by Board of Director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28600" y="1066680"/>
          <a:ext cx="8686800" cy="3459240"/>
        </p:xfrm>
        <a:graphic>
          <a:graphicData uri="http://schemas.openxmlformats.org/drawingml/2006/table">
            <a:tbl>
              <a:tblPr/>
              <a:tblGrid>
                <a:gridCol w="1219320"/>
                <a:gridCol w="4190760"/>
                <a:gridCol w="1143000"/>
                <a:gridCol w="2133720"/>
              </a:tblGrid>
              <a:tr h="72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rce Docume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949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949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orit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949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rent Statu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949a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13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cillary Service Trades with ERCO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 Approved 1/19/20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18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P Definition Revis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 Approved 1/19/20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15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ion Resource Fixed Quantity Block Off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 Approved 1/19/20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2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16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bmitting Ancillary Service offers in SAS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 Approved 1/19/20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odal Parking Deck – Pending Approva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52280" y="762120"/>
          <a:ext cx="8839440" cy="5335560"/>
        </p:xfrm>
        <a:graphic>
          <a:graphicData uri="http://schemas.openxmlformats.org/drawingml/2006/table">
            <a:tbl>
              <a:tblPr/>
              <a:tblGrid>
                <a:gridCol w="1306800"/>
                <a:gridCol w="3919320"/>
                <a:gridCol w="1306440"/>
                <a:gridCol w="2306880"/>
              </a:tblGrid>
              <a:tr h="63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rce Docume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949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949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ggested Priorit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949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rent Statu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949a"/>
                    </a:solidFill>
                  </a:tcPr>
                </a:tc>
              </a:tr>
              <a:tr h="65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16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ify the Calculation and Posting of LMPs for the Load Zone and LMPs for each Hub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d at Bo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C approved 1/6/20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75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.com Website Enhancement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ding at Bo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C approved 1/6/20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1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14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CP Telemetry Information Submitt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d at TAC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S approved 2/19/200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15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arency for PSS and Full Interconnection Studie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d at PR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TF approved 2/23/200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20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r Start Unit Deselection and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f Hour Start Unit RUC Clawback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ding at PR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21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ify RUC Capacity Short Charge to Use Final Energy Trade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ding at PR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75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hancements to the MarkeTrack 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d at RM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0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75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-Time Wind Production by Zo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drawn on 2/4/20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52280" y="990720"/>
            <a:ext cx="86868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YTD 2010 Project Implementa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45820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nuary 20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bruary 2010  (project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50029-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to VSA/DSA Phase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90002-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Wind Power Production Ramp Foreca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ch 2010  (project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90024-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R Rule and Expedited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R Rule por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90009-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ing &amp; Report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60029-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Records Management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ril 2010  (project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50088-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Research and 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90006-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Lifecycle Management Phas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YTD 2010 Project Implementa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45820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2010  (project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ne 2010  (project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ly -December 2010  (project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80001-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 Center Dis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10016-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Ge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anderson</cp:lastModifiedBy>
  <dcterms:modified xsi:type="dcterms:W3CDTF">2010-02-15T16:46:17Z</dcterms:modified>
  <cp:revision>528</cp:revision>
  <dc:subject/>
  <dc:title>Instructions</dc:title>
</cp:coreProperties>
</file>