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1143247-9E95-4735-9168-427B56EB7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6B013AD-CAA2-4DCE-82A4-772122A03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8A65B4E-943F-4D8F-989D-E00B15BDD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5EE3DD4-B87E-4470-99E1-739F5FC04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2F4451C-8508-4FCA-90CB-843CDBE2C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9EBD130-780C-4875-87B6-7B23378FB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C4068CF-5EB7-45DF-BC2E-499049C09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2ED0CD0-9CA3-4D0C-BF78-C1BB18DE4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598-19BB-43AA-9BBC-430DF1E1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2BE-0DEE-40F0-9CA3-F3354FE7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B49-6616-4C29-A467-8E6A3342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B00-3D11-4712-95AE-04D6BAC7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6B3-AD73-4406-A529-133CFAB6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347-13C0-41A0-AE8A-6965719D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51B-0F07-4800-9D29-85713AF6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77E-D877-4786-A4DA-6CB929DB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F1D-9485-4042-8167-9606B001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90F-0C52-4ACB-9D80-1F813A6E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573-EBCE-43C2-9C85-A875DD0D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D2D-D934-40F4-B650-8282B4B2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8638" b="0"/>
          <a:stretch/>
        </p:blipFill>
        <p:spPr>
          <a:xfrm>
            <a:off x="6058080" y="0"/>
            <a:ext cx="3085920" cy="135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1023-08A3-4536-BBBD-3554EF412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314280" y="22860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CC7F-52F9-4C79-A7BC-9C717B7DE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 10,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A0FB-3B1F-4260-AED3-28D485C8B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ized TDTWG 2010 Goals / Expec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NAESB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ERCOT System Outages and fail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the Testing Worksheet and production cont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E450-6E2D-4EE4-A33B-0F02B76F2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ized TDTWG 2010 Goals / Expec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were no changes to the draft go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F437-86A8-4032-9D65-9ACA3E652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NAESB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versions thru NAESB EDM 1.9 were discussed and upgrades no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Reviewed ERCOT System Outages and fail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ils of the NAESB incident will be presented at 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20B5-56DE-4E44-A846-75E66D23D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the Testing Worksheet and production cont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Retail Client Services to include an audit of TW with annual account p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PT leadership will provide input as to maintenance of the production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C848-2A20-4F32-858A-E9BFF8A23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7200" y="12952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DTWG Follow-up item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 review of the NAESB event with ERCOT on February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up on EDM error with Market Participant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1F71-048C-4E1D-A240-CE032EF4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10-02-03T22:08:18Z</dcterms:modified>
  <cp:revision>597</cp:revision>
  <dc:subject/>
  <dc:title>PowerPoint Presentation</dc:title>
</cp:coreProperties>
</file>