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27EA-ECAA-4FD8-867E-1A2E39824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28B-A3C6-4019-95DA-71C7C4FF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DA68-D8DC-44FA-930E-90172EAD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7423-1DDA-4384-9ACB-E36BE1354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5C1E-BC5B-4352-8F50-2169223F50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9667-6875-4E04-AAF4-F212091ECC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8F8F-DA82-454D-BDAE-9E9CCB289C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26E9-EE09-403B-BBCD-C2EBF7424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E7F8-4CD5-4A0E-8026-C17A20CCC83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83D1-D960-4AF6-B3A7-EEC58CC0838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ECE9-CFA7-49AF-8543-9CBEC82336D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6D9B-F911-4B7D-A705-E78F9D5397F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8DDD-CC63-43AB-BBCA-EBD3FD3DD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C048-743C-4BDA-9240-D721BA4655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5629-2B08-4E45-88D2-E7BA8D7BD0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31A2-01C1-4B2C-9B67-026AFE4F03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8F79-9333-465F-A0F4-2EC86461E4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2855-DDF0-49B4-9E9B-E347293096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1F52-D316-4B8D-8666-496EFF1D7F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F38A-3C4C-42D6-A894-FA347107D4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9373-2E44-4BE5-A08D-9F082FBCEB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8C64-410B-46D4-B9A6-4053835A87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A3A3-F425-4332-B374-2287D92F5C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70C8-2F81-4AC3-BEE5-BE1C80ECAA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ECD2-A2AB-41AD-8CE0-73D56BD641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FFD3-7E0F-4892-82E0-21BD60ACA5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E201-04DB-43B1-83FE-98253D4F466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35C-CE27-4F4B-B094-DB63047B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4857F4-B682-42F9-A5B7-060CE85A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4DFDFC-2831-4133-A96F-0689A2EE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F8CDFD-9248-4A13-9D84-37BC56FB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46DCED-7392-4F06-B25F-B73D5288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B56A1-4AF5-4138-8DB8-30590BAA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F34CA9-CEC7-4E6F-89D9-2F3949AD7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B615A1-F605-46A6-876A-13FA407D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5B4B67-6E25-4747-B697-AC01A93F1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A0163A-09A1-4706-A028-5E383FC0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934966-5074-4666-98B4-C1AA48DE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A134DB-9FCA-4454-817B-BF6F5A4D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A4E4DF-0982-42EA-8A39-1ACFBF86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1C2D21-0FD1-4F6B-9E44-5B877612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ED10E1-4296-43AA-A5BF-61436610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8A02BA-4490-4EE6-B76B-8994D8DF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99975A-060A-4A66-90DF-F44D4201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880-BD5A-45A7-A62B-C30CFC79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FC3269-F2B5-4063-8F92-0D005CD9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EC9FD5-2D55-4D37-BA2B-009096997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919519-66A9-420C-93F5-CD5F2542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81D99-29A1-4054-A069-92FFAA116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5E687D-A6D1-4FAE-8E00-B13C6962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88CB91-F57F-47D6-928D-16B9A4CD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February 10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7"/>
          <p:cNvGraphicFramePr/>
          <p:nvPr/>
        </p:nvGraphicFramePr>
        <p:xfrm>
          <a:off x="276120" y="914400"/>
          <a:ext cx="859176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914400"/>
                    <a:ext cx="85917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TextBox 6"/>
          <p:cNvSpPr/>
          <p:nvPr/>
        </p:nvSpPr>
        <p:spPr>
          <a:xfrm>
            <a:off x="304920" y="33526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is expected to gate to Closing on  02/12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6"/>
          <p:cNvGraphicFramePr/>
          <p:nvPr/>
        </p:nvGraphicFramePr>
        <p:xfrm>
          <a:off x="657360" y="914400"/>
          <a:ext cx="78292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914400"/>
                    <a:ext cx="78292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Object 6"/>
          <p:cNvGraphicFramePr/>
          <p:nvPr/>
        </p:nvGraphicFramePr>
        <p:xfrm>
          <a:off x="657360" y="990720"/>
          <a:ext cx="782928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990720"/>
                    <a:ext cx="78292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5" name="Object 6"/>
          <p:cNvGraphicFramePr/>
          <p:nvPr/>
        </p:nvGraphicFramePr>
        <p:xfrm>
          <a:off x="533520" y="990720"/>
          <a:ext cx="8186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86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8" name="TextBox 3"/>
          <p:cNvSpPr/>
          <p:nvPr/>
        </p:nvSpPr>
        <p:spPr>
          <a:xfrm>
            <a:off x="609480" y="121932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closing, closed or cance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8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7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2-09T17:36:33Z</dcterms:modified>
  <cp:revision>631</cp:revision>
  <dc:subject/>
  <dc:title>Role of Account Management at ERCOT</dc:title>
</cp:coreProperties>
</file>