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F586BA1-F246-4638-AD33-50B8C3CC8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8573AEB-8249-4DB0-9F83-7825E58AD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B352E73-AC5D-405E-BB6B-3E6975464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C7AFA5-F239-41A6-AA08-377659E01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9EAF80-73EA-46AF-80DF-3A9DDAEB3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A074FC-EAA9-4EB4-ADBD-A67A0D95E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898959F-EF64-4100-9497-BD0CE2D05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0D25B7-FE49-4C66-9DD4-24E20BBC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1836A1D-1954-4A76-B8C5-DC9EE836A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D95B-B79A-4FF2-BF43-9A879C71F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35C7-1E06-4BA2-95CC-8ECF8582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6F3D5-35C1-45BB-809D-2EECF19F8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7D827-A558-49DA-BF2B-25B07495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3FF0-D896-4981-8529-26E763A4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37FD-B896-49B9-8495-E1163629F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9E80-0A6C-44D3-9C3B-A7D0568FB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9778-9BE0-422B-98A8-7F5C7613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9C18F-9AF6-4292-9B56-FBFE6B4D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02372-C7E3-4172-B095-9EB2A0AF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CB59-B313-4794-9520-868DBC90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E0A2-6CD4-46D5-BC2B-DA3B2C912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1BD2-3357-4CB2-852C-2DC2A8372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00CE-22CB-4A24-83DB-5FB057E05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C293-7F7B-4AE8-99E2-448C9F812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02BD-0AB8-43ED-802F-F23A04C2A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55520" y="1494000"/>
            <a:ext cx="88092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C1BA-9B09-4076-B73D-3DA484B32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5214-09E5-4F02-B7D1-2CABE1FFD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A8DA-1E34-46F9-82B5-582AC35B3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219240" y="1722600"/>
            <a:ext cx="8696160" cy="29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7DD0-7700-4B55-B5FF-23E507657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AE6B-6326-425C-8F8F-8D4B744ED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79856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A5A5-B11E-4707-B440-30B6702F1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5641-059C-4B42-9467-BB78015AC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F630-F7CB-4F29-AA62-514908666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705F-AD43-4087-865C-F2501FA61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10</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2819520" y="1600200"/>
            <a:ext cx="374940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25D2-AC4E-424E-B063-68F08FAA0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5601-E808-4F73-A9C3-21C6D0052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73392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6BCF-44E2-403B-8967-229CCA996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685800" y="1722600"/>
            <a:ext cx="793440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F874-8454-40D7-9D4A-44FEE6CF2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E41A-463D-4C1E-BD79-EC6DE9C07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228600" y="1616040"/>
            <a:ext cx="8720280" cy="44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10-02-03T20:50:45Z</dcterms:modified>
  <cp:revision>874</cp:revision>
  <dc:subject/>
  <dc:title>PowerPoint Presentation</dc:title>
</cp:coreProperties>
</file>