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85D4-EC19-45EC-8E4E-B4319042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CAEA-DBF3-4555-AB03-02977104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4DE4-71BD-48E0-B195-F5EE2694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2557-3DF4-447F-92AA-65BCA307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F289E-BB64-44F3-831D-5176624B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18A0-448B-464B-B504-5A273451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B2AC-4A40-43EC-AFAD-AB0621C0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2172-AAEA-4E94-A275-E169D3D7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EC81-524F-4E03-9C01-29534DAD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45E7-16A0-4928-8E1B-4060C60F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B5B3-811A-49F5-8715-3BC9F261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E810-BE24-42EA-92EF-9712E804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3072-4B3C-4F97-9E9E-F4E9A0340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6C08-9683-4DEB-98AA-234FAD40E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1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kpatrick@reliant.com" TargetMode="External"/><Relationship Id="rId2" Type="http://schemas.openxmlformats.org/officeDocument/2006/relationships/hyperlink" Target="mailto:kathy.scott@centerpointenergy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johnny.robertson@txu.com" TargetMode="External"/><Relationship Id="rId2" Type="http://schemas.openxmlformats.org/officeDocument/2006/relationships/hyperlink" Target="mailto:ammorton@aep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terry.bates@oncor.com" TargetMode="External"/><Relationship Id="rId2" Type="http://schemas.openxmlformats.org/officeDocument/2006/relationships/hyperlink" Target="mailto:mmccabe@relian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jennifer.frederick@directenergy.com" TargetMode="External"/><Relationship Id="rId2" Type="http://schemas.openxmlformats.org/officeDocument/2006/relationships/hyperlink" Target="mailto:steven.bordelon@pnmresources.co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jbpurdy@aep.com&#160;" TargetMode="External"/><Relationship Id="rId2" Type="http://schemas.openxmlformats.org/officeDocument/2006/relationships/hyperlink" Target="mailto:jbpurdy@aep.com&#160;" TargetMode="External"/><Relationship Id="rId3" Type="http://schemas.openxmlformats.org/officeDocument/2006/relationships/hyperlink" Target="mailto:becky.taylor@centerpointenergy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kathy.scott@centerpointenergy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rob.bevill@greenmountain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447920" y="1905120"/>
            <a:ext cx="64767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tail Market Sub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1752480" y="3505320"/>
            <a:ext cx="63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orking Group and Task Force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Task Forc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er Tampering Task Force (MTTF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Mat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.matlock@gexaenerg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470-0400 ext. 24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.Martinez@onco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-349-64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tail Market Subcommittee (RM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yle Patrick, Cha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patrick@relia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497-33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y Scott, Vice Cha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athy.scott@centerpointenerg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582-865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Working Grou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as Data Transport (TDTW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ny Robertson,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hnny.robertson@txu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2-868-82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tte Morton,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mmorton@aep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4-205-65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March 3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Working Grou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ail Metering (RMW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y Bates,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rry.bates@onco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4-486-5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e McCabe,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mccabe@relia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497-35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to be 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Working Grou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as Standard Electronic Transaction (TX SE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ifer Frederick,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ennifer.frederick@directenergy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-320-79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n Bordelon, Vice Ch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even.bordelon@pnmresour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9-484-85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2/23/10 (Joint meeting with TT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Working Grou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as Test Plan Team (TTP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 Purdy, Ch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bpurdy@aep.com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4-716-14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ky Taylor,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cky.taylor@centerpointenerg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207-36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2/23/10 (Joint meeting with TX 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Task Forc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Advanced Readings and Settlements Task Force (MA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hy Scott,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thy.scott@centerpointenerg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582-86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to be 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Task Forc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Improvement and Transformation Task Force (MITTF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 Bev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ob.bevill@greenmountai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-691-613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Ech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chols1@oncor.co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4-486-728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2/25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S Task Forc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rak Task Fo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ca J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jones@reliant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497-457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yn R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yn.reed@CenterPointEnergy.co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207-713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nathan Lan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nathan.Landry@gexaenergy.co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3-401-56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eeting – 3/2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Tindall</dc:creator>
  <dc:description/>
  <dc:language>en-US</dc:language>
  <cp:lastModifiedBy>ERCOT</cp:lastModifiedBy>
  <dcterms:modified xsi:type="dcterms:W3CDTF">2010-02-03T23:05:21Z</dcterms:modified>
  <cp:revision>65</cp:revision>
  <dc:subject/>
  <dc:title>Instructions</dc:title>
</cp:coreProperties>
</file>