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441C-E47A-4BC0-AB1C-0CF9D48E84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4F2F-969A-4B34-9C72-5303247B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E144-A15A-4639-ABB4-A7C52486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F661-A002-4272-B47B-966A1A986B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07E-6E3F-4186-83B6-F4246A68E2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06C-1888-4D76-9378-FA3E18C8AC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827-4BDF-4E42-A2C7-85761BCB62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8E3-5B42-4B93-A835-F3FC8969ED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7F3-42A8-47AA-8C72-032FA91B79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F3D-A1DE-43EF-B989-954A713345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5DE-7898-4C6C-8B62-D69617E555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14E0-0CAA-4114-BE28-D4CE39E4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2DE-BFA2-4822-9186-15267AAA6C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42A-A017-402A-8BC4-8D639F49B4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5C9-F5D4-4E69-8ECA-DBCF2405A0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A4A-A77C-4AE5-BDBC-D1762F6D84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2407-E1A9-4CFF-97E9-A13A318900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343A5-18DB-433F-A622-02CF7377F8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03079-D64E-45D0-A02C-D64E7FAC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CA276-3F72-44F6-B4C0-2C9A0C2D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E15B3-2880-454C-9B4E-C053453F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16FB2-B907-4BCC-8377-C91AC6A2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C21E-0B61-4D1C-B243-8B8E135F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3C71B-7F1A-46CC-BD27-76DAE202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D25A7-ECB1-4275-A9C2-1C83DEEF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810D1-84AE-4736-A093-DC0C6F96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2AF18-3722-47BB-9440-A5E4418D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36A70-4D5A-456E-A53B-21BB078D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E6FAF-4FD6-4B70-8EFD-3B129563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15919-7678-4781-9C38-C315FA33E2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F4F2D-6466-49D1-B395-43FB91C7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37ED6-1A7B-40E8-8DBD-CCA27F1A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CB5D2-E7CB-4FA4-A9EB-FB97B1D7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8AE2-BDAF-415A-B177-12B0AECB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0293E-F6C4-4B73-A500-09C66FE3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953C2-CFBF-46C3-B280-9BB94F20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FBA20-659D-451A-AEB8-78D78C13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5AA5A-6AB3-47FF-8E0C-B11836A5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32E74-7CF6-41B3-9EC3-6836A0DF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D3DCF-287D-4151-B6CD-6BF74C10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7B93D-E179-4C0B-8070-1687F499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EAB6E-FE54-40E3-92EB-E505CC15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AE5D2-DB10-473F-80F6-15A0403F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6352-1E88-4CA7-BF01-DF6DEB78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72BF-0498-4B1A-89F7-0DD3256C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1254-DC12-4B1E-845C-7FE3B3A4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E94A-7F31-42B3-88E2-9F0C3664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EA00-3A1B-47B5-AFA6-3B102D20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6B7D-EEDA-4236-875A-911AE3801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5678-4BA4-4D13-877F-5A3FDFE53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FF9B-8DF3-44FF-AF56-1918E13F64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F520-D77C-447C-B09A-86A968D4A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10/01/20100127-PWG" TargetMode="External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dal.ercot.com/protocols/nprr/201-225/208/index.html" TargetMode="External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Ec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On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bruary 9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DC76-9440-4358-B69B-4087B05DDF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 as C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irec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Echols as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nc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 Elect for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884BC-2A95-4F43-99DA-54E39B4A6A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0360" y="1752480"/>
            <a:ext cx="8901360" cy="227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BD5F5-4DBB-4438-9A93-19DE0A4C53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nd 2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SPs completing data collection through Decemb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Report to PWG delta of current profiles vs. Round 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011 target new profile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10/01/20100127-PW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E1727-20E3-40B3-8F47-D4A9404863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in progress for Annual Validation suspension per AMS has been discussed and is a work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GRR shall be in order for changes per the NOIE DRG TF NPRR 208. On Jan. 27 the PWG reviewed the language and is filing language change recommen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GRR036 Delete Document Control Section on a normal timeline shall be on the PWG Feb. meeting for the IA review and shall be sent to the COPS in M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GRR037 Replace Wording Truncated from LPGRR035 - Voting item for the TAC on Feb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 and PRR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45403-C5F3-4167-B867-3F4D4E648E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aft PRR was presented by Jim Le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Energy proposing that both I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IDR distribution metered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n equal allocation factor of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No cons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Discuss about the relative allocation of transmission vs.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AMIT stakeholders discussed and decided no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F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5C9EE-F33F-493E-92DA-B95FE37F30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FE Performance post 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January 27, 2010, The Profile Working Group (PWG) discussed the recent high values of positive Initial UFE (up to 1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y severe weather swings and affects on scaling factors in sett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 as to contribution of AMS 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WG plans discussion for 1 pm Feb 22, 2010  – PWG members are encouraged to participate in joint discussion at S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WG to discuss at the Feb. 24, 2010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45231-C130-429C-839D-8CF5D82C3E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 208 Vote – PWG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January 27, 2010, The Profile Working Group (PWG) proposed comments to the following S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2, TSP and DSP Metered Entities, added “Guide” to paragraph 2(e) (i)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2, Methodology, Removal of “Renewable” and correct acronym in the Type of Load colum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2.2.1, Load Profiles for Non-Interval Metered Loads With-out Distributed Generation, propose new ti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2.2.2, Load Profiles for Non- Interval Metered Loads With Distributed Generation, propose new langu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2.3, Load Profiles for Non-Metered Loads, PWG proposes not to strike language, which was proposed in the original submission of NPRR208, Registration and Settlement of Distributed Generation (DG) Less Than One M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/protocols/nprr/201-225/208/index.htm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0657B-DB92-4414-B23E-C124BEC286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4549680"/>
            <a:ext cx="8001000" cy="157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10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e Call on anticipated for February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is to meet on the 4th Wednesday of the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5248080" cy="306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2419200" cy="30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084B-AF3C-4783-B8E0-4F4CF34166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10-02-01T13:56:06Z</dcterms:modified>
  <cp:revision>379</cp:revision>
  <dc:subject/>
  <dc:title>PowerPoint Presentation</dc:title>
</cp:coreProperties>
</file>