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5D62-B1C9-459F-92B9-C77FE206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4EDE-F4A0-49F6-951C-3AE0E0E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A8EA-BED9-40D6-AD81-AB9A63EA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E73D-2152-43B9-B347-23AA8BF8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26B6-D47E-461A-9739-F9B768B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438B-5608-4ACA-8DC1-5FA6560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310F-3354-462F-A825-33AD3D5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22C2-7BF8-4CBF-A890-93CDCBD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820C-3E75-4A8F-8F9B-93DA347B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2E91-2492-4BBF-AD5A-3BF0C68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8124-E6AD-4727-8192-7DFB36F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96B4-9A1C-44A0-9248-13F8D2A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357-1C23-4A32-BCE7-8A7A4674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C3A3-3D45-4BCC-A45E-8A3AD11B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4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Debbie McKeever, Onc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Ken Riordon, L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s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Sandy Morris, L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Marguerite Wagner, PSEG 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Kyle Patrick, Relia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Kathy Scott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Ken Donohoo, Onc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Scott Helyer, Tena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Barbara Clemenhagen, Topaz Power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ennifer Troutman, AEP Energy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Advisory Task Force (NA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Don Blackburn, Lum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ames Jackson, CP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9420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0 TAC Subcommitte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0-01-28T19:59:44Z</dcterms:modified>
  <cp:revision>60</cp:revision>
  <dc:subject/>
  <dc:title>Instructions</dc:title>
</cp:coreProperties>
</file>