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64B4-3C1E-4B17-830D-2087571A1772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2EB9-FB20-410E-AF26-12B91AB22BB1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70D5-7F98-45C3-9DB5-1BFBB0CD1F15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E92F-6D84-420B-AD80-3F594D06252C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C050-D1EA-4C04-A6C3-D4CEC337BEA5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CE02-B77E-4866-BD4D-6952B9057EB3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8DC-DA54-4251-B254-BE60AF8C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E95-7A0A-4C3D-8F05-5039B748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40A-0C6D-4378-8F3F-34F1D1FD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48D-0036-437B-B1EC-BDF46B8A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CE85-FA2D-48A4-95B5-ACD8819E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ACEB-7A62-45A1-A26C-F6737181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2B4C-931F-4F0A-9452-368BB7C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2EDA-E386-4CF4-9F35-A96D833C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7896-21F8-443F-B56F-EB9014A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9E5B-C76D-40B8-8132-0C5AEAA6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5505-F8EA-4750-B343-180A1BF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73D-D1D8-401F-A9F1-C55CFDA7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E0D9-0ED3-4D01-B9BB-1A8CF01B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D24F-7C28-476F-B04C-2476F460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2239-1122-43AD-A997-CC42F21C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5EF1-1106-4F05-A0BC-15191905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F393-2651-4F2B-BB6B-0BFECA87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ED2-FA91-4905-9F2C-A77F4CC1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DB3-E966-4E12-816C-A3A6F69B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7E7-E8EE-4B41-902C-0EE730AB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1B3-D9F3-4BEF-B1E9-4AD98389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5F5-F2E4-4884-95A9-A57F2DFB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BFF-DFEF-4B80-8F94-02A4AE28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F8A-7E2B-4FA1-B06B-E9ACB46A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9DDA-242D-4A92-B192-BF89EAF9427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C508-622D-4D01-B7BF-FBC117D5FA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1E51-98A2-45EF-952F-18B43AA2362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D5DF-C5F1-4EBC-8E96-D761D44FA8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3"/>
          <p:cNvSpPr txBox="1"/>
          <p:nvPr/>
        </p:nvSpPr>
        <p:spPr>
          <a:xfrm>
            <a:off x="990720" y="1828800"/>
            <a:ext cx="6553080" cy="2819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Retail</a:t>
            </a:r>
            <a:endParaRPr b="1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Market</a:t>
            </a:r>
            <a:endParaRPr b="1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Subcommittee</a:t>
            </a:r>
            <a:endParaRPr b="1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06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1"/>
          <p:cNvSpPr/>
          <p:nvPr/>
        </p:nvSpPr>
        <p:spPr>
          <a:xfrm>
            <a:off x="0" y="4267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93"/>
          <p:cNvSpPr txBox="1"/>
          <p:nvPr/>
        </p:nvSpPr>
        <p:spPr>
          <a:xfrm>
            <a:off x="1066680" y="49528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February 4, 2010</a:t>
            </a:r>
            <a:endParaRPr b="1" lang="en-US" sz="1800" spc="1" strike="noStrike">
              <a:ln w="9360">
                <a:solidFill>
                  <a:srgbClr val="b2b2b2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15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3DDA-BAE4-40B6-95F9-9B840097A4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0" y="4267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990720" y="533520"/>
            <a:ext cx="6248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RMS   Update</a:t>
            </a:r>
            <a:endParaRPr b="1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85800" y="1523880"/>
            <a:ext cx="7924680" cy="5059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RMS el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CHAIR: Kyle Patrick, Relian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VICE CHAIR: Kathy Scott, CenterPoin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RMS established a “Tampering Task For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481F-96BB-4619-AA6E-BC619CCE11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0" y="4267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85800" y="1523880"/>
            <a:ext cx="7924680" cy="5059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RMS wi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Be a forum for issue resolution in regards to retail market matters directly affecting ERCOT and ERCOT protoco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The RMS is also responsible for monito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Public Utility Commission (PUCT) rulings as they apply to retail markets and retail market particip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The Service Level Agreement (SLA) related to retai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There are two key reports associated with the S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the IT Incident Summ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Service Availability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990720" y="533520"/>
            <a:ext cx="571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RMS   Goals</a:t>
            </a:r>
            <a:endParaRPr b="1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39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7685-AAB1-4502-83DA-D08F91D989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0" y="4267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5800" y="1523880"/>
            <a:ext cx="7924680" cy="513576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Working Groups &amp; Task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TEXAS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TEXAS SET is investigating Long Term solution for Acquisition of ESI IDs by 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TEXAS SET and TEXAS TEST PLAN TEAM will consolidate into one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RMS Procedures will be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Set flight schedule fo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Monitor three scheduled test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Market Improvement Transformation TaskFo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Review AMS technology, look for opportunities to enable process changes/advancements so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Market Advanced Reads &amp; Settlements (MAR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Monitor AMS sett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Discuss options for a long term settlement solution and market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4"/>
          <p:cNvSpPr txBox="1"/>
          <p:nvPr/>
        </p:nvSpPr>
        <p:spPr>
          <a:xfrm>
            <a:off x="990720" y="533520"/>
            <a:ext cx="571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RMS   Goals</a:t>
            </a:r>
            <a:endParaRPr b="1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51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10B0-C5DF-42CA-BCDC-13BC98860D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0" y="4267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523880"/>
            <a:ext cx="7924680" cy="5059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Texas Data Transport Working Group  (TDT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Review current Market Data Transport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Customer Billing Customer Information (CBC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Review current NAESB EDM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Review Testing Worksheet (T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Discuss content and provide input to T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Production system and escalation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9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MarkeTrak Task Fo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Finalize SCR 756 for enhancements to exis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Retail Metering Working Group (RM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pperplate Gothic Bold"/>
              </a:rPr>
              <a:t>Develop and finalize guidelines for the installation or removal of  an IDR meter with a provisioned Advanced meter if requested by customer and/or CR and where and/or if applicable by the TDS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4"/>
          <p:cNvSpPr txBox="1"/>
          <p:nvPr/>
        </p:nvSpPr>
        <p:spPr>
          <a:xfrm>
            <a:off x="990720" y="533520"/>
            <a:ext cx="571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RMS   Goals</a:t>
            </a:r>
            <a:endParaRPr b="1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63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BD51-FD31-467E-AE31-5F85A68C47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10-01-26T18:46:11Z</dcterms:modified>
  <cp:revision>44</cp:revision>
  <dc:subject/>
  <dc:title>R.M.S UPDATE</dc:title>
</cp:coreProperties>
</file>