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42B63-2A8D-4251-89D9-1CF97B87C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DD600-CF51-4D54-9914-4339DD321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00E22-6CDF-46E1-ACCA-2A6A8AC8D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8A406-EA74-4983-9FBC-FF40F8709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B12E7-0DE0-4A1E-BA18-C21B735C3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07E9E-1CE0-4FBB-A6AA-7CF22BD02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F51BA-1DA1-4857-A00B-AD5B20A36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60D3F-0E0F-49C3-8D4A-E5E225EC2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6040D-4C75-40ED-A4C4-F3C241AA1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EB47E-75A1-4860-AC72-C4E22FE84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2B83D-D25C-4027-A101-02B114661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A68A-7A9F-4B50-B01B-C467EC88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10CC0-90E9-4AD3-9A39-A5F4E819B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6D83C-34E5-44A5-BD94-10CD4D813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82A43-76FA-47C4-ADBB-5C5B3261F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DF43D-61AE-4D8F-ACB6-8B6F84922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BB8FD-C508-4E1C-B167-EFF0147A0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CECC08-9D28-4F24-8D78-E156CA502E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819624-B1A8-464D-9F90-4E15283E7E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083608-341C-4675-A83E-8B29993301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4148F0-34C7-4937-AD4E-3EF9AF3CF6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9CE116-3D4A-4E8E-9616-62D4F9353B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AA46-142D-48F7-B46D-DA375F968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984728-81E6-41C0-A393-2BAD4391EA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1AA6AC-3B03-449A-B24E-2F0D5FC76E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49FD37-9DF2-4E79-98A7-C0858D0371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A0E91-9F5D-41DA-9ABA-7F3E66F673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E299AE-81DE-45F1-BC31-E7CCB1241B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3941F7-1ACC-4C73-88DC-A78716E4958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E026B88-3125-43C8-9B02-5741236309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37FAF-A081-423B-9BCF-95A1128A6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D018-EBC3-43E0-9B7E-785F5AD6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F533-3A72-4F1F-8A29-3DA226403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E448-4FE8-451B-835A-311A3A802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402A-4D12-4DF8-AE78-B072A408C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BD583-1E80-479E-BDFB-70220F670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2200" spc="-1" strike="noStrike">
                <a:solidFill>
                  <a:srgbClr val="ffffff"/>
                </a:solidFill>
                <a:latin typeface="Times New Roman"/>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73AA-BCCA-4C66-8EA9-A2259A2B141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8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4A9B-25F8-4B24-A533-A66D2B3B73E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2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2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42D0-21E8-483B-BBBB-F50B12E98D5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ext Box 4"/>
          <p:cNvSpPr/>
          <p:nvPr/>
        </p:nvSpPr>
        <p:spPr>
          <a:xfrm>
            <a:off x="762120" y="582480"/>
            <a:ext cx="7391160" cy="597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COPS Update </a:t>
            </a:r>
            <a:endParaRPr b="0" lang="en-US" sz="6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to </a:t>
            </a:r>
            <a:endParaRPr b="0" lang="en-US" sz="6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TAC</a:t>
            </a:r>
            <a:endParaRPr b="0" lang="en-US" sz="6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bruary 4</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2010</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23E8-91D2-48BC-9626-17539669689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a:t>
            </a: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COPS Leadership 2010</a:t>
            </a:r>
            <a:endParaRPr b="0" lang="en-US" sz="4400" spc="-1" strike="noStrike">
              <a:solidFill>
                <a:srgbClr val="ffffff"/>
              </a:solidFill>
              <a:latin typeface="Tahoma"/>
            </a:endParaRPr>
          </a:p>
        </p:txBody>
      </p:sp>
      <p:sp>
        <p:nvSpPr>
          <p:cNvPr id="166" name="PlaceHolder 2"/>
          <p:cNvSpPr>
            <a:spLocks noGrp="1"/>
          </p:cNvSpPr>
          <p:nvPr>
            <p:ph/>
          </p:nvPr>
        </p:nvSpPr>
        <p:spPr>
          <a:xfrm>
            <a:off x="456840" y="1905120"/>
            <a:ext cx="84582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Chair – Debbie McKeever, Oncor</a:t>
            </a:r>
            <a:endParaRPr b="0" lang="en-US" sz="4000" spc="-1" strike="noStrike">
              <a:solidFill>
                <a:srgbClr val="ffffff"/>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100000"/>
              </a:lnSpc>
              <a:spcBef>
                <a:spcPts val="10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Vice Chair – Ken Riorden, LCRA</a:t>
            </a:r>
            <a:endParaRPr b="0" lang="en-US" sz="4000" spc="-1" strike="noStrike">
              <a:solidFill>
                <a:srgbClr val="ffffff"/>
              </a:solidFill>
              <a:latin typeface="Tahom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ffffff"/>
                </a:solidFill>
                <a:uFillTx/>
                <a:latin typeface="Times New Roman"/>
              </a:rPr>
              <a:t>Voting Item</a:t>
            </a:r>
            <a:endParaRPr b="0" lang="en-US" sz="4600" spc="-1" strike="noStrike">
              <a:solidFill>
                <a:srgbClr val="ffffff"/>
              </a:solidFill>
              <a:latin typeface="Tahoma"/>
            </a:endParaRPr>
          </a:p>
        </p:txBody>
      </p:sp>
      <p:sp>
        <p:nvSpPr>
          <p:cNvPr id="168" name="PlaceHolder 2"/>
          <p:cNvSpPr>
            <a:spLocks noGrp="1"/>
          </p:cNvSpPr>
          <p:nvPr>
            <p:ph/>
          </p:nvPr>
        </p:nvSpPr>
        <p:spPr>
          <a:xfrm>
            <a:off x="380880" y="1142640"/>
            <a:ext cx="8229600" cy="5257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Times New Roman"/>
                <a:ea typeface="Arial"/>
              </a:rPr>
              <a:t>One Voting Item</a:t>
            </a:r>
            <a:r>
              <a:rPr b="1" lang="en-CA" sz="4400" spc="-1" strike="noStrike">
                <a:solidFill>
                  <a:srgbClr val="ffffff"/>
                </a:solidFill>
                <a:latin typeface="Tahoma"/>
                <a:ea typeface="Arial"/>
              </a:rPr>
              <a:t>:</a:t>
            </a:r>
            <a:endParaRPr b="0" lang="en-US" sz="4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11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Times New Roman"/>
                <a:ea typeface="Arial"/>
              </a:rPr>
              <a:t>LPGRR037, Replace Wording Truncated from LPGRR035 123009</a:t>
            </a:r>
            <a:endParaRPr b="0" lang="en-US" sz="4400" spc="-1" strike="noStrike">
              <a:solidFill>
                <a:srgbClr val="ffffff"/>
              </a:solidFill>
              <a:latin typeface="Tahoma"/>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9EF2-82A2-4EAA-84B4-1BCB320A76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2010 COPS Goals</a:t>
            </a:r>
            <a:endParaRPr b="0" lang="en-US" sz="4400" spc="-1" strike="noStrike">
              <a:solidFill>
                <a:srgbClr val="ffffff"/>
              </a:solidFill>
              <a:latin typeface="Tahoma"/>
            </a:endParaRPr>
          </a:p>
        </p:txBody>
      </p:sp>
      <p:sp>
        <p:nvSpPr>
          <p:cNvPr id="1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7A5C-1FBB-4FDF-A15A-AB648D12B80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2" name=""/>
          <p:cNvSpPr/>
          <p:nvPr/>
        </p:nvSpPr>
        <p:spPr>
          <a:xfrm>
            <a:off x="974880" y="1360440"/>
            <a:ext cx="183960" cy="426960"/>
          </a:xfrm>
          <a:prstGeom prst="rect">
            <a:avLst/>
          </a:prstGeom>
          <a:noFill/>
          <a:ln w="0">
            <a:noFill/>
          </a:ln>
        </p:spPr>
        <p:style>
          <a:lnRef idx="0"/>
          <a:fillRef idx="0"/>
          <a:effectRef idx="0"/>
          <a:fontRef idx="minor"/>
        </p:style>
        <p:txBody>
          <a:bodyPr wrap="none" lIns="90000" rIns="90000" tIns="46800" bIns="46800" anchor="t">
            <a:spAutoFit/>
          </a:bodyPr>
          <a:p>
            <a:endParaRPr b="0" lang="en-US" sz="2200" spc="-1" strike="noStrike">
              <a:solidFill>
                <a:srgbClr val="ffffff"/>
              </a:solidFill>
              <a:latin typeface="Times New Roman"/>
            </a:endParaRPr>
          </a:p>
        </p:txBody>
      </p:sp>
      <p:sp>
        <p:nvSpPr>
          <p:cNvPr id="173" name=""/>
          <p:cNvSpPr/>
          <p:nvPr/>
        </p:nvSpPr>
        <p:spPr>
          <a:xfrm>
            <a:off x="152280" y="1219320"/>
            <a:ext cx="885996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PS will work with Market Participants and ERCOT and continue to be the forum for addressing processes and concerns in order to advance Commercial Operation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s requested COPs will engage, assist and report in progress and development of Nodal efforts as appropriate.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Ps will maintain COPS Market Guide as well as other Market documentation within the scope of COPs through:</a:t>
            </a:r>
            <a:endParaRPr b="0" lang="en-US" sz="2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CCWG</a:t>
            </a:r>
            <a:endParaRPr b="0" lang="en-US" sz="2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SEWG</a:t>
            </a:r>
            <a:endParaRPr b="0" lang="en-US" sz="2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PWG</a:t>
            </a:r>
            <a:endParaRPr b="0" lang="en-US" sz="2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NOIE DRG TF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ffffff"/>
              </a:solidFill>
              <a:latin typeface="Times New Roman"/>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Working Group Leadership</a:t>
            </a:r>
            <a:endParaRPr b="0" lang="en-US" sz="4400" spc="-1" strike="noStrike">
              <a:solidFill>
                <a:srgbClr val="ffffff"/>
              </a:solidFill>
              <a:latin typeface="Tahoma"/>
            </a:endParaRPr>
          </a:p>
        </p:txBody>
      </p:sp>
      <p:sp>
        <p:nvSpPr>
          <p:cNvPr id="175"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PWG</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hair – Ernie Podraza, Direct Energ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Vice Chair – Ed Echols, Onco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CCWG</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hair – Michelle Trenary, Tenask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Vice Chair – Jim Lee, Direct Energ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SEWG</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hair – Jim Galvin, Luminan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Vice Chair – Heddie Lookadoo, NRG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SEWG 2010 Goals</a:t>
            </a:r>
            <a:endParaRPr b="0" lang="en-US" sz="4000" spc="-1" strike="noStrike">
              <a:solidFill>
                <a:srgbClr val="ffffff"/>
              </a:solidFill>
              <a:latin typeface="Tahoma"/>
            </a:endParaRPr>
          </a:p>
        </p:txBody>
      </p:sp>
      <p:sp>
        <p:nvSpPr>
          <p:cNvPr id="17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 tracking of, notification of and lessons learned from issues related to extracts, statements, invoices and reports to ensure the commercial extracts for Zonal are maintained and issues addressed and reported on timely.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ipate in Nodal Settlement and Nodal COMS (reports and extracts) testing to ensure that settlement results and extracts during market trials are scrutinized and analyzed and issues reported to ERCOT and the Market.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supplemental training to SEWG members on Nodal Settlement algorithms by reviewing calculations to identifying data billing determinants to providing in depth examples and analysis on the calculations.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monthly updates to COPS on Nodal developments related to Settlement, Nodal COMS and other issues as they are made known.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 Nodal Settlements Operating Guide.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9652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CCWG 2010 Goals</a:t>
            </a:r>
            <a:br>
              <a:rPr sz="4000"/>
            </a:br>
            <a:endParaRPr b="0" lang="en-US" sz="40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date the COP Market Guide and incorporate Nodal materials</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on-going review of ERCOT Market Notices</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NPRR’s, PRR’s, COPMGRR’s and comments on other guide revision requests or projects as needed</a:t>
            </a:r>
            <a:endParaRPr b="0" lang="en-US" sz="3200" spc="-1" strike="noStrike">
              <a:solidFill>
                <a:srgbClr val="ffffff"/>
              </a:solidFill>
              <a:latin typeface="Tahoma"/>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PWG 2010 Goals</a:t>
            </a:r>
            <a:endParaRPr b="0" lang="en-US" sz="4400" spc="-1" strike="noStrike">
              <a:solidFill>
                <a:srgbClr val="ffffff"/>
              </a:solidFill>
              <a:latin typeface="Tahoma"/>
            </a:endParaRPr>
          </a:p>
        </p:txBody>
      </p:sp>
      <p:graphicFrame>
        <p:nvGraphicFramePr>
          <p:cNvPr id="181" name=""/>
          <p:cNvGraphicFramePr/>
          <p:nvPr/>
        </p:nvGraphicFramePr>
        <p:xfrm>
          <a:off x="457200" y="1295280"/>
          <a:ext cx="8229600" cy="5480280"/>
        </p:xfrm>
        <a:graphic>
          <a:graphicData uri="http://schemas.openxmlformats.org/drawingml/2006/table">
            <a:tbl>
              <a:tblPr/>
              <a:tblGrid>
                <a:gridCol w="347760"/>
                <a:gridCol w="471240"/>
                <a:gridCol w="741060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 </a:t>
                      </a:r>
                      <a:r>
                        <a:rPr b="1" lang="en-US" sz="2000" spc="-1" strike="noStrike">
                          <a:solidFill>
                            <a:srgbClr val="ffffff"/>
                          </a:solidFill>
                          <a:latin typeface="Times New Roman"/>
                          <a:ea typeface="Arial"/>
                        </a:rPr>
                        <a:t>Review 2009 UFE Analysis (April 30, true-up in Aug)</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 </a:t>
                      </a:r>
                      <a:r>
                        <a:rPr b="1" lang="en-US" sz="2000" spc="-1" strike="noStrike">
                          <a:solidFill>
                            <a:srgbClr val="ffffff"/>
                          </a:solidFill>
                          <a:latin typeface="Times New Roman"/>
                          <a:ea typeface="Arial"/>
                        </a:rPr>
                        <a:t>2009 Annual Validation. </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Evaluate language changes for Annual Validation Process due to AMS</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Review Weather Sensitivity Correlation and Proxy Day Method in lieu of AMS</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Review of LPG concerning the future of Load Profiles, forecasted NIDR profiles, Business ID assignment, review of LPGRR Chapter 15 in conjunction with PUCT Load Research Rule in lieu of AMS metering.</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LPGRR per NOIE DRG PRR</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LPGRR changes as needed</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Round 2 load research sample recalibration of ERCOT Load Profiles</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NOIE DRG TF</a:t>
            </a:r>
            <a:endParaRPr b="0" lang="en-US" sz="4400" spc="-1" strike="noStrike">
              <a:solidFill>
                <a:srgbClr val="ffffff"/>
              </a:solidFill>
              <a:latin typeface="Tahoma"/>
            </a:endParaRPr>
          </a:p>
        </p:txBody>
      </p:sp>
      <p:sp>
        <p:nvSpPr>
          <p:cNvPr id="1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on Opt-In Entity Distributed Renewable Generation Settlements Task Force (NOIE DRG) will continue to provide clarity in regards to the market expectations for the wholesale settlements of Distributed Renewable Generation with a design capacity equal to or greater than 50kW and less than 1 MW and located behind NOIE boundary metering point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te all work and sunset NOIE DRG TF in 2010</a:t>
            </a:r>
            <a:endParaRPr b="0" lang="en-US" sz="2400" spc="-1" strike="noStrike">
              <a:solidFill>
                <a:srgbClr val="ffffff"/>
              </a:solidFill>
              <a:latin typeface="Tahoma"/>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Registered User</cp:lastModifiedBy>
  <dcterms:modified xsi:type="dcterms:W3CDTF">2010-02-01T21:52:35Z</dcterms:modified>
  <cp:revision>130</cp:revision>
  <dc:subject/>
  <dc:title>Slide 1</dc:title>
</cp:coreProperties>
</file>