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A11-D9DB-40E5-AB6C-F6F68207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B24-4D0C-4DA9-967E-F15EE6B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28C-66AF-4110-9869-58465A92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4CE-E27C-453C-BC07-8FD0F2ED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C25-7955-475F-BFEA-36AE62F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CB0-15A5-4605-A577-0C56C426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79E-9E1C-46A7-B0F8-DF7E0A2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C71-EA97-43DA-A988-8EB09D8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1CB-D396-47C1-8636-CD9AA3F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FF4-D9D1-49DA-8878-6BD1627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228-1653-4051-969B-3410D5ED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25E-84BF-4539-9FB2-85F7FED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3B8-F511-43DB-86C3-3CEDD7B26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Technology Working Group (RTW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4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Durrwa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 Wind Generation Facts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verage capacity factor = 24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value of wind (as a % of installed capa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peak hour (July 13, HE1700) = 18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4 monthly summer peak load hours (June-Sept.) = 9.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hours in the 4 summer months = 19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hourly wind production was 14 MW on September 11, HE1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ourly wind production was 5,986 MW on October 28, HE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percentage of load served by wind was 24.6 % on October 28, HE 0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1-hour increase in wind generation was 2,136 MW on October 25 from 6 to 7 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1-hour decrease in wind generation was 1,820 MW on June 3 from 2 to 3 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first year that there has been wind generation in every hour of the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1480" y="63612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2496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Statistics 2007-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RTW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er TRI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ly discussion on potential changes in the Texas Renewables Implementation Plan (TR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draft to be reviewed at next RT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TRIP to TAC in March for review and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2010 Work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ed wind generation capacity in ERCOT at December 31, 2009 = 8,916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new wind generation was added i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of 200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ford Wind Power 150 MW (Tom Green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aine Wind Park I 126 MW (Mitchell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aine Wind Park II 125 MW (Mitchell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ew wind generation capacity in ERCOT increased from 8,515 MW to 8,916 MW, an increase of 401 MW from the last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ind farm signed Generation Interconnect Agreements since the last re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lote Creek Wind Farm II 198 MW (San Patricio 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Wind Generation Capacity in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ember, the ERCOT Board approved PRR 830 - Reactive Power Capability Requirement, which has been appealed to the P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, the PUCT issued a “strawman” rulemaking for the 500 MW non-wind Renewable Portfolio Standard (R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-8: Reactive and Voltage Requirements Applicable to Wind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9: SCADA Control of Generator Circuit Br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15: Communications between Wind Farms and T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28: SPS Actuation for N-0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-2: Wind Workshop III - Summ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T-4: Wind in the Nod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PRRs/NPR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824 - Primary Frequency Response from WG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830 - Reactive Power Capabilit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 195 - Removal of McCamey Congestion Management from Noda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ssue: SP 9 - Wind Turbine Mode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Henry Durrwachter</cp:lastModifiedBy>
  <dcterms:modified xsi:type="dcterms:W3CDTF">2010-01-26T16:32:13Z</dcterms:modified>
  <cp:revision>8</cp:revision>
  <dc:subject/>
  <dc:title>Renewable Technology Working Group (RTWG)</dc:title>
</cp:coreProperties>
</file>