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FCBA-860E-490A-BECA-6E2C57B66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E8B8-61DB-4D80-8DA6-FFEAB2D365FD}" type="slidenum">
              <a:rPr b="0" lang="en-US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AFD-6878-4D3C-83E4-7DDD6177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5C4-E3FA-40F5-8C68-7871BA6F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17C6-871E-4C26-B69A-342430F2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B9A-DD27-4E72-8B7E-D02DE4A8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1E0B-E2C7-4166-9960-CE649935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4442-2952-4AA7-AB18-375816CD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A5B1-4095-4DE6-BC1F-B1FC1073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A8D0-0E0D-4178-9B1F-ECF9FFA0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A02D-4EBC-4118-8FA5-0B51F326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8EE4-36A6-4921-9DC4-0490CCBD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F051-7D56-4BFE-A37E-E5AA009F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BA1-1BCF-4BC8-A0D7-A6DE29E2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8A61-C4B5-4413-86C1-CF879AD7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990A-7DF5-41CB-87C6-7440CEB8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FB07-058F-4140-9BBD-5C302247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2689-0AB9-4CBC-92ED-3A76A1F4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EFED-E67E-41D9-B2CC-6071DFD8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2EB-EAD4-43E8-9D60-C2FD440E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7846-0506-4DE1-95A4-4922A87E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119-1842-4706-963C-1603B4A5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9A5-3831-45C4-9177-5BD0F67F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BA5-C6DA-446E-AB6D-44BCA968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558-379B-4C60-8973-54323F12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591-C53E-4270-A1A1-2CB71B78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>
                  <a:gd name="textAreaLeft" fmla="*/ 0 w 1108080"/>
                  <a:gd name="textAreaRight" fmla="*/ 1108440 w 1108080"/>
                  <a:gd name="textAreaTop" fmla="*/ 0 h 1143000"/>
                  <a:gd name="textAreaBottom" fmla="*/ 1143360 h 1143000"/>
                </a:gdLst>
                <a:ahLst/>
                <a:rect l="textAreaLeft" t="textAreaTop" r="textAreaRight" b="textAreaBottom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>
                  <a:gd name="textAreaLeft" fmla="*/ 0 w 782640"/>
                  <a:gd name="textAreaRight" fmla="*/ 783000 w 782640"/>
                  <a:gd name="textAreaTop" fmla="*/ 0 h 1087560"/>
                  <a:gd name="textAreaBottom" fmla="*/ 1087920 h 1087560"/>
                </a:gdLst>
                <a:ahLst/>
                <a:rect l="textAreaLeft" t="textAreaTop" r="textAreaRight" b="textAreaBottom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0C18-17DE-47D3-8C7A-66FF620CB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>
                  <a:gd name="textAreaLeft" fmla="*/ 0 w 1108080"/>
                  <a:gd name="textAreaRight" fmla="*/ 1108440 w 1108080"/>
                  <a:gd name="textAreaTop" fmla="*/ 0 h 1143000"/>
                  <a:gd name="textAreaBottom" fmla="*/ 1143360 h 1143000"/>
                </a:gdLst>
                <a:ahLst/>
                <a:rect l="textAreaLeft" t="textAreaTop" r="textAreaRight" b="textAreaBottom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>
                  <a:gd name="textAreaLeft" fmla="*/ 0 w 782640"/>
                  <a:gd name="textAreaRight" fmla="*/ 783000 w 782640"/>
                  <a:gd name="textAreaTop" fmla="*/ 0 h 1087200"/>
                  <a:gd name="textAreaBottom" fmla="*/ 1087560 h 1087200"/>
                </a:gdLst>
                <a:ahLst/>
                <a:rect l="textAreaLeft" t="textAreaTop" r="textAreaRight" b="textAreaBottom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BD55-648F-4913-86DE-3C5746F1E341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Times New Roman"/>
              </a:rPr>
              <a:t>PRS 2009 Accomplish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Process PRRs and NPRRs (Section 21 requirement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49 PRRs (new), 35 NPRRs (new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Facilitate and make recommendations for 2010 Project Priorities as requested by ERC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Made recommendations during the 2010 ERCOT budget review proces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Collaborate with ERCOT PMO to structure a process for “releasing” NPRRs to be included in “go-live plus ‘x’”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PRS approved the parking deck concept in 2009 which was approved by the Board in August 200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0" i="1" lang="en-US" sz="4400" spc="-1" strike="noStrike">
                <a:solidFill>
                  <a:srgbClr val="009999"/>
                </a:solidFill>
                <a:latin typeface="Times New Roman"/>
              </a:rPr>
              <a:t>PRS 2010 Go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1800" y="1981080"/>
            <a:ext cx="7485120" cy="33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Goals (Draft for approval by PRS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Process PRRs and NPRRs (Section 21 requirement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Develop process to address “urgent” NPRR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Facilitate expedient processing of  “traceability” NPRR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Facilitate and make recommendations for 2011 Project Priorities as requested by ERC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Collaborate with ERCOT PMO to organize parking deck NPRRs which will be included in “Nodal 2.0” and beyon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Assist ERCOT in reviewing the zonal to nodal Protocol transition matrix required by 21.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4:36:35Z</dcterms:created>
  <dc:creator>kgresham</dc:creator>
  <dc:description/>
  <dc:language>en-US</dc:language>
  <cp:lastModifiedBy>PRS 012110</cp:lastModifiedBy>
  <dcterms:modified xsi:type="dcterms:W3CDTF">2010-01-21T16:36:06Z</dcterms:modified>
  <cp:revision>8</cp:revision>
  <dc:subject/>
  <dc:title>PRS 2009 Goals</dc:title>
</cp:coreProperties>
</file>