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CADB-421A-4E4D-BEA3-DD154088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6BCF-5699-412D-BEB5-ECE0AC33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1894-2A6F-4366-B2D4-3CC0BA1E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73F6-4A00-4B58-A3D4-3123992B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F38F-93C8-4C2F-B9D1-70ADBD5B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031A-A60D-441B-BEAC-2D2F8F86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857F-CF65-4FFF-94DD-D52A1F4B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1515-6148-4CC7-B403-AAE137AA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E896-3860-43DA-B452-C982A3EA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1972-5B5F-4FCE-8849-076D76A5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B413-7B2D-4B89-B872-C8F6C7E7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E3A7-F665-4A19-A2CA-50FA4E14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613F-4BB4-4370-8DCB-83D1EAF8F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C1B0-A593-4D37-895A-2970CAFC8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17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Revision Sub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10 Protocol Revision Request Timelin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risti Hob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010 PRR Approval Cycle – Normal Timel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480" y="914400"/>
          <a:ext cx="8915400" cy="5028840"/>
        </p:xfrm>
        <a:graphic>
          <a:graphicData uri="http://schemas.openxmlformats.org/drawingml/2006/table">
            <a:tbl>
              <a:tblPr/>
              <a:tblGrid>
                <a:gridCol w="1380960"/>
                <a:gridCol w="1554120"/>
                <a:gridCol w="1338120"/>
                <a:gridCol w="1554480"/>
                <a:gridCol w="1555560"/>
                <a:gridCol w="1532160"/>
              </a:tblGrid>
              <a:tr h="12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id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BA/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id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id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-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-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-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-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-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-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-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/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-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-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-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J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/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-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-J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J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-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-J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J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J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-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-J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J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-Au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-S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-J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J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-Au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S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-S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-J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-Au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-S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O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N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hobbs</cp:lastModifiedBy>
  <dcterms:modified xsi:type="dcterms:W3CDTF">2009-12-10T15:13:36Z</dcterms:modified>
  <cp:revision>22</cp:revision>
  <dc:subject/>
  <dc:title>Instructions</dc:title>
</cp:coreProperties>
</file>