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79883-73B7-490A-9631-CDF937E43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81501-1A4A-4FD5-97E1-2C118211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4B66E-9022-42D2-90C5-B4DE5AFE8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FFCFD-8521-48AA-A86F-2BBDC403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BF265-68CE-40B2-B073-327BB639C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9CA2A-8F32-43A2-B621-9AF88426F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4B8AE-D2C2-4646-B9DC-B94334B3F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FD256-20B0-42F4-A1C0-AD54DDA24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FFC61-1709-4ED9-AC4B-D9E4A73E8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51F48-6E3B-4C4D-B517-D3F08844D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6344F-0415-4F8B-805C-992A7BAF7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6E76-DFF2-4CFD-B087-11319C2F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208A7-5AE4-4EA0-8A01-C932DF53B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E83C-59A5-4744-82C3-9AA475348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ACACD-0F86-419A-80E6-9A243AC7B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A5027-BF90-46BD-BE21-573EAC035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4E339-A411-473D-BDE5-4552DAA62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5B013-AD67-4E97-A477-F1561685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F842-C962-4D16-A5D1-182D5700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6FC6-6268-4F68-83B6-CD5D9AE0E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7606-B38E-4EF4-85BF-CA68D0D9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0103-F814-4902-BE59-0D65215A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2AFF-08C2-4377-8A92-18EC66F4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3528-3DCC-4947-8A17-3CE0A19EC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A0B8-F20C-495A-ACA9-0127675F38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B838-DC4A-41E4-ACD6-86CB591AD0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ind Cost Allocation Task Force</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o WM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cremental Allocation Proposal</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752120"/>
            <a:ext cx="7772400" cy="44960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Credi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does not currently include any reliability credits but they could be added 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xt Step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ze Reliability Credit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example calculations for Incremental Allocation Methodolog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proposals for vote at February WMS – hopefu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nuary 8 Meeting</a:t>
            </a:r>
            <a:r>
              <a:rPr b="0" lang="en-US" sz="4400" spc="-1" strike="noStrike">
                <a:solidFill>
                  <a:srgbClr val="003366"/>
                </a:solidFill>
                <a:latin typeface="Times New Roman"/>
              </a:rPr>
              <a:t>	</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1"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four potential Reliability Cred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discussions on Incremental Allocation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ed consensus that post-Nodal solution the most likely result due to impacts on ERCOT resourc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rimary Frequency Response – 30%</a:t>
            </a:r>
            <a:endParaRPr b="0" lang="en-US" sz="4000" spc="-1" strike="noStrike">
              <a:solidFill>
                <a:srgbClr val="003366"/>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by Protoco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pending outcome of PRR733, Primary Frequency Response Requirement from Existing WGRs</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needed to determine if the service is actually being provided by the WG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the response from controls or just an uptick in w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Support – 20%</a:t>
            </a:r>
            <a:endParaRPr b="0" lang="en-US" sz="4400" spc="-1" strike="noStrike">
              <a:solidFill>
                <a:srgbClr val="003366"/>
              </a:solidFill>
              <a:latin typeface="Times New Roman"/>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meet Protocol requirements as recently clarified by PRR 830, Reactive Power Capabilities Requir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s of PRR 830 have been filed with the PU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utcome of the appeals change the nature of voltage support, then credit will reflect the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ertia – 30%</a:t>
            </a:r>
            <a:endParaRPr b="0" lang="en-US" sz="4400" spc="-1" strike="noStrike">
              <a:solidFill>
                <a:srgbClr val="003366"/>
              </a:solidFill>
              <a:latin typeface="Times New Roman"/>
            </a:endParaRPr>
          </a:p>
        </p:txBody>
      </p:sp>
      <p:sp>
        <p:nvSpPr>
          <p:cNvPr id="137" name="PlaceHolder 2"/>
          <p:cNvSpPr>
            <a:spLocks noGrp="1"/>
          </p:cNvSpPr>
          <p:nvPr>
            <p:ph/>
          </p:nvPr>
        </p:nvSpPr>
        <p:spPr>
          <a:xfrm>
            <a:off x="117324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wind will require additional spinning mass to resist frequency oscillation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CWG or ERCOT would need to determine what/how much inertia the grid needs and how it can be provided by WG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orecast Error – 20%</a:t>
            </a:r>
            <a:endParaRPr b="0" lang="en-US" sz="44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 error causes increase in Ancillary Service procurement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would need to be created to determine eligibility for forecast error credit</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controversy over moving away from centralized forecast from ERCOT as currently prescribed by Nod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S Obligations, not Cost Allocation</a:t>
            </a:r>
            <a:endParaRPr b="0" lang="en-US" sz="40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would create obligations for WGRs (and potentially other Intermittent Resource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 could be hedged, which could lead to more counterparties in the market</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RS is the exception – no obligation to provide RPRS, merely a cost uplift to load and Intermittent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cremental Allocation Proposal</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752120"/>
            <a:ext cx="7772400" cy="449604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amp; Down Regulation Servi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alculates the increased amount of wind penetration each month and uses tables provided by GE in their final report to ERCOT in the calculation of Regulation Service requireme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s clearly indicate the incremental MW of Up Reg and Down Reg that are required per 1000 MW of wind generation capa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 tables could easily be adapted to allocate ancillary services requirements to wind generators based upon installed M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cremental Allocation Proposal</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752480"/>
            <a:ext cx="7772400" cy="4648320"/>
          </a:xfrm>
          <a:prstGeom prst="rect">
            <a:avLst/>
          </a:prstGeom>
          <a:noFill/>
          <a:ln w="0">
            <a:noFill/>
          </a:ln>
        </p:spPr>
        <p:txBody>
          <a:bodyPr lIns="90000" rIns="90000" tIns="46800" bIns="46800" anchor="t">
            <a:normAutofit/>
          </a:bodyPr>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 Spinning Reserve Service –</a:t>
            </a:r>
            <a:endParaRPr b="0" lang="en-US" sz="2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 ERCOT uses the 95th percentile of Net Load Uncertainty to determine the base amount of NSRS it should requi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Load Uncertainty = Forecasted Net Load - Actual Net Loa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Load = Load - Wind Generation</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mental amount of NSRS relative to wind generation could be determined by comparing the 95th percentile of Net Load Uncertainty to the 95th percentile of Load Uncertainty for the same data s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ligation for the incremental amount of NSRS relative to wind generation could then be allocated to wind generators based on installed MW</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5:41:42Z</dcterms:created>
  <dc:creator>jtroutman</dc:creator>
  <dc:description/>
  <dc:language>en-US</dc:language>
  <cp:lastModifiedBy>klandry</cp:lastModifiedBy>
  <dcterms:modified xsi:type="dcterms:W3CDTF">2010-01-15T17:59:32Z</dcterms:modified>
  <cp:revision>18</cp:revision>
  <dc:subject/>
  <dc:title>Wind Cost Allocation Task Force</dc:title>
</cp:coreProperties>
</file>