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B0E-8CDA-4627-87B5-9C2F897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DC9-6241-4892-829A-05375DC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9D0-49BC-4E3A-9DC7-380EBEB8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DB0-8191-49F5-968B-50B99F05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AE9B-5D9E-46A8-BAD6-3E100C4F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7706-1568-4150-8A8B-F1E744BF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541-E10C-48D8-B3AD-FFF93633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805-0F80-4F29-8E38-F7D45FF0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FFAF-68DB-45B1-9781-B14ECE86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318D-EB5C-4A92-854C-0CCD600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3A9C-7292-4756-9573-441E675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F50-DD20-429D-A770-41D8CF76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9D3C-1B26-4986-BC63-73A6BCE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5CA2-D94C-45E4-A8C1-D5BB0CB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5A44-0200-4B9A-ACC6-3FE1B43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BED0-1D72-4A9D-B2E7-3172002D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26AF-7339-437F-8191-D0A2055D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50B-2698-4693-B248-84B99EEC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EB8-8CFD-4E42-B5D6-FD68EE23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076-6578-4C08-ACDE-1669DF0F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93D-8212-46E9-A5B3-05D2BD5B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4F0-C738-472F-B612-801BDE7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BEF-084F-4385-9A12-CE4E097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99E-7E9D-46FC-BF7A-5FCDA7E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52D-34C7-4D6F-8538-3B6C57055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C518-F7CA-4BA0-94F2-A0419B8152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SE Managers Working Gro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eting No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5 January, 20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port to WM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0 January, 20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vid Detelich - Chair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ad Forecast Accu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estions on the RPRS monthly reports will be addressed with Robbie Sta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assembled a list of questions and topics for a worksho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recommends that WMS take the list to TAC requesting a Load Forecasting Workshop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ition of WG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C assignment based on PRR830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t &amp; resource – applies to a grouping of virtual uni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GWR – Aggregated Wind Resour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ggregating for testing purpo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lter Reid developing OGRR and PRR’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WG to review next mee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 on how many new WGR’s will be creat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sk force may be needed for implementation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R757, Real Time Wind Production by Z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ise language for post Nodal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es the market need data separ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y Load Z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iew next month if alternatives are develop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R833, Primary Frequency Response requirement from Existing WG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iew comments from E.ON and NextE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sues and comments to be review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to select the turbines for relay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ac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f turbines are out for mainten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rational and schedul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to bring back on 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SL for Noda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it for comments from PDCW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commitment process for RU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xt Meeting: February 3, 2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forecast accuracy calcul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Load Forecasting Accurac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Definition of WG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CR757 Real Time Wind Productio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Decommitment process for RUC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Nodal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MWG Topic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ir and Vice Chair (Vot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iew 30 minute NSRS deploy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GRPP Forecast Accuracy Upda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onal RPRS unit de-sele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R841 Revise Total ERCOT Wind Power Foreca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ad Forecasting Accurac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ion of WG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R757, Real Time Wind Production by Z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R833, Primary Frequency Response requirement from Existing WG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raft PRR: Decommitment process for RU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ir and Vice chai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Deteli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Carp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eview 30 minute NSRS deploymen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2/1/09, 12/9/09 &amp; 12/12/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iggered by adjusted responsive reserve below 2500 M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ning schedule change, slow units and up regulation deple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units at or above LSL can count towards AR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ocol S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1066680" y="3838680"/>
          <a:ext cx="6858000" cy="25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38680"/>
                    <a:ext cx="685800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4"/>
          <p:cNvGraphicFramePr/>
          <p:nvPr/>
        </p:nvGraphicFramePr>
        <p:xfrm>
          <a:off x="1066680" y="1219320"/>
          <a:ext cx="6829560" cy="25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219320"/>
                    <a:ext cx="682956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ph from IM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1" descr="image001"/>
          <p:cNvPicPr/>
          <p:nvPr/>
        </p:nvPicPr>
        <p:blipFill>
          <a:blip r:embed="rId1"/>
          <a:stretch/>
        </p:blipFill>
        <p:spPr>
          <a:xfrm>
            <a:off x="685800" y="1346040"/>
            <a:ext cx="778356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GRPP Forecast accuracy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w data supplied by ERCO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vember showed impr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cember had increased err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out 60 WGR are providing good MET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asks that metrics presented to TAC be supplied to QMW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onal RPRS unit de-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ice soon, Target date is February 1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ick start units will be de-selected from RPRS deploy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list of qualified quick start un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notice will be giv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acity will not be replac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rsed by IM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per representation of units in Resource P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ergy only market efficie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R841 Revise Total ERCOT Wind Power Forecast (TEWPF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reviewed comments from ERCO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recommends that WMS endorse PRR841 with ERCOT com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klandry</cp:lastModifiedBy>
  <dcterms:modified xsi:type="dcterms:W3CDTF">2010-01-19T16:00:30Z</dcterms:modified>
  <cp:revision>142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