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11E21-AA1D-437E-A590-051EEC3C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4697E-982F-48C8-B1A6-C821F916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3CDF-84D8-461D-972E-C75330D3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847C2-8179-45DF-B871-C08D9D0D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FEA7-2401-4CFB-AC3B-DD46CB63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E801-A346-4EC2-BB5D-EB86824B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99F1B-6ADA-460C-B925-8D7D2553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DDA3B-13D0-4681-AAAB-21E96245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5F19E-D884-46C2-A21A-B87498C1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81002-CF21-4383-9E4B-D8242519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A7DAE-E7BE-46A8-8983-F0DE1AFD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629F-4200-4FD6-A394-EB901D1F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42C7-62A3-43AF-BDFF-5FF7AA76F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10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E557-CDCE-40ED-93C3-BA21AD4D6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rch 10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nuary, 15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C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1904760"/>
            <a:ext cx="822960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xy Offer Curve – RUC Effect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REVI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ettlement and Billing - Market Analysis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mela Sha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ackground Inform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col Section 6.4.2 Output Schedu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QSE that represents a Resource, other than an RMR Unit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subm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mainta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 Energy Offer Curve or an Output Schedule for the Resource for all times when the Resource is On-Li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try of an Energy Offer Curve for a Resource automaticall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llif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Output Schedule for that Resource and prohibits entry of future Output Schedules for that Resource for the time during which the Energy Offer Curve is in effec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Resource for which an Energy Offer Curve has not been submitted, the SCED process uses the Output Schedule submitted for that Resource as desired Dispatch levels for the Resour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system shall construct a proxy offer curve when Energy Offer Curve is not submitted by the QSE as described in 6.5.7.3(3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system shall construct a proxy offer curve when an Energy Offer Curve is withdrawn during certain period of the operation day( MMS SCED and Real Time MMS Process requirement v3.01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4" descr="Proxy Curve Generation Preparation"/>
          <p:cNvPicPr/>
          <p:nvPr/>
        </p:nvPicPr>
        <p:blipFill>
          <a:blip r:embed="rId1"/>
          <a:stretch/>
        </p:blipFill>
        <p:spPr>
          <a:xfrm>
            <a:off x="-228600" y="-17640"/>
            <a:ext cx="915660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WOS Proxy Offer Curve Examp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486400" y="3581280"/>
          <a:ext cx="2895480" cy="2590920"/>
        </p:xfrm>
        <a:graphic>
          <a:graphicData uri="http://schemas.openxmlformats.org/drawingml/2006/table">
            <a:tbl>
              <a:tblPr/>
              <a:tblGrid>
                <a:gridCol w="942840"/>
                <a:gridCol w="195264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 (per 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$2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$25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AutoShape 5"/>
          <p:cNvSpPr/>
          <p:nvPr/>
        </p:nvSpPr>
        <p:spPr>
          <a:xfrm>
            <a:off x="304920" y="838080"/>
            <a:ext cx="1714320" cy="457200"/>
          </a:xfrm>
          <a:prstGeom prst="roundRect">
            <a:avLst>
              <a:gd name="adj" fmla="val 16667"/>
            </a:avLst>
          </a:prstGeom>
          <a:solidFill>
            <a:srgbClr val="a1b4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152280" y="3124080"/>
            <a:ext cx="1524240" cy="381240"/>
          </a:xfrm>
          <a:prstGeom prst="roundRect">
            <a:avLst>
              <a:gd name="adj" fmla="val 16667"/>
            </a:avLst>
          </a:prstGeom>
          <a:solidFill>
            <a:srgbClr val="a1b4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12"/>
          <p:cNvSpPr/>
          <p:nvPr/>
        </p:nvSpPr>
        <p:spPr>
          <a:xfrm>
            <a:off x="2286000" y="685800"/>
            <a:ext cx="31240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Interval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S=80 MW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SL= 160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SL=15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that Operation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CAP=22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TMG for that 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TMG=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TMG*4=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3657600"/>
          <a:ext cx="4114800" cy="2511360"/>
        </p:xfrm>
        <a:graphic>
          <a:graphicData uri="http://schemas.openxmlformats.org/drawingml/2006/table">
            <a:tbl>
              <a:tblPr/>
              <a:tblGrid>
                <a:gridCol w="2382840"/>
                <a:gridCol w="173196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 (per 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S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WC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Schedule MW plus 1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WCAP minus $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Schedule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$2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$25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xy Offer Curve and Negative AIECAREA - 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REVISE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-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Proxy Offer Curve"/>
          <p:cNvPicPr/>
          <p:nvPr/>
        </p:nvPicPr>
        <p:blipFill>
          <a:blip r:embed="rId1"/>
          <a:stretch/>
        </p:blipFill>
        <p:spPr>
          <a:xfrm>
            <a:off x="450720" y="1289160"/>
            <a:ext cx="8242560" cy="42796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6629400" y="1143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AIEC =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$1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67"/>
          <p:cNvSpPr/>
          <p:nvPr/>
        </p:nvSpPr>
        <p:spPr>
          <a:xfrm>
            <a:off x="326880" y="2997360"/>
            <a:ext cx="8587080" cy="3315960"/>
          </a:xfrm>
          <a:prstGeom prst="roundRect">
            <a:avLst>
              <a:gd name="adj" fmla="val 16667"/>
            </a:avLst>
          </a:prstGeom>
          <a:solidFill>
            <a:srgbClr val="00b0f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egative AIEC’s impact to RUC revenues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Rectangle 50"/>
          <p:cNvSpPr/>
          <p:nvPr/>
        </p:nvSpPr>
        <p:spPr>
          <a:xfrm>
            <a:off x="2052720" y="3300480"/>
            <a:ext cx="7331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ximum of 0 or sum of all RUC inter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TSPP * Maximum of 0 or {Real-Time Metered Gen – (1/4 of LSL)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3"/>
          <p:cNvSpPr/>
          <p:nvPr/>
        </p:nvSpPr>
        <p:spPr>
          <a:xfrm>
            <a:off x="2141640" y="4062240"/>
            <a:ext cx="6178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al-Time AIEC * Maximum of 0 or {Real-Time Metered Gen – (1/4 of LSL)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6"/>
          <p:cNvSpPr/>
          <p:nvPr/>
        </p:nvSpPr>
        <p:spPr>
          <a:xfrm>
            <a:off x="1797120" y="3962520"/>
            <a:ext cx="352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12840" y="3300480"/>
            <a:ext cx="214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UCEXRR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12840" y="4876920"/>
            <a:ext cx="214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UCEXRQ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0"/>
          <p:cNvSpPr/>
          <p:nvPr/>
        </p:nvSpPr>
        <p:spPr>
          <a:xfrm>
            <a:off x="2170080" y="4900680"/>
            <a:ext cx="7331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ximum of 0 or sum of all QCLAW inte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RTSPP * Real-Time Metered Gen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3"/>
          <p:cNvSpPr/>
          <p:nvPr/>
        </p:nvSpPr>
        <p:spPr>
          <a:xfrm>
            <a:off x="2141640" y="5586480"/>
            <a:ext cx="6178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al-Time AIEC * Maximum of 0 or {Real-Time Metered Gen – (1/4 of LSL)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6"/>
          <p:cNvSpPr/>
          <p:nvPr/>
        </p:nvSpPr>
        <p:spPr>
          <a:xfrm>
            <a:off x="1797120" y="5532480"/>
            <a:ext cx="352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990720" y="1969920"/>
            <a:ext cx="62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UCMWAM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(-1) * Max (0, 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RUC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RUCMEREV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UCEXRR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UCEXRQ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/ RUC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ounded Rectangle 20"/>
          <p:cNvSpPr/>
          <p:nvPr/>
        </p:nvSpPr>
        <p:spPr>
          <a:xfrm>
            <a:off x="76320" y="762120"/>
            <a:ext cx="8915400" cy="914400"/>
          </a:xfrm>
          <a:prstGeom prst="roundRect">
            <a:avLst>
              <a:gd name="adj" fmla="val 16667"/>
            </a:avLst>
          </a:prstGeom>
          <a:solidFill>
            <a:srgbClr val="00b0f0">
              <a:alpha val="57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potentially increase the revenue subtracted from the RUC Guarantee and decrease your Make Whole payment or subject you to Clawback charg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igonzalez</cp:lastModifiedBy>
  <dcterms:modified xsi:type="dcterms:W3CDTF">2010-01-05T21:20:33Z</dcterms:modified>
  <cp:revision>129</cp:revision>
  <dc:subject/>
  <dc:title>Instructions</dc:title>
</cp:coreProperties>
</file>