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97C0349A-CBE9-441C-978A-7B44E2C955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D24DBE86-889F-4E15-B43D-4FD7EB2BFD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348DB31E-1612-4906-AE23-7242A236A4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FD2F669C-E04C-4050-BC47-49507B6879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82E5A9A4-7706-4E61-B045-6BAAF20073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17FFBA87-D549-4C3E-98BD-D50C34F9DF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7CC56D20-9973-4B26-A719-EF10C6DF33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2C1AAAF4-E9BC-49B5-83E6-776E563494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BD3E67D2-16E6-4786-B7F1-E759CE05C0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1143000" y="6552720"/>
            <a:ext cx="5092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699D20D5-2457-4857-9740-27E4F938E7D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E312B813-5304-4B31-A893-D237F1749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 Black"/>
              </a:rPr>
              <a:t>OOMC and RPRS Summary for Period 12/1/2008 – 11/30/2009 Prepared for VCWG</a:t>
            </a:r>
            <a:br>
              <a:rPr sz="3200"/>
            </a:br>
            <a:r>
              <a:rPr b="0" lang="en-GB" sz="3200" spc="-1" strike="noStrike">
                <a:solidFill>
                  <a:srgbClr val="808080"/>
                </a:solidFill>
                <a:latin typeface="Arial Black"/>
              </a:rPr>
              <a:t>January 15, 2010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3" name="Picture 5" descr="logo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C89D7F36-4582-48C4-A42F-F9F7BC578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9680" y="81000"/>
            <a:ext cx="862344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nual OOMC and RPRS Instructio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547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an annual basis 91% of OOMC and RPRS instructions occur during on-peak hou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3818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4191120"/>
          </a:xfrm>
          <a:prstGeom prst="rect">
            <a:avLst/>
          </a:prstGeom>
          <a:ln w="0">
            <a:noFill/>
          </a:ln>
        </p:spPr>
      </p:pic>
      <p:sp>
        <p:nvSpPr>
          <p:cNvPr id="59" name="Footer Placeholder 3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0CAE69C3-4554-490D-9369-1775BA482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885204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easonal OOMC and RPRS Instruction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495252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a seasonal basis only the winter period contains a sizable number of OOMC and RPRS instructions which occur in the off-peak ho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3% of total instruction are still occurring during on-peak ho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imation of ramping hours would indicate 30% to 40% occurring during off-peak ho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4267080" y="9907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381880" cy="4343400"/>
          </a:xfrm>
          <a:prstGeom prst="rect">
            <a:avLst/>
          </a:prstGeom>
          <a:ln w="0">
            <a:noFill/>
          </a:ln>
        </p:spPr>
      </p:pic>
      <p:sp>
        <p:nvSpPr>
          <p:cNvPr id="64" name="Footer Placeholder 3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8A5C4113-DB20-41C8-B031-0B39F2D6E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885204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easonal OOMC and RPRS Instruction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495252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a seasonal basis only the spring period contains a sizable number of OOMC and RPRS instructions which occur in the off-peak ho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6% of total instruction are still occurring during on-peak ho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imation of ramping hours would indicate 15% to 20% occurring during off-peak ho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4267080" y="9907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4419360"/>
          </a:xfrm>
          <a:prstGeom prst="rect">
            <a:avLst/>
          </a:prstGeom>
          <a:ln w="0">
            <a:noFill/>
          </a:ln>
        </p:spPr>
      </p:pic>
      <p:sp>
        <p:nvSpPr>
          <p:cNvPr id="69" name="Footer Placeholder 3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59280DA8-704A-4A14-95C5-7CCC825A7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885204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easonal OOMC and RPRS Instruction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5028840"/>
            <a:ext cx="8547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a seasonal basis summer period OOMC and RPRS instructions occur predominately during the on-peak hou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8% of total instruction are occurring during on-peak hou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4114800" y="990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153280" cy="4343400"/>
          </a:xfrm>
          <a:prstGeom prst="rect">
            <a:avLst/>
          </a:prstGeom>
          <a:ln w="0">
            <a:noFill/>
          </a:ln>
        </p:spPr>
      </p:pic>
      <p:sp>
        <p:nvSpPr>
          <p:cNvPr id="74" name="Footer Placeholder 3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50724FEA-3B42-4354-8218-EC4409D6D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885204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easonal OOMC and RPRS Instruction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5028840"/>
            <a:ext cx="8547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a seasonal basis fall period OOMC and RPRS instructions occur predominately during the on-peak hou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% of total instruction are occurring during on-peak hou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4114800" y="990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925040" cy="3962520"/>
          </a:xfrm>
          <a:prstGeom prst="rect">
            <a:avLst/>
          </a:prstGeom>
          <a:ln w="0">
            <a:noFill/>
          </a:ln>
        </p:spPr>
      </p:pic>
      <p:sp>
        <p:nvSpPr>
          <p:cNvPr id="79" name="Footer Placeholder 3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463B9287-2F61-4144-A21F-1F3D3372F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948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onthly OOMC and RPRS Instruction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4952520"/>
            <a:ext cx="85471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a monthly basis only January, February and March contain a reasonable number of OOMC and RPRS instructions which occur in the off-peak ho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2% of total instruction in January are still occurring during on-peak ho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imation of ramping hours would indicate 40% to 50% occurring during off-peak hours in Janua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4114800" y="990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534520" cy="393696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3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7270971C-4E25-4D45-9CD8-8EABBEE0A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948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onthly OOMC and RPRS Instruction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5257800"/>
            <a:ext cx="8547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ough the summer months most OOMC and RPRS instructions occur during on-peak ho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% of total instruction in August are occurring during on-peak ho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4114800" y="990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7:49:24Z</dcterms:created>
  <dc:creator>Trip Doggett</dc:creator>
  <dc:description/>
  <dc:language>en-US</dc:language>
  <cp:lastModifiedBy>klandry</cp:lastModifiedBy>
  <dcterms:modified xsi:type="dcterms:W3CDTF">2010-01-19T19:56:47Z</dcterms:modified>
  <cp:revision>1217</cp:revision>
  <dc:subject/>
  <dc:title>TAC Update</dc:title>
</cp:coreProperties>
</file>