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4"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8"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A9A181-08E5-4F0A-BB0F-FA77F4285A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sldImg"/>
          </p:nvPr>
        </p:nvSpPr>
        <p:spPr>
          <a:xfrm>
            <a:off x="1143000" y="685800"/>
            <a:ext cx="4572000" cy="3429000"/>
          </a:xfrm>
          <a:prstGeom prst="rect">
            <a:avLst/>
          </a:prstGeom>
          <a:ln w="0">
            <a:noFill/>
          </a:ln>
        </p:spPr>
      </p:sp>
      <p:sp>
        <p:nvSpPr>
          <p:cNvPr id="6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do Competitive Constraints flow into Nodal systems (ERCOT deadline for getting into systems—nodal schedule) Recommend WMS ask TAC for  more details on sched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82353E-62DB-4414-8D3F-76514E7801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6840" y="274320"/>
            <a:ext cx="8381880" cy="1096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481F0A-7E6A-4E5C-82B1-56C99C53A8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6840" y="274320"/>
            <a:ext cx="8381880" cy="1096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83CC07-5A35-4EE6-8CC0-841BBCFE6E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8381880" cy="1096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9B4AAF-7F03-4C75-94BE-FFCDA14DC8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6840" y="274320"/>
            <a:ext cx="8381880" cy="1096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0A0B0A-AED3-4B02-BB5D-125E3447B1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6840" y="274320"/>
            <a:ext cx="8381880" cy="1096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1DFCA7-827D-4CD0-AC0D-106BD47020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6840" y="274320"/>
            <a:ext cx="8381880" cy="1096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3CD16C-76E5-4340-987A-76890DE8FB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8381880" cy="1096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619BC9-3823-4D89-8C14-8E0882A3A4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6840" y="274320"/>
            <a:ext cx="8381880" cy="5086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C640BC-FC5B-4D1C-A26C-B5BF6BC354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8381880" cy="1096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E0FF53-DCA5-4B9A-AB1F-BBFE740309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6840" y="274320"/>
            <a:ext cx="8381880" cy="1096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A7D918-86E8-4C29-A005-03580CC067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6840" y="274320"/>
            <a:ext cx="8381880" cy="1096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F6DF6C-E886-4C95-B3CA-606561E525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840" y="274320"/>
            <a:ext cx="8381880" cy="1096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2133720" y="6476760"/>
            <a:ext cx="914400" cy="152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DE68D0-4D2A-47D2-80A0-DD7B91307C2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
          <p:cNvSpPr/>
          <p:nvPr/>
        </p:nvSpPr>
        <p:spPr>
          <a:xfrm>
            <a:off x="0" y="152280"/>
            <a:ext cx="9144000" cy="0"/>
          </a:xfrm>
          <a:prstGeom prst="line">
            <a:avLst/>
          </a:prstGeom>
          <a:ln w="317520">
            <a:solidFill>
              <a:srgbClr val="d8512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http://oldercot.ercot.com/ercotPublicWeb/Message/MessageSearch.asp" TargetMode="External"/><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gestion Management Work Group Update</a:t>
            </a:r>
            <a:endParaRPr b="0" lang="en-US" sz="4400" spc="-1" strike="noStrike">
              <a:solidFill>
                <a:srgbClr val="000000"/>
              </a:solidFill>
              <a:latin typeface="Arial"/>
            </a:endParaRPr>
          </a:p>
        </p:txBody>
      </p:sp>
      <p:sp>
        <p:nvSpPr>
          <p:cNvPr id="50" name="PlaceHolder 2"/>
          <p:cNvSpPr>
            <a:spLocks noGrp="1"/>
          </p:cNvSpPr>
          <p:nvPr>
            <p:ph type="subTitle"/>
          </p:nvPr>
        </p:nvSpPr>
        <p:spPr>
          <a:xfrm>
            <a:off x="1371600" y="3885840"/>
            <a:ext cx="6400800" cy="2133720"/>
          </a:xfrm>
          <a:prstGeom prst="rect">
            <a:avLst/>
          </a:prstGeom>
          <a:noFill/>
          <a:ln w="0">
            <a:noFill/>
          </a:ln>
        </p:spPr>
        <p:txBody>
          <a:bodyPr lIns="90000" rIns="90000" tIns="46800" bIns="46800"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MS 1-20-10</a:t>
            </a: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Flores—ERCOT</a:t>
            </a:r>
            <a:endParaRPr b="0" lang="en-US" sz="18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 Wagner--PSEG TX</a:t>
            </a:r>
            <a:endParaRPr b="0" lang="en-US" sz="1800" spc="-1" strike="noStrike">
              <a:solidFill>
                <a:srgbClr val="000000"/>
              </a:solidFill>
              <a:latin typeface="Arial"/>
            </a:endParaRPr>
          </a:p>
        </p:txBody>
      </p:sp>
      <p:sp>
        <p:nvSpPr>
          <p:cNvPr id="51" name=""/>
          <p:cNvSpPr/>
          <p:nvPr/>
        </p:nvSpPr>
        <p:spPr>
          <a:xfrm>
            <a:off x="0" y="1709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6840" y="274320"/>
            <a:ext cx="8381880" cy="1096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MWG Met 1/12/10</a:t>
            </a:r>
            <a:endParaRPr b="0" lang="en-US" sz="4400" spc="-1" strike="noStrike">
              <a:solidFill>
                <a:srgbClr val="000000"/>
              </a:solidFill>
              <a:latin typeface="Arial"/>
            </a:endParaRPr>
          </a:p>
        </p:txBody>
      </p:sp>
      <p:sp>
        <p:nvSpPr>
          <p:cNvPr id="53" name="PlaceHolder 2"/>
          <p:cNvSpPr>
            <a:spLocks noGrp="1"/>
          </p:cNvSpPr>
          <p:nvPr>
            <p:ph/>
          </p:nvPr>
        </p:nvSpPr>
        <p:spPr>
          <a:xfrm>
            <a:off x="304560" y="1294920"/>
            <a:ext cx="8839080" cy="5257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MWG Recommends as Chair/Vice Chair</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rguerite Wagner – PSEG TX (Chai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ric Goff – Reliant Energy (Vice-Chai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010 Goal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perational Insigh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AP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etitive Constraint Tes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0" y="274680"/>
            <a:ext cx="91440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Arial"/>
              </a:rPr>
              <a:t>2010 Draft Goals (for WMS Consideration)</a:t>
            </a:r>
            <a:endParaRPr b="0" lang="en-US" sz="3700" spc="-1" strike="noStrike">
              <a:solidFill>
                <a:srgbClr val="000000"/>
              </a:solidFill>
              <a:latin typeface="Arial"/>
            </a:endParaRPr>
          </a:p>
        </p:txBody>
      </p:sp>
      <p:sp>
        <p:nvSpPr>
          <p:cNvPr id="55" name="PlaceHolder 2"/>
          <p:cNvSpPr>
            <a:spLocks noGrp="1"/>
          </p:cNvSpPr>
          <p:nvPr>
            <p:ph/>
          </p:nvPr>
        </p:nvSpPr>
        <p:spPr>
          <a:xfrm>
            <a:off x="152280" y="1218960"/>
            <a:ext cx="8839440" cy="55623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dal Competitive Constraint Test</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commendation to WMS (goal) by April on Competitive Constraints for use in 168 hour testing based on information from ERCOT</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iew results of competitive constraints from 168 hour test data to make recommendation for go live</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iew ERCOT business processes for daily/monthly determination of Competitive Constraints</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 Contingency Action Plans </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arification of ERCOT procedures to use for reliability only</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ification process from ERCOT for when in/out of service in RT</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recommend Approval process for PCAPs (similar to SP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 of PCAPs/dates/use/reason—reported or posted</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11 CSCs</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w?</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inue with Existing?</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s mappings for Load Zones for Nodal—who is doing this—ERCOT, NATF, CMWG?</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360" y="151920"/>
            <a:ext cx="8381880" cy="1096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perational Insights</a:t>
            </a:r>
            <a:endParaRPr b="0" lang="en-US" sz="4400" spc="-1" strike="noStrike">
              <a:solidFill>
                <a:srgbClr val="000000"/>
              </a:solidFill>
              <a:latin typeface="Arial"/>
            </a:endParaRPr>
          </a:p>
        </p:txBody>
      </p:sp>
      <p:sp>
        <p:nvSpPr>
          <p:cNvPr id="57" name="PlaceHolder 2"/>
          <p:cNvSpPr>
            <a:spLocks noGrp="1"/>
          </p:cNvSpPr>
          <p:nvPr>
            <p:ph/>
          </p:nvPr>
        </p:nvSpPr>
        <p:spPr>
          <a:xfrm>
            <a:off x="228240" y="1218960"/>
            <a:ext cx="8534520" cy="51814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oltage issues at Kendall</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lated to N</a:t>
            </a:r>
            <a:r>
              <a:rPr b="0" lang="en-US" sz="2800" spc="-1" strike="noStrike">
                <a:solidFill>
                  <a:srgbClr val="000000"/>
                </a:solidFill>
                <a:latin typeface="Wingdings"/>
                <a:ea typeface="Wingdings"/>
              </a:rPr>
              <a:t></a:t>
            </a:r>
            <a:r>
              <a:rPr b="0" lang="en-US" sz="2800" spc="-1" strike="noStrike">
                <a:solidFill>
                  <a:srgbClr val="000000"/>
                </a:solidFill>
                <a:latin typeface="Arial"/>
              </a:rPr>
              <a:t>H constraint?</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COT notes that likely these are not related and issues of 1/11/10 were a learning process</a:t>
            </a:r>
            <a:endParaRPr b="0" lang="en-US" sz="24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ation of Yellow Jacket Phase Shifter</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MWG questions about how ERCOT operates in conjunction with Transmission Owner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as to become effective 1-15-10</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6840" y="274680"/>
            <a:ext cx="838188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Contingency Action Plans</a:t>
            </a:r>
            <a:endParaRPr b="0" lang="en-US" sz="4400" spc="-1" strike="noStrike">
              <a:solidFill>
                <a:srgbClr val="000000"/>
              </a:solidFill>
              <a:latin typeface="Arial"/>
            </a:endParaRPr>
          </a:p>
        </p:txBody>
      </p:sp>
      <p:sp>
        <p:nvSpPr>
          <p:cNvPr id="59" name="PlaceHolder 2"/>
          <p:cNvSpPr>
            <a:spLocks noGrp="1"/>
          </p:cNvSpPr>
          <p:nvPr>
            <p:ph/>
          </p:nvPr>
        </p:nvSpPr>
        <p:spPr>
          <a:xfrm>
            <a:off x="304560" y="1295280"/>
            <a:ext cx="8305560" cy="5029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RCOT committed to check on posting use of PCAPs in Real Time</a:t>
            </a:r>
            <a:endParaRPr b="0" lang="en-US" sz="2800" spc="-1" strike="noStrike">
              <a:solidFill>
                <a:srgbClr val="000000"/>
              </a:solidFill>
              <a:latin typeface="Arial"/>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idea was to post at:  </a:t>
            </a:r>
            <a:r>
              <a:rPr b="0" lang="en-US" sz="2400" spc="-1" strike="noStrike" u="sng">
                <a:solidFill>
                  <a:srgbClr val="009999"/>
                </a:solidFill>
                <a:uFillTx/>
                <a:latin typeface="Arial"/>
                <a:hlinkClick r:id="rId1"/>
              </a:rPr>
              <a:t>http://oldercot.ercot.com/ercotPublicWeb/Message/MessageSearch.asp</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ould enable posting in RT and not require system changes</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MWG recommends that ERCOT also keep a list of PCAP date/use/reason (this could become part of monthly Operations Report to RO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MWG volunteers to work on PCAP approval process modeled after SPS process—docs will go to CMWG/RPG for consideration/review</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76320" y="304560"/>
            <a:ext cx="899136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ompetitive Constraint Test</a:t>
            </a:r>
            <a:endParaRPr b="0" lang="en-US" sz="4200" spc="-1" strike="noStrike">
              <a:solidFill>
                <a:srgbClr val="000000"/>
              </a:solidFill>
              <a:latin typeface="Arial"/>
            </a:endParaRPr>
          </a:p>
        </p:txBody>
      </p:sp>
      <p:sp>
        <p:nvSpPr>
          <p:cNvPr id="61" name="PlaceHolder 2"/>
          <p:cNvSpPr>
            <a:spLocks noGrp="1"/>
          </p:cNvSpPr>
          <p:nvPr>
            <p:ph/>
          </p:nvPr>
        </p:nvSpPr>
        <p:spPr>
          <a:xfrm>
            <a:off x="-360" y="1219320"/>
            <a:ext cx="8991720" cy="5029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MWG worked through questions from ERCOT.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ual Competitive Constraint Process—thought is to mimic existing CSC process. CMWG to work with ERCOT and make recommendation to WM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nthly Competitive Constraint Process</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dal Protocols appear to allow for ERCOT to recommend monthly changes of status of Competitive Constraint (as noncompetitive) directly to TAC (CMWG agreed)</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monthly process, ERCOT has to determine status of constraints in time for monthly CRR auctions—so will occur approximately 2 months ahead of effective month</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TAC later determines not working can revise process</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ual CCT for 2011—ERCOT to write NPRR to clarify that SSWG base case will be used instead of annual CRR auction model (as there will be no annual CRR auction for 2011)</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274320"/>
            <a:ext cx="8381880" cy="1096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xt meeting _________</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discuss PCAPs, CC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18T14:19:45Z</dcterms:created>
  <dc:creator>PSEG TX </dc:creator>
  <dc:description/>
  <dc:language>en-US</dc:language>
  <cp:lastModifiedBy>klandry</cp:lastModifiedBy>
  <dcterms:modified xsi:type="dcterms:W3CDTF">2010-01-13T21:45:33Z</dcterms:modified>
  <cp:revision>80</cp:revision>
  <dc:subject/>
  <dc:title>Congestion Management Work Group Update</dc:title>
</cp:coreProperties>
</file>