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380-24A2-4129-A482-77D9A2FA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F60D-C932-45B6-9498-20926F58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7A99-F513-4FA3-99A1-80FA1785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B563-6073-4B51-9B78-707E985F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F26-96C2-4432-8803-F0CA2388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086C-3FB1-4D9D-8EF0-63057129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6845-E8DA-475B-B37B-AB53F649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738-87BE-4FC1-8C75-E6F58147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8191-F8AB-4EEF-8F0D-FCF6B51C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77D0-FD65-43D6-A263-7FE60F68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C903-FD27-459D-9A92-5C272DAE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0A3B-E26E-4F2B-B3CA-07847B40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F027-FB38-4613-9F63-CBD870F30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CREZ Uniq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GW of intermittent generation when ERCOT load is less than 30 G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miles of 345 kV circuits with power flow swings from less than 10% to over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GVars of reactive power imbalance swings from min to max ex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cycle clearing to avoid tripping up to 5 GW of Panhandle wind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TSPs coordinating operation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/ CREZ OGR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DD48-53ED-4726-A4AA-8BD8640225D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4/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Challeng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we learn to manage these extraordinary demands on the gri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ne year, the cost of spilled wind energy (1% of curtailment ~$20M) could pay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cost of the advanced systems (2000 miles of OPGW ~$20M) that would maximize delivered producti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the application of Smart-grid technology such as Synchrophasor, it will not be possible to actively and instantaneously manage reactive and real power f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CREZ wind hubs due to a disturbance during high wind periods may push ERCOT into under-frequency load 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/ CREZ OGR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58D4-B4BC-4842-9CF6-BC390E73533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4/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Opportunit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er Optic backbone via Optical Ground Wire (OPGW) can provide communication that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speed / high-bandwidth – allows for multiple protocols to reside on sam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healing / looped – allows for the configuration of primary and secondary communications on the same 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real-time high-speed control via Wide Are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ing management of voltage profile / power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ding to sub-synchronous interactions / small signal power s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current differential protection, which is immune to the effects of mutual coupling, series capacitors, and power s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/ CREZ OGR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040-4DE8-44ED-AF0F-45DAAA2D60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4/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681120"/>
            <a:ext cx="9144000" cy="5649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296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5709"/>
                </a:solidFill>
                <a:latin typeface="Arial"/>
              </a:rPr>
              <a:t>Potential Communication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9813800">
            <a:off x="3378240" y="3913200"/>
            <a:ext cx="1143000" cy="1384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384200"/>
              <a:gd name="textAreaBottom" fmla="*/ 1384560 h 1384200"/>
            </a:gdLst>
            <a:ahLst/>
            <a:rect l="textAreaLeft" t="textAreaTop" r="textAreaRight" b="textAreaBottom"/>
            <a:pathLst>
              <a:path w="21600" h="21600">
                <a:moveTo>
                  <a:pt x="19029" y="6544"/>
                </a:moveTo>
                <a:arcTo wR="-9264" hR="-9264" stAng="-1640868" swAng="-19959132"/>
                <a:lnTo>
                  <a:pt x="0" y="10800"/>
                </a:lnTo>
                <a:arcTo wR="10800" hR="10800" stAng="10800000" swAng="19959132"/>
                <a:lnTo>
                  <a:pt x="-1191" y="17002"/>
                </a:lnTo>
                <a:lnTo>
                  <a:pt x="296" y="12328"/>
                </a:lnTo>
                <a:lnTo>
                  <a:pt x="4970" y="13815"/>
                </a:lnTo>
                <a:close/>
              </a:path>
            </a:pathLst>
          </a:custGeom>
          <a:solidFill>
            <a:srgbClr val="0deb18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4559400">
            <a:off x="4389120" y="3006360"/>
            <a:ext cx="970200" cy="1522440"/>
          </a:xfrm>
          <a:custGeom>
            <a:avLst/>
            <a:gdLst>
              <a:gd name="textAreaLeft" fmla="*/ 0 w 970200"/>
              <a:gd name="textAreaRight" fmla="*/ 970560 w 970200"/>
              <a:gd name="textAreaTop" fmla="*/ 0 h 1522440"/>
              <a:gd name="textAreaBottom" fmla="*/ 1522800 h 1522440"/>
            </a:gdLst>
            <a:ahLst/>
            <a:rect l="textAreaLeft" t="textAreaTop" r="textAreaRight" b="textAreaBottom"/>
            <a:pathLst>
              <a:path w="21600" h="21600">
                <a:moveTo>
                  <a:pt x="19029" y="6544"/>
                </a:moveTo>
                <a:arcTo wR="-9264" hR="-9264" stAng="-1640868" swAng="-19959132"/>
                <a:lnTo>
                  <a:pt x="0" y="10800"/>
                </a:lnTo>
                <a:arcTo wR="10800" hR="10800" stAng="10800000" swAng="19959132"/>
                <a:lnTo>
                  <a:pt x="-1191" y="17002"/>
                </a:lnTo>
                <a:lnTo>
                  <a:pt x="296" y="12328"/>
                </a:lnTo>
                <a:lnTo>
                  <a:pt x="4970" y="13815"/>
                </a:lnTo>
                <a:close/>
              </a:path>
            </a:pathLst>
          </a:custGeom>
          <a:solidFill>
            <a:srgbClr val="0deb18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433400">
            <a:off x="4370040" y="2207880"/>
            <a:ext cx="1609560" cy="1004760"/>
          </a:xfrm>
          <a:custGeom>
            <a:avLst/>
            <a:gdLst>
              <a:gd name="textAreaLeft" fmla="*/ 0 w 1609560"/>
              <a:gd name="textAreaRight" fmla="*/ 1609920 w 160956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21600" h="21600">
                <a:moveTo>
                  <a:pt x="19029" y="6544"/>
                </a:moveTo>
                <a:arcTo wR="-9264" hR="-9264" stAng="-1640868" swAng="-19959132"/>
                <a:lnTo>
                  <a:pt x="0" y="10800"/>
                </a:lnTo>
                <a:arcTo wR="10800" hR="10800" stAng="10800000" swAng="19959132"/>
                <a:lnTo>
                  <a:pt x="-1191" y="17002"/>
                </a:lnTo>
                <a:lnTo>
                  <a:pt x="296" y="12328"/>
                </a:lnTo>
                <a:lnTo>
                  <a:pt x="4970" y="13815"/>
                </a:lnTo>
                <a:close/>
              </a:path>
            </a:pathLst>
          </a:custGeom>
          <a:solidFill>
            <a:srgbClr val="0deb18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092800">
            <a:off x="4108320" y="939600"/>
            <a:ext cx="768600" cy="1525320"/>
          </a:xfrm>
          <a:custGeom>
            <a:avLst/>
            <a:gdLst>
              <a:gd name="textAreaLeft" fmla="*/ 0 w 768600"/>
              <a:gd name="textAreaRight" fmla="*/ 768960 w 768600"/>
              <a:gd name="textAreaTop" fmla="*/ 0 h 1525320"/>
              <a:gd name="textAreaBottom" fmla="*/ 1525680 h 1525320"/>
            </a:gdLst>
            <a:ahLst/>
            <a:rect l="textAreaLeft" t="textAreaTop" r="textAreaRight" b="textAreaBottom"/>
            <a:pathLst>
              <a:path w="21600" h="21600">
                <a:moveTo>
                  <a:pt x="19029" y="6544"/>
                </a:moveTo>
                <a:arcTo wR="-9264" hR="-9264" stAng="-1640868" swAng="-19959132"/>
                <a:lnTo>
                  <a:pt x="0" y="10800"/>
                </a:lnTo>
                <a:arcTo wR="10800" hR="10800" stAng="10800000" swAng="19959132"/>
                <a:lnTo>
                  <a:pt x="-1191" y="17002"/>
                </a:lnTo>
                <a:lnTo>
                  <a:pt x="296" y="12328"/>
                </a:lnTo>
                <a:lnTo>
                  <a:pt x="4970" y="13815"/>
                </a:lnTo>
                <a:close/>
              </a:path>
            </a:pathLst>
          </a:custGeom>
          <a:solidFill>
            <a:srgbClr val="0deb18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48160" y="1311120"/>
            <a:ext cx="512640" cy="498600"/>
          </a:xfrm>
          <a:custGeom>
            <a:avLst/>
            <a:gdLst>
              <a:gd name="textAreaLeft" fmla="*/ 0 w 512640"/>
              <a:gd name="textAreaRight" fmla="*/ 513000 w 51264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21600" h="21600">
                <a:moveTo>
                  <a:pt x="19029" y="6544"/>
                </a:moveTo>
                <a:arcTo wR="-9264" hR="-9264" stAng="-1640868" swAng="-19959132"/>
                <a:lnTo>
                  <a:pt x="0" y="10800"/>
                </a:lnTo>
                <a:arcTo wR="10800" hR="10800" stAng="10800000" swAng="19959132"/>
                <a:lnTo>
                  <a:pt x="-1191" y="17002"/>
                </a:lnTo>
                <a:lnTo>
                  <a:pt x="296" y="12328"/>
                </a:lnTo>
                <a:lnTo>
                  <a:pt x="4970" y="13815"/>
                </a:lnTo>
                <a:close/>
              </a:path>
            </a:pathLst>
          </a:custGeom>
          <a:solidFill>
            <a:srgbClr val="0deb18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389800">
            <a:off x="4524480" y="4427280"/>
            <a:ext cx="2109600" cy="1154160"/>
          </a:xfrm>
          <a:custGeom>
            <a:avLst/>
            <a:gdLst>
              <a:gd name="textAreaLeft" fmla="*/ 0 w 2109600"/>
              <a:gd name="textAreaRight" fmla="*/ 2109960 w 210960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21600" h="21600">
                <a:moveTo>
                  <a:pt x="19029" y="6544"/>
                </a:moveTo>
                <a:arcTo wR="-9264" hR="-9264" stAng="-1640868" swAng="-19959132"/>
                <a:lnTo>
                  <a:pt x="0" y="10800"/>
                </a:lnTo>
                <a:arcTo wR="10800" hR="10800" stAng="10800000" swAng="19959132"/>
                <a:lnTo>
                  <a:pt x="-1191" y="17002"/>
                </a:lnTo>
                <a:lnTo>
                  <a:pt x="296" y="12328"/>
                </a:lnTo>
                <a:lnTo>
                  <a:pt x="4970" y="13815"/>
                </a:lnTo>
                <a:close/>
              </a:path>
            </a:pathLst>
          </a:custGeom>
          <a:solidFill>
            <a:srgbClr val="0deb18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/ CREZ OGR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4ED1-14CA-4997-8737-AEAAA9AAA48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4/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s to Hap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Guide Revision Request (OGRR) seeks to set minimum requirement for CREZ system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ndancy as it relates to NERC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ion standard for EHV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e for high speed/bandwidth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P specific evaluation of cost / bene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evaluation of potential reduction in spilled wind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Reactive Study to determine clearing time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comparison of production cost savings and other benefits verses the incremental cost of OPG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fit quantification of instantaneous system observability, and high speed remedial ac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tion of ancillary benefits from high speed/bandwidth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/ CREZ OGR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F41-2CB0-4E23-AA5F-DD9882580F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4/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20:49:56Z</dcterms:created>
  <dc:creator>Hassink</dc:creator>
  <dc:description/>
  <dc:language>en-US</dc:language>
  <cp:lastModifiedBy>Hassink</cp:lastModifiedBy>
  <dcterms:modified xsi:type="dcterms:W3CDTF">2010-01-13T00:49:06Z</dcterms:modified>
  <cp:revision>13</cp:revision>
  <dc:subject/>
  <dc:title>Slide 1</dc:title>
</cp:coreProperties>
</file>