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F6A-2561-4BFB-B18F-90C021E6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223-DBDF-4590-B6FB-967B3F7E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A61-3348-4FEB-B9E7-44A22977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7E6-0470-4C66-8DDA-EE36B571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E14-D161-49FC-83A4-FCA68BD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D6E-58AF-4F3E-AC89-130FFF30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542-6859-4E9A-BDDE-FAF0AEB5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A4A-3050-4BEA-8290-D4373250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ABC-25D7-4BEB-849D-85D68CFF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4BF-FCB1-4869-BB3F-A487E731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AD1-1805-4B64-A92B-969989B0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02B-EF38-45BD-8CD8-C4EBC2B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EC2F-BB12-45B2-ACF8-F976DD2B4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SCR 758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ments to the Proposed Transmission Outage Report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S Jan 2010 m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a “SCR 753 - part 2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 753 added three fields of info to the public lis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mission ou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SCR 758 will add these same three fields of info to the public list of transmission outag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iting appro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46280" y="4343400"/>
            <a:ext cx="36734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both “approved” &amp; “proposed” transmission outage postings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7680" y="5029200"/>
            <a:ext cx="73850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“approved/planned” transmission outag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e first three columns (OutageID, DatePosted, &amp; LastUpd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were added via SCR 75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5867280"/>
            <a:ext cx="8001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“proposed” transmission outag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58 asks that those same three columns be added to this po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5:34:55Z</dcterms:created>
  <dc:creator>mgarrett</dc:creator>
  <dc:description/>
  <dc:language>en-US</dc:language>
  <cp:lastModifiedBy>mgarrett</cp:lastModifiedBy>
  <dcterms:modified xsi:type="dcterms:W3CDTF">2010-01-06T15:55:03Z</dcterms:modified>
  <cp:revision>4</cp:revision>
  <dc:subject/>
  <dc:title>Proposed SCR 758 ROS Jan 2010 mtg</dc:title>
</cp:coreProperties>
</file>