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C65-64AF-4502-A108-E4F75D3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576-6110-4BCC-B4F4-40510ED2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F32-7723-4E7A-983A-9E0CA65C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740-22D4-414A-9FFA-28FDB266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B9D-F03E-49C9-B33C-81364F99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C82-F2E5-401F-8834-306B5E6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A65-E8EC-44D0-868A-5DACBB5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B24-E4D1-4344-8A18-CDB35A3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B29-442F-4BA1-BA82-60E0C82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2D4-1322-4472-AC1F-313B66D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772-BC43-405C-9C13-92304A3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827-2659-46AC-ACF6-2B06582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DA2-FC49-4118-B8CC-1F5A0EAD4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31284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960" y="2318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7960" y="20304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7960" y="208080"/>
            <a:ext cx="8668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668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677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7960" y="169920"/>
            <a:ext cx="866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3760" y="193680"/>
            <a:ext cx="91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eet January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December disturb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withdrawal of Primary Frequency Response observed on 3 events in December.  See last slide for an example.  This is a concern for Nodal Operation and the difference in RRS deployment from Zonal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Guide and Protocol synch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rocedure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frequency profile during breaker open disturbances for timing of DER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Frequency RMS1 2009 analysis.  Box plot analysis added to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February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53496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58572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53496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53496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585720"/>
            <a:ext cx="85341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6320" y="206280"/>
            <a:ext cx="7191360" cy="644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32767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1676520"/>
            <a:ext cx="2362320" cy="916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withdrawal of Primary Frequency Respon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257440" y="251460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429000"/>
            <a:ext cx="2057400" cy="165240"/>
          </a:xfrm>
          <a:custGeom>
            <a:avLst/>
            <a:gdLst/>
            <a:ahLst/>
            <a:rect l="l" t="t" r="r" b="b"/>
            <a:pathLst>
              <a:path w="1296" h="104">
                <a:moveTo>
                  <a:pt x="0" y="0"/>
                </a:moveTo>
                <a:cubicBezTo>
                  <a:pt x="60" y="48"/>
                  <a:pt x="120" y="96"/>
                  <a:pt x="192" y="96"/>
                </a:cubicBezTo>
                <a:cubicBezTo>
                  <a:pt x="264" y="96"/>
                  <a:pt x="352" y="0"/>
                  <a:pt x="432" y="0"/>
                </a:cubicBezTo>
                <a:cubicBezTo>
                  <a:pt x="512" y="0"/>
                  <a:pt x="592" y="88"/>
                  <a:pt x="672" y="96"/>
                </a:cubicBezTo>
                <a:cubicBezTo>
                  <a:pt x="752" y="104"/>
                  <a:pt x="808" y="56"/>
                  <a:pt x="912" y="48"/>
                </a:cubicBezTo>
                <a:cubicBezTo>
                  <a:pt x="1016" y="40"/>
                  <a:pt x="1232" y="48"/>
                  <a:pt x="12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666880"/>
            <a:ext cx="2438280" cy="642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ed Primary Frequency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28954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4648320"/>
            <a:ext cx="2971800" cy="916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withdrawal of Primary Frequency Response will contribute to grid ins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7.6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6477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nofficial CPS1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33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039240" cy="595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6477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nofficial CPS2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57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20124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3280" y="515880"/>
            <a:ext cx="8677440" cy="582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1.0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7524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6477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nofficial CPS1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5080" y="473040"/>
            <a:ext cx="8673840" cy="591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143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.92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13716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Unofficial CPS2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10-01-08T19:32:16Z</dcterms:modified>
  <cp:revision>45</cp:revision>
  <dc:subject/>
  <dc:title>Slide 1</dc:title>
</cp:coreProperties>
</file>