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9.png" ContentType="image/png"/>
  <Override PartName="/ppt/media/image34.png" ContentType="image/png"/>
  <Override PartName="/ppt/media/image1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98FB-87DC-4D89-997F-C1E221D8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63A9-7E29-4F63-9661-606864B6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40F2-AF60-41D2-B2ED-2460EBED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2948-D8C1-4A58-8E81-7C48FA7F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29B4-62A2-413C-B53C-D7C77072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391D-F933-4D98-AB26-E8ABF50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C458-8102-4D3C-990E-2C0803EE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396-8AE8-482C-9115-373ED1E5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A3BF-A572-4912-A6E2-395A393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6179-84F4-44D2-9F68-313F1F0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5DAF-7000-4DD5-9E01-ACEC2C3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57DD-7198-47C3-ACF7-7A70A9E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1B43-4362-4D36-84DD-A5BCD14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14F9-AF9F-48DC-B17D-58DA15A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867-4EDE-4FC7-A0D3-3C9FBD77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63C2-C2E6-4B90-9CCE-707025EC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4371-83A6-4293-8736-85F9B47B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35A3-F428-4655-A00C-6C69ED0F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BFC3-A390-49A2-A1C2-D502C98B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580C-193F-4D8C-A8EB-3864A71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1717-C532-468C-B505-7C895FC1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296D-C0A3-4160-952D-D2F61FC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BBCD-F692-4368-BD89-7BF68BF8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268A-9600-4075-A722-9AD6811D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8EEF-613F-4465-8BF3-3FA1D7E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7709-AD1B-487E-94C8-1348C42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9C83-9CDF-4A44-9175-E34FE7B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DD94-8A1F-4D5B-A870-FA9B4FBF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9885-E18F-4787-9EBD-3B2F861B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4ED9-F29C-4FF4-8751-013E5086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7B4B-30AD-4810-A7A5-33EA1EC8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5BA9-759B-4C4A-BF69-FCAE9FAF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F9F0-3FBF-4D48-A066-84E12F81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AD1B-6F4A-4828-87C5-A329D23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DAAD-D858-4B88-BA93-AEE88B8B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A2ED-1181-465A-ADD0-13480534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B6EC-2190-4058-865F-2E32A4F55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FAFF-17DE-4B48-92D0-DEF962655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751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4d74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264d74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264d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264d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05F4-D930-4559-AA4C-2B751444F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43504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4d74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264d74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0"/>
          </p:nvPr>
        </p:nvSpPr>
        <p:spPr>
          <a:xfrm>
            <a:off x="228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hyperlink" Target="http://www.ni.com/" TargetMode="External"/><Relationship Id="rId7" Type="http://schemas.openxmlformats.org/officeDocument/2006/relationships/image" Target="../media/image12.png"/><Relationship Id="rId8" Type="http://schemas.openxmlformats.org/officeDocument/2006/relationships/hyperlink" Target="http://www.electricitytexas.com/txu/index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www.gridpoint.com/" TargetMode="External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hyperlink" Target="http://www.oncor.com/" TargetMode="External"/><Relationship Id="rId14" Type="http://schemas.openxmlformats.org/officeDocument/2006/relationships/image" Target="../media/image16.png"/><Relationship Id="rId15" Type="http://schemas.openxmlformats.org/officeDocument/2006/relationships/hyperlink" Target="http://www.comverge.com/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www.electricitytexas.com/reliant/index.html" TargetMode="External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hyperlink" Target="http://www.lcra.org/index.html" TargetMode="External"/><Relationship Id="rId26" Type="http://schemas.openxmlformats.org/officeDocument/2006/relationships/image" Target="../media/image25.png"/><Relationship Id="rId27" Type="http://schemas.openxmlformats.org/officeDocument/2006/relationships/hyperlink" Target="http://www.energyxtreme.net/main/" TargetMode="External"/><Relationship Id="rId28" Type="http://schemas.openxmlformats.org/officeDocument/2006/relationships/image" Target="../media/image26.jpeg"/><Relationship Id="rId29" Type="http://schemas.openxmlformats.org/officeDocument/2006/relationships/hyperlink" Target="http://www.swri.org/" TargetMode="External"/><Relationship Id="rId30" Type="http://schemas.openxmlformats.org/officeDocument/2006/relationships/image" Target="../media/image27.png"/><Relationship Id="rId3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208160" y="5870520"/>
            <a:ext cx="1095480" cy="533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14600" y="5943600"/>
            <a:ext cx="1913040" cy="484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5" descr="doe color"/>
          <p:cNvPicPr/>
          <p:nvPr/>
        </p:nvPicPr>
        <p:blipFill>
          <a:blip r:embed="rId3"/>
          <a:stretch/>
        </p:blipFill>
        <p:spPr>
          <a:xfrm>
            <a:off x="6953400" y="5792760"/>
            <a:ext cx="7538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465800" y="5897520"/>
            <a:ext cx="2363760" cy="49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4648320"/>
            <a:ext cx="7696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ilton Holloway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esident &amp; CO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enter for the Commercialization of Electric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219320"/>
            <a:ext cx="6858000" cy="29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Synchrophasor Developments for the ERCOT Grid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A Cooperative Effort of CCET ERCOT &amp; D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Presented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ERCOT Reliability and Operations Subcommittee (R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January 14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CET received DOE award for our proposal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ward Number:  DE-OE000019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of Performance:  01/04/2010 through 01/03/20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 of Award: </a:t>
            </a: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Cooperative Agre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ward Amount: $27,419,4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84080" indent="-301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DOE Share:  $13,516,54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84080" indent="-301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 Share:   $13,902,87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ligation: All funds are obligated with some phased spending restri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ynchrophasor Goals of this Collabor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vance the application of synchrophasors within ERC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ablish a basic phasor measurement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re applications for ERCOT and Transmission Own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olve a “roadmap” for ERCOT and stakehol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ing results to support definitive plans &amp; appl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 universities – education &amp; 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?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CET Contac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lton Holloway, Ph.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sident &amp; CO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Holloway@ElectricTechnologyCenter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electrictechnologycenter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12.472.38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Update on the Evolution of Synchrophasor Applications for ERCO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S was last updated on February 12,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exas Phasor Project: ERCOT Reliability and Operations Subcommittee (ROS), February 12, 20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ities started or completed since th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DMS Developmen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PMUs to stream data to ERCOT -- 3 AEP in place, 4 Oncor ready, 2 Sharyland planned 2011, 2012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f: Tim Mortensen, Advanced Network Applications, ERCO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SPI Meeting Host (CCET/ERCOT/UT)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in Austin February 24-25, 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E Stimulus Gra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TDMS = Real Time Dynamics Monitoring 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o is CCET?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Texas Non-Profit (22 members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481120"/>
            <a:ext cx="1447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181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Center for the Commercialization of Electric Technologies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brings together electric utilities, university researchers and high-tech companies to find technology solutions to challenges facing the electric power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481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High-Te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Compan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aep_logoHome[1]"/>
          <p:cNvPicPr/>
          <p:nvPr/>
        </p:nvPicPr>
        <p:blipFill>
          <a:blip r:embed="rId1"/>
          <a:stretch/>
        </p:blipFill>
        <p:spPr>
          <a:xfrm>
            <a:off x="609480" y="1371600"/>
            <a:ext cx="1067040" cy="754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np_logo[1]"/>
          <p:cNvPicPr/>
          <p:nvPr/>
        </p:nvPicPr>
        <p:blipFill>
          <a:blip r:embed="rId2"/>
          <a:stretch/>
        </p:blipFill>
        <p:spPr>
          <a:xfrm>
            <a:off x="3124080" y="1547640"/>
            <a:ext cx="1143000" cy="525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logo_angle[1]"/>
          <p:cNvPicPr/>
          <p:nvPr/>
        </p:nvPicPr>
        <p:blipFill>
          <a:blip r:embed="rId3"/>
          <a:stretch/>
        </p:blipFill>
        <p:spPr>
          <a:xfrm>
            <a:off x="1828800" y="4038480"/>
            <a:ext cx="1752480" cy="422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txcee"/>
          <p:cNvPicPr/>
          <p:nvPr/>
        </p:nvPicPr>
        <p:blipFill>
          <a:blip r:embed="rId4"/>
          <a:stretch/>
        </p:blipFill>
        <p:spPr>
          <a:xfrm>
            <a:off x="380880" y="4191120"/>
            <a:ext cx="738360" cy="838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5"/>
          <a:stretch/>
        </p:blipFill>
        <p:spPr>
          <a:xfrm>
            <a:off x="6019920" y="2209680"/>
            <a:ext cx="1066680" cy="71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NI Hom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10280" y="3048120"/>
            <a:ext cx="1295640" cy="52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75-logo-tx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0120" y="2286000"/>
            <a:ext cx="914400" cy="461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GridPoin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4343400"/>
            <a:ext cx="1676520" cy="374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logo_footer_reg"/>
          <p:cNvPicPr/>
          <p:nvPr/>
        </p:nvPicPr>
        <p:blipFill>
          <a:blip r:embed="rId12"/>
          <a:stretch/>
        </p:blipFill>
        <p:spPr>
          <a:xfrm>
            <a:off x="4114800" y="2362320"/>
            <a:ext cx="1447920" cy="47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Oncor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81080" y="1523880"/>
            <a:ext cx="800280" cy="5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logo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743200" y="3200400"/>
            <a:ext cx="1905120" cy="52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1" descr="Reliant Energy In Texas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590920" y="23623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"/>
          <p:cNvPicPr/>
          <p:nvPr/>
        </p:nvPicPr>
        <p:blipFill>
          <a:blip r:embed="rId19"/>
          <a:stretch/>
        </p:blipFill>
        <p:spPr>
          <a:xfrm>
            <a:off x="7746840" y="3886200"/>
            <a:ext cx="1397160" cy="6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8" descr=""/>
          <p:cNvPicPr/>
          <p:nvPr/>
        </p:nvPicPr>
        <p:blipFill>
          <a:blip r:embed="rId20"/>
          <a:stretch/>
        </p:blipFill>
        <p:spPr>
          <a:xfrm>
            <a:off x="3886200" y="3962520"/>
            <a:ext cx="1884240" cy="718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9" descr=""/>
          <p:cNvPicPr/>
          <p:nvPr/>
        </p:nvPicPr>
        <p:blipFill>
          <a:blip r:embed="rId21"/>
          <a:stretch/>
        </p:blipFill>
        <p:spPr>
          <a:xfrm>
            <a:off x="7238880" y="1523880"/>
            <a:ext cx="1535400" cy="577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1" descr=""/>
          <p:cNvPicPr/>
          <p:nvPr/>
        </p:nvPicPr>
        <p:blipFill>
          <a:blip r:embed="rId22"/>
          <a:stretch/>
        </p:blipFill>
        <p:spPr>
          <a:xfrm>
            <a:off x="5943600" y="3733920"/>
            <a:ext cx="1454040" cy="38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3" descr=""/>
          <p:cNvPicPr/>
          <p:nvPr/>
        </p:nvPicPr>
        <p:blipFill>
          <a:blip r:embed="rId23"/>
          <a:stretch/>
        </p:blipFill>
        <p:spPr>
          <a:xfrm>
            <a:off x="380880" y="2286000"/>
            <a:ext cx="1676520" cy="685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4" descr=""/>
          <p:cNvPicPr/>
          <p:nvPr/>
        </p:nvPicPr>
        <p:blipFill>
          <a:blip r:embed="rId24"/>
          <a:stretch/>
        </p:blipFill>
        <p:spPr>
          <a:xfrm>
            <a:off x="228600" y="3124080"/>
            <a:ext cx="685800" cy="901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LCRA logo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876920" y="1523880"/>
            <a:ext cx="1857240" cy="5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4300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  <a:ea typeface="ＭＳ Ｐゴシック"/>
              </a:rPr>
              <a:t>A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Energy Xtreme logo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2057400" y="4648320"/>
            <a:ext cx="1333440" cy="399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Southwest Research Institute logo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876920" y="3137040"/>
            <a:ext cx="15238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ree Components of the DOE Grant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nchrophasor Componen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xas Common Portal Exten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more about this lat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xas Future Communit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more about this lat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7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581640" cy="1009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895480" cy="825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2895480" cy="857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udrefin_switzerlandashx"/>
          <p:cNvPicPr/>
          <p:nvPr/>
        </p:nvPicPr>
        <p:blipFill>
          <a:blip r:embed="rId4"/>
          <a:stretch/>
        </p:blipFill>
        <p:spPr>
          <a:xfrm>
            <a:off x="4343400" y="4724280"/>
            <a:ext cx="1066680" cy="731880"/>
          </a:xfrm>
          <a:prstGeom prst="rect">
            <a:avLst/>
          </a:prstGeom>
          <a:ln w="19080">
            <a:solidFill>
              <a:srgbClr val="008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21" name="Picture 7" descr="groundmount-banner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486400" y="4724280"/>
            <a:ext cx="1523880" cy="787680"/>
          </a:xfrm>
          <a:prstGeom prst="rect">
            <a:avLst/>
          </a:prstGeom>
          <a:ln w="19080">
            <a:solidFill>
              <a:srgbClr val="008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22" name="Picture 8" descr="IMG_0445_540x405[1]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7086600" y="4724280"/>
            <a:ext cx="1285920" cy="863640"/>
          </a:xfrm>
          <a:prstGeom prst="rect">
            <a:avLst/>
          </a:prstGeom>
          <a:ln w="19080">
            <a:solidFill>
              <a:srgbClr val="008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o is Involved in the DOE Gran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C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E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nterPoint Energ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cor Electric Deli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ryland/Hunt Trans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C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uthwest Research Institu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 Energ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ectric Power Gro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ummond Group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coEdge (Land Teja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id Poi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ntier Associ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ergy Extre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reme P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eemon Shap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o is Involved in the DOE Grant Phasor Projec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ERC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AE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nterPoint Energ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Oncor Electric Deli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Sharyland/Hunt Trans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C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Southwest Research Institut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 Energ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Electric Power Gro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Drummond Group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coEdge (Land Teja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id Poi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ntier Associ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ergy Extre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reme P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4d74"/>
                </a:solidFill>
                <a:latin typeface="Tahoma"/>
              </a:rPr>
              <a:t>Present Status</a:t>
            </a:r>
            <a:endParaRPr b="0" lang="en-US" sz="3000" spc="-1" strike="noStrike">
              <a:solidFill>
                <a:srgbClr val="264d74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749"/>
              </a:spcBef>
              <a:buClr>
                <a:srgbClr val="264d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+ phasor units in WI-53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ISO, BPA, SCE are central collectio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264d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+ phasor units in EI-76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A  is hub-will transit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JM, NYISO Beta s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264d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in Hydro Queb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264d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in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NASPI Update Sept.15, 2009 Stan Joh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4d74"/>
                </a:solidFill>
                <a:latin typeface="Tahoma"/>
              </a:rPr>
              <a:t>Phasor Measurement Units</a:t>
            </a:r>
            <a:br>
              <a:rPr sz="3000"/>
            </a:br>
            <a:r>
              <a:rPr b="0" lang="en-US" sz="3000" spc="-1" strike="noStrike">
                <a:solidFill>
                  <a:srgbClr val="264d74"/>
                </a:solidFill>
                <a:latin typeface="Tahoma"/>
              </a:rPr>
              <a:t>in North American Power Grid</a:t>
            </a:r>
            <a:endParaRPr b="0" lang="en-US" sz="3000" spc="-1" strike="noStrike">
              <a:solidFill>
                <a:srgbClr val="264d74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200240"/>
            <a:ext cx="807552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NASPI Update, Sept. 15,2009 Stan Joh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E Demonstration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ergy Independence &amp; Security Act Authorized  Smart Grid demonstration pro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erican Reinvestment &amp; Recovery Act of 2009 appropriated the authorized fu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E issued a broad RFP for Smart Grid demonstration pro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CET responded with a comprehensive proposal for wind integration that included a synchrophasors compon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E Smart Grid Stimulus grants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will add 600 PMUs in U.S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4:48:31Z</dcterms:created>
  <dc:creator>David J. Bogen</dc:creator>
  <dc:description/>
  <dc:language>en-US</dc:language>
  <cp:lastModifiedBy>Milton Holloway</cp:lastModifiedBy>
  <dcterms:modified xsi:type="dcterms:W3CDTF">2010-01-14T15:20:27Z</dcterms:modified>
  <cp:revision>32</cp:revision>
  <dc:subject/>
  <dc:title>Slide 1</dc:title>
</cp:coreProperties>
</file>