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8A00F23-3517-4296-BDCF-48F20EC31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FDDA3C-8535-46F5-BB32-634263B1A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34FBBC3-F48D-45A1-A64B-920DCB69C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4DB86D6-5F48-4B09-950E-FECAFE08D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47DFD5C-2A25-430F-9ABC-A69BF02A3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06AFB6B-196F-45FB-9C4D-C9D920C5B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A51E507-21A6-4B85-BDBC-4197D939E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0CBD420-2915-469E-8BDD-910119E75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4E8A15E-FBD5-4560-84CE-92A8C5C28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2BDC9-55E0-4B3D-AF0B-0ABC1EF50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0A06-1DEF-4696-B47B-752DA15FC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0773E-BA98-431A-A2CA-336A409F6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7D574-9505-4C7A-937F-F1A9C119D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083F3-8617-4215-8877-74918EC6D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83EB7-0671-4A3E-99F0-0EA8088E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0D159-782B-4CFB-A05D-0A8DDEE0E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7B2D-1F7F-412C-898B-3BD5E1077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8275-601A-4A52-AC27-87B650648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C681-CEFB-4784-BC22-233817672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ED87-2FE2-4E73-920A-B90ED0035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3CB0-C2A3-4701-8C1A-ABFC987D4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D5BB-B63C-446D-A20F-4DAB897EB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98E6-1183-4827-8C51-021010D59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7606-A149-4E63-B14B-EE09EAEEC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C6B9-06B5-420C-A5C1-8DC5DDB3A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1"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7" descr=""/>
          <p:cNvPicPr/>
          <p:nvPr/>
        </p:nvPicPr>
        <p:blipFill>
          <a:blip r:embed="rId1"/>
          <a:stretch/>
        </p:blipFill>
        <p:spPr>
          <a:xfrm>
            <a:off x="171360" y="1494000"/>
            <a:ext cx="880920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0E71-E711-4D0F-A7D1-38316B5C7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9B1E-D28E-4A9A-BB23-DCB23C024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5AE2-41C7-48E7-9CDF-41C612160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198360" y="1722600"/>
            <a:ext cx="8694720" cy="29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03E5-A74C-495E-A531-BD1F6C9D3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038E-C3B4-4223-B2D4-8CFB4F675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42920" y="179856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5137-D00C-4994-95E1-B3EC3B8FD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59F4-E1B7-4D16-918F-8E6625243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CD23-8EFF-478F-B8E1-FB145EC00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70AD-285F-4946-B94A-FB8D26F98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150840" y="1789200"/>
            <a:ext cx="884088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6009-8948-4E27-AC6A-64D8BC256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D748-E324-4287-8831-14C1115855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35080" y="3718080"/>
            <a:ext cx="86803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DEAD-DF92-4946-AD26-8BE1078AFE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13" descr=""/>
          <p:cNvPicPr/>
          <p:nvPr/>
        </p:nvPicPr>
        <p:blipFill>
          <a:blip r:embed="rId1"/>
          <a:stretch/>
        </p:blipFill>
        <p:spPr>
          <a:xfrm>
            <a:off x="228600" y="1592280"/>
            <a:ext cx="859464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AD8D-5ADD-421F-BB63-031001B67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6377-3B9F-4AB2-A143-00B283FEB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133200" y="1447920"/>
            <a:ext cx="889812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10-01-05T16:38:36Z</dcterms:modified>
  <cp:revision>870</cp:revision>
  <dc:subject/>
  <dc:title>PowerPoint Presentation</dc:title>
</cp:coreProperties>
</file>