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7960" y="687240"/>
            <a:ext cx="4592520" cy="344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8DFB2DC-1B76-4ED4-ACFA-5E0ACD1F2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32E5500-B637-4B9F-ABF4-2D263F454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B8E7820-9CD1-4F84-AC77-370BF2E65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B4876BF-232E-4FD3-AA24-0C31A9606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F64DC6F-AA84-43AC-96C5-B718DFFBF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1FEA4F3-7A8F-4DC3-BB2D-6C8AEBD53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B2DA5AB-F21D-41AD-B6DD-36BF19F7F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FFE57A3-0F8F-4030-A55A-2BF88EA6D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CFD8-3A3D-4ABD-BB75-23EEA5F7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69A-C78C-4822-967B-471B856C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3365-515E-433C-9CC3-36DCF318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E01-83E4-4D61-9383-F3F25014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A92-63B8-426B-B037-EB1A7401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4D92-BD98-4384-8030-641EE3EF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FF0D-9E6E-4435-8CA8-D527A7A0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1BEC-6909-4EFD-9E17-D6956E11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7CE9-2686-47AA-A157-32F0B54E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326-EF3C-4F83-B74A-D78EEFAE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B4C-D042-454B-AB02-6C1EA9D5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0CC6-9636-4B77-A734-B7C4953B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8638" b="0"/>
          <a:stretch/>
        </p:blipFill>
        <p:spPr>
          <a:xfrm>
            <a:off x="6058080" y="0"/>
            <a:ext cx="3085920" cy="1359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0DC8-8E6C-4F70-8D12-7762A1FDA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WordArt 12"/>
          <p:cNvSpPr txBox="1"/>
          <p:nvPr/>
        </p:nvSpPr>
        <p:spPr>
          <a:xfrm>
            <a:off x="314280" y="22860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88C9-1838-49C1-B67F-39B9D39D7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105520" y="5789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 13,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D343-9653-433C-90F9-45BACF68E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ed 2010 Chair and Vice Ch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ed ERCOT System Outages and fail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d TDTWG 2010 Goals / Expec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46C5-EF0D-46FA-AC8D-F75B1AD1D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 Elected 2010 Offic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ir – Johnny Rober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ce Chair – Annette Mo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BFF4-FA3B-4DA7-B100-93790FEFB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d working with the ERCOT Manager of Operations to address each system incid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 Ebbers presented the summary and detail pages of the incident log, and responded to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Developed 2010 Goals and Expec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6DFC-55DA-4C64-B565-0F96ED3DB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DCBD-DC23-4989-A04F-BF1ADA2C3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57200" y="129528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DTWG Follow-up item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ize the Goals / Expected Work 20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3644-0075-4C18-AA1F-40C37BD08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Registered User</cp:lastModifiedBy>
  <cp:lastPrinted>2002-09-24T18:27:58Z</cp:lastPrinted>
  <dcterms:modified xsi:type="dcterms:W3CDTF">2010-01-08T16:02:38Z</dcterms:modified>
  <cp:revision>595</cp:revision>
  <dc:subject/>
  <dc:title>PowerPoint Presentation</dc:title>
</cp:coreProperties>
</file>