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3EBF-45F7-4819-8A3E-B2462BCE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0CA8-5D6B-4FAA-8F66-1BB6ACB68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8CBE-1793-4305-9DC6-D0D47CBD8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11C6-E270-4EA0-A612-AD15CA557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C24-11F0-4114-A18E-EFF8B869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300-9B62-478F-913F-B69FB2C3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D58-7642-4D9E-B1C7-66119DF4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98C-E61A-4A07-B191-817BB557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C2AE-B09A-4BA3-B403-5526346D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F42-846C-45EF-8491-46E9E2B8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4746-0C78-45A5-86EC-AD862EFE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2A15-98E7-475B-B84A-D0D988A8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6FA6-036C-4404-88B2-4CA6EE7C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21EE-FC8C-4807-84AE-179F182C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DB8D-2E45-40EC-8780-FA48BCE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FA3-19FB-4C50-8D5A-CD9ABB7D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4417-B7B5-4628-AC8E-6B75945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2094-13DA-4B8D-ACBD-49368C95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A5B9-653E-49AC-BA80-469D408B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7A38-7AB0-4C39-AA6F-C35C9A61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2268-1697-4E23-B6B8-70663E4C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3BCD-A669-4ADD-8767-B7C2C635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2F44-7994-4589-B933-84D10D6A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7057-F3DF-4FE5-BC99-C8965409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E0EB-E7D2-48B3-90FD-4C4D1954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1902-10CF-4FFB-946D-014CF719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A9A-1CF2-4547-9AC0-A1234B9E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DA59-3909-46E7-9EA5-22F4208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47DB-B99C-425D-943E-2B8F899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8871-2EA3-45DF-B31A-5BF5BA9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7A48-3F5C-44C1-A8BA-0018373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6B24-0546-4CF4-8796-C799918E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F2F3-CD60-4951-BD08-284A2847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1D9C-DF85-4E5B-A3C9-87EF94AC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AD48-A8E6-47FF-A74F-3A551159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3B74-4316-4DD1-8396-93B0B68D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60C48-3545-4F24-8D50-8B1197D5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61C-CFDD-4B02-BCB6-66A09190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115B-165B-4F2D-A457-3F890479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74FD2-A9A4-4415-A67B-0F15F753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8B720-22DA-4A01-AFB1-EA5FB6DC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8BBE0-3AE0-4806-A878-39A2D8AB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1B257-FD84-46BF-9686-DF498951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9268-E3ED-480A-9AB9-5A82F88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7021F-ED77-4989-B680-5C7FADB8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FDB1-F005-4DCF-A4A5-949EF0E7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9F40-5BEB-46E8-BE3A-64983FC7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B80C2-6497-4D3E-9A14-2F7F4BC2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7B7-4D39-49D3-A631-72AF1BC5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584C-6DDA-4A11-BF8F-A9BC3F32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88F1A-C2E9-4D77-8A8C-7DAB3AEA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4381-3FA1-449D-9E1E-C2675723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0D961-F98A-40BC-9726-8BCFF067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59FA8-6D80-4BE0-9EE6-05430840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481B0-2417-4136-B10E-F0D9AB36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A444-35D6-49F8-816B-E7ED2807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CB5C-7E4E-45D0-AECF-047C714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81227-D782-4F05-BBF0-8C2CB518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D519-0E1F-4DC7-81B2-39126B74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747-9CE3-4DBB-A1FC-1E660972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A1BA2-F448-4291-BFCB-409AB006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51AFF-2063-41CE-BF6F-08D140DD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1C086-1A24-4020-AE14-7B0761CC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5E9C8-CD4A-4D7D-86AD-FCAE876C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26BA3-A5AF-459D-BCFC-477213C8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5F296-E5D3-430A-AAE3-D9A2C13E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016C-D15B-46A9-AC7A-E0BA9C6D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357DA-C315-4077-8FFB-04CBF02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A45D3-C299-4915-8C2F-0EAF7F7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3C53-6617-4672-9861-4EA2662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469-90E6-4905-A5ED-A527559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D8BA7-0FD9-4406-8359-5E9F64C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FF5A-4154-4A50-8201-FDE68541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D06CD-5692-46B4-9ECB-C9CFC6C6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7484E-0C5E-44E0-B35D-41866D43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3A189-A22E-4C3D-A191-268834A0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325A0-EBA7-404F-950C-33A9B51D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56EDF-AE05-46AC-A140-558CFF21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7F9DF-1B12-43A5-AD04-151EBC4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6C96-7B03-4D27-A52E-A9DB7EB8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2458D-B88E-4F63-A387-1CB4872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AC4-9DD9-44C0-8B74-3C23A61E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F03CD-D74B-4BB0-AA60-843586A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23BDA-A75A-470F-9BBE-B8541D9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12AB-A376-4845-83BE-E859D7D7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35824-39E9-4741-BC82-3B0467FC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F43F3-2B95-4A03-9BDD-79619B31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5E0B8-6E32-4895-8AF2-BAC167B4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BBE8A-890A-4E94-BED4-DF35D29F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47E0A-2855-443B-A405-2AC415BF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EE594-4713-4FA5-A324-A6621BA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AE9F-B342-4346-B7B6-F4C75025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5E6-EABA-4FDF-8F7B-0B33532E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51896-AE79-40C0-A02A-4788FF94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1E73F-71E0-4221-A77C-61EE1DB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B4AD0-AAD0-4441-9075-99DBD69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A9B97-107F-4E91-BA0B-3355AD0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4C357-3E84-4432-871E-F11F4B72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F7B2A-FDF2-439C-B426-3B268B9B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0EED2-1E92-44D4-A2BE-43B636FE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D7B5-585B-40BB-9187-F0B0305AFC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E724-511D-4871-8C13-F1E3AECCC2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209-F6E4-4EA2-AD89-B6FDE63DDE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C915-C59A-47DE-BBCD-2A3AA0659B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81CA-6D93-459A-AB51-8F5247EB0B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E3F9-20C5-4706-8142-45835CFFA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2495-8753-4565-8238-FB8270BB41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CC56-096F-46B7-B281-9C40C3EE5C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January 13, 20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76212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01692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MarkeTrak Task Force 2010 Objectiv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 continue to work with Market Participants, ERCOT, a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ther interested parties to maintain the MarkeTrak databa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pplication responsible for the tracking, managing and stor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RCOT retail market issue management and d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screpancies in the market.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85800" y="1295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a55"/>
                </a:solidFill>
                <a:latin typeface="Lucida Sans Unicode"/>
              </a:rPr>
              <a:t>2010 Objective and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MarkeTrak Task Force 2010 Go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ask Force will continue to monitor PUCT project 37291 related to meter tampering issues to determine potential impact on MarkeTrak applicatio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tinue to monitor the progress of SCR756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Enhancements to the MarkeTrak Application.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l suggestions  should be submitted by March 31, 201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ask Force will coordinate activities with TDTWG to finalize 2010 SLA benchmarks and response times for the MarkeTrak too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MarkeTrak Task Force 2010 Go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ill work with ERCOT to explore and identify areas for improvement to increase knowledge of the tool and its functionality.</a:t>
            </a:r>
            <a:r>
              <a:rPr b="1" lang="en-US" sz="2000" spc="-1" strike="noStrike">
                <a:solidFill>
                  <a:srgbClr val="db5353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gin initial planning of Phase III implemen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 addition, the task force will continue to monitor any activity which may impact the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API WSDL/XS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MCj04042630000[1]"/>
          <p:cNvPicPr/>
          <p:nvPr/>
        </p:nvPicPr>
        <p:blipFill>
          <a:blip r:embed="rId1"/>
          <a:stretch/>
        </p:blipFill>
        <p:spPr>
          <a:xfrm>
            <a:off x="3652920" y="2897280"/>
            <a:ext cx="1838160" cy="16952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Reliant</cp:lastModifiedBy>
  <dcterms:modified xsi:type="dcterms:W3CDTF">2010-01-12T15:06:10Z</dcterms:modified>
  <cp:revision>527</cp:revision>
  <dc:subject/>
  <dc:title>MarkeTrak Task Force</dc:title>
</cp:coreProperties>
</file>