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A13-1137-461E-9C45-663D522F9E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F12-4A5F-4652-A669-1678605B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586-3FCE-455F-9CBD-356C218E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50DE-A280-447D-88DF-E06184CBB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DDE9-DB52-43E0-A9C1-44EF83F075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4724-D061-443A-8D3A-4E55BC9A27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3464-30CF-43DA-AE2F-0247285CF89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D75F-676B-44F5-8646-BECCCE7CD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1549-E163-4898-A0CA-867823FB002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AED5-127B-4771-BE85-3F8650A7355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42A4-25B8-4195-A321-2D820624FB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F06F-B5AF-4B5A-8C2A-0750088F5AF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95D4-3711-41DF-8993-28DFC72ED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5B96-81EB-457A-BC0C-BF30E6DA6B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1FF4-A78D-4A7A-A004-63B27C2316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4F25-616C-4D15-89CA-1F440E6419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3E0E-E7FF-426F-B4F8-4E6D0FA568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41DF-8CF9-4528-A608-2B14E5D5BE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28CA-CF00-4740-B987-8BEB5DC4BC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1298-ABD4-427F-8B55-9777E1416C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EBB5-D1E4-4E2D-B97D-E3D593CF54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2C3F-EF9F-40B2-A4A6-C8E6E505B0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D569-4396-4628-B6CA-A9A402A69D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6546-6EDF-4BAD-8A4B-144B08D4F2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7587-5698-4A7D-A4FE-893BEC8BFC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AA5D-4902-43B4-A7D9-4D5508E692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BE44-7A6F-4614-8FD8-96E3D82AC2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2603-337E-4662-97C5-41C1648F8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2BFD95-E858-40C8-98A3-3C1EF641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5C157B-994F-4774-AF57-1DEE2412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0EB1CD-C899-4DF1-9B81-08B15CFD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F05929-2390-4417-BC2E-D9D9EB9C4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12477B-5B6D-4909-A08A-DD9DCC1D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3A7151-3CF2-41F0-A6B2-60F281CD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596567-A904-47BD-9E3C-F9D73E40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5E2E03-A234-41B7-A9C1-240273B5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9F7732-C272-43E2-B44A-39E704FA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08EFAB-348D-4A59-9289-8161BCF8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D0E10C-8EFF-4A03-B8E0-369B75E3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B394CF-C1CE-4E01-9A78-309D45A2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A1AED2-6B8C-407B-831B-A7B17E0C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3BEB24-8FAD-4DF7-A7B8-B0DE86A7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F483E6-9FFD-4C33-B528-3DC79375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AD2573-7F50-4892-A324-49A5530A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2D94-7527-4979-9F5D-DE9C945EE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C3A1DB-ED8F-4C86-8842-7CA8E7B2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0B08E7-B175-4B32-A9BF-F452972A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741ECC-85C0-4CEF-993B-59DF0B988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31F46C-6D09-4342-A99B-25AE875D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C6AECB-A233-4006-BD9F-6BBB24FF6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CF99A4-9743-41A6-9F7D-95A7D6C1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13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457200" y="762120"/>
          <a:ext cx="828828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882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7" name="Object 3188"/>
          <p:cNvGraphicFramePr/>
          <p:nvPr/>
        </p:nvGraphicFramePr>
        <p:xfrm>
          <a:off x="541440" y="785880"/>
          <a:ext cx="8288280" cy="16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82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9" name="TextBox 3"/>
          <p:cNvSpPr/>
          <p:nvPr/>
        </p:nvSpPr>
        <p:spPr>
          <a:xfrm>
            <a:off x="609480" y="297180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Retail Application Upgrades is targeted to move to Closing in early Februa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Object 3188"/>
          <p:cNvGraphicFramePr/>
          <p:nvPr/>
        </p:nvGraphicFramePr>
        <p:xfrm>
          <a:off x="474840" y="990720"/>
          <a:ext cx="828036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3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990720"/>
                    <a:ext cx="828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TextBox 5"/>
          <p:cNvSpPr/>
          <p:nvPr/>
        </p:nvSpPr>
        <p:spPr>
          <a:xfrm>
            <a:off x="685800" y="236232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11_01 AMS Meter Flag gated to Planning on 01/12/201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Object 3188"/>
          <p:cNvGraphicFramePr/>
          <p:nvPr/>
        </p:nvGraphicFramePr>
        <p:xfrm>
          <a:off x="541440" y="785880"/>
          <a:ext cx="8280360" cy="111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7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9" name="Object 3188"/>
          <p:cNvGraphicFramePr/>
          <p:nvPr/>
        </p:nvGraphicFramePr>
        <p:xfrm>
          <a:off x="541440" y="785880"/>
          <a:ext cx="828036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0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3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2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13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2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TextBox 3"/>
          <p:cNvSpPr/>
          <p:nvPr/>
        </p:nvSpPr>
        <p:spPr>
          <a:xfrm>
            <a:off x="463320" y="5562720"/>
            <a:ext cx="84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are preliminary 2009 year-end numbers.  Final numbers are expected for the February RMS meeting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1-12T14:05:20Z</dcterms:modified>
  <cp:revision>608</cp:revision>
  <dc:subject/>
  <dc:title>Role of Account Management at ERCOT</dc:title>
</cp:coreProperties>
</file>