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2BC-3CA5-4048-98FD-EB81CBA0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7CA-2370-48B4-AD21-BC0B133D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E78-B339-493B-BCB5-9A676829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29D-F173-4FDF-8730-7517351D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AE93-C7E6-4919-B0BC-5CCF523C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9198-7EAE-4247-8B60-9D50CEC0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171C-306C-4100-9C0D-CDBD36B4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51F0-A114-404B-98DD-19AE1F86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899C-AB9F-4E60-8EB0-D94704BD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B3C4-3FA7-49AA-97CC-0D000283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E6C6-C399-4ADF-9F92-45D2F1ED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537-FDA3-4776-9B4C-A431A98A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E4E1-07E8-40AB-AEED-4AAF38BB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A184-7CD5-4D2B-BF46-F4DB9BA5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8CF2-2112-40BB-BFDE-27FFDDE6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6043-1FC0-43AC-8957-6F21BF2E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254B-E92A-4971-B469-10C3F526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5D5-9E7B-4876-9775-7B3825BF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F19-142D-4B28-8265-06585810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ABB-7DBE-4578-BB04-17F28BAB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ADA-268A-499D-ABD0-B55A629F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13C-8931-4D80-9836-03C8BCB2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806-DF48-4E19-893D-FC0D812E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422-425C-4287-9FB3-BCC35B1A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E974-2CE3-4ADB-8831-FE202BA044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F317-D1A8-4A50-8E8D-7DBABEEB20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1633680"/>
            <a:ext cx="784872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ubcommittee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pdate to 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uary 13,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2010 COPs Leadership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bbie McKeever, Onc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ce Ch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n Riordon, LCR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Voting Ite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S voted to approve Load Profiling Guide chan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GRR037, Allowing correction du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runcating iss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Arial"/>
              </a:rPr>
              <a:t>Nodal Update</a:t>
            </a:r>
            <a:endParaRPr b="0" lang="en-US" sz="4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dal testing is back on schedule. Previous update included that Nodal Testing had become two weeks behind schedul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s discussed alternate methods for staying current with Nodal progress. SEWG will begin providing Nodal updates as part of their Working Group report to COP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Working Group Upda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CW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MGRR017 – Creating Section 8.2 Settlement Statements and Inv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sections being work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6 - Registration and Qual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7 - Inputs to Settlement Process and Data Aggreg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8.3 - Settlement Det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9 - Shortpay and Market Participant Default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0 - Extracts and Repor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ffffff"/>
                </a:solidFill>
                <a:uFillTx/>
                <a:latin typeface="Arial"/>
              </a:rPr>
              <a:t>Working Group Upda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ffffff"/>
                </a:solidFill>
                <a:uFillTx/>
                <a:latin typeface="Arial"/>
              </a:rPr>
              <a:t>CCW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Demonstration of Section Update Notice/RSS Feed – to be implemented ASAP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ERCOT will send a notice indicating when    functionality is in pla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5 initial RSS Feeds to be made avail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Press Rel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Training – New Cour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Protocol  Libr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PR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Daily Grid Ops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ffffff"/>
                </a:solidFill>
                <a:uFillTx/>
                <a:latin typeface="Arial"/>
              </a:rPr>
              <a:t>Working Group Upda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ffffff"/>
                </a:solidFill>
                <a:uFillTx/>
                <a:latin typeface="Arial"/>
              </a:rPr>
              <a:t>PWG - highl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2010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in Progress for Annual Validation suspension per A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PGRR shall be in order for changes per NOIE DRG T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ffffff"/>
                </a:solidFill>
                <a:uFillTx/>
                <a:latin typeface="Arial"/>
              </a:rPr>
              <a:t>SEW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going efforts with Market Credit Working Group redefining Day Ahead Market tim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ffffff"/>
                </a:solidFill>
                <a:uFillTx/>
                <a:latin typeface="Arial"/>
              </a:rPr>
              <a:t>Working Group Upda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NOIE DRG T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Draft NPRR to be reviewed by PW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NPRR– affects minimal number of parties. PRR will not be drafte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Impacts from the NPRR will result in changes to the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MG and the COP M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12680" y="1751040"/>
            <a:ext cx="759312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balbracht</cp:lastModifiedBy>
  <dcterms:modified xsi:type="dcterms:W3CDTF">2010-01-13T22:12:37Z</dcterms:modified>
  <cp:revision>9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