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C69E7E9-4DA7-4B1A-804E-315CBD269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B559D2B-0DE8-44DE-B0F8-CFECA12AA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6640" y="696960"/>
            <a:ext cx="4647960" cy="3486240"/>
          </a:xfrm>
          <a:prstGeom prst="rect">
            <a:avLst/>
          </a:prstGeom>
          <a:ln w="0">
            <a:noFill/>
          </a:ln>
        </p:spPr>
      </p:sp>
      <p:sp>
        <p:nvSpPr>
          <p:cNvPr id="13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6ECA9F7-0C8A-4971-B378-1D21A6228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06640" y="696960"/>
            <a:ext cx="4647960" cy="3486240"/>
          </a:xfrm>
          <a:prstGeom prst="rect">
            <a:avLst/>
          </a:prstGeom>
          <a:ln w="0">
            <a:noFill/>
          </a:ln>
        </p:spPr>
      </p:sp>
      <p:sp>
        <p:nvSpPr>
          <p:cNvPr id="13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E05D7BE-FA3D-4A08-948F-18A164DE9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6640" y="696960"/>
            <a:ext cx="4647960" cy="3486240"/>
          </a:xfrm>
          <a:prstGeom prst="rect">
            <a:avLst/>
          </a:prstGeom>
          <a:ln w="0">
            <a:noFill/>
          </a:ln>
        </p:spPr>
      </p:sp>
      <p:sp>
        <p:nvSpPr>
          <p:cNvPr id="141"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D525685-E243-4EFC-B3AD-BE6F22AFF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06640" y="696960"/>
            <a:ext cx="4647960" cy="3486240"/>
          </a:xfrm>
          <a:prstGeom prst="rect">
            <a:avLst/>
          </a:prstGeom>
          <a:ln w="0">
            <a:noFill/>
          </a:ln>
        </p:spPr>
      </p:sp>
      <p:sp>
        <p:nvSpPr>
          <p:cNvPr id="144"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60E21CF-8DC6-4CDE-8411-699807494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06640" y="696960"/>
            <a:ext cx="4647960" cy="3486240"/>
          </a:xfrm>
          <a:prstGeom prst="rect">
            <a:avLst/>
          </a:prstGeom>
          <a:ln w="0">
            <a:noFill/>
          </a:ln>
        </p:spPr>
      </p:sp>
      <p:sp>
        <p:nvSpPr>
          <p:cNvPr id="14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E178E9E-9A40-4BF8-ACE2-E58711B25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06640" y="696960"/>
            <a:ext cx="4647960" cy="3486240"/>
          </a:xfrm>
          <a:prstGeom prst="rect">
            <a:avLst/>
          </a:prstGeom>
          <a:ln w="0">
            <a:noFill/>
          </a:ln>
        </p:spPr>
      </p:sp>
      <p:sp>
        <p:nvSpPr>
          <p:cNvPr id="15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1123143-39B1-41CC-8792-BC9277E57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06640" y="696960"/>
            <a:ext cx="4647960" cy="3486240"/>
          </a:xfrm>
          <a:prstGeom prst="rect">
            <a:avLst/>
          </a:prstGeom>
          <a:ln w="0">
            <a:noFill/>
          </a:ln>
        </p:spPr>
      </p:sp>
      <p:sp>
        <p:nvSpPr>
          <p:cNvPr id="15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F7CA5E9-5822-44DD-9016-CB0CFDEDD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06640" y="696960"/>
            <a:ext cx="4647960" cy="3486240"/>
          </a:xfrm>
          <a:prstGeom prst="rect">
            <a:avLst/>
          </a:prstGeom>
          <a:ln w="0">
            <a:noFill/>
          </a:ln>
        </p:spPr>
      </p:sp>
      <p:sp>
        <p:nvSpPr>
          <p:cNvPr id="15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DCD51-7386-46D1-BDA1-3593F115A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909E3-6DDA-4FAB-B164-6F5DD97FD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46A74-31DA-498B-AD1F-176400700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B87C4-6A62-441A-A729-F79C64CFC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2DD34-9CA7-4207-A8FF-077DD7D16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87A3B-A0F5-4279-8649-C7B65CA2A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B9C55-B35F-425C-AC8D-B8823B3A1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6BFF6-FA5D-4AEE-83DA-BC479FCE7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23CD9-605F-4C05-AF7A-ABFBABE32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68A3-6011-4B8F-9BD5-D88160A12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ECE0D-8ECA-4A76-A918-738FC6814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1879B-221A-4E27-B59C-6F902403A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49C4-75C0-4E93-A0FE-48970862E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47C2-E750-4E9A-81EA-4518B8FD3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17FF-05F2-4CCB-A4DA-93A03C317A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3"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5"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7"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230F-031B-42DF-BB44-A1FC22042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1"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2" name="Picture 7" descr=""/>
          <p:cNvPicPr/>
          <p:nvPr/>
        </p:nvPicPr>
        <p:blipFill>
          <a:blip r:embed="rId1"/>
          <a:stretch/>
        </p:blipFill>
        <p:spPr>
          <a:xfrm>
            <a:off x="171360" y="1494000"/>
            <a:ext cx="8809200" cy="46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7F23-4038-430B-8B40-DEB6955DD7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8"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99"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7A2C-5C14-4B48-B83F-A3DE780F1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5"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6"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9725-F9C6-4ADE-AD57-6FAAA3239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09"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6" descr=""/>
          <p:cNvPicPr/>
          <p:nvPr/>
        </p:nvPicPr>
        <p:blipFill>
          <a:blip r:embed="rId1"/>
          <a:stretch/>
        </p:blipFill>
        <p:spPr>
          <a:xfrm>
            <a:off x="198360" y="1722600"/>
            <a:ext cx="8694720" cy="292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1556-07D7-4AE6-9722-79B8BC754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8"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19"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492B-4E26-42D6-BB80-CEF8C93BF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2"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6" descr=""/>
          <p:cNvPicPr/>
          <p:nvPr/>
        </p:nvPicPr>
        <p:blipFill>
          <a:blip r:embed="rId1"/>
          <a:stretch/>
        </p:blipFill>
        <p:spPr>
          <a:xfrm>
            <a:off x="142920" y="1798560"/>
            <a:ext cx="8848800" cy="29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9D3B-3102-41ED-9A3F-9B01F8573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0"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2"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A45C-8DA8-4C47-8C0F-7222D612F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DFDE-E2A7-47BD-B8FB-0A48FEFB4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5985-3AB6-46E7-B791-11F76D658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150840" y="1789200"/>
            <a:ext cx="8840880" cy="310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74D4-9231-44CB-A628-4E8467A06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7DC4-63A6-4575-81A4-6FE4083206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35080" y="3718080"/>
            <a:ext cx="86803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E79C-8021-441E-B37F-C3A4DBA50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2" name="Picture 13" descr=""/>
          <p:cNvPicPr/>
          <p:nvPr/>
        </p:nvPicPr>
        <p:blipFill>
          <a:blip r:embed="rId1"/>
          <a:stretch/>
        </p:blipFill>
        <p:spPr>
          <a:xfrm>
            <a:off x="228600" y="1592280"/>
            <a:ext cx="8594640" cy="46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1F8E-28CE-489C-9ED1-C11C08C56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5"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2CEB-FAF6-4AC0-BC7E-767F89CE1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8"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
          <p:cNvPicPr/>
          <p:nvPr/>
        </p:nvPicPr>
        <p:blipFill>
          <a:blip r:embed="rId1"/>
          <a:stretch/>
        </p:blipFill>
        <p:spPr>
          <a:xfrm>
            <a:off x="133200" y="1447920"/>
            <a:ext cx="889812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10-01-05T16:38:36Z</dcterms:modified>
  <cp:revision>870</cp:revision>
  <dc:subject/>
  <dc:title>PowerPoint Presentation</dc:title>
</cp:coreProperties>
</file>