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43E-7BCE-4019-8047-202D1B48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0E6F-85BC-4A43-BC8B-55F0581F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2313-2056-4CC1-9655-3AACAA10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E7D-C8E8-4699-8FA9-81F75EC6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58C-CDBC-4A60-AC10-72E83FDF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A99-14EA-4812-87C8-172543BA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EE8-8056-41BA-850F-D7DE743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4E1-0DAB-427C-A610-CA31298F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EDC-D788-4BA8-834B-F279C7EA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C339-CD10-4AB7-8640-1E143212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5822-642B-450D-A410-01F65EC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E6D-81A3-4FCA-866C-FF4D81D0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FDFA-55F5-4CC0-94C4-6C15F8C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DEF-0E23-4094-9634-F50DCA9B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6A9-3A6D-43C5-AF9F-ECA69035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4D6-C30D-4CDE-A869-71E6C9A6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71D-F6E2-4530-B5CC-ECE1491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7C95-9941-4438-BF50-BFAC730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8A6F-B131-45CB-9B3A-65FC7590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33E8-8117-4863-9541-5C16FF19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A70C-59F2-4F90-9B03-A84F6F19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B865-B641-4B19-9F6A-3A72D86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EFBF-03E6-43B1-A259-08F18FD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B890-EB21-4681-B86A-79B7A0E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CED7-A3FB-43B5-AFD6-F62D543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B257-6554-4585-B0E9-BE204D3D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F0C-7572-4309-8FA4-F7DDAD76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03DC-93BB-4608-AD5C-07C0D0C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3395-74D2-4E51-B0E4-254413D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825E-CCAE-49F0-ABA3-ABC630EB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C0396-396A-4BFF-A5FD-C33EA9FB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8F1B-7ED8-41C6-BD7D-28DC072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77D87-AC53-48E4-975C-A08FC78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22F9-785E-4D12-983A-6DC3F737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3ACE-9C2E-4883-90A9-F2FDA1C7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9B8F-69A6-4978-9452-4925E0A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373F-387D-45F0-A521-1F988842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A16-8755-4D2D-9BF7-E45589E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6451-AB4E-48FE-9C83-E1C1445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3600-A390-4F7C-B043-FBA7B516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B7207-4304-4656-97BB-50C24D0A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959B-E9A1-4FCC-A7ED-43A731CA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459C-F306-4B66-9CBA-E344242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7C20-5390-4D83-83F5-9B60A36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5AB4F-D8F5-43D4-B849-A4E3A9DC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82B5-CF8A-483E-BCAE-3670F956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FC89-5B8F-4447-9EC5-3CF3FCD8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2DC9-F63D-48F9-8CA7-A43788FF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6A5-DEBA-4A8A-AD84-D45ADDA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2354-EA5E-4F90-B5B2-EB0285DD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09AA-A03D-4FBF-B433-97EB716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66D5-208B-4B52-8AF3-B62EE34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41559-1225-4EEE-825E-69A06AD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E5CB-B783-48EE-8E07-D3D5AC16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4214-BA2C-4119-BF3B-59A5C11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85CA-B0DF-47BC-B37D-7F169A1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C67E-B0AA-44EB-A145-C0C6EB4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FE47C-0152-4309-BD50-137A152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94FF-713D-42CC-947A-9957A58B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95B-EE2A-454E-808D-5EECC97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CFCF9-F08D-4FB3-B4C9-A7CCE66D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28BD-8485-4FDA-A163-CC3FAB9D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B45A-452D-4C76-828B-7CB98BD0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FC75A-D0A4-4A66-92C0-66C60CB1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A7F59-4207-44D8-B6BC-4DF8860E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27DE3-65F1-4E6F-AADB-78C3FBB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ED98-91E6-41C0-AAA6-257CCDE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438D-0F49-4E01-9AEF-FEF5B02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44C00-9CCA-42A7-B65A-1318743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5B03-1C1A-44DC-9DFA-BA3E78D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BA2-44F6-4B49-A6BE-83072CD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028E5-EF85-4748-A12B-71345DE4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D77F-E84A-4DF0-849F-A89E02DE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6B40-60E4-4AF2-8522-54D96953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E6530-52EB-4343-8474-F73C3587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6F32-EBC9-40A4-97E4-B4A8844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5DA7-37CE-433A-8BFD-3EBB3CE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F15B1-FCFE-49F6-8EB5-19FB4ADB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EF08-C6FC-450E-94A1-85E4230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28200-F331-4E46-8361-184A49DD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5155F-8651-4519-A026-99D8D98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ED4-B301-4E8F-B6A9-7CB1650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FEF87-E27C-47F2-937D-0D840D4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8166-6068-4A8C-BB7B-B90CF7E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A69D4-B758-4F94-902B-F4B39F2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5937-6160-472D-8F87-3EA02952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83C3-006A-4039-8D44-D667EF50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2EF1-A6DC-43FD-8BE5-284163AF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61A9-9FBD-4DBD-82ED-9BEB62CA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BCE9-D287-46FA-87D4-07710544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B01DF-C23F-4176-953A-F5588DA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18CF-8506-4E1E-80BE-03FAD30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C2D-C1B8-4D7A-9BA6-F06FE0D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F6E43-E4A1-4CEA-9150-D86C0863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D20E-6A2E-4EF8-8B0A-20550D2B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41B51-CFEF-4637-B1CD-C63A211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B59D-54F9-48DE-AFB6-5C00919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08A5A-755B-4984-9EC8-8066841A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27D42-A230-42A8-A166-EC7FBE8B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87641-A8DE-40EE-B08A-0968E92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5E3B-ADD2-4E3D-A958-4E914C3798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8C73-211C-4429-9572-8E2A26E62B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00F-2614-4F56-A4C1-641EED61FE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14A-6BB4-4CF0-9875-2F2226D4F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116E-108E-47AE-AAAB-E1406F38D7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51BC-632D-4558-A79C-EE8A1279A0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5B3-BC81-491B-9E8B-932DE84B6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0AC-3AF0-4E0B-9A98-B76B6090E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January 13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600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1692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MarkeTrak Task Force 2010 Objectiv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 continue to work with Market Participants, ERCOT, an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ther interested parties to maintain the MarkeTrak databa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lication responsible for the tracking, managing and storag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RCOT retail market issue management and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iscrepancies in the market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8580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a55"/>
                </a:solidFill>
                <a:latin typeface="Lucida Sans Unicode"/>
              </a:rPr>
              <a:t>2010 Objective and Go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continue to monitor PUCT project 37291 related to meter tampering issues to determine potential impact on MarkeTrak application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tinue to monitor the progress of SCR756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Enhancements to the MarkeTrak Application.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l suggestions  should be submitted by March 31,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sk Force will coordinate activities with TDTWG to finalize 2010 SLA benchmarks and response times for the MarkeTrak too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MarkeTrak Task Force 2010 Go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ill work with ERCOT to explore and identify areas for improvement to increase knowledge of the tool and its functionality.</a:t>
            </a:r>
            <a:r>
              <a:rPr b="1" lang="en-US" sz="2000" spc="-1" strike="noStrike">
                <a:solidFill>
                  <a:srgbClr val="db5353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gin initial planning of Phase III implemen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 addition, the task force will continue to monitor any activity which may impact the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7200" y="282600"/>
            <a:ext cx="82296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Reliant</cp:lastModifiedBy>
  <dcterms:modified xsi:type="dcterms:W3CDTF">2010-01-12T15:06:10Z</dcterms:modified>
  <cp:revision>527</cp:revision>
  <dc:subject/>
  <dc:title>MarkeTrak Task Force</dc:title>
</cp:coreProperties>
</file>