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7960" y="687240"/>
            <a:ext cx="4592520" cy="344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11561B4-F76F-48A0-8B87-9A45FC972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28CDD67-77F4-4C77-B14D-23517D9C2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60B2737-5FA6-43C2-A10B-BA3C31BF1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6249483-77FC-4FD1-976C-04B286CF0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F1E3604-75F8-4E81-90DD-B9F952943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69CBDA9-D6FD-4486-9479-9517FFCA6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8797EFE-341E-47F2-BB44-F71098D3B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871DEA0-CDFA-4A07-87BB-441164798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08B1-F533-46E9-82F2-25701A80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E1CF-8C85-496C-B95C-7C0F8752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C96-4BA5-4017-8294-562E899A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03B-0543-45E5-B085-78B53CF2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00C-AC16-4D2B-B7C5-E31B5A35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EE2-D303-4897-99C4-38633807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561C-54F8-42E2-AB6F-1CBEF797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316E-9CB0-4308-B7DA-DFFB80C8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0E1-4F9C-41E1-9A68-8365B3F1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DEA-4BAC-44B7-8673-C6464EF6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4565-6497-4A44-9BEA-8C681031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2036-0B0D-49AF-B7C6-29A20282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8638" b="0"/>
          <a:stretch/>
        </p:blipFill>
        <p:spPr>
          <a:xfrm>
            <a:off x="6058080" y="0"/>
            <a:ext cx="3085920" cy="1359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614B-85B7-435C-BB12-6D1121B2A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WordArt 12"/>
          <p:cNvSpPr txBox="1"/>
          <p:nvPr/>
        </p:nvSpPr>
        <p:spPr>
          <a:xfrm>
            <a:off x="314280" y="22860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6E47-747B-41C3-BDBC-B0B91CB9F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105520" y="5789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 13,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0869-F56B-4570-8727-44698A446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ed 2010 Chair and Vice Ch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ed ERCOT System Outages and fail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d TDTWG 2010 Goals / Expec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F1D8-2227-4ADC-9DA6-39D070ABF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 Elected 2010 Offic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ir – Johnny Rober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ce Chair – Annette Mo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0A4D-317C-49D8-A5A0-5F968996C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d working with the ERCOT Manager of Operations to address each system incid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 Ebbers presented the summary and detail pages of the incident log, and responded to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Developed 2010 Goals and Expec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B72A-D234-4FF6-99B1-122435CA2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1B33-0C2A-4270-9E9C-89972A900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57200" y="129528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DTWG Follow-up item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ize the Goals / Expected Work 20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4A5B-91EE-40A5-BECA-44EDDA6A4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Registered User</cp:lastModifiedBy>
  <cp:lastPrinted>2002-09-24T18:27:58Z</cp:lastPrinted>
  <dcterms:modified xsi:type="dcterms:W3CDTF">2010-01-08T16:02:38Z</dcterms:modified>
  <cp:revision>595</cp:revision>
  <dc:subject/>
  <dc:title>PowerPoint Presentation</dc:title>
</cp:coreProperties>
</file>