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5B2E-1EEF-4D2D-A6DF-88E9D59EA9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F980-2AD9-4075-8F69-33008595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3BB9-5580-490C-8316-2C7A9AFA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9EF7-BCF7-43D3-A9D8-45AD62933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321C-350D-4E5E-B553-0B0A12FBEBA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7126-0EAD-460C-91F0-76425573100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8A8F-5B00-4F96-B35A-A18A5AE84C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AA75-380C-42D0-A4BA-B89A96AE8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39FB-5960-459A-B5BF-41D6081234C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D582-BE1E-4704-975C-CF1B53CE9EB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E85A-B7B0-4DB6-AC73-A0F5F50D5CB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E5D1-4CD0-4AAB-ABE8-A98C88F952F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74FD-F80B-404F-AF6F-0F803D983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2425-4AD3-454D-BC1C-90334F78D4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BE7A-14FD-415A-85DD-37A0F974AF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907E-5369-49BD-B779-6F54C2BF59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7AD7-E470-4D85-B769-18168BA089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183F-F138-46A1-BCB3-B421D84A43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70C5-36FD-41E7-A559-2A3F2F4940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6662-6C23-49EF-84A4-5B75EFBD89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DCF8-46B9-4162-A15D-F44900C1F6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A58D-1A19-43D0-8B97-369E1EAEBC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49F6-677D-4307-815D-8B97ADB1EC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2571-29CC-4E00-ADC2-E453DC3EBD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8A82-2126-48F9-9C37-42C2301B9B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67DA-8D46-4A1B-82B3-5A767D2B2C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B4F8-DE56-4260-8CEC-E2E0180DCC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0FF9-64E7-4A37-94EF-8B94E564F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018940-9EF7-4DEB-9390-9878781F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650F13-9442-42CE-A361-98ADC956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A64998-0B66-4740-8956-20EB3D88C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9AE56A-8EF0-4DC6-94A1-203657C89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155063-004F-44E7-928F-CD40E4AC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A9650E-505B-4D19-9CC3-9652F9BF4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D119F3-41BC-40EE-B140-FDEBBC75A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932710-26E3-4407-9DD1-A32DA7301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76CB89-0645-455A-8AE6-6B7181B3D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E69C9C-9641-441B-BB10-391BC3F43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2AC2AD-10E4-4244-BD40-1FA7E1652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2FC27B-5CF6-4EAA-84F6-83ECCB34D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693F8D-2F39-47EC-AF9A-362EF7B55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5AC356-A3E7-41BE-A2C2-919C9DD3C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1A6717-DD01-4331-AD41-CAF1D9F3A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47BEE0-06E6-4552-BA77-13F40327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1214-8DE2-42D5-B769-981E5717D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333983-A840-4B49-9B49-F6729F33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DA3F95-07AE-41E6-8A44-3A1E5580C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56BA59-BEE3-4152-AEE3-6E395B6D7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062480-67FB-46E5-8CEB-83BA09731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355655-3FD9-426B-911D-25D22050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CF8BDF-698E-4E7B-A574-ECB364802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anuary 13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4" name="Object 3188"/>
          <p:cNvGraphicFramePr/>
          <p:nvPr/>
        </p:nvGraphicFramePr>
        <p:xfrm>
          <a:off x="457200" y="762120"/>
          <a:ext cx="8288280" cy="524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5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82882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7" name="Object 3188"/>
          <p:cNvGraphicFramePr/>
          <p:nvPr/>
        </p:nvGraphicFramePr>
        <p:xfrm>
          <a:off x="541440" y="785880"/>
          <a:ext cx="8288280" cy="163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8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82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9" name="TextBox 3"/>
          <p:cNvSpPr/>
          <p:nvPr/>
        </p:nvSpPr>
        <p:spPr>
          <a:xfrm>
            <a:off x="609480" y="297180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80031_01 Retail Application Upgrades is targeted to move to Closing in early Februa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2" name="Object 3188"/>
          <p:cNvGraphicFramePr/>
          <p:nvPr/>
        </p:nvGraphicFramePr>
        <p:xfrm>
          <a:off x="474840" y="990720"/>
          <a:ext cx="8280360" cy="70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3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990720"/>
                    <a:ext cx="8280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TextBox 5"/>
          <p:cNvSpPr/>
          <p:nvPr/>
        </p:nvSpPr>
        <p:spPr>
          <a:xfrm>
            <a:off x="685800" y="236232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90011_01 AMS Meter Flag gated to Planning on 01/12/201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6" name="Object 3188"/>
          <p:cNvGraphicFramePr/>
          <p:nvPr/>
        </p:nvGraphicFramePr>
        <p:xfrm>
          <a:off x="541440" y="785880"/>
          <a:ext cx="8280360" cy="111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7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03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9" name="Object 3188"/>
          <p:cNvGraphicFramePr/>
          <p:nvPr/>
        </p:nvGraphicFramePr>
        <p:xfrm>
          <a:off x="541440" y="785880"/>
          <a:ext cx="8280360" cy="30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0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785880"/>
                    <a:ext cx="82803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2/3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2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25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4.13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2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3" name="TextBox 3"/>
          <p:cNvSpPr/>
          <p:nvPr/>
        </p:nvSpPr>
        <p:spPr>
          <a:xfrm>
            <a:off x="463320" y="5562720"/>
            <a:ext cx="840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are preliminary 2009 year-end numbers.  Final numbers are expected for the February RMS meeting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1-12T14:05:20Z</dcterms:modified>
  <cp:revision>608</cp:revision>
  <dc:subject/>
  <dc:title>Role of Account Management at ERCOT</dc:title>
</cp:coreProperties>
</file>