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55A-D2BE-41D2-AF10-50C94760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8D8-0CFA-4271-B892-B6DA566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53A-49A8-4C64-8E9C-F89E1711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95A-C76B-412F-8FD9-1556C98E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D98-A7A0-4FF7-86D7-4DBC863E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9E6D-8372-4090-90CD-4BDF78F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8D9C-FE5C-41C9-957B-D967832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FD3-8280-4439-BE69-338FFB9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B350-487A-4EE0-BF04-88F5B8E0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790-2FA4-4AF8-BAFA-41A41633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D00-DB62-4EC6-8396-397B693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BA4-E898-405A-89C4-A4822F1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BF48-5E98-45E5-B529-99B95A2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D68-ABC6-421E-ADCE-2F77A15C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B5E5-69AC-4547-A32C-CDE741FA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643-96B6-4760-9E91-6AA005F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E1B-FA14-4824-802B-8523FBAD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6AC-BEC8-4326-A8A7-8665A18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FDE-8960-4FC7-BA04-02FE617D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361-74C9-427C-AAE8-31EF643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BE9-1217-4AE4-8B6D-01A1857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70F-6A90-43AB-BE77-699FE50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B7F-4609-461B-A015-A4BCEB6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B1-C095-43A0-9208-7664813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EC9-E00E-4837-B2AA-C50EFD5E25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B5B-E1DE-47E4-B760-27261B200E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/12/20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mid April to M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services/sla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Extract and Report issues have been on the decline and have focused on TML availability and outages, January 6 event of Incomplete SnB Extract will be discussed at the next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CWG/SEWG Joint Me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G has requested working with SEWG on determining whether a accelerated DAM tim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has had discussions in past on the operational challenges and feasibility for market participants to meet an accelerated tim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 on SEWG meeting focused on procedural issues revolving around payment approvals, wires/ACH transaction timeframe, shadow settlement and extract timing concerns and the overall increase in volume of “Back Office” responsibilities compared to Z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DAM Settlement Time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MCWG 12/7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k Brown (Garland) presented an informative summary of the procedural issues discussed at previous SEWG (SDAWG) meetings summarizing the working groups conc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s focused on procedural risks as the current timeline does not provide sufficient time for shadow sett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cussion focused on the option of reducing the due date in the DAM timeline by 1-day as opposed to two 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WG will report back to WMS the recommendation, while no objections to the 1-day reduction were voiced, participants will still have the ability to do so WMS/TAC/PRS as this recommendation goes through the stakeholder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ite is updated every Friday with the latest information regarding reports and extr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nodal.ercot.com/readiness/reports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ture updates will be provided through Market Trial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eting updates with SE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WG Upcoming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al Timeline- review and identify key 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al Real-time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10-01-12T13:49:46Z</dcterms:modified>
  <cp:revision>51</cp:revision>
  <dc:subject/>
  <dc:title>DEWG Meeting Summary</dc:title>
</cp:coreProperties>
</file>