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07D-3EDA-4B81-A287-4E4F26A16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0F46-5E25-4CD1-A5F9-7DE5E92087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49A3-419D-4D2C-888F-059853F7B2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26F-FA08-40A8-A358-E596830715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0D5-F0CF-4ABF-AA08-4BC14C0E79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F39-AD41-45E3-989F-0CE0E75E5F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DC1-BD02-4937-8D75-5AFA1826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617-61B4-466A-8AFB-991192D4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6E4-0D3D-447E-A5A3-E5D98EEF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1E6-E36E-44C9-A0EA-F8004BD3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BD88-376F-4490-B394-C966E4B8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2B0-EC6D-44BB-A294-2F51F2E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F0D4-7A44-4F78-B4F1-96C215B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0E0C-5342-4A2F-A060-3B85C34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FD7-E2C1-4795-9BBC-6FE2D06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B327-9969-4462-8E7F-6A84F308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E17D-2F2F-43AC-A6AE-16E27D1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ED9-CE45-42DB-8DBA-3EFDEDBF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1F9-7355-4E76-A155-D4AD64C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E4A-2903-4E22-B7ED-4F281F2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839-9E0D-4DE8-8923-A10E68A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DD84-873D-400A-8E99-9A664E05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D0D-DD3A-47BF-9030-EFEEDFA9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126-260F-417D-89D5-040E24B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073-1C5A-44C1-B791-3AE33A4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E10-681B-44E3-B178-8C02E58C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8B9-F9CF-420C-8850-AA1DC63C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E1A-DF7F-468C-8315-0FB5E6C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ABC-836F-4CE9-9AA7-03FEF8A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D09-D81A-46B6-AEE7-2BD3F53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B07-77E3-4CC3-B8AE-43776D6E845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0C78-EC08-48F6-A14B-E671FE28E5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F829-D413-41B0-9FB7-EBCF7496D33F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07A-DB88-4588-B606-B1A16CC12D2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January 12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RCOT’s AMS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1/12/09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1523880"/>
          <a:ext cx="8991360" cy="508176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4759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15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24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Design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est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Test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 f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1 – 11/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13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 – Implementation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4/200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</a:tr>
              <a:tr h="5580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 f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2 – 12/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09/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 – Implementation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3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795"/>
                    </a:solidFill>
                  </a:tcPr>
                </a:tc>
              </a:tr>
              <a:tr h="3045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AutoShape 23"/>
          <p:cNvSpPr/>
          <p:nvPr/>
        </p:nvSpPr>
        <p:spPr>
          <a:xfrm>
            <a:off x="6781680" y="4343400"/>
            <a:ext cx="609840" cy="533520"/>
          </a:xfrm>
          <a:custGeom>
            <a:avLst/>
            <a:gdLst>
              <a:gd name="textAreaLeft" fmla="*/ 188280 w 609840"/>
              <a:gd name="textAreaRight" fmla="*/ 421560 w 60984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09600" h="533400">
                <a:moveTo>
                  <a:pt x="1" y="203740"/>
                </a:moveTo>
                <a:lnTo>
                  <a:pt x="232848" y="203742"/>
                </a:lnTo>
                <a:lnTo>
                  <a:pt x="304800" y="0"/>
                </a:lnTo>
                <a:lnTo>
                  <a:pt x="376752" y="203742"/>
                </a:lnTo>
                <a:lnTo>
                  <a:pt x="609599" y="203740"/>
                </a:lnTo>
                <a:lnTo>
                  <a:pt x="421221" y="329658"/>
                </a:lnTo>
                <a:lnTo>
                  <a:pt x="493177" y="533398"/>
                </a:lnTo>
                <a:lnTo>
                  <a:pt x="304800" y="407479"/>
                </a:lnTo>
                <a:lnTo>
                  <a:pt x="116423" y="533398"/>
                </a:lnTo>
                <a:lnTo>
                  <a:pt x="188379" y="3296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6781680" y="5410080"/>
            <a:ext cx="609840" cy="533520"/>
          </a:xfrm>
          <a:custGeom>
            <a:avLst/>
            <a:gdLst>
              <a:gd name="textAreaLeft" fmla="*/ 188280 w 609840"/>
              <a:gd name="textAreaRight" fmla="*/ 421560 w 60984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09600" h="533400">
                <a:moveTo>
                  <a:pt x="1" y="203740"/>
                </a:moveTo>
                <a:lnTo>
                  <a:pt x="232848" y="203742"/>
                </a:lnTo>
                <a:lnTo>
                  <a:pt x="304800" y="0"/>
                </a:lnTo>
                <a:lnTo>
                  <a:pt x="376752" y="203742"/>
                </a:lnTo>
                <a:lnTo>
                  <a:pt x="609599" y="203740"/>
                </a:lnTo>
                <a:lnTo>
                  <a:pt x="421221" y="329658"/>
                </a:lnTo>
                <a:lnTo>
                  <a:pt x="493177" y="533398"/>
                </a:lnTo>
                <a:lnTo>
                  <a:pt x="304800" y="407479"/>
                </a:lnTo>
                <a:lnTo>
                  <a:pt x="116423" y="533398"/>
                </a:lnTo>
                <a:lnTo>
                  <a:pt x="188379" y="3296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ost Implement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Progress Report  (01/10/10)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218960"/>
            <a:ext cx="876312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814_20’s successfully processed by ERCOT to change profile for an AMS “Provisioned” meter (Oncor &amp; CenterPoi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~49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ESI ID’s settled by ERCOT using 15-minute interva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~46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transactions received by ERC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20,000,000 with ~11,000,000 loaded in ERCOT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858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40F4-3E0B-45B2-B0B6-26F180147B6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Meeting on Tuesday, January 12, 2010 at 1:30PM following COPS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genda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ject Progress Repor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de 814_20 &amp; Settlement numbers successfully processed to da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14_20 TDSP Backlog numbers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uss System/Processes Performance to da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view New and/or Changes  to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trac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por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b Servic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ther docum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Refresher/follow-up review of Extracts, Reports, and Web Service changes will also be scheduled and placed on the Settlement Extract Working Group meeting agenda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Monitor system performance and LSE file activities throughout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00"/>
                </a:solidFill>
                <a:latin typeface="Tahoma"/>
              </a:rPr>
              <a:t>System Stabilization Period            Complete 03/19/2010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00"/>
                </a:solidFill>
                <a:latin typeface="Tahoma"/>
              </a:rPr>
              <a:t>Project Completion </a:t>
            </a:r>
            <a:r>
              <a:rPr b="0" i="1" lang="en-US" sz="19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i="1" lang="en-US" sz="1900" spc="-1" strike="noStrike">
                <a:solidFill>
                  <a:srgbClr val="ffff00"/>
                </a:solidFill>
                <a:latin typeface="Tahoma"/>
              </a:rPr>
              <a:t>Scheduled 05/21/20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Quickly develop a market resolution for all issues as they are identified following production implementati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162080" indent="-3430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36C-CE9E-4C74-9ED1-9DF9352EBDB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03" name="Content Placeholder 3" descr="j0083153.wmf"/>
          <p:cNvPicPr/>
          <p:nvPr/>
        </p:nvPicPr>
        <p:blipFill>
          <a:blip r:embed="rId1"/>
          <a:stretch/>
        </p:blipFill>
        <p:spPr>
          <a:xfrm>
            <a:off x="2968560" y="3651120"/>
            <a:ext cx="3133800" cy="30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4" name="Picture 4" descr="j0385990.jpg"/>
          <p:cNvPicPr/>
          <p:nvPr/>
        </p:nvPicPr>
        <p:blipFill>
          <a:blip r:embed="rId2"/>
          <a:stretch/>
        </p:blipFill>
        <p:spPr>
          <a:xfrm>
            <a:off x="-6480" y="1670040"/>
            <a:ext cx="3292560" cy="344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0320142.wmf"/>
          <p:cNvPicPr/>
          <p:nvPr/>
        </p:nvPicPr>
        <p:blipFill>
          <a:blip r:embed="rId3"/>
          <a:stretch/>
        </p:blipFill>
        <p:spPr>
          <a:xfrm>
            <a:off x="5877000" y="1695600"/>
            <a:ext cx="30290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1-11T23:48:01Z</dcterms:modified>
  <cp:revision>241</cp:revision>
  <dc:subject/>
  <dc:title>MARS Taskforce </dc:title>
</cp:coreProperties>
</file>