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4EB6-0DE3-484C-80C7-9580767F1B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E41E-702A-4E00-B32E-E21E94A8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25C6-B58D-4081-9A6D-45D92C3B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B30E-4CA2-4149-80DC-20934B8D10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C55-9455-42A5-A750-93223A85FB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96F-54B3-43C5-AFC8-2CCFED7128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F0A-6A70-4C66-B5C1-095CE4A64F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AA3-2356-47B8-88F6-C2A85201F2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3C8-B86D-49AC-9F06-7D05BD2FFE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18C-B6F5-4289-9B2C-8B5CB899FA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2C6-AC11-4B11-9302-FCD09B51C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4EC7F-06F9-4913-B8A3-DD88AAD4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A8F-AC85-40F1-BAFA-850AEE7FD6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649-0ABA-4A70-AD31-097DB048D8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F79-7602-47E6-B1DA-780C88339E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06B-A22B-4AC7-8334-4B12A658F4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CCB-65A8-4873-A25F-55905FC316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C1E36-826E-45DB-8BC8-FFDC5C5DE9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BB675-CF22-4470-90AF-5627042C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78C0E-FC95-4910-A0E6-032D2E9D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2163D-6DF4-4657-83FE-11915B7E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94110-BE3F-4AB4-ABDA-F0B411DD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84FF-D2BD-4AAF-9EA5-B7BB2DE2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5A3BB-F1BA-4FED-8874-AFCC97B7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4A4CF-9126-4099-9156-2227FAB7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3207D-CD35-419A-B54E-E66E994F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2E70E-B6DD-4EED-947F-2ED2F697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EB80B-479E-43CE-977F-8E78D002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63248-75CE-406F-BFEC-2B1D0A96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49098-C020-4266-B751-6CE2526F98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C71D4-DD2F-4434-B776-0CC769AB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47A49-8246-4D04-A8E9-EB146F71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26762-D9EB-44F2-8B37-366F5976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CEA7-026B-45D1-848E-2793B677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DD725-D52B-49D1-9F22-E52880DC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60A29-12DA-48DF-B65F-6453A0D7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3857E-E3DF-4351-953F-3DD8096D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78631-D499-4647-9923-14B9EE5A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EAAD6-1A27-4094-9FED-3062A9D7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26CD5-67F6-4D13-961F-37DA9200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EF61B-4FFF-4B40-95E8-0A3C750D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99939-3E28-402B-A6C6-1FAF09DF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C54FC-D8EA-475E-9544-5C389F70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A812-81D1-4E25-9AFC-C91B16F3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078DD-1476-4968-AD94-F8AF71BE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D330-4E73-4099-8E9F-2C62625C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3279-C48E-426C-8A8A-005A2021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56BD3-463C-427A-97A2-410ED788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8CBB-B48B-4543-A1B3-BACA93BA4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FC85-C5EF-4B9F-91EB-46F027715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99F6-8491-4480-A136-9CF4F0F7BC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329D-CCF1-4FA7-881E-EE818322C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issues/lpgrr/025-049/037/index" TargetMode="External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January 12,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8E12-EAEF-4561-B436-9DD0DF73CC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4191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WG requests approval of the 2010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0360" y="1752480"/>
            <a:ext cx="8901360" cy="227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B6DB-9CF5-4FCF-BEBC-7F67A130E7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in progress for Annual Validation suspension per AMS has been discussed and is a work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GRR shall be in order for changes per the NOIE DRG TF when the TF is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GRR036 Delete Document Control Section filed with normal time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GRR037 Replace Wording Truncated from LPGRR035 - Voting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 and PRR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67901-848C-4C09-90B5-7F45396B03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0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lace Wording Truncated from LPGRR03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WG has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mktrules/issues/lpgrr/025-049/037/ind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6E07F-BFC2-4208-A0A4-FA43B7FB90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9480" y="4495680"/>
            <a:ext cx="8001000" cy="10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10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e Call on January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D490-85EF-499A-80C9-5F0143E927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10-01-05T14:14:03Z</dcterms:modified>
  <cp:revision>373</cp:revision>
  <dc:subject/>
  <dc:title>PowerPoint Presentation</dc:title>
</cp:coreProperties>
</file>