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E99C-5D61-48F4-BC4D-6DC326CB8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2F91-EB71-40AD-B564-4E66A71EB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C58B-A868-4854-9760-CA7C27193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7C1-2709-4B2E-AB53-208675D3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AC4-19C2-48B0-A3C4-94C71E05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B46-6DE7-4EA0-A460-73B4BA9B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FC6-8945-4901-A669-B85F97C7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AF8A-A0D6-4671-81A2-91ECB869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0F93-EEF2-412D-A43B-51919C4C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FF6F-9E22-4985-AAF8-0EA7F295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9814-C03C-4472-A140-AD12E245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BDB8-2024-4E63-8646-96703B9F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8055-A43F-4065-B4DB-DA339C68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4874-3425-4A00-B8DF-644FE582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203-6D96-4457-8931-C4F34325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D31F-BE83-4BE5-98DD-FE4C6895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0850-75EE-4CE3-9FAC-CB3ADD4C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0E39-4C64-42B4-A17F-3ADF4DBB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3444-B68E-480F-B4D0-D2030DD7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1EA6-10D0-4652-BA52-8973829D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940-CF2D-4A4E-B596-B3BE44D2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EA7D-C762-437C-B665-758EC669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2C8-A5A3-4761-8F3E-6AFDD6CD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136-4799-4C03-86F0-C7F1575C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596-E91D-4514-A940-2CA11329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457-1C2C-48D6-8ACA-6943A824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E03-36F5-4738-8C68-6D662127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6A86-868F-48B3-AF29-5202C94B5D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43DE-AE64-49D0-8B46-F91B507395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December 17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CWG Update to C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nuary 12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690C-CEE6-4467-8952-6530C6D52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December 17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SS Feeds Demonstr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y Apodaca, ERCOT Web Content Coordin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scheduled for 1-11-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ve initial RSS Feeds to be made availab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s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ing – New Cour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ocol Libr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ily Grid Ops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8230-B515-4872-97C1-F0A6479CB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December 17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vie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bin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tocols sections for searching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ercot.com or nodal.erco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Market Rules =&gt; Protocols =&gt; Protocol Library or Market Rules =&gt; Nodal Protocols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Month and Year Nodal Protocols select “Combin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search for a key word in all protocol sections at the sam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DFDA-FE45-467B-9CEC-7A9AC90EA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December 17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mmercial Operations Market Gu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PMGRR017, Creating Section 8.2, Settlement Statements and Invo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viewing comments and making improv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Other sections being worked 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6, Registration and Qualif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7, Inputs to Settlement Process and Data Aggreg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8.3, Settlement Detai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9, Shortpay and Market Participant Default Proc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10, Extracts and Repor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B159-00C2-4175-98B6-FFE0AA050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’s Next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meeting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8th; 9:30am – 12:3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dates in 2010 will be the last Thursday of most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plan to accomplish 2010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ist of desired ERCOT.com website RSS F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Mandy Bauld to document Settlement Aggregation load run for ERCOT No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work on other sections of the COP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72A7-D85C-473C-811C-9AA93E288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’s Next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F431-26F5-4A51-9204-D3D841D6F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trenarym</cp:lastModifiedBy>
  <dcterms:modified xsi:type="dcterms:W3CDTF">2009-12-29T21:52:31Z</dcterms:modified>
  <cp:revision>220</cp:revision>
  <dc:subject/>
  <dc:title>CCWG 2006 Accomplishments</dc:title>
</cp:coreProperties>
</file>