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EC57-D44C-45FD-956D-41D5E56C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38AA-76B3-429A-9ADA-A2A77866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C79E-0A6D-4C25-AB12-552DC5A0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B072-2537-4065-A79C-9BF82C42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7609-7CBE-4FB9-9689-72401AEE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E0D4-F748-4A3A-A099-B2B9020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549A-8FEA-4F68-9040-CDDE696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8CDD-35E2-4E49-BA62-7647A815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541A-71B2-414C-A4B9-DD2D442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EC57-8BED-4219-BEF0-4BEC23AD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C22C-2CFF-4307-A1D8-E3C1FAB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81EA-F88A-4632-95FA-462DC22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02E1-D72F-4A80-958A-A60A913EB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62A7-A81C-4565-A121-CEFC80F5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2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SS Feeds on ERCOT.com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t Deller, Client Services Supervi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my Apodaca, Web Content Coordinator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SS Feed Definition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RSS Fe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S stands for Really Simple Syn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S is a subscription service that notifies subscribers when new content has been published to a web p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advantages of RSS Fee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er is notified immediately of published updates to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er can collect content from multiple websites and stay updated without visiting each site of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s can contain a simple link to the source, or the complete content including attac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messages in mailbox (does not use email 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(as well as other private info) cannot be sent to third parties because user’s name is not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oftware to run RSS Feed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software is needed to operate RSS F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S requires a “feed reader” or aggregator to display f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aders are available as free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utlook ‘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gator FeedDemon (great for a mobile device such as a blackberry or i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’s RSS Feed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initially offer the following RSS Feed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Grid Operation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 Offer Selected – Daily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 Offer Dispatched – Daily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Reserve Service – Daily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Subscribe to RSS Feed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 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CO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Click the RSS page link located in the top header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the descriptions of the RSS Feeds ERCOT offers. Select the category you want to receive updates on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these directions to subscribe to RSS Feed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de which feed reader you want to use (Google, Yahoo, or RSS for others) and click the button that correspo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“Subscribe to this feed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ew folder can be added to organize different  feeds by catego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eed is automatically added to the “RSS folder” if you are using Outlook ’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ubscribe” to complete the subscrip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omelink.bmp"/>
          <p:cNvPicPr/>
          <p:nvPr/>
        </p:nvPicPr>
        <p:blipFill>
          <a:blip r:embed="rId2"/>
          <a:srcRect l="1220" t="3142" r="1220" b="65893"/>
          <a:stretch/>
        </p:blipFill>
        <p:spPr>
          <a:xfrm>
            <a:off x="685800" y="1219320"/>
            <a:ext cx="6303960" cy="1447560"/>
          </a:xfrm>
          <a:prstGeom prst="rect">
            <a:avLst/>
          </a:prstGeom>
          <a:ln w="0">
            <a:noFill/>
          </a:ln>
        </p:spPr>
      </p:pic>
      <p:sp>
        <p:nvSpPr>
          <p:cNvPr id="111" name="Oval 7"/>
          <p:cNvSpPr/>
          <p:nvPr/>
        </p:nvSpPr>
        <p:spPr>
          <a:xfrm>
            <a:off x="4648320" y="1371600"/>
            <a:ext cx="23619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RSS Button.bmp"/>
          <p:cNvPicPr/>
          <p:nvPr/>
        </p:nvPicPr>
        <p:blipFill>
          <a:blip r:embed="rId3"/>
          <a:srcRect l="0" t="49599" r="58582" b="41637"/>
          <a:stretch/>
        </p:blipFill>
        <p:spPr>
          <a:xfrm>
            <a:off x="1143000" y="4343400"/>
            <a:ext cx="37940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SS Feeds Appear in the Internet Browser’s “Favorites”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4" name="Content Placeholder 5" descr="RSS Browser.bmp"/>
          <p:cNvPicPr/>
          <p:nvPr/>
        </p:nvPicPr>
        <p:blipFill>
          <a:blip r:embed="rId1"/>
          <a:stretch/>
        </p:blipFill>
        <p:spPr>
          <a:xfrm>
            <a:off x="838080" y="762120"/>
            <a:ext cx="7499520" cy="539424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3"/>
          <p:cNvSpPr/>
          <p:nvPr/>
        </p:nvSpPr>
        <p:spPr>
          <a:xfrm>
            <a:off x="6248520" y="645804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762120" y="838080"/>
            <a:ext cx="1981080" cy="3581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SS Feeds Appear in the “RSS” Section of Outlook ‘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tent Placeholder 7" descr="outlook.bmp"/>
          <p:cNvPicPr/>
          <p:nvPr/>
        </p:nvPicPr>
        <p:blipFill>
          <a:blip r:embed="rId1"/>
          <a:srcRect l="0" t="0" r="0" b="1660"/>
          <a:stretch/>
        </p:blipFill>
        <p:spPr>
          <a:xfrm>
            <a:off x="1336680" y="1066680"/>
            <a:ext cx="7004160" cy="5029200"/>
          </a:xfrm>
          <a:prstGeom prst="rect">
            <a:avLst/>
          </a:prstGeom>
          <a:ln w="0">
            <a:noFill/>
          </a:ln>
        </p:spPr>
      </p:pic>
      <p:sp>
        <p:nvSpPr>
          <p:cNvPr id="122" name="Oval 8"/>
          <p:cNvSpPr/>
          <p:nvPr/>
        </p:nvSpPr>
        <p:spPr>
          <a:xfrm>
            <a:off x="1219320" y="1523880"/>
            <a:ext cx="1981080" cy="304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ubrey Hale</cp:lastModifiedBy>
  <dcterms:modified xsi:type="dcterms:W3CDTF">2010-01-08T21:54:19Z</dcterms:modified>
  <cp:revision>484</cp:revision>
  <dc:subject/>
  <dc:title>Instructions</dc:title>
</cp:coreProperties>
</file>