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5C10-5A33-4CE1-BBDD-3C29E5E02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12C8-FC3F-4E47-BB14-BA892F3F5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3C9D-6FED-477C-A64A-9A65977F07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35A0-3BB3-47C7-B897-FE7E74F4A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B036-547B-41AB-A19E-2E559E41AD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D006-E3A0-4E22-87D2-C1EC12B3BE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ED60-55DE-412D-9E33-B17D0C5ECA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2F95-312C-4DFB-8E0E-CD9731E0AC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E0D3-60E1-401A-92CA-857E513ECC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9D8A-43F4-42ED-BFCD-6466CF8FA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2ED5-0AFC-4E7A-944C-4B4D1D4BFD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F300-2F4D-4519-BEA4-5F2B921BA9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9A3D-2D70-4872-8677-6E2D7EEEA1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5CE0-CCEB-40A8-9EE3-90B21D389F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B8AA-6F3A-49B6-A37C-A223B1B52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69D4-0E40-478D-8EA0-2CF3AD0BB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DA29-BFB3-4B4D-8A2E-0A13FA2858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36A2-181D-4CCA-9FCC-660438BC2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EC6B-CF88-4361-A17E-5EE3E77588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C006D92-2947-4CCD-A73F-084DDEB43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8EF056-C584-4793-9F1E-1032ABDC3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B18302-3EBD-4845-94EC-FE05F06F2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7B65C1-444D-4F06-A65B-1C148BAAC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3DE2D-D9C8-4901-B1FF-6B1FE2D30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2A3B6-21DC-4307-9F9E-ED937AC97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9580C-E0E6-40ED-BB52-6904CA6E0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4CB55-5C22-459B-8C2B-4B0D55DA7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31D46-7ECD-4C5B-8CC4-6B0E48BA6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2F188-EC2B-42F6-B8F2-6BD1E6251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2134B-94C7-43D3-8D3C-96E0EA3E4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9D398F-FDF5-4997-8C2C-10589860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497A4-7732-46A4-A720-5FFA6F64A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4DEFA-4A8D-472F-9175-7AF51A1F9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D9051-034D-4A5A-A8FF-62A802D41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B8F85-989A-4D5D-B3E2-E5C90C899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698C5-F43C-473C-AF98-2037D7C3F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5A39F-5C05-4ECE-A74C-350C2081A0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F4A4B-BCF0-4F19-8F41-38690DD5C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C4E96-CDEF-4A3A-AFFF-721E3FD7B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5C702-89A6-4ECF-BF89-FEC7CA14C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68759-41E0-43FC-8801-50A3022F4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CA922C-B0C0-4777-92B4-6031F6810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AB6E1-3E98-4E88-A0DA-71AACA7FD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70CCA-0A08-4902-9A08-5A35618A7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AADE8-F0A2-432D-9C6C-7EC836B98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AE6B1-EC63-4B34-81CC-913C0F9F9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40EF3-C677-4E0C-8540-26DB409E1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9F3C2-B794-4E89-ABBF-977B709B6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0A7BBA-5B15-451D-9D2D-F4F602D42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C098E9-41C3-44C9-B405-CC496F67F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D402A2E-4C00-4EC2-BB83-DEC6CB15D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553CB0-5716-422C-82F2-135BAE74E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13560E-125C-4FF6-98EF-8D7160003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E3681B-1A41-499C-BF56-7F7E810E4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3AF046-AF10-4FFA-A0ED-854D27FC1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9E52-1437-416B-A3F7-DFDC2C561D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C7A9-28A0-4762-B34A-44070D83B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EAD6-E7E1-4509-AD86-69B454952E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nuary 6, 2010</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02, Clarification of Network Operations Model and State Estimator Postings </a:t>
            </a:r>
            <a:endParaRPr b="1" lang="en-US" sz="3200" spc="-1" strike="noStrike">
              <a:solidFill>
                <a:srgbClr val="e5e5ff"/>
              </a:solidFill>
              <a:latin typeface="Garamond"/>
            </a:endParaRPr>
          </a:p>
        </p:txBody>
      </p:sp>
      <p:sp>
        <p:nvSpPr>
          <p:cNvPr id="250"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1"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2"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3"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4"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65"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66"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67"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68"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69"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0" name="AutoShape 23"/>
          <p:cNvSpPr/>
          <p:nvPr/>
        </p:nvSpPr>
        <p:spPr>
          <a:xfrm>
            <a:off x="41148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 Box 31"/>
          <p:cNvSpPr/>
          <p:nvPr/>
        </p:nvSpPr>
        <p:spPr>
          <a:xfrm>
            <a:off x="4800600" y="2590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eliminary $50,000 - $100,000</a:t>
            </a:r>
            <a:endParaRPr b="0" lang="en-US" sz="1600" spc="-1" strike="noStrike">
              <a:solidFill>
                <a:srgbClr val="ffffff"/>
              </a:solidFill>
              <a:latin typeface="Arial"/>
            </a:endParaRPr>
          </a:p>
        </p:txBody>
      </p:sp>
      <p:sp>
        <p:nvSpPr>
          <p:cNvPr id="276" name="AutoShape 23"/>
          <p:cNvSpPr/>
          <p:nvPr/>
        </p:nvSpPr>
        <p:spPr>
          <a:xfrm>
            <a:off x="41148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Text Box 31"/>
          <p:cNvSpPr/>
          <p:nvPr/>
        </p:nvSpPr>
        <p:spPr>
          <a:xfrm>
            <a:off x="4800600" y="36576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NMMS, CDR, EIS, MID, MIR, EDW &amp; MIS</a:t>
            </a:r>
            <a:endParaRPr b="0" lang="en-US" sz="1400" spc="-1" strike="noStrike">
              <a:solidFill>
                <a:srgbClr val="ffffff"/>
              </a:solidFill>
              <a:latin typeface="Arial"/>
            </a:endParaRPr>
          </a:p>
        </p:txBody>
      </p:sp>
      <p:sp>
        <p:nvSpPr>
          <p:cNvPr id="278" name="AutoShape 30"/>
          <p:cNvSpPr/>
          <p:nvPr/>
        </p:nvSpPr>
        <p:spPr>
          <a:xfrm>
            <a:off x="3200400" y="4114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AutoShape 30"/>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Text Box 31"/>
          <p:cNvSpPr/>
          <p:nvPr/>
        </p:nvSpPr>
        <p:spPr>
          <a:xfrm>
            <a:off x="4800600" y="31240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Under evaluation.</a:t>
            </a:r>
            <a:endParaRPr b="0" lang="en-US" sz="1600" spc="-1" strike="noStrike">
              <a:solidFill>
                <a:srgbClr val="ffffff"/>
              </a:solidFill>
              <a:latin typeface="Arial"/>
            </a:endParaRPr>
          </a:p>
        </p:txBody>
      </p:sp>
      <p:sp>
        <p:nvSpPr>
          <p:cNvPr id="281" name="Text Box 31"/>
          <p:cNvSpPr/>
          <p:nvPr/>
        </p:nvSpPr>
        <p:spPr>
          <a:xfrm>
            <a:off x="4800600" y="41911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Under evaluation.</a:t>
            </a:r>
            <a:endParaRPr b="0" lang="en-US" sz="16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8">
                                  <p:stCondLst>
                                    <p:cond delay="0"/>
                                  </p:stCondLst>
                                  <p:iterate type="lt">
                                    <p:tmAbs val="0"/>
                                  </p:iterate>
                                  <p:childTnLst>
                                    <p:animRot by="-21600000">
                                      <p:cBhvr>
                                        <p:cTn id="58" dur="500" fill="hold"/>
                                        <p:tgtEl>
                                          <p:spTgt spid="270"/>
                                        </p:tgtEl>
                                        <p:attrNameLst>
                                          <p:attrName>r</p:attrName>
                                        </p:attrNameLst>
                                      </p:cBhvr>
                                    </p:animRot>
                                  </p:childTnLst>
                                </p:cTn>
                              </p:par>
                              <p:par>
                                <p:cTn id="59" nodeType="withEffect" fill="hold" presetClass="emph" presetID="8">
                                  <p:stCondLst>
                                    <p:cond delay="0"/>
                                  </p:stCondLst>
                                  <p:childTnLst>
                                    <p:animRot by="-21600000">
                                      <p:cBhvr>
                                        <p:cTn id="60" dur="500" fill="hold"/>
                                        <p:tgtEl>
                                          <p:spTgt spid="271"/>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2"/>
                                        </p:tgtEl>
                                        <p:attrNameLst>
                                          <p:attrName>r</p:attrName>
                                        </p:attrNameLst>
                                      </p:cBhvr>
                                    </p:animRot>
                                  </p:childTnLst>
                                </p:cTn>
                              </p:par>
                              <p:par>
                                <p:cTn id="63" nodeType="withEffect" fill="hold" presetClass="emph" presetID="8">
                                  <p:stCondLst>
                                    <p:cond delay="0"/>
                                  </p:stCondLst>
                                  <p:iterate type="lt">
                                    <p:tmAbs val="0"/>
                                  </p:iterate>
                                  <p:childTnLst>
                                    <p:animRot by="-21600000">
                                      <p:cBhvr>
                                        <p:cTn id="64" dur="500" fill="hold"/>
                                        <p:tgtEl>
                                          <p:spTgt spid="276"/>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8"/>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 and Rejections</a:t>
            </a:r>
            <a:endParaRPr b="1" lang="en-US" sz="4400" spc="-1" strike="noStrike">
              <a:solidFill>
                <a:srgbClr val="e5e5ff"/>
              </a:solidFill>
              <a:latin typeface="Garamond"/>
            </a:endParaRPr>
          </a:p>
        </p:txBody>
      </p:sp>
      <p:sp>
        <p:nvSpPr>
          <p:cNvPr id="283" name="PlaceHolder 2"/>
          <p:cNvSpPr>
            <a:spLocks noGrp="1"/>
          </p:cNvSpPr>
          <p:nvPr>
            <p:ph/>
          </p:nvPr>
        </p:nvSpPr>
        <p:spPr>
          <a:xfrm>
            <a:off x="685440" y="1295280"/>
            <a:ext cx="7924680" cy="47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None this month</a:t>
            </a:r>
            <a:endParaRPr b="0" lang="en-US" sz="2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vision Requests Recommended for Inclusion </a:t>
            </a:r>
            <a:br>
              <a:rPr sz="2000"/>
            </a:br>
            <a:r>
              <a:rPr b="1" lang="en-US" sz="2000" spc="-1" strike="noStrike">
                <a:solidFill>
                  <a:srgbClr val="ffff00"/>
                </a:solidFill>
                <a:latin typeface="Garamond"/>
              </a:rPr>
              <a:t>in the Nodal Parking Deck</a:t>
            </a:r>
            <a:endParaRPr b="1" lang="en-US" sz="2000" spc="-1" strike="noStrike">
              <a:solidFill>
                <a:srgbClr val="e5e5ff"/>
              </a:solidFill>
              <a:latin typeface="Garamond"/>
            </a:endParaRPr>
          </a:p>
        </p:txBody>
      </p:sp>
      <p:sp>
        <p:nvSpPr>
          <p:cNvPr id="2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31, Ancillary Service Trades with ERCOT</a:t>
            </a:r>
            <a:endParaRPr b="1" lang="en-US" sz="3200" spc="-1" strike="noStrike">
              <a:solidFill>
                <a:srgbClr val="e5e5ff"/>
              </a:solidFill>
              <a:latin typeface="Garamond"/>
            </a:endParaRPr>
          </a:p>
        </p:txBody>
      </p:sp>
      <p:graphicFrame>
        <p:nvGraphicFramePr>
          <p:cNvPr id="287" name=""/>
          <p:cNvGraphicFramePr/>
          <p:nvPr/>
        </p:nvGraphicFramePr>
        <p:xfrm>
          <a:off x="457200" y="1600200"/>
          <a:ext cx="8077320" cy="5046840"/>
        </p:xfrm>
        <a:graphic>
          <a:graphicData uri="http://schemas.openxmlformats.org/drawingml/2006/table">
            <a:tbl>
              <a:tblPr/>
              <a:tblGrid>
                <a:gridCol w="2209680"/>
                <a:gridCol w="1478160"/>
                <a:gridCol w="4389480"/>
              </a:tblGrid>
              <a:tr h="2284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RG Texa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 today’s zonal market, Resource Entities can, if they choose, procure Ancillary Services from ERCOT.  This functionality was omitted in the Nodal Market design.  Currently, the Nodal Market design only allows QSEs with Ancillary Service Obligations the option in the Day-Ahead Market (DAM) of either: 1) self-providing, or 2) procuring all or a portion of their obligation from ERCOT.  This NPRR would allow QSEs with Ancillary Services responsibilities, i.e., Resource Entities, the same functional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llow all QSEs, whether they represent Resources, Loads, or both, to procure Ancillary Services in the DA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n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endorse and forward to TAC the 6/19/08 PRS Recommendation Report for NPRR131 as amended by the 12/8/09 ERCOT comments and as revised by PRS.  PRS also unanimously voted to recommend a priority of </a:t>
                      </a:r>
                      <a:r>
                        <a:rPr b="0" lang="en-US" sz="1600" spc="-1" strike="noStrike">
                          <a:solidFill>
                            <a:srgbClr val="ff0000"/>
                          </a:solidFill>
                          <a:latin typeface="Garamond"/>
                        </a:rPr>
                        <a:t>High</a:t>
                      </a:r>
                      <a:r>
                        <a:rPr b="0" lang="en-US" sz="1600" spc="-1" strike="noStrike">
                          <a:solidFill>
                            <a:srgbClr val="ffffff"/>
                          </a:solidFill>
                          <a:latin typeface="Garamond"/>
                        </a:rPr>
                        <a:t> for NPRR13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t Needed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81, FIP Definition Revision </a:t>
            </a:r>
            <a:endParaRPr b="1" lang="en-US" sz="3200" spc="-1" strike="noStrike">
              <a:solidFill>
                <a:srgbClr val="e5e5ff"/>
              </a:solidFill>
              <a:latin typeface="Garamond"/>
            </a:endParaRPr>
          </a:p>
        </p:txBody>
      </p:sp>
      <p:graphicFrame>
        <p:nvGraphicFramePr>
          <p:cNvPr id="289" name=""/>
          <p:cNvGraphicFramePr/>
          <p:nvPr/>
        </p:nvGraphicFramePr>
        <p:xfrm>
          <a:off x="533520" y="1371600"/>
          <a:ext cx="8076960" cy="5291280"/>
        </p:xfrm>
        <a:graphic>
          <a:graphicData uri="http://schemas.openxmlformats.org/drawingml/2006/table">
            <a:tbl>
              <a:tblPr/>
              <a:tblGrid>
                <a:gridCol w="2209680"/>
                <a:gridCol w="1477800"/>
                <a:gridCol w="4389480"/>
              </a:tblGrid>
              <a:tr h="301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umina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revises the definition of Fuel Index Price (FIP) to correctly account for the timing difference between ERCOT’s application of the FIP in its systems (midnight to midnight) and the timing of natural gas prices reflected by the index (i.e., hour ending 1000 to 0900).  The fuel price index published in Gas Daily, in the Daily Price Survey, under the heading “East-Houston-Katy, Houston Ship Channel” for any particular day reflects natural gas prices available to users from hour ending 1000 of the particular day to hour ending 0900 of the next day (i.e., the normal “gas day”).  This NPRR also adds a new definition for the term “Gas Da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ore accurate pricing of energy produced from natural gas-fueled gener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n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recommend approval of NPRR181 as submitted.  PRS also unanimously voted to recommend a priority of </a:t>
                      </a:r>
                      <a:r>
                        <a:rPr b="0" lang="en-US" sz="1600" spc="-1" strike="noStrike">
                          <a:solidFill>
                            <a:srgbClr val="ff0000"/>
                          </a:solidFill>
                          <a:latin typeface="Garamond"/>
                        </a:rPr>
                        <a:t>High</a:t>
                      </a:r>
                      <a:r>
                        <a:rPr b="0" lang="en-US" sz="1600" spc="-1" strike="noStrike">
                          <a:solidFill>
                            <a:srgbClr val="ffffff"/>
                          </a:solidFill>
                          <a:latin typeface="Garamond"/>
                        </a:rPr>
                        <a:t> and to forward NPRR181 to TA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t Needed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arking Deck Priority and Rank</a:t>
            </a:r>
            <a:endParaRPr b="1" lang="en-US" sz="4400" spc="-1" strike="noStrike">
              <a:solidFill>
                <a:srgbClr val="e5e5ff"/>
              </a:solidFill>
              <a:latin typeface="Garamond"/>
            </a:endParaRPr>
          </a:p>
        </p:txBody>
      </p:sp>
      <p:sp>
        <p:nvSpPr>
          <p:cNvPr id="291" name="PlaceHolder 2"/>
          <p:cNvSpPr>
            <a:spLocks noGrp="1"/>
          </p:cNvSpPr>
          <p:nvPr>
            <p:ph/>
          </p:nvPr>
        </p:nvSpPr>
        <p:spPr>
          <a:xfrm>
            <a:off x="685440" y="1295280"/>
            <a:ext cx="7924680" cy="4724640"/>
          </a:xfrm>
          <a:prstGeom prst="rect">
            <a:avLst/>
          </a:prstGeom>
          <a:noFill/>
          <a:ln w="0">
            <a:noFill/>
          </a:ln>
        </p:spPr>
        <p:txBody>
          <a:bodyPr anchor="t">
            <a:norm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NPRR131, Ancillary Service Trades with ERCOT– Priority of </a:t>
            </a:r>
            <a:r>
              <a:rPr b="1" i="1" lang="en-US" sz="2800" spc="-1" strike="noStrike">
                <a:solidFill>
                  <a:srgbClr val="ff0000"/>
                </a:solidFill>
                <a:latin typeface="Garamond"/>
              </a:rPr>
              <a:t>HIGH</a:t>
            </a:r>
            <a:endParaRPr b="0" lang="en-US" sz="2800" spc="-1" strike="noStrike">
              <a:solidFill>
                <a:srgbClr val="ffffff"/>
              </a:solidFill>
              <a:latin typeface="Garamond"/>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NPRR181, FIP Definition Revision – Priority of </a:t>
            </a:r>
            <a:r>
              <a:rPr b="1" i="1" lang="en-US" sz="2800" spc="-1" strike="noStrike">
                <a:solidFill>
                  <a:srgbClr val="ffc000"/>
                </a:solidFill>
                <a:latin typeface="Garamond"/>
              </a:rPr>
              <a:t>HIGH</a:t>
            </a:r>
            <a:endParaRPr b="0" lang="en-US" sz="28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293" name="PlaceHolder 2"/>
          <p:cNvSpPr>
            <a:spLocks noGrp="1"/>
          </p:cNvSpPr>
          <p:nvPr>
            <p:ph/>
          </p:nvPr>
        </p:nvSpPr>
        <p:spPr>
          <a:xfrm>
            <a:off x="685440" y="1294920"/>
            <a:ext cx="792468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Unanimously Recommended for Approval with No Impacts</a:t>
            </a:r>
            <a:endParaRPr b="0" lang="en-US" sz="20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94, Synchronization of Zonal Unannounced Generation Capacity Testing Process </a:t>
            </a:r>
            <a:endParaRPr b="0" lang="en-US" sz="18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197, Section 21, Synchronization of Zonal Protocols </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Not Unanimously Recommended for Approval with No Impact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2, Addition of Generic Startup Cost and Minimum Energy Cost for Diesel – </a:t>
            </a:r>
            <a:r>
              <a:rPr b="0" i="1" lang="en-US" sz="2000" spc="-1" strike="noStrike">
                <a:solidFill>
                  <a:srgbClr val="ff0000"/>
                </a:solidFill>
                <a:latin typeface="Garamond"/>
              </a:rPr>
              <a:t>URGENT</a:t>
            </a:r>
            <a:endParaRPr b="0" lang="en-US" sz="20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Unanimously Recommended for Approval with Impacts</a:t>
            </a:r>
            <a:endParaRPr b="0" lang="en-US" sz="20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one this month</a:t>
            </a:r>
            <a:endParaRPr b="0" lang="en-US" sz="1800" spc="-1" strike="noStrike">
              <a:solidFill>
                <a:srgbClr val="ffffff"/>
              </a:solidFill>
              <a:latin typeface="Garamond"/>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ision Requests Not Unanimously Recommended for Approval with Impacts</a:t>
            </a:r>
            <a:endParaRPr b="0" lang="en-US" sz="2000" spc="-1" strike="noStrike">
              <a:solidFill>
                <a:srgbClr val="ffffff"/>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NPRR202, Clarification of Network Operations Model and State Estimator Postings </a:t>
            </a:r>
            <a:endParaRPr b="0" lang="en-US" sz="18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Discussion Update</a:t>
            </a:r>
            <a:endParaRPr b="1" lang="en-US" sz="4400" spc="-1" strike="noStrike">
              <a:solidFill>
                <a:srgbClr val="e5e5ff"/>
              </a:solidFill>
              <a:latin typeface="Garamond"/>
            </a:endParaRPr>
          </a:p>
        </p:txBody>
      </p:sp>
      <p:sp>
        <p:nvSpPr>
          <p:cNvPr id="295" name="PlaceHolder 2"/>
          <p:cNvSpPr>
            <a:spLocks noGrp="1"/>
          </p:cNvSpPr>
          <p:nvPr>
            <p:ph/>
          </p:nvPr>
        </p:nvSpPr>
        <p:spPr>
          <a:xfrm>
            <a:off x="685440" y="1295280"/>
            <a:ext cx="7924680" cy="4724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2009 Goal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imeline for approval of PRR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     </a:t>
            </a:r>
            <a:r>
              <a:rPr b="1" i="1" lang="en-US" sz="4400" spc="-1" strike="noStrike">
                <a:solidFill>
                  <a:srgbClr val="ffffff"/>
                </a:solidFill>
                <a:latin typeface="Garamond"/>
              </a:rPr>
              <a:t>PRS 2009 Goals</a:t>
            </a:r>
            <a:endParaRPr b="1" lang="en-US" sz="4400" spc="-1" strike="noStrike">
              <a:solidFill>
                <a:srgbClr val="e5e5ff"/>
              </a:solidFill>
              <a:latin typeface="Garamond"/>
            </a:endParaRPr>
          </a:p>
        </p:txBody>
      </p:sp>
      <p:sp>
        <p:nvSpPr>
          <p:cNvPr id="297" name="PlaceHolder 2"/>
          <p:cNvSpPr>
            <a:spLocks noGrp="1"/>
          </p:cNvSpPr>
          <p:nvPr>
            <p:ph/>
          </p:nvPr>
        </p:nvSpPr>
        <p:spPr>
          <a:xfrm>
            <a:off x="380520" y="1980720"/>
            <a:ext cx="8006040" cy="403884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cess PRRs and NPRRs (Section 21 requirement)</a:t>
            </a:r>
            <a:endParaRPr b="0" lang="en-US" sz="2800" spc="-1" strike="noStrike">
              <a:solidFill>
                <a:srgbClr val="ffffff"/>
              </a:solidFill>
              <a:latin typeface="Garamond"/>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cilitate and make recommendations for 2010 Project Priorities as requested by ERCOT</a:t>
            </a:r>
            <a:endParaRPr b="0" lang="en-US" sz="2800" spc="-1" strike="noStrike">
              <a:solidFill>
                <a:srgbClr val="ffffff"/>
              </a:solidFill>
              <a:latin typeface="Garamond"/>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llaborate with ERCOT PMO to structure a process for “releasing” NPRRs to be included in “go-live plus ‘x’”</a:t>
            </a: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010 PRR Approval Cycle – Normal Timeline</a:t>
            </a:r>
            <a:endParaRPr b="1" lang="en-US" sz="4400" spc="-1" strike="noStrike">
              <a:solidFill>
                <a:srgbClr val="e5e5ff"/>
              </a:solidFill>
              <a:latin typeface="Garamond"/>
            </a:endParaRPr>
          </a:p>
        </p:txBody>
      </p:sp>
      <p:graphicFrame>
        <p:nvGraphicFramePr>
          <p:cNvPr id="299" name=""/>
          <p:cNvGraphicFramePr/>
          <p:nvPr/>
        </p:nvGraphicFramePr>
        <p:xfrm>
          <a:off x="228600" y="1523880"/>
          <a:ext cx="8915400" cy="5037120"/>
        </p:xfrm>
        <a:graphic>
          <a:graphicData uri="http://schemas.openxmlformats.org/drawingml/2006/table">
            <a:tbl>
              <a:tblPr/>
              <a:tblGrid>
                <a:gridCol w="1380960"/>
                <a:gridCol w="1554480"/>
                <a:gridCol w="1338120"/>
                <a:gridCol w="1554120"/>
                <a:gridCol w="1555920"/>
                <a:gridCol w="1531800"/>
              </a:tblGrid>
              <a:tr h="126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PRR </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Posting</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Deadlin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PRS</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PRS</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CBA/IA</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Review</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TAC</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Board</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Effective</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3-De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1-J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8-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0-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5/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2-J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8-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8-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8-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8-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6/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9-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8-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2-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6-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5-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7/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6-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2-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0-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3-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0-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8/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3-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0-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7-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0-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8/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1-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7-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2-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5-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1-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0/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5-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2-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9-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1-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0/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3-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9-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23-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7-Oct</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6-No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12/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1" name="PlaceHolder 2"/>
          <p:cNvSpPr>
            <a:spLocks noGrp="1"/>
          </p:cNvSpPr>
          <p:nvPr>
            <p:ph/>
          </p:nvPr>
        </p:nvSpPr>
        <p:spPr>
          <a:xfrm>
            <a:off x="681120" y="1987200"/>
            <a:ext cx="7929360" cy="413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PRR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NPRR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NPRRs for Parking Deck Conside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Rejec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Withdrawal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2, Addition of Generic Startup Cost and Minimum Energy Cost for Diesel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graphicFrame>
        <p:nvGraphicFramePr>
          <p:cNvPr id="153" name=""/>
          <p:cNvGraphicFramePr/>
          <p:nvPr/>
        </p:nvGraphicFramePr>
        <p:xfrm>
          <a:off x="457200" y="1600200"/>
          <a:ext cx="8077320" cy="521820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E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PRR adds generic costs for the Diesel Resource Category, which also includes other gas-fired Resources (including reciprocating engines).  This PRR makes the minimum energy costs for diesel consistent with what is currently in the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llows diesel and other reciprocating units to be reimbursed for their O&amp;M costs and minimum energy costs when called upon for Out of Merit Order (OOM) instructions.  Startup costs for these units are less than for other more “conventional” types of thermal uni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PRR842 as submitted.  There were two opposing votes from the Consumer Market Segment and three abstentions from the Municipal, Independent Retail Electric Provider (IREP) and Independent Generator Market Segment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ebruary 1, 20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2, Addition of Generic Startup Cost and Minimum Energy Cost for Diesel – </a:t>
            </a:r>
            <a:r>
              <a:rPr b="1" i="1" lang="en-US" sz="3200" spc="-1" strike="noStrike">
                <a:solidFill>
                  <a:srgbClr val="ff0000"/>
                </a:solidFill>
                <a:latin typeface="Garamond"/>
              </a:rPr>
              <a:t>URGENT</a:t>
            </a:r>
            <a:endParaRPr b="1" lang="en-US" sz="3200" spc="-1" strike="noStrike">
              <a:solidFill>
                <a:srgbClr val="e5e5ff"/>
              </a:solidFill>
              <a:latin typeface="Garamond"/>
            </a:endParaRPr>
          </a:p>
        </p:txBody>
      </p:sp>
      <p:sp>
        <p:nvSpPr>
          <p:cNvPr id="155"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6"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7"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68"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69"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0"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1"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2"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3"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4"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5"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75"/>
                                        </p:tgtEl>
                                        <p:attrNameLst>
                                          <p:attrName>r</p:attrName>
                                        </p:attrNameLst>
                                      </p:cBhvr>
                                    </p:animRot>
                                  </p:childTnLst>
                                </p:cTn>
                              </p:par>
                              <p:par>
                                <p:cTn id="7" nodeType="withEffect" fill="hold" presetClass="emph" presetID="8">
                                  <p:stCondLst>
                                    <p:cond delay="0"/>
                                  </p:stCondLst>
                                  <p:childTnLst>
                                    <p:animRot by="21600000">
                                      <p:cBhvr>
                                        <p:cTn id="8" dur="500" fill="hold"/>
                                        <p:tgtEl>
                                          <p:spTgt spid="176"/>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78"/>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79"/>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4, Synchronization of Zonal Unannounced Generation Capacity Testing Process </a:t>
            </a:r>
            <a:endParaRPr b="1" lang="en-US" sz="3200" spc="-1" strike="noStrike">
              <a:solidFill>
                <a:srgbClr val="e5e5ff"/>
              </a:solidFill>
              <a:latin typeface="Garamond"/>
            </a:endParaRPr>
          </a:p>
        </p:txBody>
      </p:sp>
      <p:graphicFrame>
        <p:nvGraphicFramePr>
          <p:cNvPr id="184" name=""/>
          <p:cNvGraphicFramePr/>
          <p:nvPr/>
        </p:nvGraphicFramePr>
        <p:xfrm>
          <a:off x="457200" y="1600200"/>
          <a:ext cx="8077320" cy="5095800"/>
        </p:xfrm>
        <a:graphic>
          <a:graphicData uri="http://schemas.openxmlformats.org/drawingml/2006/table">
            <a:tbl>
              <a:tblPr/>
              <a:tblGrid>
                <a:gridCol w="2209680"/>
                <a:gridCol w="1478160"/>
                <a:gridCol w="4389480"/>
              </a:tblGrid>
              <a:tr h="301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places the seasonal testing requirement with unannounced Generation Resource testing and adds a requirement for QSEs to seasonally update their Resources’ High Sustainable Limits (HSLs.) Also leverages existing emergency operations Settlement functionality to provide a mechanism to compensate a Generation Resource for the additional energy above the pre-test Security-Constrained Economic Dispatch (SCED) Base Point during the unannounced Generation Resource test period.  Synchronizes the Nodal Protocols with the process added to the zonal Protocols pursuant to PRR750, Unannounced Generation Capacity Test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mproved accuracy in reserve report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recommend approval of NPRR194 as revised by the 11/17/09 Luminant comments and as revised by P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4, Synchronization of Zonal Unannounced Generation Capacity Testing Process </a:t>
            </a:r>
            <a:endParaRPr b="1" lang="en-US" sz="3200" spc="-1" strike="noStrike">
              <a:solidFill>
                <a:srgbClr val="e5e5ff"/>
              </a:solidFill>
              <a:latin typeface="Garamond"/>
            </a:endParaRPr>
          </a:p>
        </p:txBody>
      </p:sp>
      <p:sp>
        <p:nvSpPr>
          <p:cNvPr id="186"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97"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98"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99"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0"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1"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2"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3"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4"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5"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6"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8">
                                  <p:stCondLst>
                                    <p:cond delay="0"/>
                                  </p:stCondLst>
                                  <p:iterate type="lt">
                                    <p:tmAbs val="0"/>
                                  </p:iterate>
                                  <p:childTnLst>
                                    <p:animRot by="-21600000">
                                      <p:cBhvr>
                                        <p:cTn id="22" dur="500" fill="hold"/>
                                        <p:tgtEl>
                                          <p:spTgt spid="206"/>
                                        </p:tgtEl>
                                        <p:attrNameLst>
                                          <p:attrName>r</p:attrName>
                                        </p:attrNameLst>
                                      </p:cBhvr>
                                    </p:animRot>
                                  </p:childTnLst>
                                </p:cTn>
                              </p:par>
                              <p:par>
                                <p:cTn id="23" nodeType="withEffect" fill="hold" presetClass="emph" presetID="8">
                                  <p:stCondLst>
                                    <p:cond delay="0"/>
                                  </p:stCondLst>
                                  <p:childTnLst>
                                    <p:animRot by="21600000">
                                      <p:cBhvr>
                                        <p:cTn id="24" dur="500" fill="hold"/>
                                        <p:tgtEl>
                                          <p:spTgt spid="207"/>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08"/>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09"/>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0"/>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1"/>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7, Section 21, Synchronization of Zonal Protocols </a:t>
            </a:r>
            <a:endParaRPr b="1" lang="en-US" sz="3200" spc="-1" strike="noStrike">
              <a:solidFill>
                <a:srgbClr val="e5e5ff"/>
              </a:solidFill>
              <a:latin typeface="Garamond"/>
            </a:endParaRPr>
          </a:p>
        </p:txBody>
      </p:sp>
      <p:graphicFrame>
        <p:nvGraphicFramePr>
          <p:cNvPr id="216" name=""/>
          <p:cNvGraphicFramePr/>
          <p:nvPr/>
        </p:nvGraphicFramePr>
        <p:xfrm>
          <a:off x="457200" y="1600200"/>
          <a:ext cx="8077320" cy="3882960"/>
        </p:xfrm>
        <a:graphic>
          <a:graphicData uri="http://schemas.openxmlformats.org/drawingml/2006/table">
            <a:tbl>
              <a:tblPr/>
              <a:tblGrid>
                <a:gridCol w="2209680"/>
                <a:gridCol w="1478160"/>
                <a:gridCol w="438948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RCO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synchronizes zonal Protocol Section 21 with the current Nodal Protocols and includes changes from PRR821, Update of Section 21, Process for Protocol Revision.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mpletion of Nodal Protocol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forward the 11/19/09 PRS Recommendation Report as amended by the 12/10/09 ERCOT Comments and the Impact Analysis to TA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9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for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197, Section 21, Synchronization of Zonal Protocols </a:t>
            </a:r>
            <a:endParaRPr b="1" lang="en-US" sz="3200" spc="-1" strike="noStrike">
              <a:solidFill>
                <a:srgbClr val="e5e5ff"/>
              </a:solidFill>
              <a:latin typeface="Garamond"/>
            </a:endParaRPr>
          </a:p>
        </p:txBody>
      </p:sp>
      <p:sp>
        <p:nvSpPr>
          <p:cNvPr id="218"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29"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0"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1"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2"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3"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4"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5"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36"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37"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8"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8">
                                  <p:stCondLst>
                                    <p:cond delay="0"/>
                                  </p:stCondLst>
                                  <p:iterate type="lt">
                                    <p:tmAbs val="0"/>
                                  </p:iterate>
                                  <p:childTnLst>
                                    <p:animRot by="-21600000">
                                      <p:cBhvr>
                                        <p:cTn id="40" dur="500" fill="hold"/>
                                        <p:tgtEl>
                                          <p:spTgt spid="238"/>
                                        </p:tgtEl>
                                        <p:attrNameLst>
                                          <p:attrName>r</p:attrName>
                                        </p:attrNameLst>
                                      </p:cBhvr>
                                    </p:animRot>
                                  </p:childTnLst>
                                </p:cTn>
                              </p:par>
                              <p:par>
                                <p:cTn id="41" nodeType="withEffect" fill="hold" presetClass="emph" presetID="8">
                                  <p:stCondLst>
                                    <p:cond delay="0"/>
                                  </p:stCondLst>
                                  <p:childTnLst>
                                    <p:animRot by="21600000">
                                      <p:cBhvr>
                                        <p:cTn id="42" dur="500" fill="hold"/>
                                        <p:tgtEl>
                                          <p:spTgt spid="239"/>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0"/>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1"/>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2"/>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3"/>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02, Clarification of Network Operations Model and State Estimator Postings </a:t>
            </a:r>
            <a:endParaRPr b="1" lang="en-US" sz="3200" spc="-1" strike="noStrike">
              <a:solidFill>
                <a:srgbClr val="e5e5ff"/>
              </a:solidFill>
              <a:latin typeface="Garamond"/>
            </a:endParaRPr>
          </a:p>
        </p:txBody>
      </p:sp>
      <p:graphicFrame>
        <p:nvGraphicFramePr>
          <p:cNvPr id="248" name=""/>
          <p:cNvGraphicFramePr/>
          <p:nvPr/>
        </p:nvGraphicFramePr>
        <p:xfrm>
          <a:off x="457200" y="1600200"/>
          <a:ext cx="8077320" cy="4406760"/>
        </p:xfrm>
        <a:graphic>
          <a:graphicData uri="http://schemas.openxmlformats.org/drawingml/2006/table">
            <a:tbl>
              <a:tblPr/>
              <a:tblGrid>
                <a:gridCol w="2209680"/>
                <a:gridCol w="1478160"/>
                <a:gridCol w="4389480"/>
              </a:tblGrid>
              <a:tr h="179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urpos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addresses the confidentiality of data in the Network Operations Model and Hourly State Estimator report.  The language introduces a newly defined term for redacted-version of the Network Operations Model for non-Transmission Service Providers (TSPs) and also removes Private Use Network data from the Hourly State Estimator repor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Benef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arket Impac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ystem Chan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n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RS Vo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via roll call vote to recommend approval of NPRR202 as revised by PRS and to forward to TA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EO Determin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termined this should move through stakeholder proc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ffective D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o Be Determ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balbracht</cp:lastModifiedBy>
  <dcterms:modified xsi:type="dcterms:W3CDTF">2010-01-04T17:40:02Z</dcterms:modified>
  <cp:revision>444</cp:revision>
  <dc:subject/>
  <dc:title>Protocol Revision Subcommittee</dc:title>
</cp:coreProperties>
</file>