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F8D9-9DC6-44F8-B980-CB14A1E4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02B5-3999-4A1D-8DCD-C5162E5D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4C30-66F0-499D-B7FC-AFE8EE7A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39E8-D5AF-4236-86FC-C4473201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3A98-76E8-41C8-8662-8043A187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35C6-82D5-4C66-AE5E-AC63B681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2326-8E31-43D1-89BD-764E8154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D4D6-3209-474C-A729-94E3D528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CF69C-F682-4FDA-B3D7-4994133F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E259-7830-456D-836A-5A06161B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FFEDA-F24D-4D08-8976-B4F11282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9585-64E8-4D5B-9DD7-0C8A2E1A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D95B-D4F3-4C98-9500-574AE54EC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7BAD-99DA-4F52-B24D-53678806C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vised Generation Interconnection Or Change Request Procedures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an Woodfi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irector, System Plan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518148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/06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Generation Interconnection Procedure dated Aug.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s generation interconnection procedure, but also contains technical standards and education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ERCOT is collecting deposits toward full interconnection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reflect current ERCOT practice with respect to confidentiality, content of procedures documents and technical requirements from recently approved PRRs and OGR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d “New Generation Interconnection or Change Request Procedures” reflects many months of discussions and at least 13 red-lined versions by Regional Planning Group (RPG) since 2007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 - GINR Proced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1/06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ighligh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s updated practice on studies, confidentiality, study groups, study responsibilities, document formatting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es technical requirements that should be covered in Protocols, Operating Guides and other applicable technical 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s process for inclusion of economic study for direct interconnection projects costing over $25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es concept of ERCOT collecting full interconnection study deposit (this is collected directly by TSP performing FI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s process for reporting of generator technical data and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 not change basic procedural steps, timelines, or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 - GINR Proced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1/06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22860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 - GINR Procedur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1/06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Dan Woodfin - ERCOT</cp:lastModifiedBy>
  <dcterms:modified xsi:type="dcterms:W3CDTF">2009-12-30T15:05:43Z</dcterms:modified>
  <cp:revision>63</cp:revision>
  <dc:subject/>
  <dc:title>Instructions</dc:title>
</cp:coreProperties>
</file>