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AD2-E261-4C99-B7F2-B0906D41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AFF-A5C3-4103-9CCB-395BE8A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041-40FA-4CC2-885A-0BB6793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5EC-F9D6-4985-A011-17802648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20A-1C7C-4339-A560-E0C79050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C2D-49AE-46FF-9047-A7EE016A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CB0C-33C2-4BC2-B90C-0CE6F824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4826-C2F8-4D35-927D-F7790F56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57AC-51B5-472B-AB9C-71A0A58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BF4-38C4-4EDF-82A9-54CD3DC5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2C24-4A9F-48EB-B146-5D07801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A9E-1286-4E41-B3D1-805B9380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D29-DCBD-4E54-B1F8-3B0BBE5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AAE5-17CC-47E9-8D63-FFD05CA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501A-8A2A-4619-8949-6C2BCF5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A2B-6758-40D7-B27F-70CFB21E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AD94-BD11-4135-821F-B62D89A5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D36-437E-40B5-A512-1FC739F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B14-CAE8-4F39-A9DA-3518B85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F72-C968-4FC1-BCDD-0776011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016-3922-4CE9-8D09-578F63D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066-F265-4179-90B9-CAC48512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8FA-3FA3-4C99-8C43-C6CA1C3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87C-7321-4157-A479-BAB45AB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1D95-9921-481E-9CE2-2ACBF813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D54-F81A-4477-AB06-8A0B1728F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PS Update to 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January 6, 20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A215-76F9-4928-B18F-5E3EF2DDCB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COPS 2009 Accomplish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roved COPMGRRs 09, 10, 11, 12, 13 and 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roved SCR 755, Website Improv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lizing COPMGRRs 15 and 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ed on the Client Support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dated COPS Procedures tw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ed TPTF Final Report to TA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d where COPS can assist, identified transitional issues, and determined COPS SM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ewed Market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F18-5DB3-4534-BAE0-C2E1E48C8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COPS 2009 Accomplish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A1B-E6EA-4A90-AD3C-1701C9DD03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3 Synchronization of Load Profiling Guide with PRR8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4 Profile Model Spreadsheets - Calendar Extension and Delete Unused Mod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GRR035 Addition of Time Of Use Schedules (TOUS) to Profiles with Interval Data Recorder (IDR) Meter Data Type Codes for Advanced Met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nd 2 sample load research data collection on 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FE 2008 Report and Hurricane UFE discussions on profile adjus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Validation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ed with PRR language defining the process and scenarios for changing IDRs to Advanced Meters at request of RMW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R Analysis completed with recommendation to keep 700 kW 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profile scaling factors method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UFE allocation factors in lieu of AMS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d and recommended distribution loss method due to AMS remain s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COPS 2009 Accomplish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69C0-DECC-46C6-873F-9DCD41C8A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EW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reated an Issues Tracking report in conjunction with ERCOT to track and monitor Extract and Report Issu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intained regular reporting from ERCOT on the progress of Nodal COMS, the design of Reports and Extracts for the Nodal Marke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ngaged ERCOT in recalculation and further analysis on UFE during the Hurricane Ike event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86d1ec"/>
              </a:buClr>
              <a:buSzPct val="9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mpleted the Data Extracts and Reports Service Level Agree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COPS 2009 Accomplish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DCAF-D654-408B-A9A1-C2D999339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EI DRG T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d Market awareness and created forum for discussion of Nodal requirements for registration and settlement of DG &gt; 50 kW &amp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forth concepts to COPS in regards to the registration and settlement of DG &gt; 50 kW &amp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o finalizing recommended language for NPRR for review by C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Arial"/>
              </a:rPr>
              <a:t>Three voting it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Arial"/>
              </a:rPr>
              <a:t>COPMGRR015, Creating Section 8, ERCOT Settlement and Invoice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Arial"/>
              </a:rPr>
              <a:t>COPMGRR016, Update to Section 12, Renewable Energy Credits Due to PRR808, Clean-up and Alignment of RECs Trading Program Language with PUCT R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Arial"/>
              </a:rPr>
              <a:t>SCR755, ERCOT.com Website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EB9C-B1E6-4F3C-9C3E-345908228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Arial"/>
              </a:rPr>
              <a:t>COPMGRR015, Creating Section 8, ERCOT Settlement and Invoic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information on ERCOT’s invoicing process and specifically addresses the ad-hoc invoic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o Opinion on the need for Go-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o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3DE-FEC6-4B9C-848A-AF91C5697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Arial"/>
              </a:rPr>
              <a:t>COPMGRR016, Update to Section 12, Renewable Energy Credits Due to PRR8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RR808, Clean-up and Alignment of RECs Trading Program Language with PUCT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COPMGRR updates Section 12 to conform to the language of PRR808 and PUCT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o opinion on the need for Go-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o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920-B6C4-43B9-AF85-D78C425638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</a:rPr>
              <a:t>Voting Item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Arial"/>
              </a:rPr>
              <a:t>SCR755, ERCOT.com Website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Improves the usability of the webs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Not Needed for Go-L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IA Postpo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Recommended by PRS with a priority of ‘Medium’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With TAC and Board approval SCR755 will move into the “Parking Deck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Arial"/>
              </a:rPr>
              <a:t>To be sent to the “Parking Deck” due to impacts to ERCOT resources and test environ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3C4C-2B32-455B-85E5-ACF56788B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995-3F08-4343-8FEE-7697A38F3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Working Group Up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MGRR015, Section 8, ERCOT Settlement and Invoic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MGRR016, Update to Section 12, Renewable Energy Credits, align with PRR8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has requested input on what Really Simple Syndication (RSS) Feeds Market Participants would like available for the ERCOT.com website.  ERCOT will provide a live demo to COPS at their January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ontinues on the COPS Marke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1174-F935-482A-86B5-BB3F3B535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Working Group Up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ff"/>
                </a:solidFill>
                <a:uFillTx/>
                <a:latin typeface="Arial"/>
              </a:rPr>
              <a:t>P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in progress for Annual Validation suspension per AMS has been discussed and shall be on the next PWG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GRR shall be in order for changes per the NOIE DRG TF when the TF is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LPGRR to clean up Section 1.1, Document Control per Market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Administration LPGRR to clean up type-o on Decision 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FB8-D295-4291-9279-DAD704CFA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 u="sng">
                <a:solidFill>
                  <a:srgbClr val="ffff00"/>
                </a:solidFill>
                <a:uFillTx/>
                <a:latin typeface="Arial"/>
              </a:rPr>
              <a:t>Working Group Up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ffff"/>
                </a:solidFill>
                <a:uFillTx/>
                <a:latin typeface="Arial"/>
              </a:rPr>
              <a:t>SE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tract and Report issues SLA from mid April to May pos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 extract issue involving a change to the ‘Descriptor Value’ was discussed and ideas for process improvements involving the communications of similar changes in the future will be consider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ing with MCWG on possible accelerated Nodal DAM Settlement Timeline; discussion focused on the option of reducing the due date in the DAM timeline by 1 day as opposed to 2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944-440E-4EB9-8DB6-6FBBDD255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10-01-05T15:55:35Z</dcterms:modified>
  <cp:revision>122</cp:revision>
  <dc:subject/>
  <dc:title>Slide 1</dc:title>
</cp:coreProperties>
</file>