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02A-799D-49A0-A112-576A515A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E59-776B-4F69-9F03-AEE0FF8A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658-A855-46BB-BEFB-3EB53400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201-2669-4306-9886-EB5C29AA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1D3-972C-443C-9807-71979AA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3FB-BECC-4657-B193-DBD0DF9C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7C7-40C8-4F79-82A6-E4FEA9E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39A-782F-4BD4-A364-1E3464C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01B-6462-41A7-B1B6-E947144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85B-D3C0-4B6F-BC5D-2CC40E9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6B2-00C1-4834-991A-1DFFB91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C24-1C71-4692-9885-6FA8119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C59E-0282-46D3-8308-CE626765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TWG Report to T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6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Durrwa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WG Meeting December 7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n Electric Energy Storage (EES) technologies focused on potential applications in ERCOT by Dr. Rahul Walawalkar, Customized Energy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Issue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4 comple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 - 8 (Reactive and Voltage Requirements Applicable to Wind Gene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- 9 (SCADA Control of Generator Circuit Brea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- 15 (Communications between Wind Farms and TS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- 28 (SPS Actuation for N-0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one new issue (SP - 9: Wind Turbine Model Vali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Plan for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exas Renewables Implementation Plan (TRIP) documentation (Febru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 TRIP Updates for ERCOT Board and Public Utility Commission of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technology integrati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Protocol and Operating Guide changes related to solar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applications for storage and associated Protocol and Operating Guid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5:16:15Z</dcterms:created>
  <dc:creator>Henry Durrwachter</dc:creator>
  <dc:description/>
  <dc:language>en-US</dc:language>
  <cp:lastModifiedBy>Henry Durrwachter</cp:lastModifiedBy>
  <dcterms:modified xsi:type="dcterms:W3CDTF">2010-01-04T15:42:43Z</dcterms:modified>
  <cp:revision>4</cp:revision>
  <dc:subject/>
  <dc:title>RTWG Report to TAC</dc:title>
</cp:coreProperties>
</file>