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35BBC-3B9B-43A7-8885-9A72A263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56855-FC2A-4504-93E8-ED2E9969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09A6A-D5BA-4F47-8E89-5CB791EF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5C68C-8D1E-4EA0-AC2F-F152142D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7DB4-4D5E-48C3-B4F0-59F25230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F522-7D27-4E44-9490-B093774D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1929-6A2F-47F3-ABC7-9D0C8EDE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55BE-9736-4FB7-9698-D0113E68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1476-CFA0-4828-8B56-CE14DE1E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64B1-DE65-4BD2-9C8C-CAA49CBF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3E1B-2A3B-4D06-88DD-9CF57525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10285-0E13-47E3-B846-F81B684B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B1E0-7E1A-44BC-B652-0897C1BB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8385-C5F0-469B-904D-CEA46BA0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E864-F500-4E8C-A2D5-9A1B18C8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B384-778B-40A2-B963-EFE6B8B2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21E3-5FBD-4DF0-A4E2-77778EE8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C33F9-6404-4292-99B3-FFD424DC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BB7C2-3E68-43BA-B727-88A3E345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79553-603E-4A5D-8CD9-60CE0B9C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8C042-37B9-4783-AEAE-A479D71D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ECB0F-5989-433B-927D-99A79945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EB729-16A7-4146-9B6A-E1320F54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84B53-EB86-43ED-A209-10D83990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40BC-5EA1-402C-8FEE-73000C2687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0771-3E46-4F84-BF02-A353DFC8B3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Market Credit Working Group Update to WM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d. Dec 16,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et Fund O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990720"/>
          <a:ext cx="8763120" cy="5422680"/>
        </p:xfrm>
        <a:graphic>
          <a:graphicData uri="http://schemas.openxmlformats.org/drawingml/2006/table">
            <a:tbl>
              <a:tblPr/>
              <a:tblGrid>
                <a:gridCol w="1219320"/>
                <a:gridCol w="3425760"/>
                <a:gridCol w="1374840"/>
                <a:gridCol w="1458720"/>
                <a:gridCol w="1284480"/>
              </a:tblGrid>
              <a:tr h="30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Option 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Option 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Option 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Option 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Inception of fund: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ool funding based on uplift mechanis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ool funding based on uplift mechanism (example: 4(b)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ool funding is risk based (e.g. CRR obligations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No fun d option – short pay/uplift invoices onl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(example: 4(b)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Replenishment: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Uplift invoices (max of $2.5M/month); refunds to initial payers to fund plus normal funding invoices if the fund wasn’t at cap at the time of default.  Short paid Market Participants get first priorit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ame mechanism as inceptio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ame mechanism as inceptio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In/Out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Market Participants have title to funds, held in trust by ERCOT.  Refundable on market exit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ERCOT ISO, governed by Protocols.  Not refundable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ERCOT ISO, governed by Protocols.  Not refundable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ap Target?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et by TAC &amp; Boar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et by TAC &amp; Boar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et by TAC &amp; Boar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ERCOT, Inc backstop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et by Board, starts at $xx</a:t>
                      </a: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et by Board, starts at $xx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Set by Board, starts at $xx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M Credit Requirements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CWG continued reviewing the DAM credit requirements at the Dec. 7 face-to-face mee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nda Stephenson, Luminant to present the issue to W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uture Items for MCWG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rection of invoice timing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form bottom up review of existing creditworthiness standards (after CCRO Best Practices effor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tion of settlement cycle due to PRR 568 (7day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rther reductions in settlement cyc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s includes looking at the potential to reduce the settlement cycle 30% with improved meter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xt Meeting ~MCW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one meeting Friday December 18, 2009, 9:30 AM -4:30 C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pdate from WMS mee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ion on NPRR for loss mutualization + DAM acceler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M Collateral Requirements and form sub-gro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MCWG Meetings Since November Updat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cember 7, 2009 Face-to-face meeting (plus webex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CWG December 2009 Overview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pdate on the Two Motions Approved by WMS in July re: D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te on Motion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pdate on DAM Credit Requir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king Lot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M Motions Approved by W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tion 1 -Review options for shared short-pay fund (Participants and ERCOT Inc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tion 2- Expanded loss mutualization for entire market AND accelerated D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Update on Motions Approved by WMS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6960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MS Endorsed work on Loss Mutualization (First part of Second Motion) at Nov. mee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Joint meeting of SEWG and MCWG to discuss further acceleration of DAM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Vote on DAM settlement acceleration and approval of full motion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ptions for shared short-pay fund (Participants and ERCOT Inc) discus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ook for WMS direction on possible 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rther Acceleration D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CWG joint meeting with SEWG on Dec. 7. on DAM further accel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nefits and issues related to further acceleration were discuss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cern was raised that further acceleration of settlement cycle by 2 days was too aggressive at market laun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re was concern by some participants that any further acceleration could be challenging for their back-offices or internal process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 third view was that one day acceleration could be accomplished for Day One, and that the settlement cycle could be reviewed six (6) months after go-live to see if a further reductions were feasible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rther Acceleration DAM (Vote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te on preferred DAM settlement acceleration op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te on Motion 2 (previous endorsed default methodology + DAM acceleration from abov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tion 2 –Next Ste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aft NPR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 NPRR to WMS for comment/approval and then forward to P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Short-Pay Fu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ions on proposals for short pay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proposal is to continue to short-pay the market rather than establish a market fund and then revisit the short-pay fund after market go-l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direction does WMS want the short-pay fund to go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no-short-pay fund, then we can either continue reviewing options now or table until after go-l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there is to be a short-pay fund, then MCWG can continue to revie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7:11:00Z</dcterms:created>
  <dc:creator>daviesm</dc:creator>
  <dc:description/>
  <dc:language>en-US</dc:language>
  <cp:lastModifiedBy>klandry</cp:lastModifiedBy>
  <dcterms:modified xsi:type="dcterms:W3CDTF">2009-12-15T20:05:22Z</dcterms:modified>
  <cp:revision>36</cp:revision>
  <dc:subject/>
  <dc:title>Market Credit Working Group Update to WMS</dc:title>
</cp:coreProperties>
</file>