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3FCDC-D68C-4C77-9BE1-F9E4F032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FD908-8638-4018-A7B7-089894E2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CA2F6-F74C-44D9-B859-3454D3115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DE908-73F6-471E-BD13-533F98F5E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82BC4-2DC2-440B-B85F-0A56B051F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C6DC-79A7-40A6-8EB2-EF30A68AB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A45D6-353A-4DAB-B273-85A15EDF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9239-CB4C-427B-9799-D2BD5AE4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9758-63B6-4E8C-9B82-26BA8DA4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52AD-B15B-4FEC-96C0-CBC2C465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8576-5B63-4F59-B01F-851ACF31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8648-F830-4410-AFE3-F4558A578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1F57-233E-4FBF-AA87-6DEF6318D4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G TF Voting Items</a:t>
            </a:r>
            <a:endParaRPr b="0" lang="en-US" sz="4400" spc="-1" strike="noStrike">
              <a:solidFill>
                <a:srgbClr val="000000"/>
              </a:solidFill>
              <a:latin typeface="Calibri"/>
            </a:endParaRPr>
          </a:p>
        </p:txBody>
      </p:sp>
      <p:sp>
        <p:nvSpPr>
          <p:cNvPr id="42" name=""/>
          <p:cNvSpPr txBox="1"/>
          <p:nvPr/>
        </p:nvSpPr>
        <p:spPr>
          <a:xfrm>
            <a:off x="457200" y="144792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 Participant Notification Period (Transmission outage)</a:t>
            </a: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t;=3 Days  ….  30 Days …. 91 Days  …. &gt;=1 Year</a:t>
            </a: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connection Date for Protocol Considerations</a:t>
            </a: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Interconnection sets the Interconnection date for all future protocols.</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w interconnections Set a New Interconnection Date </a:t>
            </a: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Concept  Endorsement </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ximum Flexibility</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nimize Costs (Recommended)</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conomic Planning</a:t>
            </a:r>
            <a:endParaRPr b="0" lang="en-US" sz="1900" spc="-1" strike="noStrike">
              <a:solidFill>
                <a:srgbClr val="000000"/>
              </a:solidFill>
              <a:latin typeface="Calibri"/>
            </a:endParaRPr>
          </a:p>
          <a:p>
            <a:pPr lvl="1" marL="727920" indent="-2800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oval of MIG Whitepap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Calibri"/>
              </a:rPr>
              <a:t>Market Participant Switch Request </a:t>
            </a:r>
            <a:br>
              <a:rPr sz="4000"/>
            </a:br>
            <a:r>
              <a:rPr b="0" lang="en-US" sz="4000" spc="-1" strike="noStrike">
                <a:solidFill>
                  <a:srgbClr val="000000"/>
                </a:solidFill>
                <a:latin typeface="Calibri"/>
              </a:rPr>
              <a:t>3 Days (or Less)</a:t>
            </a:r>
            <a:endParaRPr b="0" lang="en-US" sz="4000" spc="-1" strike="noStrike">
              <a:solidFill>
                <a:srgbClr val="000000"/>
              </a:solidFill>
              <a:latin typeface="Calibri"/>
            </a:endParaRPr>
          </a:p>
        </p:txBody>
      </p:sp>
      <p:sp>
        <p:nvSpPr>
          <p:cNvPr id="4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ors with multiple interconnections should follow the transmission outage time frame for switching interconnec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ay minimum for ERCOT review, but incentives to submit early.  Allow shorter submission based on ERCOT’s current workflow on a case-by-case bas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time frames punitive to generators who make extensive investment decis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ing generator maximum flexibility for price response is most efficient: it’s not rational to prohibit a MIG from helping to resolve a constrai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0 Days</a:t>
            </a:r>
            <a:endParaRPr b="0" lang="en-US" sz="4400" spc="-1" strike="noStrike">
              <a:solidFill>
                <a:srgbClr val="000000"/>
              </a:solidFill>
              <a:latin typeface="Calibri"/>
            </a:endParaRPr>
          </a:p>
        </p:txBody>
      </p:sp>
      <p:sp>
        <p:nvSpPr>
          <p:cNvPr id="46" name="PlaceHolder 2"/>
          <p:cNvSpPr>
            <a:spLocks noGrp="1"/>
          </p:cNvSpPr>
          <p:nvPr>
            <p:ph type="subTitle"/>
          </p:nvPr>
        </p:nvSpPr>
        <p:spPr>
          <a:xfrm>
            <a:off x="914400" y="1371240"/>
            <a:ext cx="7238880" cy="4800600"/>
          </a:xfrm>
          <a:prstGeom prst="rect">
            <a:avLst/>
          </a:prstGeom>
          <a:noFill/>
          <a:ln w="0">
            <a:noFill/>
          </a:ln>
        </p:spPr>
        <p:txBody>
          <a:bodyPr anchor="t">
            <a:noAutofit/>
          </a:bodyPr>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Section 8.8 of the ERCOT Protocols state that the TSP shall notify ERCOT at least thirty (30) days before starting to energize or place into service any new or relocated Facility.  </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is currently using this time period because it is the longest notification period found in existing protocols</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supports 30 days notification only as the shortest period that should be allowed, longer notification period preferred</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n outage submitted 30 days prior to start may not get approved until 4 days before the start of the outage</a:t>
            </a:r>
            <a:endParaRPr b="0" lang="en-US" sz="2000" spc="-1" strike="noStrike">
              <a:solidFill>
                <a:srgbClr val="000000"/>
              </a:solidFill>
              <a:latin typeface="Calibri"/>
            </a:endParaRPr>
          </a:p>
          <a:p>
            <a:pPr marL="233280" indent="-233280">
              <a:lnSpc>
                <a:spcPct val="90000"/>
              </a:lnSpc>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RCOT would prefer a notification period no shorter than 91 days for Outage Scheduling and TCR calculations</a:t>
            </a:r>
            <a:endParaRPr b="0" lang="en-US" sz="2000" spc="-1" strike="noStrike">
              <a:solidFill>
                <a:srgbClr val="000000"/>
              </a:solidFill>
              <a:latin typeface="Calibri"/>
            </a:endParaRPr>
          </a:p>
          <a:p>
            <a:pPr lvl="1" marL="690480" indent="-233280">
              <a:lnSpc>
                <a:spcPct val="90000"/>
              </a:lnSpc>
              <a:spcBef>
                <a:spcPts val="42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Outages submitted prior to 90 days before start have to be approved or rejected 75 days prior to start of outage</a:t>
            </a:r>
            <a:endParaRPr b="0" lang="en-US" sz="1700" spc="-1" strike="noStrike">
              <a:solidFill>
                <a:srgbClr val="000000"/>
              </a:solidFill>
              <a:latin typeface="Calibri"/>
            </a:endParaRPr>
          </a:p>
          <a:p>
            <a:pPr lvl="1" marL="690480" indent="-233280">
              <a:lnSpc>
                <a:spcPct val="90000"/>
              </a:lnSpc>
              <a:spcBef>
                <a:spcPts val="425"/>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Calibri"/>
              </a:rPr>
              <a:t>TCR monthly auction calculations use approved and accepted outages from the outage scheduler and the calculation starts 75 days prior to end of auction month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 Days</a:t>
            </a:r>
            <a:endParaRPr b="0" lang="en-US" sz="4400" spc="-1" strike="noStrike">
              <a:solidFill>
                <a:srgbClr val="000000"/>
              </a:solidFill>
              <a:latin typeface="Calibri"/>
            </a:endParaRPr>
          </a:p>
        </p:txBody>
      </p:sp>
      <p:sp>
        <p:nvSpPr>
          <p:cNvPr id="48" name="PlaceHolder 2"/>
          <p:cNvSpPr>
            <a:spLocks noGrp="1"/>
          </p:cNvSpPr>
          <p:nvPr>
            <p:ph type="subTitle"/>
          </p:nvPr>
        </p:nvSpPr>
        <p:spPr>
          <a:xfrm>
            <a:off x="914400" y="1371240"/>
            <a:ext cx="7238880" cy="4800600"/>
          </a:xfrm>
          <a:prstGeom prst="rect">
            <a:avLst/>
          </a:prstGeom>
          <a:noFill/>
          <a:ln w="0">
            <a:noFill/>
          </a:ln>
        </p:spPr>
        <p:txBody>
          <a:bodyPr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e Transmission Outage approval schedule allows staff time to study requests submitted more than 90 days prior to start and approve or deny by 75 days prior.  Thus any changes submitted later could impact any already approved outages.</a:t>
            </a:r>
            <a:endParaRPr b="0" lang="en-US" sz="2400" spc="-1" strike="noStrike">
              <a:solidFill>
                <a:srgbClr val="000000"/>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is leads right in to the monthly TCR calculations (based on “approved” outages), which are started shortly after 75 days prior to the end of each month.  Thus the market would get assurance of a properly calculated TCR availability for the whole month.</a:t>
            </a:r>
            <a:endParaRPr b="0" lang="en-US" sz="2400" spc="-1" strike="noStrike">
              <a:solidFill>
                <a:srgbClr val="000000"/>
              </a:solidFill>
              <a:latin typeface="Calibri"/>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his time frame also matches the Suspension of Operations not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Year</a:t>
            </a:r>
            <a:br>
              <a:rPr sz="4400"/>
            </a:b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rket Participants need to be able to plan in advance.  </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One year is the minimum time that should be required.  An annual deadline of September 1 (for the following year) would even be bette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quiring MIGs make a declaration of interconnection point one year in advance would:</a:t>
            </a:r>
            <a:endParaRPr b="0" lang="en-US" sz="24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nhance the market’s ability to forward contract—for load and generation</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Make planning and market studies more robust—for ERCOT, for investors, and for entities engaged in contracting</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nsure that annual TCR auction products reflect generation location as best as possi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oting Issue: Grandfathering</a:t>
            </a:r>
            <a:endParaRPr b="0" lang="en-US" sz="2800" spc="-1" strike="noStrike">
              <a:solidFill>
                <a:srgbClr val="000000"/>
              </a:solidFill>
              <a:latin typeface="Calibri"/>
            </a:endParaRPr>
          </a:p>
        </p:txBody>
      </p:sp>
      <p:sp>
        <p:nvSpPr>
          <p:cNvPr id="52" name="PlaceHolder 2"/>
          <p:cNvSpPr>
            <a:spLocks noGrp="1"/>
          </p:cNvSpPr>
          <p:nvPr>
            <p:ph type="subTitle"/>
          </p:nvPr>
        </p:nvSpPr>
        <p:spPr>
          <a:xfrm>
            <a:off x="380520" y="1294920"/>
            <a:ext cx="8534520" cy="4876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Option 1</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First Date of Interconnection is Interconnection Date for the Generation Resourc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grandfathering provisions tied to date of interconnection should be applied to the original interconnection date of the facilities in question.</a:t>
            </a:r>
            <a:endParaRPr b="0" lang="en-US" sz="24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new interconnection facilities would be expected to meet the criteria of the interconnection agreement and the Protocols as of the signature date for that new interconnection.  </a:t>
            </a:r>
            <a:endParaRPr b="0" lang="en-US" sz="20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e of a new interconnection should not affect the original interconnection date or commercial operation date assigned to an existing generator attached to the additional interconnection facilities since there has been no modification to the generation unit itself.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oting Issue: Grandfathering</a:t>
            </a:r>
            <a:endParaRPr b="0" lang="en-US" sz="2800" spc="-1" strike="noStrike">
              <a:solidFill>
                <a:srgbClr val="000000"/>
              </a:solidFill>
              <a:latin typeface="Calibri"/>
            </a:endParaRPr>
          </a:p>
        </p:txBody>
      </p:sp>
      <p:sp>
        <p:nvSpPr>
          <p:cNvPr id="54" name="PlaceHolder 2"/>
          <p:cNvSpPr>
            <a:spLocks noGrp="1"/>
          </p:cNvSpPr>
          <p:nvPr>
            <p:ph type="subTitle"/>
          </p:nvPr>
        </p:nvSpPr>
        <p:spPr>
          <a:xfrm>
            <a:off x="304920" y="1447920"/>
            <a:ext cx="8534160" cy="48765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Option 2</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98989"/>
                </a:solidFill>
                <a:uFillTx/>
                <a:latin typeface="Calibri"/>
              </a:rPr>
              <a:t>Latest Date of Interconnection is Interconnection Dat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tocols have been designed to provide exemptions to existing interconnections—assuming new interconnections would be required to interconnect upgraded facilities in conformance with protocols to support reliability</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randfathering for new interconnections:</a:t>
            </a:r>
            <a:endParaRPr b="0" lang="en-US" sz="24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Defeats the existing protocol standard that new interconnections must meet most current protocol requirements</a:t>
            </a:r>
            <a:endParaRPr b="0" lang="en-US" sz="2000" spc="-1" strike="noStrike">
              <a:solidFill>
                <a:srgbClr val="000000"/>
              </a:solidFill>
              <a:latin typeface="Calibri"/>
            </a:endParaRPr>
          </a:p>
          <a:p>
            <a:pPr lvl="1" marL="457200">
              <a:lnSpc>
                <a:spcPct val="80000"/>
              </a:lnSpc>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xtends barriers to entry—because an entity is gaining new interconnection and would have no obligation to conform to standards imposed on other entities interconnecting at same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oting Issue </a:t>
            </a:r>
            <a:br>
              <a:rPr sz="4000"/>
            </a:br>
            <a:r>
              <a:rPr b="0" lang="en-US" sz="4000" spc="-1" strike="noStrike">
                <a:solidFill>
                  <a:srgbClr val="000000"/>
                </a:solidFill>
                <a:latin typeface="Calibri"/>
              </a:rPr>
              <a:t>Transmission Planning</a:t>
            </a:r>
            <a:br>
              <a:rPr sz="4000"/>
            </a:br>
            <a:endParaRPr b="0" lang="en-US" sz="4000" spc="-1" strike="noStrike">
              <a:solidFill>
                <a:srgbClr val="000000"/>
              </a:solidFill>
              <a:latin typeface="Calibri"/>
            </a:endParaRPr>
          </a:p>
        </p:txBody>
      </p:sp>
      <p:sp>
        <p:nvSpPr>
          <p:cNvPr id="56" name="PlaceHolder 2"/>
          <p:cNvSpPr>
            <a:spLocks noGrp="1"/>
          </p:cNvSpPr>
          <p:nvPr>
            <p:ph type="subTitle"/>
          </p:nvPr>
        </p:nvSpPr>
        <p:spPr>
          <a:xfrm>
            <a:off x="685440" y="1599840"/>
            <a:ext cx="8077320" cy="5181480"/>
          </a:xfrm>
          <a:prstGeom prst="rect">
            <a:avLst/>
          </a:prstGeom>
          <a:noFill/>
          <a:ln w="0">
            <a:noFill/>
          </a:ln>
        </p:spPr>
        <p:txBody>
          <a:bodyPr anchor="t">
            <a:noAutofit/>
          </a:bodyPr>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aximum Flexibility</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Minimal Cost - (Recommended)</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conomic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49:03Z</dcterms:created>
  <dc:creator>Eric Goff</dc:creator>
  <dc:description/>
  <dc:language>en-US</dc:language>
  <cp:lastModifiedBy>klandry</cp:lastModifiedBy>
  <dcterms:modified xsi:type="dcterms:W3CDTF">2009-12-09T19:40:09Z</dcterms:modified>
  <cp:revision>11</cp:revision>
  <dc:subject/>
  <dc:title>Slide 1</dc:title>
</cp:coreProperties>
</file>