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13D-9EA3-47F7-B6D6-3146790D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9D7-8F36-4BEC-8D1F-B79643DC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9A7-EBC0-45EA-B8C5-87890DFF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1E0-BEA8-4103-AC93-3EAAF69B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4C86-A7D0-4C61-AEA9-68C328FD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1120-A262-4A50-9530-6F544047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65EF-6FE9-4C36-B884-CDD7C44F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9C0B-EDFB-46B5-8FD9-1208030A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E671-4722-4F66-A8E2-DE14A6BA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23B5-9142-4648-A270-06185B55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D9BB-8238-4D4E-8FBB-EEAEBBF8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AAC-A1B4-4AD8-8D45-691E9B44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9F04-43F9-4210-8127-37C68602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F824-B030-4692-A178-DC485131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6598-6C3C-40AD-AC50-70C07414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F7EA-DAC8-4AA3-B5E6-D098C9E7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17F2-052F-459B-AE72-E4813A3B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1AA-D5AA-40CF-A78B-11024D4D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7A0-13DB-4D5C-AEBC-733C677B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88D-50F1-4C1F-8119-348D4317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E4F-3A1C-4B8D-83E3-AC4CE8E3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1B8-6EF0-4421-B928-BADB2E3E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E2B-0297-4FEA-AE3E-82DF8FB4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CDD-A8CB-4793-A58B-949547C2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3FE7-9082-42BB-B3CD-C0A8A5323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9FEE-76BC-4A2F-8399-4F8A76AC7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nd Cost Allocation Task For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to W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1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liability Credit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and ERCOT would need to work together to develop a complete list of qualifying services and how to assign a reduction value to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ated whether there should be Reliability Credits or whether allocation should take a “binary”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WGR cannot provide ALL of the services, then it will not be given any credits for any services that it can prov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sible Exemption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that Distributed Generation be exempted from this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termine how to distinguish those that should be exem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 could be limited those large enough to require ERCOT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uggested that WGRs in certain geographic locations could be exempted or treated diff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WGRs in South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ther Discussion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2552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the charter and goals, several attendees (including PUCT Staff) voiced concerned over the fairness of allocating AS to WGR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debated whether a proposal to do nothing counted as a “how to”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ggested Next Step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working through the details of Reliant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dditional any additional proposals including one from Luminant re: assigning incremental A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 could consider providing WCATF on the following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Credits vs. Binary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tions for Distributed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ecember 14 Meeting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allocation proposal submitted by Reli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iterate this is a “how to” and not a “should we” and this task force is not making any statements about whether allocating Ancillary Costs to wind is f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liant Allocation Proposal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an obligation to provide Regulation Up, Regulation Down, Responsive Reserves, and Non-Spinning Reserves to all QSEs representing WGRs and/or Load Serving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a portion of the cost of RPRS to all QSEs representing WGRs and/or Load Serving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ind Plus Load Ratio Share (WPLRS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obligation based on QSE’s wind plus load rati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 MWh of wind from two Q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 A has 300 M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 B has 200 M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MWh of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 C has 600 M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 D has 400 M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, continu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wind plus load = 1500 MW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L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 A = 300/1500 = 2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 B = 200/1500 = 13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 C = 600/1500 =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 D = 400/1500 = 26.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liability Credi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Rs can qualify for Reliability Credits to reduce total ancillary service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a WGR that provides primary frequency response may have their obligation reduced by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is for example purposes only, actual credit may b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several credits, such as primary frequency response, voltage ride through, voltage support,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PLRS + Reliability Credi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unadjusted WPLRS w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 A = 300/1500 = 20% (WG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 B = 200/1500 = 13.3% (WG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 C = 600/1500 = 40% (lo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 D = 400/1500 = 26.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at the WGRs in QSE A can provide primary frequency response, voltage ride through, and voltage support.  QSE B’s WGRs can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PLRS + Reliability Credi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 A received a 30% reduction for its reliability credits, so its adjusted with output is 300 MWh* ( 1-0.3) or 210 MW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otal MWh is 1410, therefo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 A = 210/1410 = 14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 B = 200/1410 = 14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 C = 600/1410 = 42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 D = 400/1410 = 28.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QSE A is contributes more to reliability, it receives a smaller ancillary service obl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S Should be Included?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ble debate on whether to include all types of AS or just a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over whether it was appropriate to include RPRS and Responsive Re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 made that allocation should limited to the incremental amounts of Reg Up, Reg Down and NSRS that ERCOT purchases due to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inant going to bring proposal to next meeting on how this could be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5:41:42Z</dcterms:created>
  <dc:creator>jtroutman</dc:creator>
  <dc:description/>
  <dc:language>en-US</dc:language>
  <cp:lastModifiedBy>klandry</cp:lastModifiedBy>
  <dcterms:modified xsi:type="dcterms:W3CDTF">2009-12-15T19:26:38Z</dcterms:modified>
  <cp:revision>6</cp:revision>
  <dc:subject/>
  <dc:title>Wind Cost Allocation Task Force</dc:title>
</cp:coreProperties>
</file>