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B64-2154-4EC0-AAD3-7743D40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FFD-E124-4616-87B1-BBF8FC8A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1EF-B14B-4708-9614-DE1F9F4C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C96-D370-4711-80E6-72D671FE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80F-C143-45F5-AC83-67B55DBB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692-8319-412C-8302-0B7016E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958-9ADF-46D3-A1EC-83A9B34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878-9A3A-482C-8441-18B2E5E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23F-E4D9-42A0-B1B9-6C2F036A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241-0177-4A5A-BFA0-C6D8834B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B8E-67AA-420B-8AF5-4BC0CA3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CCE-EFBB-457E-9B3A-D8BAE1AA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1358-46EB-4455-8E1A-6A41B53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84AA-EBCA-41E1-B3CD-4FE53EF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4FC-E9AE-4417-8BD0-9931B551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D4C5-31BC-43A5-ABB5-71151554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141-E2AB-418D-9B98-29D7DB48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FB3-495C-4741-85A0-7081FE99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1BF-FC26-4D1D-8430-1F331FC2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E0F-799C-4BA6-B0E4-93973CC3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24D-703E-46D0-9C51-64DB27F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521-6BC4-4967-88E9-5D1F689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10D-1D4D-4F9C-AA4D-536E146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B1D-0CB1-4737-BAFD-112CC815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023-45EC-4EDA-8DA9-C2FF953A55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D3D-D6BB-4B53-A195-68241360F95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SE Managers Working Gro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eting No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 December,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to WM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6 December,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Detelich - Chairpers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lysis of RPRS Monthly Re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PRS Monthly Report for Octo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0 of 25 hours required RP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hour where not enough RPRS procu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PRS Monthly Report for Septem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 procurement average of 1073 M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 of 52 hours required RP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ed on 6.10.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Operations Performance – “theoretical amount of RPRS procurement 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oretical Amount of  RPRS Procur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oretical Amount of RPRS Procurement = Actual Average Adjusted Metered Load - Day Ahead Resource Plan Generation On-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uld the ancillary service obligation be subtracted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ing NSRS obligation? 15 Min or 30 M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ing the URS+RRS Requir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2 of 52 hours required RPRS in Septem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 procurement average of 502 M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nd Generation Nodal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raft NPRR Wind-powered Generation Resource (WGR) High Sustainable Limit (HSL) update pro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revision establishes the specific timing of the WGR’s HSL update to ERCOT and specifies that, when not curtailed, the WGR’s HSL should equal the WGR’s current meter read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Suggest IRR instead of WG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xt Meeting: January 15, 2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ir pos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forecast accura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Load Forecasting Accurac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Decommitment process for RUC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Generation Nodal Issu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QSE Managers Working Group Topic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PRR811, Real-Time Production Potential (Vote)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OGRR223, Real-Time Production Potential (Possible Vote)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WGRPP Forecast Accuracy Update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Draft PRR: Decommitment process for RUC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Load Forecasting Accuracy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"/>
              </a:rPr>
              <a:t>Nodal: Wind Generation Issue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R811, Real-Time Production Potential (Vote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added language to specify the factors that go into the RTPP calcu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ents added to TAC Action Report for WMS endorsemen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changes needed for OGRR223, Real-Time Production Potenti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GRPP Forecast accuracy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tober saw increased volat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nd in Steep part of power cur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reased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out 60 WGR are providing good MET 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asks that metrics presented to TAC be supplied to QMW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R 841 Revise Total ERCOT Wind Power Forecast (TEWPF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GRPP Forecast accuracy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33520" y="1523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d on Day Ahead resource plans submitted by QSE’s compared to aggregate WGRPP AWS forecast in order to scale the STWPF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449280" y="2514600"/>
            <a:ext cx="828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15320" cy="5029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ctober Data in Hist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879080" y="2743200"/>
            <a:ext cx="27957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isk of Over Commit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450440" y="2743200"/>
            <a:ext cx="19821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isk of Shortag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R 841 Revise Total ERCOT Wind Power Forecast (TEWPF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agrees with concept of PR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provided a comparison of Raw STWPF vs. Raw WGRP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May through October WGRPP is under STWPF an average of 570 MW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MWG can review the PRR further if reques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commitment process for RU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is drafting PRR language for th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rations Suppo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t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PRS changes too involved for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dal Decommitment of RUC will be for changes in load forecas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ad Forecast Accu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provided raw data for Novem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PE for HE16 = 2.90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PE for all hours = 1.93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update on a worksho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COT will provide Load forecast bias data to WMS; PRR will not be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klandry</cp:lastModifiedBy>
  <dcterms:modified xsi:type="dcterms:W3CDTF">2009-12-14T14:17:43Z</dcterms:modified>
  <cp:revision>124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