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751-7F53-4508-A637-A245E328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D4D-788C-4F64-9F5D-712C0BD4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3C6-9B02-4103-A823-F58ADF56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AD2-C023-4F3B-A92E-84A3DF38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5DA-B1F3-46AC-9A11-696661D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9C6-AA44-49C8-8934-A50B7EE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51C-9E54-4E93-9DFB-FDF71808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888-BAF1-49DC-8660-666B509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AE1-BCF1-4421-B084-41E64C3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169-9EEC-4856-BA74-3FC46A8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31A-8AB6-4A9B-98C1-BBEA2A4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2FF-8FA7-416F-95B1-794BFCD1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476760"/>
            <a:ext cx="914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CAB-E65D-4059-8541-95EAD7A0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317520">
            <a:solidFill>
              <a:srgbClr val="d85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MS 12-16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bel Flores—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uerite Wagner--PSEG 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 Competitive Constrain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 Contingency Ac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Accomplishment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Constraint Test (C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T tool configurable for number of constraints it can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line tool currently set to accept 500 contingency/element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xploring changing to 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believes 10,000 would cover each CSC and constraints associated with that CSC (not combinations of CSC constra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straint list has _____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Does not currently accept summations of various lines a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at various voltage/stability limits cannot be modeled in this version of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xploring how to fix—unknown if fix possible at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ent out list of items in protocols and their draft business process for the CCT test for discussion at CMWG in 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post CCT spreadsheets by 12/19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ntingency Ac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APs can be proposed by ERCOT or 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ent out PCAP approval process--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mit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cceptance of new PCAPs more public (circulate as they are under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market in real time when PCAPs are activated and removed from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se of PCAPs on monthly Operations report to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WG 2009 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y Thanks to ERCOT Staff—without their work CMWG would not exis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00800" y="3886200"/>
            <a:ext cx="1860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26600"/>
            <a:ext cx="88390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sed Awareness/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Market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Sta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d ERCOT to move forward A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ublished new matrix with many more cases 5/09 &amp; 9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Around Development &amp; Use of SPS/RAPs/PC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documentation around P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ket Improv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801 - Revenue Neutrality for TC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816 - CRE Selec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831 – Annual TCR Auction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Competitive Constraint Test for No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RR 25 work – metrics around repeated constraints in SCED, HRUC, DR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 Zon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WG Challenge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the Issue &amp; the 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51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1828800"/>
            <a:ext cx="4267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 Substation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s – Flew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co West to Temple Elm Creek at Cotton Be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Angelo Me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Holi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PSEG TX </dc:creator>
  <dc:description/>
  <dc:language>en-US</dc:language>
  <cp:lastModifiedBy>klandry</cp:lastModifiedBy>
  <dcterms:modified xsi:type="dcterms:W3CDTF">2009-12-09T17:27:45Z</dcterms:modified>
  <cp:revision>73</cp:revision>
  <dc:subject/>
  <dc:title>Congestion Management Work Group Update</dc:title>
</cp:coreProperties>
</file>