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7645AE-AAFC-4FE2-BFDB-919825B0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278F86-382C-4264-984D-179CF488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0A2BFC-B7B5-4961-BA22-FEE45DF9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68727B-721F-43CF-8B62-E8642DDF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82E1DE-A8C4-4231-8F27-364A3435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71DC-6F74-466F-B98F-833DC1676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3DD8-13C9-4F0B-8F5A-A79D016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B26C-D2D3-4B49-A182-B4E90ED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E508-F572-4783-8C32-17606396D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E44B-BFD9-433B-8530-43BA96B8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1709-5447-403D-ABC3-D1D1C5B5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D26E-8FB9-444D-B049-F68F3DB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CC6-B0E3-4DC4-9978-71F0556B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6B16-F9A8-4FE7-A9A3-D1E4513B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B4D5-7B9C-4A25-88F2-504D3B33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9DA2-2345-4F23-8FD2-7F1D24E2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7C28-A28C-4D8F-A9F7-3DB073F6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E1DD-40F1-49DB-90B3-7F18271FB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FA30-AC5B-475B-9B35-A963789C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arking Deck Over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cember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deck concept approv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on 4/23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5/7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Nodal Program Committee on 7/20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8/6/2009 (on remand from Bo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of Directors on 8/19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What is the Parking Deck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st of revision requests for Nodal post-Go-Live consid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med “Not Needed for Nodal Go-Live” by the ERCOT CEO (per PRR7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 can overturn the CEO determination on app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Board-approved and in-flight items are tr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Nodal-Go-Live changes to the ERCOT systems will be managed in structur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king deck will serve as input to releas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worksheet on the PPL spreadsheet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project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” stakeholder review process takes place for items on the parking d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, TAC, and Board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in gray-box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provided by PRS to indicate relative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Analysis (IA) deferred to a futur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a future date (probably mid-2010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begin completing IAs on parking deck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recommend parking deck items for inclusion in planned post-Go-Live Nodal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keholder process will consider the proposed releases during the yearly project prioritization process and make recommendations to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and PRS have began prioritizing items on the parking 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reviews are being conducted with impacted market sub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dcterms:modified xsi:type="dcterms:W3CDTF">2009-12-08T04:06:31Z</dcterms:modified>
  <cp:revision>443</cp:revision>
  <dc:subject/>
  <dc:title>Instructions</dc:title>
</cp:coreProperties>
</file>