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439-D428-4104-9C2C-CF983241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5B7-553E-458F-A58D-BFC2C118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C21C-C71A-4A49-B6EE-15DDA775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76C6-831C-4AE1-9682-D466F29F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281D-48A0-4D0B-BC25-75D9C22A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80E-0452-446B-8C6A-EC7CFA3B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D07-583F-423B-91E0-7E4FC87C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72A-1E6F-471F-BF29-40D94772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CE42-E73E-478F-B2BE-B4A7772A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3833-DB9F-4668-B42F-8980BA2A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4BE-CF7B-4CE9-9A69-68B13057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13AB-6EF9-4EDC-9483-4985E3CA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4808-F01D-45B4-B221-B0255D231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 10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7960" y="312840"/>
            <a:ext cx="866808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7960" y="231840"/>
            <a:ext cx="8668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8160" y="17640"/>
            <a:ext cx="922032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7960" y="203040"/>
            <a:ext cx="86680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7960" y="208080"/>
            <a:ext cx="866808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7960" y="60480"/>
            <a:ext cx="866808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67720" cy="67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7960" y="169920"/>
            <a:ext cx="8668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23760" y="193680"/>
            <a:ext cx="9191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meet December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November disturb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ERCOT 2010 Bias set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Guide and Protocol revisio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838 and Resource operational prototype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G and NOG synchronization with governor definitions and additional clean-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 January 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3760" y="668160"/>
            <a:ext cx="9191520" cy="552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29400" y="1143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= 145.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240" y="458640"/>
            <a:ext cx="9029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560" y="453960"/>
            <a:ext cx="903888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9067680" cy="641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10080" y="45720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RCOT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52360"/>
            <a:ext cx="9144000" cy="63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3280" y="515880"/>
            <a:ext cx="8677440" cy="5829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124080" y="380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CPS1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1143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12 Month Rolling Average = 140.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848720" y="17524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12840"/>
            <a:ext cx="9144000" cy="6235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6915240" y="123840"/>
            <a:ext cx="16192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RCOT as a single control area is exempt from CPS2.  These scores are For Informa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1219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2.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1447920"/>
            <a:ext cx="9144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7:13:32Z</dcterms:created>
  <dc:creator>Sydney L. Niemeyer</dc:creator>
  <dc:description/>
  <dc:language>en-US</dc:language>
  <cp:lastModifiedBy>sniemeyer</cp:lastModifiedBy>
  <dcterms:modified xsi:type="dcterms:W3CDTF">2009-12-04T18:09:25Z</dcterms:modified>
  <cp:revision>42</cp:revision>
  <dc:subject/>
  <dc:title>Slide 1</dc:title>
</cp:coreProperties>
</file>