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A05-2E3F-4106-9112-539C6E9C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6CD-2814-4B42-B1C0-CE91AD2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AB9-226F-4166-BA16-ECE8A45C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3B9-06E4-4490-9EA2-B71674E2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861-CC5A-44B8-98C2-A23ACC34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B52-6044-4D0E-9D05-B049FFC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F59-64FD-49A1-9866-E7A578BC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4AF-5192-4AAC-84CF-FD656983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BCC-A6A9-4547-A30F-AE485042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FD2-C4CE-41FB-9880-84BC7907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950-40A2-48F1-9040-190D50A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D40-F49A-4F07-9B49-6459231C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543F-6942-47E5-B4D2-62C5055A5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NOMCRhelp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/17/09 – S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4120" y="4876920"/>
            <a:ext cx="3504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y Rick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 ERCOT Network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533520" y="42670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 flipV="1">
            <a:off x="838080" y="3276000"/>
            <a:ext cx="486000" cy="990360"/>
          </a:xfrm>
          <a:prstGeom prst="downArrow">
            <a:avLst>
              <a:gd name="adj1" fmla="val 50000"/>
              <a:gd name="adj2" fmla="val 50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09480" y="28195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0880" y="2590920"/>
            <a:ext cx="1371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2590920" y="42670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 flipV="1">
            <a:off x="2819520" y="3276000"/>
            <a:ext cx="485640" cy="990360"/>
          </a:xfrm>
          <a:prstGeom prst="downArrow">
            <a:avLst>
              <a:gd name="adj1" fmla="val 50000"/>
              <a:gd name="adj2" fmla="val 509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590920" y="28195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362320" y="2590920"/>
            <a:ext cx="1371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3505320" y="2438280"/>
            <a:ext cx="838080" cy="733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C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297180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5867280" y="43434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"/>
          <p:cNvSpPr/>
          <p:nvPr/>
        </p:nvSpPr>
        <p:spPr>
          <a:xfrm flipV="1">
            <a:off x="6248520" y="2438280"/>
            <a:ext cx="485640" cy="1905120"/>
          </a:xfrm>
          <a:prstGeom prst="downArrow">
            <a:avLst>
              <a:gd name="adj1" fmla="val 50000"/>
              <a:gd name="adj2" fmla="val 98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5105520" y="32767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4800600" y="3733920"/>
            <a:ext cx="1371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533412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5334120" y="2438280"/>
            <a:ext cx="485640" cy="838440"/>
          </a:xfrm>
          <a:prstGeom prst="downArrow">
            <a:avLst>
              <a:gd name="adj1" fmla="val 50000"/>
              <a:gd name="adj2" fmla="val 43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8077320" y="43434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5"/>
          <p:cNvSpPr/>
          <p:nvPr/>
        </p:nvSpPr>
        <p:spPr>
          <a:xfrm flipV="1">
            <a:off x="8458200" y="2438280"/>
            <a:ext cx="485640" cy="1905120"/>
          </a:xfrm>
          <a:prstGeom prst="downArrow">
            <a:avLst>
              <a:gd name="adj1" fmla="val 50000"/>
              <a:gd name="adj2" fmla="val 98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7391520" y="2438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754380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0"/>
          <p:cNvSpPr/>
          <p:nvPr/>
        </p:nvSpPr>
        <p:spPr>
          <a:xfrm>
            <a:off x="1981080" y="1295280"/>
            <a:ext cx="0" cy="487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1"/>
          <p:cNvSpPr/>
          <p:nvPr/>
        </p:nvSpPr>
        <p:spPr>
          <a:xfrm>
            <a:off x="4648320" y="1295280"/>
            <a:ext cx="0" cy="487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7086600" y="1219320"/>
            <a:ext cx="0" cy="487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299880" y="1295280"/>
            <a:ext cx="140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–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4947480" y="129528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 2009 –Nodal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2431800" y="129528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9 – Se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7466400" y="129528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5487840" y="5715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1599840" y="228600"/>
            <a:ext cx="63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 ERCOT Network Operation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5564160" y="1523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0"/>
          <p:cNvSpPr/>
          <p:nvPr/>
        </p:nvSpPr>
        <p:spPr>
          <a:xfrm flipH="1">
            <a:off x="472392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1"/>
          <p:cNvSpPr/>
          <p:nvPr/>
        </p:nvSpPr>
        <p:spPr>
          <a:xfrm>
            <a:off x="6248520" y="1676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ce the Start of SEM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,160 Data and data attribute change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s to the Model (50,88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7 bre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96 b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2 power transfor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6 electrical b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sub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8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to the Model (76,1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ons from the Model (23,1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/Operator Difficu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cation to allow Operator rights to create new equipment i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to clarify responsibility for modeling transmission equipment owned by non-registered entities has been writte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 of Line re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ications with the scheduled ou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line drawings must be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gencies must be rena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Owned Transmission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 naming doesn’t always match names in RA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Load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to Energiz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P Model Change Activity during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41680" y="55627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94 total submits on 1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841680" y="60958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4 total submits on 10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516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SWG 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monthly Webex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off special meetings for outstan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tracking work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guide re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odeling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MCRhelp@erco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mmediate problem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swered almost 200 of these since SEM go-l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440080" y="5410080"/>
            <a:ext cx="42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1:54:06Z</dcterms:created>
  <dc:creator>wrickerson</dc:creator>
  <dc:description/>
  <dc:language>en-US</dc:language>
  <cp:lastModifiedBy>balbracht</cp:lastModifiedBy>
  <dcterms:modified xsi:type="dcterms:W3CDTF">2009-12-10T23:55:10Z</dcterms:modified>
  <cp:revision>21</cp:revision>
  <dc:subject/>
  <dc:title>10/15/09 – SEM Update</dc:title>
</cp:coreProperties>
</file>