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6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6960" cy="466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700200" y="4417560"/>
            <a:ext cx="56102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2"/>
          </p:nvPr>
        </p:nvSpPr>
        <p:spPr>
          <a:xfrm>
            <a:off x="0" y="8827560"/>
            <a:ext cx="3036960" cy="466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3"/>
          </p:nvPr>
        </p:nvSpPr>
        <p:spPr>
          <a:xfrm>
            <a:off x="3971880" y="8827560"/>
            <a:ext cx="3036960" cy="466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514A1382-9E26-4361-B7A9-82CC7A6C1182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971880" y="8827920"/>
            <a:ext cx="30369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6873408B-FFDD-45BB-811A-7BFCA1FC6ADE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34560" y="441756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ggestion for an animated intro slide – likely to be branding dependa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st Cost – say £500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1783080" y="2790720"/>
            <a:ext cx="37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Black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971880" y="8827920"/>
            <a:ext cx="30369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F3D0F6DC-4C30-48B8-A52F-24D8656E11AD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00200" y="4417560"/>
            <a:ext cx="5610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971880" y="8827920"/>
            <a:ext cx="30369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F4CB2E83-05A5-4FA5-9593-C01DA5E6E35C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00200" y="4417560"/>
            <a:ext cx="5610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971880" y="8827920"/>
            <a:ext cx="30369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9D54BB20-A1DF-4B34-9ED3-13EB4254E691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00200" y="4417560"/>
            <a:ext cx="5610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971880" y="8827920"/>
            <a:ext cx="30369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3436B646-B097-4ADB-A00A-7151BA5D6BE9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0200" y="4417560"/>
            <a:ext cx="5610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971880" y="8827920"/>
            <a:ext cx="30369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653A7CA7-0AB6-4FF9-8CBF-A16B48966843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00200" y="4417560"/>
            <a:ext cx="5610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971880" y="8827920"/>
            <a:ext cx="30369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E100E60B-684F-4418-B18C-00328B75ECC2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00200" y="4417560"/>
            <a:ext cx="5610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971880" y="8827920"/>
            <a:ext cx="30369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1B093674-42D4-4E45-8CB2-600EC3E27FB5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00200" y="4417560"/>
            <a:ext cx="5610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971880" y="8827920"/>
            <a:ext cx="30369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1AAC66CE-1584-4814-A443-81B46709A153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00200" y="4417560"/>
            <a:ext cx="5610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971880" y="8827920"/>
            <a:ext cx="30369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5EE8063D-9FCC-442F-B774-5400C5C7DC01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00200" y="4417560"/>
            <a:ext cx="5610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971880" y="8827920"/>
            <a:ext cx="30369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DCE14848-37F9-48FB-92FE-E326A65B0ACE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0200" y="4417560"/>
            <a:ext cx="5610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971880" y="8827920"/>
            <a:ext cx="30369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BA2021D1-27E8-4141-BA69-B7C676FC3DA6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00200" y="4417560"/>
            <a:ext cx="5610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971880" y="8827920"/>
            <a:ext cx="30369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E9246F93-2572-4037-A15D-6F69B5DBB2B5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00200" y="4417560"/>
            <a:ext cx="5610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971880" y="8827920"/>
            <a:ext cx="30369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3CE47894-1B56-4A00-95B6-A651EDADCF3A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00200" y="4417560"/>
            <a:ext cx="5610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971880" y="8827920"/>
            <a:ext cx="30369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D228A4EA-8F50-4479-B86D-DBEB125E56C3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00200" y="4417560"/>
            <a:ext cx="5610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971880" y="8827920"/>
            <a:ext cx="30369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2C6E62C9-FE9D-4F4F-98E3-197193D7A146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0200" y="4417560"/>
            <a:ext cx="5610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971880" y="8827920"/>
            <a:ext cx="30369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1DE2751E-F352-48A3-957E-DE106FADED60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971880" y="8827920"/>
            <a:ext cx="30369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8AA628C3-F25E-4B75-9436-2F3DFC037CAB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00200" y="4417560"/>
            <a:ext cx="5610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971880" y="8827920"/>
            <a:ext cx="30369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53F277D5-7933-4853-A42C-63A03B8CBA86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00200" y="4417560"/>
            <a:ext cx="5610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971880" y="8827920"/>
            <a:ext cx="30369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F32FE43D-6826-46B3-967D-A4EE50F2F19E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00200" y="4417560"/>
            <a:ext cx="5610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971880" y="8827920"/>
            <a:ext cx="30369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21FCD776-5B4A-4956-A95B-CF7A2033D40F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00200" y="4417560"/>
            <a:ext cx="5610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971880" y="8827920"/>
            <a:ext cx="30369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F444D39C-2992-4676-88D2-DAA81277CA21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0200" y="4417560"/>
            <a:ext cx="5610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971880" y="8827920"/>
            <a:ext cx="30369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04096F77-E914-4297-843E-CFB72037BED1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00200" y="4417560"/>
            <a:ext cx="5610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"/>
          <p:cNvGrpSpPr/>
          <p:nvPr/>
        </p:nvGrpSpPr>
        <p:grpSpPr>
          <a:xfrm>
            <a:off x="-181080" y="0"/>
            <a:ext cx="9577440" cy="6856560"/>
            <a:chOff x="-181080" y="0"/>
            <a:chExt cx="9577440" cy="6856560"/>
          </a:xfrm>
        </p:grpSpPr>
        <p:sp>
          <p:nvSpPr>
            <p:cNvPr id="1" name="Line 9"/>
            <p:cNvSpPr/>
            <p:nvPr/>
          </p:nvSpPr>
          <p:spPr>
            <a:xfrm>
              <a:off x="-181080" y="6021360"/>
              <a:ext cx="9433080" cy="0"/>
            </a:xfrm>
            <a:prstGeom prst="line">
              <a:avLst/>
            </a:prstGeom>
            <a:ln w="9360">
              <a:solidFill>
                <a:srgbClr val="62bd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10"/>
            <p:cNvSpPr/>
            <p:nvPr/>
          </p:nvSpPr>
          <p:spPr>
            <a:xfrm>
              <a:off x="-36360" y="1041480"/>
              <a:ext cx="9432720" cy="0"/>
            </a:xfrm>
            <a:prstGeom prst="line">
              <a:avLst/>
            </a:prstGeom>
            <a:ln w="9360">
              <a:solidFill>
                <a:srgbClr val="62bd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11"/>
            <p:cNvSpPr/>
            <p:nvPr/>
          </p:nvSpPr>
          <p:spPr>
            <a:xfrm>
              <a:off x="0" y="0"/>
              <a:ext cx="9144000" cy="6856560"/>
            </a:xfrm>
            <a:prstGeom prst="rect">
              <a:avLst/>
            </a:prstGeom>
            <a:noFill/>
            <a:ln w="63360">
              <a:solidFill>
                <a:srgbClr val="215d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Text Box 13"/>
          <p:cNvSpPr/>
          <p:nvPr/>
        </p:nvSpPr>
        <p:spPr>
          <a:xfrm>
            <a:off x="5023440" y="6253200"/>
            <a:ext cx="34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95d8c"/>
                </a:solidFill>
                <a:latin typeface="Arial"/>
              </a:rPr>
              <a:t>Engineering a sustainable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15"/>
          <p:cNvSpPr/>
          <p:nvPr/>
        </p:nvSpPr>
        <p:spPr>
          <a:xfrm>
            <a:off x="244440" y="6173640"/>
            <a:ext cx="698400" cy="614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17"/>
          <p:cNvSpPr/>
          <p:nvPr/>
        </p:nvSpPr>
        <p:spPr>
          <a:xfrm>
            <a:off x="8101440" y="6551640"/>
            <a:ext cx="172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2D079-6A0F-4898-8489-D83156D1325E}" type="slidenum">
              <a:rPr b="1" i="1" lang="en-US" sz="1400" spc="-1" strike="noStrike">
                <a:solidFill>
                  <a:srgbClr val="395d8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217440" y="1440"/>
            <a:ext cx="9577440" cy="6856560"/>
            <a:chOff x="-217440" y="1440"/>
            <a:chExt cx="9577440" cy="6856560"/>
          </a:xfrm>
        </p:grpSpPr>
        <p:sp>
          <p:nvSpPr>
            <p:cNvPr id="46" name="Line 3"/>
            <p:cNvSpPr/>
            <p:nvPr/>
          </p:nvSpPr>
          <p:spPr>
            <a:xfrm>
              <a:off x="-217440" y="6022800"/>
              <a:ext cx="9433080" cy="0"/>
            </a:xfrm>
            <a:prstGeom prst="line">
              <a:avLst/>
            </a:prstGeom>
            <a:ln w="9360">
              <a:solidFill>
                <a:srgbClr val="62bd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Line 4"/>
            <p:cNvSpPr/>
            <p:nvPr/>
          </p:nvSpPr>
          <p:spPr>
            <a:xfrm>
              <a:off x="-72720" y="1042920"/>
              <a:ext cx="9432720" cy="0"/>
            </a:xfrm>
            <a:prstGeom prst="line">
              <a:avLst/>
            </a:prstGeom>
            <a:ln w="9360">
              <a:solidFill>
                <a:srgbClr val="62bd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"/>
            <p:cNvSpPr/>
            <p:nvPr/>
          </p:nvSpPr>
          <p:spPr>
            <a:xfrm>
              <a:off x="-36360" y="1440"/>
              <a:ext cx="9144000" cy="6856560"/>
            </a:xfrm>
            <a:prstGeom prst="rect">
              <a:avLst/>
            </a:prstGeom>
            <a:noFill/>
            <a:ln w="63360">
              <a:solidFill>
                <a:srgbClr val="215d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Text Box 6"/>
          <p:cNvSpPr/>
          <p:nvPr/>
        </p:nvSpPr>
        <p:spPr>
          <a:xfrm>
            <a:off x="5302800" y="6253200"/>
            <a:ext cx="34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95d8c"/>
                </a:solidFill>
                <a:latin typeface="Arial"/>
              </a:rPr>
              <a:t>Engineering a sustainable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7"/>
          <p:cNvSpPr/>
          <p:nvPr/>
        </p:nvSpPr>
        <p:spPr>
          <a:xfrm>
            <a:off x="244440" y="6173640"/>
            <a:ext cx="698400" cy="614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2"/>
          <p:cNvGrpSpPr/>
          <p:nvPr/>
        </p:nvGrpSpPr>
        <p:grpSpPr>
          <a:xfrm>
            <a:off x="-181080" y="0"/>
            <a:ext cx="9577440" cy="6856560"/>
            <a:chOff x="-181080" y="0"/>
            <a:chExt cx="9577440" cy="6856560"/>
          </a:xfrm>
        </p:grpSpPr>
        <p:sp>
          <p:nvSpPr>
            <p:cNvPr id="88" name="Line 3"/>
            <p:cNvSpPr/>
            <p:nvPr/>
          </p:nvSpPr>
          <p:spPr>
            <a:xfrm>
              <a:off x="-181080" y="6021360"/>
              <a:ext cx="9433080" cy="0"/>
            </a:xfrm>
            <a:prstGeom prst="line">
              <a:avLst/>
            </a:prstGeom>
            <a:ln w="9360">
              <a:solidFill>
                <a:srgbClr val="62bd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4"/>
            <p:cNvSpPr/>
            <p:nvPr/>
          </p:nvSpPr>
          <p:spPr>
            <a:xfrm>
              <a:off x="-36360" y="1041480"/>
              <a:ext cx="9432720" cy="0"/>
            </a:xfrm>
            <a:prstGeom prst="line">
              <a:avLst/>
            </a:prstGeom>
            <a:ln w="9360">
              <a:solidFill>
                <a:srgbClr val="62bd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5"/>
            <p:cNvSpPr/>
            <p:nvPr/>
          </p:nvSpPr>
          <p:spPr>
            <a:xfrm>
              <a:off x="0" y="0"/>
              <a:ext cx="9144000" cy="6856560"/>
            </a:xfrm>
            <a:prstGeom prst="rect">
              <a:avLst/>
            </a:prstGeom>
            <a:noFill/>
            <a:ln w="63360">
              <a:solidFill>
                <a:srgbClr val="215d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Text Box 6"/>
          <p:cNvSpPr/>
          <p:nvPr/>
        </p:nvSpPr>
        <p:spPr>
          <a:xfrm>
            <a:off x="5302800" y="6253200"/>
            <a:ext cx="34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95d8c"/>
                </a:solidFill>
                <a:latin typeface="Arial"/>
              </a:rPr>
              <a:t>Engineering a sustainable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7"/>
          <p:cNvSpPr/>
          <p:nvPr/>
        </p:nvSpPr>
        <p:spPr>
          <a:xfrm>
            <a:off x="244440" y="6173640"/>
            <a:ext cx="698400" cy="614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30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63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5" descr="VisionDBlueXjpg"/>
          <p:cNvPicPr/>
          <p:nvPr/>
        </p:nvPicPr>
        <p:blipFill>
          <a:blip r:embed="rId2"/>
          <a:stretch/>
        </p:blipFill>
        <p:spPr>
          <a:xfrm>
            <a:off x="2139840" y="1278000"/>
            <a:ext cx="6708960" cy="10699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1"/>
          <p:cNvSpPr/>
          <p:nvPr/>
        </p:nvSpPr>
        <p:spPr>
          <a:xfrm>
            <a:off x="2128680" y="1268280"/>
            <a:ext cx="6450120" cy="12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COT VRT Study, Phase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COT ROS Meet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cember 10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2" descr="FrontBlocktiff"/>
          <p:cNvPicPr/>
          <p:nvPr/>
        </p:nvPicPr>
        <p:blipFill>
          <a:blip r:embed="rId3"/>
          <a:stretch/>
        </p:blipFill>
        <p:spPr>
          <a:xfrm>
            <a:off x="2116080" y="2354400"/>
            <a:ext cx="6669000" cy="3378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3"/>
          <p:cNvSpPr/>
          <p:nvPr/>
        </p:nvSpPr>
        <p:spPr>
          <a:xfrm>
            <a:off x="2311560" y="6553080"/>
            <a:ext cx="683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95d8c"/>
                </a:solidFill>
                <a:latin typeface="Arial"/>
              </a:rPr>
              <a:t>Dynamic Simulation Results – HWHL Case, 6 &amp; 4 cycle fault d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311640" y="241200"/>
            <a:ext cx="5262480" cy="6297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"/>
          <p:cNvSpPr/>
          <p:nvPr/>
        </p:nvSpPr>
        <p:spPr>
          <a:xfrm>
            <a:off x="2311560" y="6502320"/>
            <a:ext cx="683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95d8c"/>
                </a:solidFill>
                <a:latin typeface="Arial"/>
              </a:rPr>
              <a:t>Dynamic Simulation Results – HWHL Case, 6 &amp; 4 cycle fault duration (cont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3197160" y="274680"/>
            <a:ext cx="5211720" cy="6130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336840" y="152280"/>
            <a:ext cx="5213520" cy="629784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3"/>
          <p:cNvSpPr/>
          <p:nvPr/>
        </p:nvSpPr>
        <p:spPr>
          <a:xfrm>
            <a:off x="2311560" y="6502320"/>
            <a:ext cx="683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95d8c"/>
                </a:solidFill>
                <a:latin typeface="Arial"/>
              </a:rPr>
              <a:t>Dynamic Simulation Results – HWLL Case, 6 &amp; 4 cycle fault d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211560" y="236520"/>
            <a:ext cx="5132520" cy="61308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3"/>
          <p:cNvSpPr/>
          <p:nvPr/>
        </p:nvSpPr>
        <p:spPr>
          <a:xfrm>
            <a:off x="2311560" y="6502320"/>
            <a:ext cx="683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95d8c"/>
                </a:solidFill>
                <a:latin typeface="Arial"/>
              </a:rPr>
              <a:t>Dynamic Simulation Results – HWLL Case, 6 &amp; 4 cycle fault d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3"/>
          <p:cNvSpPr/>
          <p:nvPr/>
        </p:nvSpPr>
        <p:spPr>
          <a:xfrm>
            <a:off x="2311560" y="6502320"/>
            <a:ext cx="683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95d8c"/>
                </a:solidFill>
                <a:latin typeface="Arial"/>
              </a:rPr>
              <a:t>Dynamic Simulation Results – Breaker Failure events, HWHL &amp; HWLL 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3206880" y="471600"/>
            <a:ext cx="5141880" cy="596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842920" y="177480"/>
            <a:ext cx="608796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95d8c"/>
                </a:solidFill>
                <a:latin typeface="Arial"/>
              </a:rPr>
              <a:t>ERCOT VRT Study - Phase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368080" y="1123560"/>
            <a:ext cx="677556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5d8c"/>
                </a:solidFill>
                <a:latin typeface="Arial"/>
              </a:rPr>
              <a:t>Additional Invest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d8c"/>
                </a:solidFill>
                <a:latin typeface="Arial"/>
              </a:rPr>
              <a:t>Identify wind farms comprising the clusters identified as “major contributor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d8c"/>
                </a:solidFill>
                <a:latin typeface="Arial"/>
              </a:rPr>
              <a:t>Identify the updated VRT capability information as submitted by each WGR as part of Phase II data collec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d8c"/>
                </a:solidFill>
                <a:latin typeface="Arial"/>
              </a:rPr>
              <a:t>Incorporate the updated VRT capability information as obtained via VRT Data Request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51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d8c"/>
                </a:solidFill>
                <a:latin typeface="Arial"/>
              </a:rPr>
              <a:t>VRT Capability incorporated in the form of altered relay settings in the WGR dynamic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51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d8c"/>
                </a:solidFill>
                <a:latin typeface="Arial"/>
              </a:rPr>
              <a:t>No other changes to th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30480" y="0"/>
            <a:ext cx="61135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5d8c"/>
                </a:solidFill>
                <a:latin typeface="Arial"/>
              </a:rPr>
              <a:t>ERCOT VRT Study - Phase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2133720" y="5067360"/>
            <a:ext cx="674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95d8c"/>
                </a:solidFill>
                <a:latin typeface="Arial"/>
              </a:rPr>
              <a:t>Results for critical dynamic events for HWHL study case with and without WGR VRT Capability Information as collected in Phase I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85720" y="1778040"/>
            <a:ext cx="8406000" cy="3160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842920" y="177480"/>
            <a:ext cx="608796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95d8c"/>
                </a:solidFill>
                <a:latin typeface="Arial"/>
              </a:rPr>
              <a:t>ERCOT VRT Study - Phase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368440" y="1123920"/>
            <a:ext cx="6623280" cy="50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5d8c"/>
                </a:solidFill>
                <a:latin typeface="Arial"/>
              </a:rPr>
              <a:t>Key Observations/In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d8c"/>
                </a:solidFill>
                <a:latin typeface="Arial"/>
              </a:rPr>
              <a:t>Dynamic events resulting in potential reliability impacts to ERCOT grid due to lack of WGR VRT capability identified &amp; ran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d8c"/>
                </a:solidFill>
                <a:latin typeface="Arial"/>
              </a:rPr>
              <a:t>MW trip based on study case dispatch vis-à-vis ERCOT RRS Levels (2300 M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d8c"/>
                </a:solidFill>
                <a:latin typeface="Arial"/>
              </a:rPr>
              <a:t>MW trip based on WGR capacity vis-à-vis ERCOT RRS Levels (2300 M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d8c"/>
                </a:solidFill>
                <a:latin typeface="Arial"/>
              </a:rPr>
              <a:t>Frequency excursions with potential to initiate LAAR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d8c"/>
                </a:solidFill>
                <a:latin typeface="Arial"/>
              </a:rPr>
              <a:t>Voltage recovery or unacceptable post-event voltage 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42920" y="177480"/>
            <a:ext cx="608796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95d8c"/>
                </a:solidFill>
                <a:latin typeface="Arial"/>
              </a:rPr>
              <a:t>ERCOT VRT Study - Phase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368080" y="1022040"/>
            <a:ext cx="677556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d8c"/>
                </a:solidFill>
                <a:latin typeface="Arial"/>
              </a:rPr>
              <a:t>Key Observations/I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d8c"/>
                </a:solidFill>
                <a:latin typeface="Arial"/>
              </a:rPr>
              <a:t>Potential impacts of lack of WGR VRT capability (as obtained from ERCOT) for Phase 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00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5d8c"/>
                </a:solidFill>
                <a:latin typeface="Arial"/>
              </a:rPr>
              <a:t>Potential depletion of ERCOT RRS for dynamic events at certain 345kV stations in West under high wind cond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00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5d8c"/>
                </a:solidFill>
                <a:latin typeface="Arial"/>
              </a:rPr>
              <a:t>Dynamic events associated with CTG#9 &amp; CTG#30 in ERCOT West region present an especially exaggerated reliability r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349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5d8c"/>
                </a:solidFill>
                <a:latin typeface="Arial"/>
              </a:rPr>
              <a:t>Total wind generation trips as per study case dispatch exceed ERCOT RRS lev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349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5d8c"/>
                </a:solidFill>
                <a:latin typeface="Arial"/>
              </a:rPr>
              <a:t>Frequency deviations close to or beyond 0.3 H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349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5d8c"/>
                </a:solidFill>
                <a:latin typeface="Arial"/>
              </a:rPr>
              <a:t>Accompanying frequency excursions seem indicative of initiation of LAAR 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349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5d8c"/>
                </a:solidFill>
                <a:latin typeface="Arial"/>
              </a:rPr>
              <a:t>Exacerbated emergency notification from ERCOT Operations stand-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842920" y="177480"/>
            <a:ext cx="608796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95d8c"/>
                </a:solidFill>
                <a:latin typeface="Arial"/>
              </a:rPr>
              <a:t>ERCOT VRT Study - Phase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368440" y="1123920"/>
            <a:ext cx="6623280" cy="50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5d8c"/>
                </a:solidFill>
                <a:latin typeface="Arial"/>
              </a:rPr>
              <a:t>Key Observations/In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d8c"/>
                </a:solidFill>
                <a:latin typeface="Arial"/>
              </a:rPr>
              <a:t>Incorporation of updated VRT capability information for select WGRs significantly alleviates reliability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d8c"/>
                </a:solidFill>
                <a:latin typeface="Arial"/>
              </a:rPr>
              <a:t>Other factors deemed to have a positive impact on over-all ERCOT system reliability from VRT stand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d8c"/>
                </a:solidFill>
                <a:latin typeface="Arial"/>
              </a:rPr>
              <a:t>Incorporation of VRT capability for the remaining WGRs as collected during the Phase II proc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d8c"/>
                </a:solidFill>
                <a:latin typeface="Arial"/>
              </a:rPr>
              <a:t>Incorporation of appropriate collector system equivalent associated with each W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d8c"/>
                </a:solidFill>
                <a:latin typeface="Arial"/>
              </a:rPr>
              <a:t>Incorporation of the dynamic/static reactive response capabilities associated with each WGR camp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96800" y="-360"/>
            <a:ext cx="774684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95d8c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480760" y="788760"/>
            <a:ext cx="6472440" cy="56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5d8c"/>
                </a:solidFill>
                <a:latin typeface="Arial"/>
              </a:rPr>
              <a:t>Phase I Objectives/Deliver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5d8c"/>
                </a:solidFill>
                <a:latin typeface="Arial"/>
              </a:rPr>
              <a:t>Phase 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5d8c"/>
                </a:solidFill>
                <a:latin typeface="Arial"/>
              </a:rPr>
              <a:t>Study Case 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d8c"/>
                </a:solidFill>
                <a:latin typeface="Arial"/>
              </a:rPr>
              <a:t>High Wind High Load (HWH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d8c"/>
                </a:solidFill>
                <a:latin typeface="Arial"/>
              </a:rPr>
              <a:t>High Wind Low Load (HW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5d8c"/>
                </a:solidFill>
                <a:latin typeface="Arial"/>
              </a:rPr>
              <a:t>Identification of Dynamic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d8c"/>
                </a:solidFill>
                <a:latin typeface="Arial"/>
              </a:rPr>
              <a:t>Normal Clearing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d8c"/>
                </a:solidFill>
                <a:latin typeface="Arial"/>
              </a:rPr>
              <a:t>Breaker Failure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5d8c"/>
                </a:solidFill>
                <a:latin typeface="Arial"/>
              </a:rPr>
              <a:t>Dynamic Simulation &amp;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d8c"/>
                </a:solidFill>
                <a:latin typeface="Arial"/>
              </a:rPr>
              <a:t>Reliability Metr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d8c"/>
                </a:solidFill>
                <a:latin typeface="Arial"/>
              </a:rPr>
              <a:t>Normal Clearing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d8c"/>
                </a:solidFill>
                <a:latin typeface="Arial"/>
              </a:rPr>
              <a:t>Breaker Failur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5d8c"/>
                </a:solidFill>
                <a:latin typeface="Arial"/>
              </a:rPr>
              <a:t>Key Observations &amp;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5d8c"/>
                </a:solidFill>
                <a:latin typeface="Arial"/>
              </a:rPr>
              <a:t>Key aspects for Phase 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842920" y="177480"/>
            <a:ext cx="608796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95d8c"/>
                </a:solidFill>
                <a:latin typeface="Arial"/>
              </a:rPr>
              <a:t>ERCOT VRT Study - Phase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368440" y="1123920"/>
            <a:ext cx="6623280" cy="50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5d8c"/>
                </a:solidFill>
                <a:latin typeface="Arial"/>
              </a:rPr>
              <a:t>Key Observations/In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5d8c"/>
                </a:solidFill>
                <a:latin typeface="Arial"/>
              </a:rPr>
              <a:t>Optimistic results in terms of Voltage Re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d8c"/>
                </a:solidFill>
                <a:latin typeface="Arial"/>
              </a:rPr>
              <a:t>Lack of dynamic load model representation in ERCOT load conversion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d8c"/>
                </a:solidFill>
                <a:latin typeface="Arial"/>
              </a:rPr>
              <a:t>AC compressor motor lo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451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d8c"/>
                </a:solidFill>
                <a:latin typeface="Arial"/>
              </a:rPr>
              <a:t>Stall at low voltages experienced during fault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451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d8c"/>
                </a:solidFill>
                <a:latin typeface="Arial"/>
              </a:rPr>
              <a:t>Draw 6-7 times more current from the system resulting in elevated reactive power consum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451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d8c"/>
                </a:solidFill>
                <a:latin typeface="Arial"/>
              </a:rPr>
              <a:t>Fault Induced Delayed Voltage Recovery (FIDV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842920" y="177480"/>
            <a:ext cx="608796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95d8c"/>
                </a:solidFill>
                <a:latin typeface="Arial"/>
              </a:rPr>
              <a:t>ERCOT VRT Study - Phase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368440" y="1123920"/>
            <a:ext cx="6623280" cy="50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5d8c"/>
                </a:solidFill>
                <a:latin typeface="Arial"/>
              </a:rPr>
              <a:t>Key Observations/In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d8c"/>
                </a:solidFill>
                <a:latin typeface="Arial"/>
              </a:rPr>
              <a:t>Cap Bank trips to be aligned with WGR machine tr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d8c"/>
                </a:solidFill>
                <a:latin typeface="Arial"/>
              </a:rPr>
              <a:t>Provide clear picture on any over-voltage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d8c"/>
                </a:solidFill>
                <a:latin typeface="Arial"/>
              </a:rPr>
              <a:t>Ascertain WGR operational philosophy with regards to external cap ba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d8c"/>
                </a:solidFill>
                <a:latin typeface="Arial"/>
              </a:rPr>
              <a:t>Script user-defined models in Phase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d8c"/>
                </a:solidFill>
                <a:latin typeface="Arial"/>
              </a:rPr>
              <a:t>Breaker failure events around a specific 345kV station in ERCOT West region pose reliability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d8c"/>
                </a:solidFill>
                <a:latin typeface="Arial"/>
              </a:rPr>
              <a:t>Total wind generation trips in terms of capacity lost close to ERCOT RRS 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d8c"/>
                </a:solidFill>
                <a:latin typeface="Arial"/>
              </a:rPr>
              <a:t>No frequency excursion concerns from breaker failure persp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42920" y="177480"/>
            <a:ext cx="608796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95d8c"/>
                </a:solidFill>
                <a:latin typeface="Arial"/>
              </a:rPr>
              <a:t>ERCOT VRT Study - Phase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368440" y="1123920"/>
            <a:ext cx="6623280" cy="50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5d8c"/>
                </a:solidFill>
                <a:latin typeface="Arial"/>
              </a:rPr>
              <a:t>Key Aspects for Phase 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d8c"/>
                </a:solidFill>
                <a:latin typeface="Arial"/>
              </a:rPr>
              <a:t>Ascertain exact fault clearing times from T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d8c"/>
                </a:solidFill>
                <a:latin typeface="Arial"/>
              </a:rPr>
              <a:t>Normal Clear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d8c"/>
                </a:solidFill>
                <a:latin typeface="Arial"/>
              </a:rPr>
              <a:t>Breaker Failure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d8c"/>
                </a:solidFill>
                <a:latin typeface="Arial"/>
              </a:rPr>
              <a:t>Update WGR VRT capability based on Phase II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d8c"/>
                </a:solidFill>
                <a:latin typeface="Arial"/>
              </a:rPr>
              <a:t>Sensitivity around load model in additional scenarios for Phase I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d8c"/>
                </a:solidFill>
                <a:latin typeface="Arial"/>
              </a:rPr>
              <a:t>Develop and incorporate the effect of collector system impedance associated with each WG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d8c"/>
                </a:solidFill>
                <a:latin typeface="Arial"/>
              </a:rPr>
              <a:t>Develop link b/w reliability metrics to assess impact on ERCOT system &amp; individual WGR VRT compl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42920" y="177480"/>
            <a:ext cx="608796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95d8c"/>
                </a:solidFill>
                <a:latin typeface="Arial"/>
              </a:rPr>
              <a:t>ERCOT VRT Study - Phase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368080" y="1123560"/>
            <a:ext cx="653436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d8c"/>
                </a:solidFill>
                <a:latin typeface="Arial"/>
              </a:rPr>
              <a:t>Potential Mitigation options to be explored in Phase III in case of reliability risks persist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d8c"/>
                </a:solidFill>
                <a:latin typeface="Arial"/>
              </a:rPr>
              <a:t>Strategic location of dynamic voltage support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d8c"/>
                </a:solidFill>
                <a:latin typeface="Arial"/>
              </a:rPr>
              <a:t>Under-Voltage Load Shedding (UVLS) Sche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d8c"/>
                </a:solidFill>
                <a:latin typeface="Arial"/>
              </a:rPr>
              <a:t>Wind turbine retrofitting to posses advanced VRT cap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d8c"/>
                </a:solidFill>
                <a:latin typeface="Arial"/>
              </a:rPr>
              <a:t>Replacement of existing breakers with high speed breakers on stations associated with dynamic events identified as criti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d8c"/>
                </a:solidFill>
                <a:latin typeface="Arial"/>
              </a:rPr>
              <a:t>Re-arrangement of certain critical stations in ERCOT West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d8c"/>
                </a:solidFill>
                <a:latin typeface="Arial"/>
              </a:rPr>
              <a:t>Potential change to the ERCOT Responsive Reserve Oblig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2"/>
          <a:stretch/>
        </p:blipFill>
        <p:spPr>
          <a:xfrm>
            <a:off x="3624120" y="314280"/>
            <a:ext cx="3286440" cy="23306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Photo of two wind turbines at Madison, NY"/>
          <p:cNvPicPr/>
          <p:nvPr/>
        </p:nvPicPr>
        <p:blipFill>
          <a:blip r:embed="rId3"/>
          <a:stretch/>
        </p:blipFill>
        <p:spPr>
          <a:xfrm>
            <a:off x="5724360" y="2590920"/>
            <a:ext cx="3171960" cy="22334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j0185108"/>
          <p:cNvPicPr/>
          <p:nvPr/>
        </p:nvPicPr>
        <p:blipFill>
          <a:blip r:embed="rId4"/>
          <a:stretch/>
        </p:blipFill>
        <p:spPr>
          <a:xfrm>
            <a:off x="1797120" y="2590920"/>
            <a:ext cx="3203640" cy="222876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5"/>
          <p:cNvSpPr/>
          <p:nvPr/>
        </p:nvSpPr>
        <p:spPr>
          <a:xfrm>
            <a:off x="3467160" y="51246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5d8c"/>
                </a:solidFill>
                <a:latin typeface="Arial"/>
              </a:rPr>
              <a:t>PB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66680" y="-360"/>
            <a:ext cx="59958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95d8c"/>
                </a:solidFill>
                <a:latin typeface="Arial"/>
              </a:rPr>
              <a:t>Phase I – Objectives &amp; Deliver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362320" y="1136520"/>
            <a:ext cx="6603840" cy="496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5d8c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d8c"/>
                </a:solidFill>
                <a:latin typeface="Arial"/>
              </a:rPr>
              <a:t>Perform dynamic simulations on models &amp; dynamic data set provided by ERC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d8c"/>
                </a:solidFill>
                <a:latin typeface="Arial"/>
              </a:rPr>
              <a:t>Assess impact of lack of WGR VRT capability on reliability of ERCO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5d8c"/>
                </a:solidFill>
                <a:latin typeface="Arial"/>
              </a:rPr>
              <a:t>Deliver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d8c"/>
                </a:solidFill>
                <a:latin typeface="Arial"/>
              </a:rPr>
              <a:t>Acceptable wind flat start for HWHL &amp; HWLL in PSS/E Version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d8c"/>
                </a:solidFill>
                <a:latin typeface="Arial"/>
              </a:rPr>
              <a:t>Steady state and dynamic data set for both flat star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d8c"/>
                </a:solidFill>
                <a:latin typeface="Arial"/>
              </a:rPr>
              <a:t>Phase I report documen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d8c"/>
                </a:solidFill>
                <a:latin typeface="Arial"/>
              </a:rPr>
              <a:t>Methodology for developing wind flat 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d8c"/>
                </a:solidFill>
                <a:latin typeface="Arial"/>
              </a:rPr>
              <a:t>Dynamic simulation process method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d8c"/>
                </a:solidFill>
                <a:latin typeface="Arial"/>
              </a:rPr>
              <a:t>Discussion of results associated with dynamic sim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d8c"/>
                </a:solidFill>
                <a:latin typeface="Arial"/>
              </a:rPr>
              <a:t>Conclusions &amp; Recommend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960640" y="202680"/>
            <a:ext cx="618336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95d8c"/>
                </a:solidFill>
                <a:latin typeface="Arial"/>
              </a:rPr>
              <a:t>ERCOT VRT Study - Phase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373120" y="1193400"/>
            <a:ext cx="631332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5d8c"/>
                </a:solidFill>
                <a:latin typeface="Arial"/>
              </a:rPr>
              <a:t>Study Case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5d8c"/>
                </a:solidFill>
                <a:latin typeface="Arial"/>
              </a:rPr>
              <a:t>HWHL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5d8c"/>
                </a:solidFill>
                <a:latin typeface="Arial"/>
              </a:rPr>
              <a:t>58,000 MW of ERCOT System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5d8c"/>
                </a:solidFill>
                <a:latin typeface="Arial"/>
              </a:rPr>
              <a:t>4,800 MW of Wind output for West Tex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5d8c"/>
                </a:solidFill>
                <a:latin typeface="Arial"/>
              </a:rPr>
              <a:t>N-1 Secure Disp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5d8c"/>
                </a:solidFill>
                <a:latin typeface="Arial"/>
              </a:rPr>
              <a:t>HWLL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5d8c"/>
                </a:solidFill>
                <a:latin typeface="Arial"/>
              </a:rPr>
              <a:t>36,000 MW of ERCOT System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5d8c"/>
                </a:solidFill>
                <a:latin typeface="Arial"/>
              </a:rPr>
              <a:t>4,300 MW of Wind output for West Tex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5d8c"/>
                </a:solidFill>
                <a:latin typeface="Arial"/>
              </a:rPr>
              <a:t>N-1 Secure Disp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66960" y="274320"/>
            <a:ext cx="6113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d8c"/>
                </a:solidFill>
                <a:latin typeface="Arial"/>
              </a:rPr>
              <a:t>ERCOT VRT Study - Phase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2"/>
          <a:stretch/>
        </p:blipFill>
        <p:spPr>
          <a:xfrm>
            <a:off x="1076400" y="861840"/>
            <a:ext cx="8016840" cy="54864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2451240" y="6362640"/>
            <a:ext cx="651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d8c"/>
                </a:solidFill>
                <a:latin typeface="Arial"/>
              </a:rPr>
              <a:t>Definition of Dynamic Events – Steady State Screening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766960" y="274320"/>
            <a:ext cx="6113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d8c"/>
                </a:solidFill>
                <a:latin typeface="Arial"/>
              </a:rPr>
              <a:t>ERCOT VRT Study - Phase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2362320" y="6210360"/>
            <a:ext cx="651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d8c"/>
                </a:solidFill>
                <a:latin typeface="Arial"/>
              </a:rPr>
              <a:t>Voltage Protection Boundaries w/o VRT Cap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3" descr=""/>
          <p:cNvPicPr/>
          <p:nvPr/>
        </p:nvPicPr>
        <p:blipFill>
          <a:blip r:embed="rId2"/>
          <a:stretch/>
        </p:blipFill>
        <p:spPr>
          <a:xfrm>
            <a:off x="1619280" y="946080"/>
            <a:ext cx="7350120" cy="5025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842920" y="177480"/>
            <a:ext cx="608796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95d8c"/>
                </a:solidFill>
                <a:latin typeface="Arial"/>
              </a:rPr>
              <a:t>ERCOT VRT Study - Phase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381400" y="971640"/>
            <a:ext cx="66103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5d8c"/>
                </a:solidFill>
                <a:latin typeface="Arial"/>
              </a:rPr>
              <a:t>Dynamic Simulation &amp;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5d8c"/>
                </a:solidFill>
                <a:latin typeface="Arial"/>
              </a:rPr>
              <a:t>Quantities to be monito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d8c"/>
                </a:solidFill>
                <a:latin typeface="Arial"/>
              </a:rPr>
              <a:t>Electrical Power output and Rotor angles of non-wind generation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d8c"/>
                </a:solidFill>
                <a:latin typeface="Arial"/>
              </a:rPr>
              <a:t>Voltages at 345kV stations in West 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d8c"/>
                </a:solidFill>
                <a:latin typeface="Arial"/>
              </a:rPr>
              <a:t>Electrical Power output &amp; Terminal Voltage for all WG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d8c"/>
                </a:solidFill>
                <a:latin typeface="Arial"/>
              </a:rPr>
              <a:t>Voltage at all wind farm POI locations or equivalent transmission system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d8c"/>
                </a:solidFill>
                <a:latin typeface="Arial"/>
              </a:rPr>
              <a:t>Frequency at 4 representative buses spanning 4 ERCOT z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42920" y="177480"/>
            <a:ext cx="608796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95d8c"/>
                </a:solidFill>
                <a:latin typeface="Arial"/>
              </a:rPr>
              <a:t>ERCOT VRT Study - Phase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381400" y="920880"/>
            <a:ext cx="66103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5d8c"/>
                </a:solidFill>
                <a:latin typeface="Arial"/>
              </a:rPr>
              <a:t>Dynamic Simulation &amp;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5d8c"/>
                </a:solidFill>
                <a:latin typeface="Arial"/>
              </a:rPr>
              <a:t>Normal Clearing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d8c"/>
                </a:solidFill>
                <a:latin typeface="Arial"/>
              </a:rPr>
              <a:t>Fault Clearing Time depends on numerous fa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d8c"/>
                </a:solidFill>
                <a:latin typeface="Arial"/>
              </a:rPr>
              <a:t>Voltage level associated with fault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d8c"/>
                </a:solidFill>
                <a:latin typeface="Arial"/>
              </a:rPr>
              <a:t>Breaker operation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d8c"/>
                </a:solidFill>
                <a:latin typeface="Arial"/>
              </a:rPr>
              <a:t>Line associated with clearing the 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d8c"/>
                </a:solidFill>
                <a:latin typeface="Arial"/>
              </a:rPr>
              <a:t>Relay pick-up time and co-ordination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d8c"/>
                </a:solidFill>
                <a:latin typeface="Arial"/>
              </a:rPr>
              <a:t>Based on discussion with ERCOT, 2 fault durations utilized for normal clearing events for Phase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51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d8c"/>
                </a:solidFill>
                <a:latin typeface="Arial"/>
              </a:rPr>
              <a:t>6 cycle fault d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51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d8c"/>
                </a:solidFill>
                <a:latin typeface="Arial"/>
              </a:rPr>
              <a:t>4 cycle fault d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842920" y="177480"/>
            <a:ext cx="608796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95d8c"/>
                </a:solidFill>
                <a:latin typeface="Arial"/>
              </a:rPr>
              <a:t>ERCOT VRT Study - Phase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381400" y="971640"/>
            <a:ext cx="66103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d8c"/>
                </a:solidFill>
                <a:latin typeface="Arial"/>
              </a:rPr>
              <a:t>Dynamic Simulation &amp;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d8c"/>
                </a:solidFill>
                <a:latin typeface="Arial"/>
              </a:rPr>
              <a:t>Reliability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5d8c"/>
                </a:solidFill>
                <a:latin typeface="Arial"/>
              </a:rPr>
              <a:t>Amount of wind generation (MW) tripped for each dynamic event based on the study case (HWHL/HWLL) generation dispatch vis-à-vis ERCOT responsive reserve level (2300 M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5d8c"/>
                </a:solidFill>
                <a:latin typeface="Arial"/>
              </a:rPr>
              <a:t>Amount of wind generation (MW) tripped for each dynamic event based on WGR capacity vis-à-vis ERCOT responsive reserve level (2300 M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5d8c"/>
                </a:solidFill>
                <a:latin typeface="Arial"/>
              </a:rPr>
              <a:t>Amount of wind generation (MW) tripped for each dynamic event based on the study case (HWHL/HWLL) generation dispatch and WGR capacity vis-à-vis ERCOT responsive reserve level not inclusive of LAAR in conjunction with frequency dev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99cc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5d8c"/>
                </a:solidFill>
                <a:latin typeface="Arial"/>
              </a:rPr>
              <a:t>System voltage recovery and post-event voltage lev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0:22:43Z</dcterms:created>
  <dc:creator/>
  <dc:description/>
  <dc:language>en-US</dc:language>
  <cp:lastModifiedBy>Mandhir Sahni</cp:lastModifiedBy>
  <dcterms:modified xsi:type="dcterms:W3CDTF">2009-12-03T04:11:23Z</dcterms:modified>
  <cp:revision>1081</cp:revision>
  <dc:subject>February 2007</dc:subject>
  <dc:title>PB Corporate Presentation</dc:title>
</cp:coreProperties>
</file>