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A60C-10B0-4079-AA08-1FE3F5E6BA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70A8-98D9-412C-BCEA-C4D2FF0B32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8807-B105-4B8F-94DA-C65D4D8F67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3A0E-5238-4543-8577-1634A51B00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F803-FB0B-48BF-B9E8-FE1654EE4E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DA46-3357-4B69-9D99-B89A70844C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FD95-0613-4BD4-BF24-DF4DDFC567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0622B-6117-4D86-B599-9CFF280D3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72FA-3277-48D2-932A-8685D871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3F570-9034-4D9A-8541-87A13835E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584DC-6A4A-4C9E-A11C-684447B63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32558-B2F4-4B40-9F65-91F4164E2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D95D1-1A19-4538-86FF-725167FC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721E2-18ED-4D02-9BF9-966D33E15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243EB-6DB6-4C80-B40E-9C6BD899C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471A4-E859-4C03-8230-79D94955E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B1C49-1C6C-4FB4-AD69-42B172C1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F0304-B740-4EC2-B1CC-0373D9731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E7A04-D74F-44B6-8F24-054848F91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20AFB-7E1E-475E-8C07-16C218F87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C0F9B-BA6B-4E81-A5B3-E725FA0D5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2EA32-0C0A-4048-A1FF-004E7E9F6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5A8E4-CBF2-4309-ABF4-84EEB499B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2373F-EBE7-4325-9AB6-51F7BD141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C76B5-C882-4146-94A3-BF96BB91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E8C2-8462-4619-9942-A09D3585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6A2A-989E-483D-91B0-9CB6CA479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AFBCE-163F-4DE6-9F75-44588F73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F9E8-8B00-4F65-A399-8483E288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AF991-2270-4AAB-9433-69E10D6F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BBC8-9CC8-4872-92B9-E0AB359AD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1615-EC63-4ACC-B1B2-95CE4129C68E}"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4757-5276-4436-AE52-EE67E188AF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6A6A-3D67-4283-94E7-8F303D47F1F2}" type="datetime">
              <a:rPr b="0" lang="en-US" sz="1400" spc="-1" strike="noStrike">
                <a:solidFill>
                  <a:srgbClr val="ffffff"/>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7358-59CA-4C72-8C4A-4032E3734E0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December 9,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ption 1 </a:t>
            </a:r>
            <a:br>
              <a:rPr sz="4400"/>
            </a:br>
            <a:r>
              <a:rPr b="0" lang="en-US" sz="4400" spc="-1" strike="noStrike">
                <a:solidFill>
                  <a:srgbClr val="e8edf2"/>
                </a:solidFill>
                <a:latin typeface="Tahoma"/>
              </a:rPr>
              <a:t>Tasks and Status Report? </a:t>
            </a:r>
            <a:endParaRPr b="0" lang="en-US" sz="4400" spc="-1" strike="noStrike">
              <a:solidFill>
                <a:srgbClr val="e8edf2"/>
              </a:solidFill>
              <a:latin typeface="Tahoma"/>
            </a:endParaRPr>
          </a:p>
        </p:txBody>
      </p:sp>
      <p:sp>
        <p:nvSpPr>
          <p:cNvPr id="92" name=""/>
          <p:cNvSpPr txBox="1"/>
          <p:nvPr/>
        </p:nvSpPr>
        <p:spPr>
          <a:xfrm>
            <a:off x="228600" y="1599840"/>
            <a:ext cx="8763120" cy="53341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on 1:</a:t>
            </a:r>
            <a:endParaRPr b="0" lang="en-US" sz="32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1/14/2009  (COMPLETED)</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AMS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1/21/2009-11/22/2009  (COMPLETED</a:t>
            </a:r>
            <a:r>
              <a:rPr b="1" lang="en-US" sz="1400" spc="-1" strike="noStrike">
                <a:solidFill>
                  <a:srgbClr val="ffffff"/>
                </a:solidFill>
                <a:latin typeface="Tahoma"/>
              </a:rPr>
              <a: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SE Interval Data Loading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oad and AMS DG Data Aggregation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AMS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vide ESIIDs where AMS interval data not loaded for a trade date – Web Service</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6/2009 (COMPLETED)</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IDR Required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13/2009</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Service History &amp; Usage Extract (727) changes to remove interval data</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IDR Required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remaining ESIID Market Data Transparency web service changes</a:t>
            </a:r>
            <a:endParaRPr b="0" lang="en-US" sz="1400" spc="-1" strike="noStrike">
              <a:solidFill>
                <a:srgbClr val="ffffff"/>
              </a:solidFill>
              <a:latin typeface="Tahoma"/>
            </a:endParaRPr>
          </a:p>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Based on current timelines provided by the TDSPs for sending AMS LSE files to ERCOT with a 11/21-11/22 implementation, the first AMS LSE file would be sent to ERCOT the week of 12/4/09***</a:t>
            </a:r>
            <a:endParaRPr b="0" lang="en-US" sz="1800" spc="-1" strike="noStrike">
              <a:solidFill>
                <a:srgbClr val="ffffff"/>
              </a:solidFill>
              <a:latin typeface="Tahoma"/>
            </a:endParaRPr>
          </a:p>
          <a:p>
            <a:pPr marL="343080" indent="-343080">
              <a:lnSpc>
                <a:spcPct val="9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2A08-2A12-4BEA-9590-7A915A071918}"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12/07/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p:txBody>
      </p:sp>
      <p:graphicFrame>
        <p:nvGraphicFramePr>
          <p:cNvPr id="96" name=""/>
          <p:cNvGraphicFramePr/>
          <p:nvPr/>
        </p:nvGraphicFramePr>
        <p:xfrm>
          <a:off x="76320" y="1523880"/>
          <a:ext cx="8991360" cy="5164200"/>
        </p:xfrm>
        <a:graphic>
          <a:graphicData uri="http://schemas.openxmlformats.org/drawingml/2006/table">
            <a:tbl>
              <a:tblPr/>
              <a:tblGrid>
                <a:gridCol w="3146400"/>
                <a:gridCol w="1724040"/>
                <a:gridCol w="1798560"/>
                <a:gridCol w="2322360"/>
              </a:tblGrid>
              <a:tr h="361800">
                <a:tc>
                  <a:txBody>
                    <a:bodyPr lIns="86760" rIns="86760" tIns="43560" bIns="4356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Milestone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line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r>
              <a:tr h="475200">
                <a:tc>
                  <a:txBody>
                    <a:bodyPr lIns="86760" rIns="86760" tIns="43560" bIns="4356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Technical Architecture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15/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velopmen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7/24/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70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tailed Designs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4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Market 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1 – 11/21</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13/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6520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1</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14/2009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21/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Comple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5742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2 – 12/13</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2/09/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 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62496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2</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n/a</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2/13/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On Schedule</a:t>
                      </a:r>
                      <a:endParaRPr b="0" lang="en-US" sz="16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cfd795"/>
                    </a:solidFill>
                  </a:tcPr>
                </a:tc>
              </a:tr>
              <a:tr h="3056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Stabilization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3/19/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0204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rojec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21/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7" name="AutoShape 23"/>
          <p:cNvSpPr/>
          <p:nvPr/>
        </p:nvSpPr>
        <p:spPr>
          <a:xfrm>
            <a:off x="6781680" y="4343400"/>
            <a:ext cx="609840" cy="533520"/>
          </a:xfrm>
          <a:custGeom>
            <a:avLst/>
            <a:gdLst>
              <a:gd name="textAreaLeft" fmla="*/ 188280 w 609840"/>
              <a:gd name="textAreaRight" fmla="*/ 421560 w 60984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DSPs and ERCOT </a:t>
            </a:r>
            <a:br>
              <a:rPr sz="4400"/>
            </a:br>
            <a:r>
              <a:rPr b="0" lang="en-US" sz="4400" spc="-1" strike="noStrike">
                <a:solidFill>
                  <a:srgbClr val="e8edf2"/>
                </a:solidFill>
                <a:latin typeface="Tahoma"/>
              </a:rPr>
              <a:t>Action Item</a:t>
            </a:r>
            <a:endParaRPr b="0" lang="en-US" sz="4400" spc="-1" strike="noStrike">
              <a:solidFill>
                <a:srgbClr val="e8edf2"/>
              </a:solidFill>
              <a:latin typeface="Tahoma"/>
            </a:endParaRPr>
          </a:p>
        </p:txBody>
      </p:sp>
      <p:sp>
        <p:nvSpPr>
          <p:cNvPr id="99" name=""/>
          <p:cNvSpPr txBox="1"/>
          <p:nvPr/>
        </p:nvSpPr>
        <p:spPr>
          <a:xfrm>
            <a:off x="228600" y="1371240"/>
            <a:ext cx="8763120" cy="571500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ERCOT’s new implementation schedule also meant that: </a:t>
            </a:r>
            <a:endParaRPr b="0" lang="en-US" sz="30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814_20 submission schedule needed to be revised for Oncor and CenterPoint Energy and an expanded timeline needed to be developed to address market questions/concerns of when to expect 814_20 transactions, LSE files would be sent to ERCOT by TDSPs and finally when those ESI IDs would be settled based upon the 15 minute data.</a:t>
            </a:r>
            <a:endParaRPr b="0" lang="en-US" sz="26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anks to Oncor, CenterPoint Energy and ERCOT for working so diligently to finalize this information.</a:t>
            </a:r>
            <a:endParaRPr b="0" lang="en-US" sz="2600" spc="-1" strike="noStrike">
              <a:solidFill>
                <a:srgbClr val="ffffff"/>
              </a:solidFill>
              <a:latin typeface="Tahoma"/>
            </a:endParaRPr>
          </a:p>
          <a:p>
            <a:pPr lvl="4" marL="1921320" indent="-221400">
              <a:lnSpc>
                <a:spcPct val="90000"/>
              </a:lnSpc>
              <a:spcBef>
                <a:spcPts val="476"/>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2640" indent="-332640">
              <a:lnSpc>
                <a:spcPct val="90000"/>
              </a:lnSpc>
              <a:spcBef>
                <a:spcPts val="7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a:p>
            <a:pPr lvl="1" marL="720720" indent="-277200">
              <a:lnSpc>
                <a:spcPct val="90000"/>
              </a:lnSpc>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3" marL="1514880" indent="-221400">
              <a:lnSpc>
                <a:spcPct val="9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lvl="2" marL="1108440" indent="-221400">
              <a:lnSpc>
                <a:spcPct val="90000"/>
              </a:lnSpc>
              <a:spcBef>
                <a:spcPts val="55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1108440" indent="-2214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0"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8329-F0DC-4D06-937C-38D195CD0B4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graphicFrame>
        <p:nvGraphicFramePr>
          <p:cNvPr id="101" name="Object 5"/>
          <p:cNvGraphicFramePr/>
          <p:nvPr/>
        </p:nvGraphicFramePr>
        <p:xfrm>
          <a:off x="7848720" y="5797440"/>
          <a:ext cx="914400" cy="714600"/>
        </p:xfrm>
        <a:graphic>
          <a:graphicData uri="http://schemas.openxmlformats.org/presentationml/2006/ole">
            <p:oleObj progId="Excel.Sheet.12" r:id="rId1" spid="">
              <p:embed/>
              <p:pic>
                <p:nvPicPr>
                  <p:cNvPr id="102" name="Object 5" descr=""/>
                  <p:cNvPicPr/>
                  <p:nvPr/>
                </p:nvPicPr>
                <p:blipFill>
                  <a:blip r:embed="rId2"/>
                  <a:stretch/>
                </p:blipFill>
                <p:spPr>
                  <a:xfrm>
                    <a:off x="7848720" y="579744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a:t>
            </a:r>
            <a:br>
              <a:rPr sz="4400"/>
            </a:br>
            <a:r>
              <a:rPr b="0" lang="en-US" sz="4400" spc="-1" strike="noStrike">
                <a:solidFill>
                  <a:srgbClr val="e8edf2"/>
                </a:solidFill>
                <a:latin typeface="Tahoma"/>
              </a:rPr>
              <a:t>MARS Taskforce</a:t>
            </a:r>
            <a:endParaRPr b="0" lang="en-US" sz="4400" spc="-1" strike="noStrike">
              <a:solidFill>
                <a:srgbClr val="e8edf2"/>
              </a:solidFill>
              <a:latin typeface="Tahoma"/>
            </a:endParaRPr>
          </a:p>
        </p:txBody>
      </p:sp>
      <p:sp>
        <p:nvSpPr>
          <p:cNvPr id="104" name=""/>
          <p:cNvSpPr txBox="1"/>
          <p:nvPr/>
        </p:nvSpPr>
        <p:spPr>
          <a:xfrm>
            <a:off x="533520" y="1523520"/>
            <a:ext cx="8229600" cy="5334120"/>
          </a:xfrm>
          <a:prstGeom prst="rect">
            <a:avLst/>
          </a:prstGeom>
          <a:noFill/>
          <a:ln w="0">
            <a:noFill/>
          </a:ln>
          <a:effectLst>
            <a:outerShdw dist="17819" dir="2700000" blurRad="0" rotWithShape="0">
              <a:srgbClr val="000000"/>
            </a:outerShdw>
          </a:effectLst>
        </p:spPr>
        <p:txBody>
          <a:bodyPr anchor="t">
            <a:normAutofit fontScale="96000"/>
          </a:bodyPr>
          <a:p>
            <a:pPr lvl="1" marL="329040" indent="-329040">
              <a:spcBef>
                <a:spcPts val="6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329040" indent="-32904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agreed that project updates for the month of December will be provided through the Commercial Operations meeting on December 8, 2009 and the Retail Market Subcommittee meeting on December 9, 2009 rather than through a formal MARS Taskforce meeting due to so many production activities are scheduled for November/December. </a:t>
            </a:r>
            <a:endParaRPr b="0" lang="en-US" sz="2400" spc="-1" strike="noStrike">
              <a:solidFill>
                <a:srgbClr val="ffffff"/>
              </a:solidFill>
              <a:latin typeface="Tahoma"/>
            </a:endParaRPr>
          </a:p>
          <a:p>
            <a:pPr lvl="1" marL="329040" indent="-3290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will re-evaluate when our next meeting date should be scheduled following project </a:t>
            </a:r>
            <a:r>
              <a:rPr b="1" lang="en-US" sz="2400" spc="-1" strike="noStrike">
                <a:solidFill>
                  <a:srgbClr val="ffffff"/>
                </a:solidFill>
                <a:latin typeface="Tahoma"/>
              </a:rPr>
              <a:t>implementation Go-Live of Phase I and II </a:t>
            </a:r>
            <a:r>
              <a:rPr b="0" lang="en-US" sz="2400" spc="-1" strike="noStrike">
                <a:solidFill>
                  <a:srgbClr val="ffffff"/>
                </a:solidFill>
                <a:latin typeface="Tahoma"/>
              </a:rPr>
              <a:t>and once there is actual AMS production data that can be discussed and reviewed by the team.          </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B979-028C-4F83-9792-B970AE55CAE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07"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08" name="Picture 4" descr="j0385990.jpg"/>
          <p:cNvPicPr/>
          <p:nvPr/>
        </p:nvPicPr>
        <p:blipFill>
          <a:blip r:embed="rId2"/>
          <a:stretch/>
        </p:blipFill>
        <p:spPr>
          <a:xfrm>
            <a:off x="-6480" y="1670040"/>
            <a:ext cx="3292560" cy="3444840"/>
          </a:xfrm>
          <a:prstGeom prst="rect">
            <a:avLst/>
          </a:prstGeom>
          <a:ln w="0">
            <a:noFill/>
          </a:ln>
        </p:spPr>
      </p:pic>
      <p:pic>
        <p:nvPicPr>
          <p:cNvPr id="109"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2-05T01:43:01Z</dcterms:modified>
  <cp:revision>232</cp:revision>
  <dc:subject/>
  <dc:title>MARS Taskforce </dc:title>
</cp:coreProperties>
</file>