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980CE-6496-43AF-B8EA-6B71AAF57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E91BA-DC2B-422F-9F0B-15B50BDFB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51914-9E71-4E7F-89DE-EBE99BDEB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497D1-9C6D-43C9-AFA2-586F82E75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F51ED-BE4D-40DA-ACC9-2BF4C1E41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B6DEE-BEC6-4102-BC0E-0C4302C4B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66074-90F5-448C-B711-61A2436F0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FCFD7-417E-4FD5-B867-15A1F202F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5C863-410B-4D1B-B6F4-A7AF29BF6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8CC36-743C-4CFD-AA37-90FA85B64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38ACA-1C12-422A-88CD-76358CBA4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85ACD-CE31-4114-B397-648BFDB23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70115-0AD0-4B10-81EC-2CF6D7DDFE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il Market Sub Committ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ember 9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2619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cember 9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160" y="5067360"/>
            <a:ext cx="60483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tail Market Subcommittee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Flight Testing Updat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90440" y="195120"/>
            <a:ext cx="793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light 0210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12193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12193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ight 1009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 New CRs (6 Additional DUNS) completed testing with a total of 33 TDSP terr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Existing CRs (3 Change of Service Provider, 4 Bank Change, and 3 TDSP territories added) completed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Existing CRs completed testing for CBCI changes prior to PROD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xt Flight - 021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Signup begins 01/06/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Deadline is 01/13/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vity Kick-Off Conference Call:  01/19/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Kick-Off Conference Call:  02/12/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Begins Day 1 Transactions: 02/15/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scheduled to conclude:  03/30/10 (Contingency period until 04/16/10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1090440" y="195120"/>
            <a:ext cx="793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light 0210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gcervenka</cp:lastModifiedBy>
  <dcterms:modified xsi:type="dcterms:W3CDTF">2009-12-03T13:30:08Z</dcterms:modified>
  <cp:revision>116</cp:revision>
  <dc:subject/>
  <dc:title>Instructions</dc:title>
</cp:coreProperties>
</file>