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98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98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2481761-16E8-456D-A866-B884E110A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970440" y="8831160"/>
            <a:ext cx="3039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2F7EC4-5F17-4B74-9A06-A62C8F87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1F1-14E4-481C-A733-02478E99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DF2-6ADC-4033-9BBE-783AF414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C57-7F12-42D4-9E4F-88B498D1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6FD-B265-4487-891A-C23977EE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84D-6C55-4FBD-AD34-11D2AD6C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F7D-3134-4823-B82F-5E660F2F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231-BD9C-4BEE-82D6-816F0BD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A4D-A71C-4D9F-B92D-1D246F3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EFD-5CEA-421A-82D0-E6BF90E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5F1-F6BE-4215-8872-5E9369A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C1D-9CFA-40E8-9BB4-C4D503DF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D80-505D-4A8D-8C7D-2AFBF0A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7B4B-FF3E-49E7-8082-E1A6A1D47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ember 09, 200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rd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9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36F-9E07-4DEC-9C20-6837932C6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447920"/>
          <a:ext cx="8686800" cy="4694040"/>
        </p:xfrm>
        <a:graphic>
          <a:graphicData uri="http://schemas.openxmlformats.org/drawingml/2006/table">
            <a:tbl>
              <a:tblPr/>
              <a:tblGrid>
                <a:gridCol w="2776680"/>
                <a:gridCol w="1801800"/>
                <a:gridCol w="1288800"/>
                <a:gridCol w="1716120"/>
                <a:gridCol w="110340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8,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6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2,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5,8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1,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5,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1,1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5,3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9,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5,7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9,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4,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3,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2,8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9,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,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243-1B9D-4E53-9313-4E638E7B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447920"/>
          <a:ext cx="8610480" cy="4711680"/>
        </p:xfrm>
        <a:graphic>
          <a:graphicData uri="http://schemas.openxmlformats.org/drawingml/2006/table">
            <a:tbl>
              <a:tblPr/>
              <a:tblGrid>
                <a:gridCol w="2805120"/>
                <a:gridCol w="1690560"/>
                <a:gridCol w="1219320"/>
                <a:gridCol w="1776240"/>
                <a:gridCol w="111924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83,6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10,3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,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9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6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00,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5,8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2,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4,4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1,4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0,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1,6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4,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3,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3,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2,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3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16,5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0,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18D-04E6-4A98-86AF-8735AA16F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447920"/>
          <a:ext cx="8686800" cy="4776840"/>
        </p:xfrm>
        <a:graphic>
          <a:graphicData uri="http://schemas.openxmlformats.org/drawingml/2006/table">
            <a:tbl>
              <a:tblPr/>
              <a:tblGrid>
                <a:gridCol w="2717640"/>
                <a:gridCol w="1944720"/>
                <a:gridCol w="1081080"/>
                <a:gridCol w="1860840"/>
                <a:gridCol w="1082520"/>
              </a:tblGrid>
              <a:tr h="3916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7,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5,6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5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1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3,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1,5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1,8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,3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1,5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,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2,9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5,2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,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,1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6,4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,68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6,2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,6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2,3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1,8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5498-B78F-4E4A-8FDC-27FFE3BAA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447920"/>
          <a:ext cx="8458200" cy="4541760"/>
        </p:xfrm>
        <a:graphic>
          <a:graphicData uri="http://schemas.openxmlformats.org/drawingml/2006/table">
            <a:tbl>
              <a:tblPr/>
              <a:tblGrid>
                <a:gridCol w="2675160"/>
                <a:gridCol w="1825560"/>
                <a:gridCol w="1065240"/>
                <a:gridCol w="1825560"/>
                <a:gridCol w="106668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28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76,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3,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4,4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1,4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4,5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23,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75,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0,0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3,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86,0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2,5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920-6A8D-4E79-B14C-4395B2A8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 ID Create/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523880"/>
          <a:ext cx="8458200" cy="4227480"/>
        </p:xfrm>
        <a:graphic>
          <a:graphicData uri="http://schemas.openxmlformats.org/drawingml/2006/table">
            <a:tbl>
              <a:tblPr/>
              <a:tblGrid>
                <a:gridCol w="2614680"/>
                <a:gridCol w="1962360"/>
                <a:gridCol w="917280"/>
                <a:gridCol w="1873440"/>
                <a:gridCol w="1090440"/>
              </a:tblGrid>
              <a:tr h="460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0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6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3,9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5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41,0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42,6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43,8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1,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9-11-20T18:00:53Z</dcterms:modified>
  <cp:revision>484</cp:revision>
  <dc:subject/>
  <dc:title>PowerPoint Presentation</dc:title>
</cp:coreProperties>
</file>