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7AA6-97B2-4A20-B1F1-423BCC7F0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6951-D7C3-4276-959B-9A57E5E4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7613-FB2E-48E3-9D38-C72A02CBD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BE97-BFF2-4978-A727-CD5C61B26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9BE1-CD36-43D5-8750-CB759E192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43EA-C55A-4F4C-B8E9-6E891924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43C3-7353-4B07-972A-ECF12E52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DBEA-B5D7-4C37-B166-5ECA5395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C45B-D0C1-4DB7-84BC-D1F806B3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CE57-22F7-4229-AB21-06374CDA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0231-D65B-4E76-9F95-953FB53E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807B-C331-4818-9777-957A731A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6E93-759D-43A5-AEFC-1F2D0B81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FE82-063B-47B2-9394-B301E3BA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C2913-33BE-45B9-8C93-854933B3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6231-F166-4537-91BF-C0C39DE97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D737-5B27-4E0B-B496-BD1E86EED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425D-9288-4764-834F-80FDC5CF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FD9D-8DA7-44D7-BC43-50F1A9F8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FD10-37C9-4678-BFF0-8896523B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BFFA-9D66-41F1-8B5A-6E1D42F1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62A1-D50A-4AAB-9303-E0CD00B8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DECB-465A-459B-920D-0C381457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72D9-7137-4F4E-BCF4-9E094332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C2DC-B13E-4A58-BCF1-11AD4D8EA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956A-A514-43C7-9AEE-88D98853A0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762120" y="914400"/>
            <a:ext cx="78483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AC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ecember 3, 2009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eeting Updat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Slide Number Placehold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E664-BC39-4FEC-82DD-736265F7E3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TX Nodal Implement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08C7-3720-4214-8925-F09B38B44B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762120" y="1143000"/>
          <a:ext cx="7696080" cy="4896000"/>
        </p:xfrm>
        <a:graphic>
          <a:graphicData uri="http://schemas.openxmlformats.org/drawingml/2006/table">
            <a:tbl>
              <a:tblPr/>
              <a:tblGrid>
                <a:gridCol w="1900080"/>
                <a:gridCol w="1528920"/>
                <a:gridCol w="2286000"/>
                <a:gridCol w="198108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has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Whe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cop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tatu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4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.1: Market Connectivit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MILESTONE COMPLET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ct. 2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buSzPct val="10000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MP interface testing (API, Market Manager UI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7360" indent="-117360">
                        <a:lnSpc>
                          <a:spcPct val="100000"/>
                        </a:lnSpc>
                        <a:buSzPct val="10000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Market System Rules Validation (Phase 1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buSzPct val="10000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Connectivity testing began as schedule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7360" indent="-117360">
                        <a:lnSpc>
                          <a:spcPct val="100000"/>
                        </a:lnSpc>
                        <a:buSzPct val="100000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Up to 16 MPs testing market submissions dail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7360" indent="-117360">
                        <a:lnSpc>
                          <a:spcPct val="100000"/>
                        </a:lnSpc>
                        <a:buSzPct val="100000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ome technical issues on market sid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7360" indent="-117360">
                        <a:lnSpc>
                          <a:spcPct val="100000"/>
                        </a:lnSpc>
                        <a:buSzPct val="100000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Few functional issues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9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: Real-Time Market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Mid January-Early Februar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buSzPct val="100000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MMS-SCED execut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7360" indent="-117360">
                        <a:lnSpc>
                          <a:spcPct val="100000"/>
                        </a:lnSpc>
                        <a:buSzPct val="100000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CED results, report publishing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7360" indent="-117360">
                        <a:lnSpc>
                          <a:spcPct val="100000"/>
                        </a:lnSpc>
                        <a:buSzPct val="100000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CRR auction execution (CRR UI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7360" indent="-117360">
                        <a:lnSpc>
                          <a:spcPct val="100000"/>
                        </a:lnSpc>
                        <a:buSzPct val="100000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S submissions (API, OS UI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buSzPct val="100000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lanning complet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7360" indent="-117360">
                        <a:lnSpc>
                          <a:spcPct val="100000"/>
                        </a:lnSpc>
                        <a:buSzPct val="100000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Integrated testing under way (CRR, OS, SCED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7360" indent="-117360">
                        <a:lnSpc>
                          <a:spcPct val="100000"/>
                        </a:lnSpc>
                        <a:buSzPct val="100000"/>
                        <a:buBlip>
                          <a:blip r:embed="rId1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Running Real-Time operating scenarios twice weekl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9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4: DAM/RU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Late March-Early Apri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buSzPct val="100000"/>
                        <a:buBlip>
                          <a:blip r:embed="rId1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MMS-DAM, DRUC, HRUC, SCED execut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7360" indent="-117360">
                        <a:lnSpc>
                          <a:spcPct val="100000"/>
                        </a:lnSpc>
                        <a:buSzPct val="100000"/>
                        <a:buBlip>
                          <a:blip r:embed="rId1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Market results, report publishing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7360" indent="-117360">
                        <a:lnSpc>
                          <a:spcPct val="100000"/>
                        </a:lnSpc>
                        <a:buSzPct val="100000"/>
                        <a:buBlip>
                          <a:blip r:embed="rId1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Initial S&amp;B execut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7360" indent="-117360">
                        <a:lnSpc>
                          <a:spcPct val="100000"/>
                        </a:lnSpc>
                        <a:buSzPct val="100000"/>
                        <a:buBlip>
                          <a:blip r:embed="rId1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utage, CRR integrat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buSzPct val="100000"/>
                        <a:buBlip>
                          <a:blip r:embed="rId1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lanning in progres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7360" indent="-117360">
                        <a:lnSpc>
                          <a:spcPct val="100000"/>
                        </a:lnSpc>
                        <a:buSzPct val="100000"/>
                        <a:buBlip>
                          <a:blip r:embed="rId1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Integrated testing under wa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7360" indent="-117360">
                        <a:lnSpc>
                          <a:spcPct val="100000"/>
                        </a:lnSpc>
                        <a:buSzPct val="100000"/>
                        <a:buBlip>
                          <a:blip r:embed="rId2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Executing DAM mechanic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: Full Functionalit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Late April-Early Ma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buSzPct val="100000"/>
                        <a:buBlip>
                          <a:blip r:embed="rId2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Run full nodal system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buSzPct val="100000"/>
                        <a:buBlip>
                          <a:blip r:embed="rId2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lanning in progres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7360" indent="-117360">
                        <a:lnSpc>
                          <a:spcPct val="100000"/>
                        </a:lnSpc>
                        <a:buSzPct val="100000"/>
                        <a:buBlip>
                          <a:blip r:embed="rId2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Internal DST test Nov.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636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SzPct val="100000"/>
                        <a:buBlip>
                          <a:blip r:embed="rId2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arking Deck items will be managed through ERCOT PMO via current Change Management proces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SzPct val="100000"/>
                        <a:buBlip>
                          <a:blip r:embed="rId2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 open items; 3 ranked by PR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 u="sng">
                <a:solidFill>
                  <a:srgbClr val="ffff00"/>
                </a:solidFill>
                <a:uFillTx/>
                <a:latin typeface="Arial"/>
              </a:rPr>
              <a:t>P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Approved by 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R832, Deletion of Schedule Control Error (SCR) Posting Requir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R839, Revised Resource Category Generic Fuel Costs - Urgen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R840, Update Trading Hub Conversion for 2010 Congestion Zones – Urg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PRR196, Synchronization of Nodal Protocols with PRR827, Find Transaction and Find ESI ID Functions on the M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abled at 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R833, Primary Frequency Response Requirement from Existing WG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PRR091, Scarcity Pricing and Mitigated Offer Cap During the Period Commencing on the Nodal Market Implementation Date and Continuing for a Total of 45 Da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PRR146, ICCP Telemetry Information Submitta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PRR153, Generation Resource Fixed Quantity Blo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PRR164, Resubmitting Ancillary Service Offers in SAS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PRR169, Clarify the Calculation and Posting of LMPs for the Load Zone and LMPs for each Hu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5876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nged priority level from “high-medium” to “high-high”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Previously Approved, but Tabled at TAC – sent to B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PRR196, Synchronization of Nodal Protocols with PRR827, Find Transaction and Find ESI ID Functions on the M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81EB-A2E0-41D2-BA9A-A64DFE6B03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 u="sng">
                <a:solidFill>
                  <a:srgbClr val="ffff00"/>
                </a:solidFill>
                <a:uFillTx/>
                <a:latin typeface="Arial"/>
              </a:rPr>
              <a:t>R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Approved as modified by T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GRR226, Generation Resource Response Tim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GRR237, Clarify the WGR Voltage Ride-Through Requirement – Urg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7B1B-98C3-4C9F-A47F-9125372F74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 u="sng">
                <a:solidFill>
                  <a:srgbClr val="ffff00"/>
                </a:solidFill>
                <a:uFillTx/>
                <a:latin typeface="Arial"/>
              </a:rPr>
              <a:t>CO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Approved by T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sed COPS Procedur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6A28-8192-4C52-B99B-23A33C3621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 u="sng">
                <a:solidFill>
                  <a:srgbClr val="ffff00"/>
                </a:solidFill>
                <a:uFillTx/>
                <a:latin typeface="Arial"/>
              </a:rPr>
              <a:t>R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Approved by T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MGRR081, Texas New Mexico Power Updates to Processes and Contact Inform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774C-28A8-421B-B5C6-C7A5F55025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 u="sng">
                <a:solidFill>
                  <a:srgbClr val="ffff00"/>
                </a:solidFill>
                <a:uFillTx/>
                <a:latin typeface="Arial"/>
              </a:rPr>
              <a:t>Other Busin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 House of Representatives Committee on Agri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Sent all RTOs and ISOs letter for preliminary investigation into FTRs (TC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Letter is posted on TAC site as background material for Dec 3 me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sible Webcast of Stakeholder Committe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ion around transparency vs.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ion around alternatives like WebEx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only Texas Admin can provide this servi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4700-E417-4CB7-935E-7A65666CD8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Questions 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5CC5-CF86-42B0-B04E-1C6ED224D0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5:17:58Z</dcterms:created>
  <dc:creator>lstarr</dc:creator>
  <dc:description/>
  <dc:language>en-US</dc:language>
  <cp:lastModifiedBy>cmoore</cp:lastModifiedBy>
  <dcterms:modified xsi:type="dcterms:W3CDTF">2009-12-04T16:57:47Z</dcterms:modified>
  <cp:revision>15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126852134</vt:r8>
  </property>
  <property fmtid="{D5CDD505-2E9C-101B-9397-08002B2CF9AE}" pid="3" name="_AuthorEmail">
    <vt:lpwstr>Chuck.Moore@directenergy.com</vt:lpwstr>
  </property>
  <property fmtid="{D5CDD505-2E9C-101B-9397-08002B2CF9AE}" pid="4" name="_AuthorEmailDisplayName">
    <vt:lpwstr>Moore, Chuck</vt:lpwstr>
  </property>
  <property fmtid="{D5CDD505-2E9C-101B-9397-08002B2CF9AE}" pid="5" name="_EmailSubject">
    <vt:lpwstr>TAC Update to COPS/RMS</vt:lpwstr>
  </property>
  <property fmtid="{D5CDD505-2E9C-101B-9397-08002B2CF9AE}" pid="6" name="_NewReviewCycle">
    <vt:lpwstr/>
  </property>
</Properties>
</file>