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5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717E-455D-466F-9707-E962156A9B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1984-565E-4A61-A508-30CC20F3A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6E46-715F-48B5-8609-A5EB13669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5919-4C1C-4C05-8A78-DF5121CFC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4CAF-5ABD-440B-AC94-594352C20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B1DD-F997-4378-BF3C-18FB4C615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E7004-6AC4-47E9-8D7B-8F0AC2C60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A7FF-248A-41E1-8164-F36EE2F0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AE920C8-71ED-4ABD-8797-6FD912C2E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9E7208A-5AF5-4F59-927D-454D08B6F6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2EB3F36-0C7B-4CC7-A85E-45329621A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B8B107D-C46C-4AFC-A56E-F1EAC213D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F8AAF0D-5299-489E-9573-217D81F0D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9B9C9A2-388C-41E7-9DAE-E70E6C2BD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5DE2BA6-107B-46AC-B662-2FB56AD96E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02AC171-7E55-45B9-9380-E06DA81424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A3E2488-A855-41CC-B559-26417BC8DD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E13E93C-2E51-429E-BC75-9DCD1E3BC9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887B2-B1DB-4AD9-8E1B-BC64D6CD3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E467256-1281-4C0F-B198-6B8EBD8D82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E576D84-BB5C-4BD6-8939-C6E4296F0F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D9D33FE-449A-44E0-9200-833157D662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4D0FBF1-8325-409A-AA44-5EB6522C7E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89CF0D3-77F8-44DF-9AC4-EAEA527DF1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770480-C777-4B55-BE99-21021CA08E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35AB68-A0FB-47D1-AC06-814043880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481EA19-85C9-4759-910A-03AC99E3E2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B09E753-DE9C-49DC-9B09-400D561300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56BA7A4-92E9-4DFD-AD25-29271DC913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3BCA1-9333-4D29-AF27-C7A273B33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0E336AC-F304-478E-ACDD-87A5336191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CF0EE0-5EF4-41D3-893C-24F3D30E40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B17E7E-48D8-4DCD-B74E-4ECFB132C1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9C106D-3BE6-45F9-8D62-4003B1C314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9B7CDE-1C1A-4BDE-B03E-67E5A1AD63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4D6BC6-A2B3-499C-A32F-7744547622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A06E96-50D2-4E3D-96D7-100C8F61FE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A35D44-7E2D-4132-B580-AB1C6CC0A9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28F6DB-36D6-4061-A384-6F0E8D4C71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42A3C8-F10E-4506-86C3-43E2D2833F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09ED0-1DB6-44D5-A4BC-0950A231C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A8EF47-432F-408E-9373-D0E2CDCA44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F09139-BC00-4955-A5AB-C41AD8D6DD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4AABD7-8DBD-4FDB-B980-B29F5FF6BE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2B36FB-DED6-4E0D-89B1-90C2218521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070D80-2DF2-4033-80AE-BDF1123D0E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92359A-E7A2-4C81-A643-B89FF52D2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39852C-500D-432C-BE96-0DB4DE639F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3F6072-2E15-449F-97BD-F1843E9B1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4FA997-7D11-4E14-97BA-03710702D8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D51CA1-E607-4683-BC20-5DAEBF5C5C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44256-9FB7-4710-BDD2-1B9E3752D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56D2D6-805B-4703-A8AC-E4DE42BC27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2FF34F-D115-448F-8B43-AD06A0CB76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090FAD-4F0D-44A0-8A71-009ABECFEE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632CFC-AFDB-43E3-92D4-B4E5F190F1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B791A9-9663-418C-A484-378B76A3A1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64FE7-77A2-48D0-A023-F1959A355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BCCE4-F01A-4AEE-9EFF-FAFB2F38C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2B9B9-6E52-42AF-A99D-8E3FE76B6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65C98-A5A1-4C0E-962E-C4017EF83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8F4C8-613B-485D-BFB1-854AB39C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9FBC-D81B-42BC-AA0D-FAE04E22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4919F-A3C5-4573-8FEE-1F8F3DF6F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8C50-A049-41F4-AF4B-57406D5A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64E11-A135-4CF7-8435-6BABC725B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985AA-7903-4D80-9463-C863C7FF9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84D7F-71A8-42D9-96B1-DE20E62AD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9FFE47-CF2D-4161-9CD5-BABE3237E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6E025D-F040-4941-92B8-03541A299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9FF161-C6E5-4E98-9DDC-C336D0EB5C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2DC7C7-381D-4184-B702-DBDD2AB0B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5BD0B1-2CFD-4BA6-99D3-A42E4C0FA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30D8-A899-4C6B-B47C-EE4B3363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4ED438-9F22-42C5-A3CF-8CC879AA7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B85C76-E106-48A9-B3A9-B524AA6F4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739F95-25C8-4383-97A4-296C98056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8A9375-E7DC-491B-A53E-AC297D753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9D76A5-6814-4F1E-938C-4B53E8002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5C548CE-1985-4242-BB3D-F871EB5344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E5E609-929C-4C0E-AABE-F416E4849A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12E81B-1766-4928-B483-E5C1B3520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07DD7-B081-4F30-8BF9-3539E70EE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A4970-81D1-4E7D-9367-B546D3F82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2697-86E6-4339-80CD-9A5A4BA7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BEBD9-2DB5-4A4F-866E-8E01CE11D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6C69E-283B-4F1D-B3CE-00E383384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7259E-5BBE-4D01-84E5-956FCD247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784C7-AAED-4323-9797-08B688EF9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72E39-BCBA-4774-860F-65FBE3438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C9CC8-CF52-493D-B971-B8A38E06E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1561C-BC51-4A0B-9A89-D9C01D9EB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2A959A-BA1B-488C-A540-78F91E88D7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08EE56-F7AF-40AF-A93D-5C225786E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F0981-6BF5-4C1B-A7B7-505D283FF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DCE0-1A13-4DC7-B917-BA746ECF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544C9-1BF4-463B-9BFE-73FCB7111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6BC641-AF2D-45A1-A5EB-58BE11A5A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29283-43FE-4F34-9D4E-52A362BB5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85B1B-9DFC-4F79-8DCE-72794C378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C870B-91FC-4F5E-9848-6DBBCDB2A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94E23-C277-4EC3-8A6C-C2FD04C30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AEC1F-91B5-4FB1-A55E-27156B382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8B2F8-DE88-4B99-930B-3D8F7E29A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6F7F9-55DF-4F3B-A14D-DCAB3724F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348F9D-2A44-4057-A9FD-5E52BCBA3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FE37-7E0D-4AAF-9404-4C50BD88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31CD28-993E-4B1E-8961-F57CADDAD8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375962-A472-4377-B7C4-90BA32DF8E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3146C-04F5-492A-9498-B7601C3D5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0B0DA-54B0-4E7D-A973-5D65BE3C3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1F1B5-DE37-419D-A428-9FD3A0CF4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F05A7-5065-4493-91F1-2CCD41DE2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6E74E-AAE3-4C2C-9AE4-4E7E28B953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44A42-5CD7-4D94-BA84-A55DF09FB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E37BF-9ACE-4F3B-B574-35681AA5C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B9690-46CE-4311-9459-EFA7BE146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CB10-E01F-4458-AEEF-8AA70571E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9704DD-E5B6-4BBC-8696-69A7EBB4E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0C2188-7764-4EC8-B8AD-81D59F43A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01D30C-7742-4987-9A89-78D58E26D1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B93269C-4F9E-4A57-9314-8C8DAFFA70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1CC5707-7580-4445-B9CA-D9EC7E9DD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93A3EE-2305-41CD-AF92-DFC35FCC3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C6990C-05E2-4CF8-AE45-3E9594E87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CF2324-6898-4707-8D98-DF6A01979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9F596B-DFF7-4D93-9EC2-03E11BC6F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33FAF1-F12F-456F-8128-EB0113EBC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EF1C-46B2-4884-A255-D90CABAA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850537-A4B9-4A99-B023-B86ADD03F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FF9BB1-51FE-4CAF-9E8F-CDB090386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1BE5EE-0758-4675-BA25-9B32EF1D0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F4DC636-5626-4DB7-ABAC-32838EB76F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9DAB988-D51B-45C1-9B82-C23086F095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947F6-4526-4C1E-90F8-7E5464422A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6755D-8D39-4457-AFC5-1FADF57028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FA94E-78E1-4442-BFAD-32C6D573A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BAE0E-AA56-4D8E-B7AA-B1F82A4434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58CE4-4740-4B8F-9841-52F48A9EB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0007-9753-4A8D-BACB-00207F755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123A67-EAC4-401B-A23E-C441D9D0B5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299B6-6765-4139-BE7A-DC98CD9EA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922E4-298E-4EBC-A199-9BB7268A5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D52D2-2557-45D8-8114-618AF6B57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F5F67-8705-4ADE-893C-1155E35CF8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0108E9-C942-4307-82DE-33CB344310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989A5-48CD-475E-8C44-5B19ED8074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337A8F8-D0D9-4238-A602-CDD7920F3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8573EB-CB53-46BB-A398-8C791CB2FE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E9D5F8-5ABF-40A6-A9A7-7F0BD3709A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0653-53D3-42D3-A76B-B73589B8EBBB}"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2856-85F1-4ADA-B174-E618058340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3"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630A-DD93-4165-A623-0DB6C3DC04E4}"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24"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0940-E076-4745-8EB1-9D654B9FF6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5"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64"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37A5-78DD-4CBE-B233-8E125FD945C0}"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65"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793F-558F-46C3-A381-20B7CE389E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5"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208C-F3AB-4531-9A02-BD3CCC942D85}"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506" name="PlaceHolder 4"/>
          <p:cNvSpPr>
            <a:spLocks noGrp="1"/>
          </p:cNvSpPr>
          <p:nvPr>
            <p:ph type="ftr" idx="3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3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006D-3B31-488F-AF77-F826CC396C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73FA-A238-4BC7-9809-208EB5009240}"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CBFE-64CC-45BA-B9D9-1E30C60639A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1612-D22E-46AD-BF32-D32CA40A5BC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0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4A96-F3EB-412B-A655-EFB9437C89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959F-D83D-4CEF-9734-5B33E14D6D1B}"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6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8FC8-0AC1-4359-A455-FEB7C04B96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0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0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6D0E-31D8-4816-920F-EC66D1C56402}"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B3CA-C7B4-4C3F-AE6E-44165273A1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4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45"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6189-22CC-4635-A06B-F5FA30E8D4D6}"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46"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134C-AB03-44E8-A19B-3193A26BE1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844F-8C6E-45DD-A8AF-7B0BC8C4BC2E}"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8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746D-1564-42DD-88CC-AB25F77D4F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2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27"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2031-3234-4142-BB32-AE3DA7C466A0}"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FD86-6B72-47B3-992A-6CFDFAD365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75"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63CF-FB24-4477-A56D-A984CF854869}"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76"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B2C4-F02C-4901-8CA7-6E2F883BF9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7"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3520" y="1980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MARKET IMPROVEMENT AND TRANSFORMATION TASKFORCE</a:t>
            </a:r>
            <a:br>
              <a:rPr sz="3200"/>
            </a:br>
            <a:r>
              <a:rPr b="1" lang="en-US" sz="3200" spc="-1" strike="noStrike">
                <a:solidFill>
                  <a:srgbClr val="ffffff"/>
                </a:solidFill>
                <a:latin typeface="Century Schoolbook"/>
              </a:rPr>
              <a:t>2009 ACCOMPLISHMENTS &amp; </a:t>
            </a:r>
            <a:br>
              <a:rPr sz="3200"/>
            </a:br>
            <a:r>
              <a:rPr b="1" lang="en-US" sz="3200" spc="-1" strike="noStrike">
                <a:solidFill>
                  <a:srgbClr val="ffffff"/>
                </a:solidFill>
                <a:latin typeface="Century Schoolbook"/>
              </a:rPr>
              <a:t>2010 GOALS  </a:t>
            </a:r>
            <a:endParaRPr b="0" lang="en-US" sz="3200" spc="-1" strike="noStrike">
              <a:solidFill>
                <a:srgbClr val="575f6d"/>
              </a:solidFill>
              <a:latin typeface="Century Schoolbook"/>
            </a:endParaRPr>
          </a:p>
        </p:txBody>
      </p:sp>
      <p:sp>
        <p:nvSpPr>
          <p:cNvPr id="552" name="PlaceHolder 2"/>
          <p:cNvSpPr>
            <a:spLocks noGrp="1"/>
          </p:cNvSpPr>
          <p:nvPr>
            <p:ph type="subTitle"/>
          </p:nvPr>
        </p:nvSpPr>
        <p:spPr>
          <a:xfrm>
            <a:off x="1523520" y="4343040"/>
            <a:ext cx="6172200" cy="609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entury Schoolbook"/>
              </a:rPr>
              <a:t>RMS Update December 9, 2009 </a:t>
            </a:r>
            <a:endParaRPr b="0" lang="en-US" sz="1800" spc="-1" strike="noStrike">
              <a:solidFill>
                <a:srgbClr val="000000"/>
              </a:solidFill>
              <a:latin typeface="Century Schoolbook"/>
            </a:endParaRPr>
          </a:p>
        </p:txBody>
      </p:sp>
      <p:sp>
        <p:nvSpPr>
          <p:cNvPr id="553"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8470-3C4C-4DFD-893E-070FF4C872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2120" y="-360"/>
            <a:ext cx="76960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e74"/>
                </a:solidFill>
                <a:latin typeface="Century Schoolbook"/>
              </a:rPr>
              <a:t>2009 ACCOMPLISHMENTS</a:t>
            </a:r>
            <a:endParaRPr b="0" lang="en-US" sz="4000" spc="-1" strike="noStrike">
              <a:solidFill>
                <a:srgbClr val="575f6d"/>
              </a:solidFill>
              <a:latin typeface="Century Schoolbook"/>
            </a:endParaRPr>
          </a:p>
        </p:txBody>
      </p:sp>
      <p:sp>
        <p:nvSpPr>
          <p:cNvPr id="555" name=""/>
          <p:cNvSpPr txBox="1"/>
          <p:nvPr/>
        </p:nvSpPr>
        <p:spPr>
          <a:xfrm>
            <a:off x="457200" y="1599840"/>
            <a:ext cx="7772400" cy="3962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Schoolbook"/>
              </a:rPr>
              <a:t>Scope Statemen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601"/>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e purpose of the MIT Task Force is to determine and define how to expedite (shorten) those service order completion timelines that can be leveraged in order to take advantage of AMS deployment.  The scope of this project includes reviewing and identifying the required changes to the applicable substantive rules, market rules and protocol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0E9B-A426-44E9-A01F-6EB7D865A22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0"/>
            <a:ext cx="7467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e74"/>
                </a:solidFill>
                <a:latin typeface="Century Schoolbook"/>
              </a:rPr>
              <a:t>2009 ACCOMPLISHMENTS</a:t>
            </a:r>
            <a:endParaRPr b="0" lang="en-US" sz="4000" spc="-1" strike="noStrike">
              <a:solidFill>
                <a:srgbClr val="575f6d"/>
              </a:solidFill>
              <a:latin typeface="Century Schoolbook"/>
            </a:endParaRPr>
          </a:p>
        </p:txBody>
      </p:sp>
      <p:sp>
        <p:nvSpPr>
          <p:cNvPr id="558" name=""/>
          <p:cNvSpPr txBox="1"/>
          <p:nvPr/>
        </p:nvSpPr>
        <p:spPr>
          <a:xfrm>
            <a:off x="457200" y="1142640"/>
            <a:ext cx="7696080" cy="5257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reated a “wish list” of service order completion timelines as targets for the task force to aim at.  Applies only to premises with a provisioned AMS meter </a:t>
            </a:r>
            <a:endParaRPr b="0" lang="en-US" sz="2400" spc="-1" strike="noStrike">
              <a:solidFill>
                <a:srgbClr val="000000"/>
              </a:solidFill>
              <a:latin typeface="Century Schoolbook"/>
            </a:endParaRPr>
          </a:p>
          <a:p>
            <a:pPr lvl="1" marL="639720" indent="-272880">
              <a:spcBef>
                <a:spcPts val="2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Disconnect for Non-Pay: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Reconnect after DNP: Two Hours</a:t>
            </a:r>
            <a:endParaRPr b="0" lang="en-US" sz="2100" spc="-1" strike="noStrike">
              <a:solidFill>
                <a:srgbClr val="000000"/>
              </a:solidFill>
              <a:latin typeface="Century Schoolbook"/>
            </a:endParaRPr>
          </a:p>
          <a:p>
            <a:pPr lvl="1" marL="639720" indent="-272880">
              <a:spcBef>
                <a:spcPts val="249"/>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Move-in: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Move-out: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Switch: Same Day </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55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BB35-48D4-4B74-AFB1-F6F5935F3F0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0"/>
            <a:ext cx="7467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e74"/>
                </a:solidFill>
                <a:latin typeface="Century Schoolbook"/>
              </a:rPr>
              <a:t>2009 ACCOMPLISHMENTS</a:t>
            </a:r>
            <a:endParaRPr b="0" lang="en-US" sz="4000" spc="-1" strike="noStrike">
              <a:solidFill>
                <a:srgbClr val="575f6d"/>
              </a:solidFill>
              <a:latin typeface="Century Schoolbook"/>
            </a:endParaRPr>
          </a:p>
        </p:txBody>
      </p:sp>
      <p:sp>
        <p:nvSpPr>
          <p:cNvPr id="561" name=""/>
          <p:cNvSpPr txBox="1"/>
          <p:nvPr/>
        </p:nvSpPr>
        <p:spPr>
          <a:xfrm>
            <a:off x="457200" y="1142640"/>
            <a:ext cx="7696080" cy="5257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Drafted a redline revision to the TDSP Tariff for Retail Delivery Service which addresses changes to timelines for Disconnects and Reconnects </a:t>
            </a:r>
            <a:endParaRPr b="0" lang="en-US" sz="2400" spc="-1" strike="noStrike">
              <a:solidFill>
                <a:srgbClr val="000000"/>
              </a:solidFill>
              <a:latin typeface="Century Schoolbook"/>
            </a:endParaRPr>
          </a:p>
          <a:p>
            <a:pPr lvl="1" marL="639720" indent="-272880">
              <a:spcBef>
                <a:spcPts val="2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Disconnect for Non-Pay: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Reconnect after DNP: Two Hours</a:t>
            </a:r>
            <a:endParaRPr b="0" lang="en-US" sz="2100" spc="-1" strike="noStrike">
              <a:solidFill>
                <a:srgbClr val="000000"/>
              </a:solidFill>
              <a:latin typeface="Century Schoolbook"/>
            </a:endParaRPr>
          </a:p>
          <a:p>
            <a:pPr lvl="1" marL="639720" indent="-272880">
              <a:spcBef>
                <a:spcPts val="249"/>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Docket 37624, RULEMAKING PROCEEDING TO AMEND CUSTOMER PROTECTION RULES RELATING TO DISCONNECTION AND RECONNECTION OF SERVICE FOR CUSTOMERS WITH ADVANCED METERS </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56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13C2-0699-46C8-99F9-A78DBFF0D8A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1519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e74"/>
                </a:solidFill>
                <a:latin typeface="Century Schoolbook"/>
              </a:rPr>
              <a:t>2010 GOALS</a:t>
            </a:r>
            <a:endParaRPr b="0" lang="en-US" sz="4000" spc="-1" strike="noStrike">
              <a:solidFill>
                <a:srgbClr val="575f6d"/>
              </a:solidFill>
              <a:latin typeface="Century Schoolbook"/>
            </a:endParaRPr>
          </a:p>
        </p:txBody>
      </p:sp>
      <p:sp>
        <p:nvSpPr>
          <p:cNvPr id="564" name=""/>
          <p:cNvSpPr txBox="1"/>
          <p:nvPr/>
        </p:nvSpPr>
        <p:spPr>
          <a:xfrm>
            <a:off x="457200" y="914400"/>
            <a:ext cx="7696080" cy="5410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fe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Draft any Retail Market Guide Revision Request that becomes necessary as a result of the rulemaking in docket 37624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buClr>
                <a:srgbClr val="ffe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ontinue to pursue expedited service order completion timelines for AMS premises:</a:t>
            </a:r>
            <a:endParaRPr b="0" lang="en-US" sz="2400" spc="-1" strike="noStrike">
              <a:solidFill>
                <a:srgbClr val="000000"/>
              </a:solidFill>
              <a:latin typeface="Century Schoolbook"/>
            </a:endParaRPr>
          </a:p>
          <a:p>
            <a:pPr marL="272880" indent="-272880">
              <a:spcBef>
                <a:spcPts val="601"/>
              </a:spcBef>
              <a:buClr>
                <a:srgbClr val="ffe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Move-in: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Move-out: Same Day</a:t>
            </a:r>
            <a:endParaRPr b="0" lang="en-US" sz="2100" spc="-1" strike="noStrike">
              <a:solidFill>
                <a:srgbClr val="000000"/>
              </a:solidFill>
              <a:latin typeface="Century Schoolbook"/>
            </a:endParaRPr>
          </a:p>
          <a:p>
            <a:pPr lvl="1" marL="639720" indent="-272880">
              <a:spcBef>
                <a:spcPts val="524"/>
              </a:spcBef>
              <a:buClr>
                <a:srgbClr val="ffe6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Schoolbook"/>
              </a:rPr>
              <a:t>Switch: Same Day</a:t>
            </a:r>
            <a:endParaRPr b="0" lang="en-US" sz="2100" spc="-1" strike="noStrike">
              <a:solidFill>
                <a:srgbClr val="000000"/>
              </a:solidFill>
              <a:latin typeface="Century Schoolbook"/>
            </a:endParaRPr>
          </a:p>
          <a:p>
            <a:pPr lvl="1" marL="63972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63972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spcBef>
                <a:spcPts val="601"/>
              </a:spcBef>
              <a:buClr>
                <a:srgbClr val="ffe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ome up with a better name for the Task Force!</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Schoolbook"/>
              </a:rPr>
              <a:t>Happy Holiday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648A-39FE-45A9-B3DD-726DEF32AEE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Rob Bevill, Green Mtn Energy Co.</dc:creator>
  <dc:description/>
  <dc:language>en-US</dc:language>
  <cp:lastModifiedBy>rob.bevill</cp:lastModifiedBy>
  <dcterms:modified xsi:type="dcterms:W3CDTF">2009-12-08T20:39:36Z</dcterms:modified>
  <cp:revision>140</cp:revision>
  <dc:subject/>
  <dc:title>MIT Task Force </dc:title>
</cp:coreProperties>
</file>