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26D5-BF23-4921-B375-5833572D5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A66-FA9F-49F3-AF31-B3516612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A8E-171B-49E1-9F6C-A2732426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8315-EC5E-4585-9E1F-6E05830C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091B-766E-402E-9EB4-5FB0814C9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63B7-51E3-4BC6-9F6B-F7D95A144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FD6E-396F-42FF-B47C-7A50737B6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A72D-23E2-4181-9294-693DF3832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DC8C-31D1-4B75-A8D3-10E5948A0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47FD-BBEB-4ACE-95A8-04C6BAB3D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A6F9-001A-403D-AC5B-807F78C57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2813-E199-47C0-A9AB-025C7852A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7883-4414-4A20-8B5D-9188EECE5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1EC0-F5C2-4CA8-B432-AD51E8CCC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BDA9-2FB0-4C14-ABBC-BBC893EF2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F53C-AE9B-4845-81D8-112DC9301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D206-219F-436D-84AB-FEF003AA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E2EF-B213-4772-AE49-9AAAA8EF7A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99.81%. This was above the  service level target of 9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Report Explo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ovember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 (continue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rak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/19 (27 minutes) – MarkeTrak experienced an application issue which required a restart of servi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4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71640" y="9907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RSarasa</dc:creator>
  <dc:description/>
  <dc:language>en-US</dc:language>
  <cp:lastModifiedBy>tfelton</cp:lastModifiedBy>
  <dcterms:modified xsi:type="dcterms:W3CDTF">2009-12-03T17:06:09Z</dcterms:modified>
  <cp:revision>583</cp:revision>
  <dc:subject/>
  <dc:title>Instructions</dc:title>
</cp:coreProperties>
</file>