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F12FEFC-07EF-40CA-8147-79F91605E5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38320" y="687240"/>
            <a:ext cx="4592520" cy="3445200"/>
          </a:xfrm>
          <a:prstGeom prst="rect">
            <a:avLst/>
          </a:prstGeom>
          <a:ln w="0">
            <a:noFill/>
          </a:ln>
        </p:spPr>
      </p:sp>
      <p:sp>
        <p:nvSpPr>
          <p:cNvPr id="8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AEF021-AF4E-43EA-BA46-63AA12B9E7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38320" y="687240"/>
            <a:ext cx="4592520" cy="3445200"/>
          </a:xfrm>
          <a:prstGeom prst="rect">
            <a:avLst/>
          </a:prstGeom>
          <a:ln w="0">
            <a:noFill/>
          </a:ln>
        </p:spPr>
      </p:sp>
      <p:sp>
        <p:nvSpPr>
          <p:cNvPr id="10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8C64B4-D545-42D9-AA5F-61FD25DF79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38320" y="687240"/>
            <a:ext cx="4592520" cy="3445200"/>
          </a:xfrm>
          <a:prstGeom prst="rect">
            <a:avLst/>
          </a:prstGeom>
          <a:ln w="0">
            <a:noFill/>
          </a:ln>
        </p:spPr>
      </p:sp>
      <p:sp>
        <p:nvSpPr>
          <p:cNvPr id="8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461A77-D75E-4F22-9443-DAB24444D7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38320" y="687240"/>
            <a:ext cx="4592520" cy="3445200"/>
          </a:xfrm>
          <a:prstGeom prst="rect">
            <a:avLst/>
          </a:prstGeom>
          <a:ln w="0">
            <a:noFill/>
          </a:ln>
        </p:spPr>
      </p:sp>
      <p:sp>
        <p:nvSpPr>
          <p:cNvPr id="8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83FA595-8F8B-45BF-87FF-C5F2C18111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38320" y="687240"/>
            <a:ext cx="4592520" cy="3445200"/>
          </a:xfrm>
          <a:prstGeom prst="rect">
            <a:avLst/>
          </a:prstGeom>
          <a:ln w="0">
            <a:noFill/>
          </a:ln>
        </p:spPr>
      </p:sp>
      <p:sp>
        <p:nvSpPr>
          <p:cNvPr id="8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81F66B8-91E2-4FF7-A12D-9BB6B4600B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38320" y="687240"/>
            <a:ext cx="4592520" cy="3445200"/>
          </a:xfrm>
          <a:prstGeom prst="rect">
            <a:avLst/>
          </a:prstGeom>
          <a:ln w="0">
            <a:noFill/>
          </a:ln>
        </p:spPr>
      </p:sp>
      <p:sp>
        <p:nvSpPr>
          <p:cNvPr id="9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5ABFB83-E689-45BF-A6CD-EFBDA7A15F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8320" y="687240"/>
            <a:ext cx="4592520" cy="3445200"/>
          </a:xfrm>
          <a:prstGeom prst="rect">
            <a:avLst/>
          </a:prstGeom>
          <a:ln w="0">
            <a:noFill/>
          </a:ln>
        </p:spPr>
      </p:sp>
      <p:sp>
        <p:nvSpPr>
          <p:cNvPr id="9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1E331CB-1723-4C42-8EF2-004FB6D277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38320" y="687240"/>
            <a:ext cx="4592520" cy="3445200"/>
          </a:xfrm>
          <a:prstGeom prst="rect">
            <a:avLst/>
          </a:prstGeom>
          <a:ln w="0">
            <a:noFill/>
          </a:ln>
        </p:spPr>
      </p:sp>
      <p:sp>
        <p:nvSpPr>
          <p:cNvPr id="9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F4DD18B-8F22-4DB4-9D45-946BE905EF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975A-AFC1-493E-A57F-70F5378CD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A81A-3BA8-4AB3-ACC2-93290F00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CBA3C-F0AE-4815-A252-F479E830B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5BE89-10CA-4DE1-9F0C-CA867396A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1D8C-72B9-4E8C-93F2-E6B32BD0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3FAB-B230-44AA-B32A-1405DF2CE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76453-0E55-4DB1-9666-6A709AE1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D28B-7DD9-4628-AE02-24978152F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9DD05-3023-4536-8B0A-9001E3EA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5A13-A10F-427F-A0D7-35FA3CF68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EF89-B233-4635-B032-8303137B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79D0E-C966-4E78-80A8-82D24A5FE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293F-9590-4D2C-85D9-6033951DC25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7657-417B-46DC-8C47-16505308F80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7621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Accomplishments</a:t>
            </a:r>
            <a:endParaRPr b="0" lang="en-US" sz="4400" spc="-1" strike="noStrike">
              <a:solidFill>
                <a:srgbClr val="000000"/>
              </a:solidFill>
              <a:latin typeface="Arial"/>
            </a:endParaRPr>
          </a:p>
        </p:txBody>
      </p:sp>
      <p:sp>
        <p:nvSpPr>
          <p:cNvPr id="53" name="PlaceHolder 2"/>
          <p:cNvSpPr>
            <a:spLocks noGrp="1"/>
          </p:cNvSpPr>
          <p:nvPr>
            <p:ph type="subTitle"/>
          </p:nvPr>
        </p:nvSpPr>
        <p:spPr>
          <a:xfrm>
            <a:off x="129528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a:t>
            </a:r>
            <a:endParaRPr b="0" lang="en-US" sz="3200" spc="-1" strike="noStrike">
              <a:solidFill>
                <a:srgbClr val="000000"/>
              </a:solidFill>
              <a:latin typeface="Arial"/>
            </a:endParaRPr>
          </a:p>
        </p:txBody>
      </p:sp>
      <p:sp>
        <p:nvSpPr>
          <p:cNvPr id="54" name="Text Box 4"/>
          <p:cNvSpPr/>
          <p:nvPr/>
        </p:nvSpPr>
        <p:spPr>
          <a:xfrm>
            <a:off x="5410080" y="5943600"/>
            <a:ext cx="3505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9, 2009</a:t>
            </a: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3ECE-99AA-4294-A234-78207B5B5A5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8"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73BB-1E1D-44CB-AC46-5E39FAD481B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 Objective</a:t>
            </a:r>
            <a:endParaRPr b="0" lang="en-US" sz="3200" spc="-1" strike="noStrike">
              <a:solidFill>
                <a:srgbClr val="000000"/>
              </a:solidFill>
              <a:latin typeface="Arial"/>
            </a:endParaRPr>
          </a:p>
        </p:txBody>
      </p:sp>
      <p:sp>
        <p:nvSpPr>
          <p:cNvPr id="5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facilitate development of data delivery processes for the Texas Market, and monitor performance measures as directed by 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velop RMGRR for expanded scope based on merger of MMWG and TDTW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r>
              <a:rPr b="1" lang="en-US" sz="3200" spc="-1" strike="noStrike">
                <a:solidFill>
                  <a:srgbClr val="000000"/>
                </a:solidFill>
                <a:latin typeface="Arial"/>
              </a:rPr>
              <a:t>- </a:t>
            </a:r>
            <a:r>
              <a:rPr b="1" lang="en-US" sz="3200" spc="-1" strike="noStrike">
                <a:solidFill>
                  <a:srgbClr val="000000"/>
                </a:solidFill>
                <a:latin typeface="Monotype Corsiva"/>
              </a:rPr>
              <a:t>Final</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Data Transport Working Group (TDTWG) is responsibl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a guide which describes the data transport process used by Market Participants and ERCO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the Retail Market IT Services SLA (Service Level Agre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ERCOT’s adherence to performance targets specified in the Retail SL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arket performance metrics reported by ERCOT to the P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to support Market Metrics Activity: Maintenance of metric templates and facilitate compliance of the PUCT substantive rule 25.88;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ing issues as directed by the RMS.</a:t>
            </a:r>
            <a:endParaRPr b="0" lang="en-US" sz="20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AC30-E459-4B0A-8B80-67011732E4B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mplishments</a:t>
            </a:r>
            <a:endParaRPr b="0" lang="en-US" sz="2800" spc="-1" strike="noStrike">
              <a:solidFill>
                <a:srgbClr val="000000"/>
              </a:solidFill>
              <a:latin typeface="Arial"/>
            </a:endParaRPr>
          </a:p>
        </p:txBody>
      </p:sp>
      <p:sp>
        <p:nvSpPr>
          <p:cNvPr id="62"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R75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TWG worked with ERCOT to assess upgrades to web browsers and determine resolution of SCR75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50 was withdraw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vided implementation guide for IE7</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tibility matrix of browsers provid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information to Retail SLA to address new browsers</a:t>
            </a:r>
            <a:endParaRPr b="0" lang="en-US" sz="2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mplishments</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System Outages and Communica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continued to work with ERCOT and Market Participants to determine  the most efficient manner for resolution of NAESB and other system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continued to support ERCOT resolution efforts in addressing each outage experienced and provided information to RM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TWG developed RMGRR for its expanded scope based on merger of MMWG and TDTWG.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9854-372D-44FC-A3D3-86B93C48D93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6"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mplishments</a:t>
            </a:r>
            <a:endParaRPr b="0" lang="en-US" sz="2800" spc="-1" strike="noStrike">
              <a:solidFill>
                <a:srgbClr val="000000"/>
              </a:solidFill>
              <a:latin typeface="Arial"/>
            </a:endParaRPr>
          </a:p>
        </p:txBody>
      </p:sp>
      <p:sp>
        <p:nvSpPr>
          <p:cNvPr id="67" name="PlaceHolder 2"/>
          <p:cNvSpPr>
            <a:spLocks noGrp="1"/>
          </p:cNvSpPr>
          <p:nvPr>
            <p:ph/>
          </p:nvPr>
        </p:nvSpPr>
        <p:spPr>
          <a:xfrm>
            <a:off x="380520" y="1371240"/>
            <a:ext cx="845820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Retail Market Services SL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reviewed and revised the 2010 Retail Market Services SL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MarkeTrak Task Force in developing a process for presenting performance metric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 Market Metrics reported by ERCOT to PUCT</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reviewed ERCOT reported Market Metrics and provided a forum for Market Participants’ questions and/or issues regarding these quarterly performance statistics</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7C8C-CCC1-44DB-BFE0-143CEB28420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9"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mplishments</a:t>
            </a:r>
            <a:endParaRPr b="0" lang="en-US" sz="2800" spc="-1" strike="noStrike">
              <a:solidFill>
                <a:srgbClr val="000000"/>
              </a:solidFill>
              <a:latin typeface="Arial"/>
            </a:endParaRPr>
          </a:p>
        </p:txBody>
      </p:sp>
      <p:sp>
        <p:nvSpPr>
          <p:cNvPr id="70"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d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ed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7C43-482E-4DE5-ADD9-D4BA1756BAB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2"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mplishments</a:t>
            </a:r>
            <a:endParaRPr b="0" lang="en-US" sz="2800" spc="-1" strike="noStrike">
              <a:solidFill>
                <a:srgbClr val="000000"/>
              </a:solidFill>
              <a:latin typeface="Arial"/>
            </a:endParaRPr>
          </a:p>
        </p:txBody>
      </p:sp>
      <p:sp>
        <p:nvSpPr>
          <p:cNvPr id="73"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DTWG representatives continued to participate in NAESB meetings, as needed,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5490-0820-4C6D-83C1-8FB71B68077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mplishments</a:t>
            </a:r>
            <a:endParaRPr b="0" lang="en-US" sz="2800" spc="-1" strike="noStrike">
              <a:solidFill>
                <a:srgbClr val="000000"/>
              </a:solidFill>
              <a:latin typeface="Arial"/>
            </a:endParaRPr>
          </a:p>
        </p:txBody>
      </p:sp>
      <p:sp>
        <p:nvSpPr>
          <p:cNvPr id="76" name="PlaceHolder 2"/>
          <p:cNvSpPr>
            <a:spLocks noGrp="1"/>
          </p:cNvSpPr>
          <p:nvPr>
            <p:ph/>
          </p:nvPr>
        </p:nvSpPr>
        <p:spPr>
          <a:xfrm>
            <a:off x="380880" y="2057040"/>
            <a:ext cx="8229600" cy="342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ed Market Projects as neede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participated in the Advanced Metering project (PR80027) to recommend files size and cont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ed Market cost sav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ed WebEx conferencing for monthly meeting </a:t>
            </a:r>
            <a:endParaRPr b="0" lang="en-US" sz="24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9-12-02T17:57:56Z</dcterms:modified>
  <cp:revision>403</cp:revision>
  <dc:subject/>
  <dc:title>PowerPoint Presentation</dc:title>
</cp:coreProperties>
</file>