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92B4FC-743C-411B-BB8E-29182EF3D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7BDD28-B5AA-440E-8147-1711C0121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F49605-0D78-437C-82C5-A6502012B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14ECB8-7F83-45A9-9365-2AB2C3DD3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8CBACB-5B30-4CD9-A2E0-98B417E98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A3022-0D1A-45D4-BFDB-498E1EF425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8937-4C2F-42B9-9AB2-09F0D5C2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12678-E1D7-48E2-BA5F-FFB045A6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6850B-2B1C-4041-BA23-B517182C20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9A17D-5535-4BAA-9047-D0C28BE5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369E-59B9-4D43-8A08-7098D01D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57E5F-4FCA-4B66-A41E-A73442B0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2468-F6A3-4543-9C8E-7F8D46CC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D31E-9EEC-4824-ACDF-5E2C137C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3E20A-C6A6-4F7B-98A0-F8BAD476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8B86D-D6BE-4FA3-89B1-B9857AD0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B3A81-A71E-4015-AE2D-8EFCAAB1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A7FA-D3B5-45A4-BD2F-C0E04ADD9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3392-0E09-4EF3-8F57-F3731C893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eting Title (opt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projects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arking Deck Overview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6495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cember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king Deck Discussion – Backgrou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king deck concept approv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on 4/23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on 5/7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Nodal Program Committee on 7/20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on 8/6/2009 (on remand from Bo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of Directors on 8/19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king Deck Discussion – What is the Parking Deck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list of revision requests for Nodal post-Go-Live consid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med “Not Needed for Nodal Go-Live” by the ERCOT CEO (per PRR7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6040" indent="-223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Board can overturn the CEO determination on app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Board-approved and in-flight items are tra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spcBef>
                <a:spcPts val="499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-Nodal-Go-Live changes to the ERCOT systems will be managed in structured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king deck will serve as input to release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spcBef>
                <a:spcPts val="499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worksheet on the PPL spreadsheet on 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604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services/project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6040" indent="0">
              <a:spcBef>
                <a:spcPts val="451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king Deck Discuss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” stakeholder review process takes place for items on the parking de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S, TAC, and Board review and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in gray-boxed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 provided by PRS to indicate relative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Analysis (IA) deferred to a futur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a future date (probably mid-2010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begin completing IAs on parking deck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recommend parking deck items for inclusion in planned post-Go-Live Nodal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akeholder process will consider the proposed releases during the yearly project prioritization process and make recommendations to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king Deck Discussion – Next Ste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 and PRS have began prioritizing items on the parking d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reviews are being conducted with impacted market sub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anderson</cp:lastModifiedBy>
  <dcterms:modified xsi:type="dcterms:W3CDTF">2009-12-08T04:06:31Z</dcterms:modified>
  <cp:revision>443</cp:revision>
  <dc:subject/>
  <dc:title>Instructions</dc:title>
</cp:coreProperties>
</file>