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0178593-969E-4D75-B277-1A6C6AE25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7CC0143-233A-4FEB-8365-AF50FD2EB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942BDA0-CE53-4901-AA09-8CBAE03CD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44B21C-C708-4E91-8AFA-F88DAF415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E50B9F6-4677-441D-96D5-B87FD9CC2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147281D-3C56-49F7-B381-AA3340E71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053B5E8-0985-4EC1-9358-5354437F6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642A62C-EADF-46A0-A496-1D4BF2995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C11C980-B08C-4BA1-9449-41DC673B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5A4E35F-04B0-4492-BF9B-F392976A3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076-4367-47D8-95CD-ECEFC03A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38A-AA16-45F9-A06A-0EF63784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C0B-99FC-4BC7-91FA-84D3C426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505-7E37-4E5F-82C4-1C638C75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932-DB01-498C-82B2-174677AF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2E7-9F0E-48F2-9DC7-B6F80186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F64-F357-479E-9CB6-A19196B8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04A-6110-4BEE-B564-9A8EEDFF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882-D4BD-4C37-8A8A-C99E0C08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190-E2A6-4E4F-A6E5-57786BD1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DE4-0C19-4166-B3CB-2116CF2E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8EE-FB80-43EB-9CC6-AD4B2252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FCFC-87CA-43D2-8EF7-DA6486E13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1CBD-DB33-42A3-B240-9AE718812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 09,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EA9A-3BE6-46D6-B2A4-F41633AEB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rter Performance Measur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d updates to the Retail 2010 Service Level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d TDTWG 2009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Operational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3E42-013B-4041-A103-885FD8D35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Ebbers presented the summary and detail pages of the incident log, and responded to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719E-0314-4D1A-A3CD-D090EBC0C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Review Performance Measure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McCarty presented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hy Scott advised TDTWG of new required reporting measure for TDU field performance including Standard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ed Retail 2010 Service Level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rovided details related to specific metrics where outage impacted the S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d MarkeTrak leadership’s comments to the 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2010 SLA to RMS in Decemb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B7FE-D3AB-457E-A2B6-C36475479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9F98-6BCC-4631-81B8-6FA89E562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MS LSE projec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for deployment is 11/21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urrently in Integrat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B9F5-17B8-4896-97F5-8B0C44E47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2009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deliver 2009 accomplishments at December RMS mee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A2E0-759C-4EE6-9263-EE3773B5D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57200" y="1295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DTWG Follow-up item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2010 goals and elect new offic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it 24/7 contact information on the TCW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C7C9-842A-4821-BAF1-B5EBE8443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09-12-02T18:16:17Z</dcterms:modified>
  <cp:revision>589</cp:revision>
  <dc:subject/>
  <dc:title>PowerPoint Presentation</dc:title>
</cp:coreProperties>
</file>