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ED0C-DA53-4842-91C7-2FA9A9854B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47BE-A466-4C3A-9BEA-14EDDD5C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D656-BECC-4FFE-B53A-5347692A3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089A-FFA3-4F17-8B34-50481E53C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9AA2-53DB-4219-BE78-B9830A40E70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E602-D502-4982-9237-7F74D047444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973D-00C2-463B-B6F5-51066D79482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E919-9829-4B6F-9FBC-7E111A336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0F12-4F52-4923-80D2-93DCB05CE7D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7296-4CC1-455F-856C-AB6586B984E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A97C-E10D-439C-9A97-8682C9D4049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9F63-7634-4A3C-A89C-374747F7FD8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CC4B-9163-4EDE-9062-A72B251EAE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0168-DAF2-4FD1-91E0-19F208915E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1ED8-DE77-452F-B344-96C8E9D685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B8B3-81DC-4122-8F15-CF36D55264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B1A1-009E-4323-8202-BFD386952B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F6F3-FEF2-4689-A585-AF312BA8DA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22BE-C8FA-432D-BB37-96F1630AB5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7849-A070-437D-BEDF-1111541885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94FF-2A35-4EE3-80DA-D5D040827E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7917-E931-48EF-9582-27381D8D06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19E6-2260-455C-9FCE-C724CEAE23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4E24-6BFD-4625-B74E-8A94A746E5E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19C4-0E50-4381-AB9E-979BEBD256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86B5-5C70-4863-8B47-77233A60FE8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AB4F-66F2-41DB-A835-C45F4A717E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E8D4-2ACC-4B14-8755-1059F72A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D86588-25AC-4B2D-825E-71ABB5493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81EFC9-DB16-4080-83A0-E5AC046F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FC6217-8E10-47BB-9789-00C72C1FB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8ACEB4-43E0-4B1D-98DC-C8F747E05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34AF23-E831-440B-8D8C-7E4F162DF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863EF6-CD41-432C-A770-FA17F2E4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1DAF3B-9122-4C5E-BBEF-0BC2A8E9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727AA1-3F4F-46D1-A17F-A44BC6935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34D476-D0CF-4CA5-8114-69CB1BB1D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68F941-2DF7-4399-B874-06ED4FCA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8273E5-CEF8-4520-966A-5230098BD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B5143C-EDEA-45F4-83FD-381C9BE80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032416-2A3F-4845-BDEE-FE7D573C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692372-372C-461A-8EB5-CE22D52E1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AC0CE0-28DC-44CA-BBB9-07F64F108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E9A1E1-CD4F-4FA3-8431-BCD34AC70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EEBC-834E-433A-A516-DADA37E5D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321B3C-A218-4804-AA72-EA92E17D1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7E22B3-DA54-45F1-B848-EBAE808B0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59535C-BBE2-4F54-9BEF-A3EC1EBA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495480-1651-4338-AC15-7AB1C8FEE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4F8715-3C45-4161-9B3E-FCF956337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0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F0C0F6-DB6B-4AD4-9B69-622687FB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December 2009 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December 09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4" name="Object 3188"/>
          <p:cNvGraphicFramePr/>
          <p:nvPr/>
        </p:nvGraphicFramePr>
        <p:xfrm>
          <a:off x="457200" y="762120"/>
          <a:ext cx="8288280" cy="524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5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82882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7" name="Object 3188"/>
          <p:cNvGraphicFramePr/>
          <p:nvPr/>
        </p:nvGraphicFramePr>
        <p:xfrm>
          <a:off x="541440" y="785880"/>
          <a:ext cx="8288280" cy="163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8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82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Box 4"/>
          <p:cNvSpPr/>
          <p:nvPr/>
        </p:nvSpPr>
        <p:spPr>
          <a:xfrm>
            <a:off x="540720" y="1066680"/>
            <a:ext cx="39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projects currently in the Planning Phas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3" name="Object 3188"/>
          <p:cNvGraphicFramePr/>
          <p:nvPr/>
        </p:nvGraphicFramePr>
        <p:xfrm>
          <a:off x="541440" y="785880"/>
          <a:ext cx="8280360" cy="139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4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03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6" name="Object 3188"/>
          <p:cNvGraphicFramePr/>
          <p:nvPr/>
        </p:nvGraphicFramePr>
        <p:xfrm>
          <a:off x="541440" y="785880"/>
          <a:ext cx="8280360" cy="30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7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03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2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25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15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1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09-12-04T20:34:37Z</dcterms:modified>
  <cp:revision>604</cp:revision>
  <dc:subject/>
  <dc:title>Role of Account Management at ERCOT</dc:title>
</cp:coreProperties>
</file>