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FAE857F-CA03-414A-8FAD-77824C3E8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A05C0DE-6FC7-4F05-9C2E-8619457D5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6640" y="696960"/>
            <a:ext cx="4647960" cy="3486240"/>
          </a:xfrm>
          <a:prstGeom prst="rect">
            <a:avLst/>
          </a:prstGeom>
          <a:ln w="0">
            <a:noFill/>
          </a:ln>
        </p:spPr>
      </p:sp>
      <p:sp>
        <p:nvSpPr>
          <p:cNvPr id="13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FD4FC43-EF7C-47C0-B9A1-6A7A0D663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06640" y="696960"/>
            <a:ext cx="4647960" cy="3486240"/>
          </a:xfrm>
          <a:prstGeom prst="rect">
            <a:avLst/>
          </a:prstGeom>
          <a:ln w="0">
            <a:noFill/>
          </a:ln>
        </p:spPr>
      </p:sp>
      <p:sp>
        <p:nvSpPr>
          <p:cNvPr id="13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63ED472-56B1-4BAB-BCE4-2858657E4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6640" y="696960"/>
            <a:ext cx="4647960" cy="3486240"/>
          </a:xfrm>
          <a:prstGeom prst="rect">
            <a:avLst/>
          </a:prstGeom>
          <a:ln w="0">
            <a:noFill/>
          </a:ln>
        </p:spPr>
      </p:sp>
      <p:sp>
        <p:nvSpPr>
          <p:cNvPr id="141"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5A38B37-BD36-4C74-86E6-D3F23AC46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06640" y="696960"/>
            <a:ext cx="4647960" cy="3486240"/>
          </a:xfrm>
          <a:prstGeom prst="rect">
            <a:avLst/>
          </a:prstGeom>
          <a:ln w="0">
            <a:noFill/>
          </a:ln>
        </p:spPr>
      </p:sp>
      <p:sp>
        <p:nvSpPr>
          <p:cNvPr id="144"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2D836D9-20DC-4B93-A722-ADCE4F27B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06640" y="696960"/>
            <a:ext cx="4647960" cy="3486240"/>
          </a:xfrm>
          <a:prstGeom prst="rect">
            <a:avLst/>
          </a:prstGeom>
          <a:ln w="0">
            <a:noFill/>
          </a:ln>
        </p:spPr>
      </p:sp>
      <p:sp>
        <p:nvSpPr>
          <p:cNvPr id="14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B698D46-DFA0-4B17-8732-01045CD1F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06640" y="696960"/>
            <a:ext cx="4647960" cy="3486240"/>
          </a:xfrm>
          <a:prstGeom prst="rect">
            <a:avLst/>
          </a:prstGeom>
          <a:ln w="0">
            <a:noFill/>
          </a:ln>
        </p:spPr>
      </p:sp>
      <p:sp>
        <p:nvSpPr>
          <p:cNvPr id="15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C176537-3261-449E-A8BB-3EC1A3441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06640" y="696960"/>
            <a:ext cx="4647960" cy="3486240"/>
          </a:xfrm>
          <a:prstGeom prst="rect">
            <a:avLst/>
          </a:prstGeom>
          <a:ln w="0">
            <a:noFill/>
          </a:ln>
        </p:spPr>
      </p:sp>
      <p:sp>
        <p:nvSpPr>
          <p:cNvPr id="15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0842B71-0A4A-4CBE-88C2-C440DF42D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06640" y="696960"/>
            <a:ext cx="4647960" cy="3486240"/>
          </a:xfrm>
          <a:prstGeom prst="rect">
            <a:avLst/>
          </a:prstGeom>
          <a:ln w="0">
            <a:noFill/>
          </a:ln>
        </p:spPr>
      </p:sp>
      <p:sp>
        <p:nvSpPr>
          <p:cNvPr id="15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71BAD-29E0-4AA3-844D-E3C762C68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22B10-43B4-4BA0-91DD-A080AB0F1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2AB7D-6DA6-469A-96DA-823F377E9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C2C4B-0C84-4B0F-A5E5-99700482F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2C896-D632-4D50-8097-623111766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28295-1E46-4779-86D8-E6C9E5FDA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E4A1A-37F6-449E-BFE5-3BF2C99D0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FBCB6-5F40-4C95-8AEA-8A91B0EF2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78571-3449-48D4-AA5A-9D9748086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2C91-E15E-4484-97E2-241042D67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A9420-B007-4048-B052-C0BEE2DB5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6816E-2D46-4BFA-A05C-9A42B6C86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D4C0-ECE4-4CE1-A296-74A686F85A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2D15-9221-46BC-B656-FE90DA153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CC43-1E1D-4CB5-8779-246111AA3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3"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5"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7"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5CAB-382F-45C5-AFC1-DC9771D55C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1"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Picture 7" descr=""/>
          <p:cNvPicPr/>
          <p:nvPr/>
        </p:nvPicPr>
        <p:blipFill>
          <a:blip r:embed="rId1"/>
          <a:stretch/>
        </p:blipFill>
        <p:spPr>
          <a:xfrm>
            <a:off x="171360" y="1494000"/>
            <a:ext cx="8809200" cy="46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DD68-DB0C-434C-9E25-28889037C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8"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99"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CCA5-828D-4F60-8D38-8FBF93A53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5"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6"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423E-29EE-4B81-B9B5-4EE27DBF0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09"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7" descr=""/>
          <p:cNvPicPr/>
          <p:nvPr/>
        </p:nvPicPr>
        <p:blipFill>
          <a:blip r:embed="rId1"/>
          <a:stretch/>
        </p:blipFill>
        <p:spPr>
          <a:xfrm>
            <a:off x="219240" y="1568520"/>
            <a:ext cx="8696160" cy="292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BAEC-C43E-4395-B439-DD02F1205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8"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19"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ED11-3ABA-4C07-A78C-EFA9703DF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2"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6" descr=""/>
          <p:cNvPicPr/>
          <p:nvPr/>
        </p:nvPicPr>
        <p:blipFill>
          <a:blip r:embed="rId1"/>
          <a:stretch/>
        </p:blipFill>
        <p:spPr>
          <a:xfrm>
            <a:off x="142920" y="1722600"/>
            <a:ext cx="884880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17A6-73C3-4FAA-9B68-DA4D2992C3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0"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2"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00A0-8594-43D1-9CFA-AE5EFDACC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946E-A8F5-473A-944E-437AE0239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17F7-6AAD-4F73-BCDA-67AE34DBB6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7" descr=""/>
          <p:cNvPicPr/>
          <p:nvPr/>
        </p:nvPicPr>
        <p:blipFill>
          <a:blip r:embed="rId1"/>
          <a:stretch/>
        </p:blipFill>
        <p:spPr>
          <a:xfrm>
            <a:off x="152280" y="1785960"/>
            <a:ext cx="8821800" cy="331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5C77-DFA2-4CC6-8A1F-BF3328018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EC41-FB5D-45B6-A6A0-463E3FB4C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228600" y="3733920"/>
            <a:ext cx="86803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0397-1F8E-446F-B682-E5CECCEE7B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2" name="Picture 13" descr=""/>
          <p:cNvPicPr/>
          <p:nvPr/>
        </p:nvPicPr>
        <p:blipFill>
          <a:blip r:embed="rId1"/>
          <a:stretch/>
        </p:blipFill>
        <p:spPr>
          <a:xfrm>
            <a:off x="428760" y="1592280"/>
            <a:ext cx="8258040" cy="447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D57D-4CEA-44D1-B573-0E8F03550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5"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D42A-F726-4CE7-9EB0-F8AD8DBF66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8"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Picture 7" descr=""/>
          <p:cNvPicPr/>
          <p:nvPr/>
        </p:nvPicPr>
        <p:blipFill>
          <a:blip r:embed="rId1"/>
          <a:stretch/>
        </p:blipFill>
        <p:spPr>
          <a:xfrm>
            <a:off x="117360" y="1523880"/>
            <a:ext cx="889812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9-12-03T18:56:01Z</dcterms:modified>
  <cp:revision>868</cp:revision>
  <dc:subject/>
  <dc:title>PowerPoint Presentation</dc:title>
</cp:coreProperties>
</file>