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6D48-92C3-4BD6-85DA-33AE2677960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9961-6A1E-415C-806C-4D9F99636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32F1-1EB2-44EB-BAB7-23A5E7867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132F-41F0-4580-93E7-08FC7C5A7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9FF8-6AB2-4675-924D-0EACEF5189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B388-9817-48D1-ADCD-433DE789C1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29C2-F030-46A6-9ED1-E9BBEEF86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CDC2-87A6-4F72-ABF3-27B063C76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69945-7036-41D1-B006-D125E823E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FE2F9-E285-488C-923F-ED6035B8E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02CB7-2281-411B-BD60-7AD40DCC8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C1859-CD77-4817-91F7-6BE7ECCC6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2C44F-2FC1-4D06-96D6-37F8F661C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1B716-2A23-4420-B9C9-D4466E106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7EF22-A5B3-449E-AA51-5FF37167F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D895F-A446-4511-AA2A-293EA20F0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A84F2-3F71-45B4-BE3A-DC22A60EE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0F9DD-74F6-4634-AD0C-ADD4B40FF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39EF8-CD97-4FD4-AFCB-1E8630BE1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C6B67-DB1F-4393-B2A0-FE4418541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FCF56-F0D6-4222-9038-51C521328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C5249-A0C3-4DAC-86F0-AE7B67867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1FD48-F92C-4B6F-B8F3-7E1D12A2F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84BD2-978D-4BD3-AAB2-40048D9868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78B6D-9DA0-493B-8365-F8F9F15AA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C7AC7D7-A4A0-4984-9428-B77A3508A3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4C4541-1FD0-4601-9F54-CCE0FE6EF5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28E96A7-6FC5-4D91-B680-8BD05765CA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0508C9D-4326-48C6-AA21-65202D488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53AE372-2341-417A-99E3-FEB113B72D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2FA18-19C9-40BA-8D6C-5BC0A8AEE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0033B1F-9AD1-48BE-8CB3-76D8F51C75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DD66F4-855E-43F3-A266-B6B55A2294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1AD897-8916-4D0F-B0A7-67D6886D4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E40DA9-17A1-4FF6-8A0F-A51BE5492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B89A081-4E5A-4C1E-AC5C-27DF4F441B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4B852C2-18FB-4E8E-8D96-C67D36BD8E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C665B59-7BD6-4A0F-BA19-6DC5DA65E5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CA4526-BB1F-4E27-A20C-C380309B0E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1C5153-A581-480A-A0FF-C885D01401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CBA318-5C87-46BD-AC5A-6A3266A258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BB338-F14C-4DB7-9444-169EC54B8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AF3A02-F0AE-4859-86A4-06060EBD2A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B0ACFF-EAA0-4D5C-954F-42B34CD846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D0632-76C4-474A-A119-E9328C9E49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423BE-706C-4AD6-AA76-47B324066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9323AF-44CA-456B-B0C9-2BDF8FB12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89DFF-D641-4233-AF9B-2D88648E4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3CBD71-4E21-4E9A-8E9A-283C003D12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46CDF3-A8C3-4E9A-873F-46F47D90EB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2825FC-0F5C-4445-9B4E-9897D6A48F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E79706C-717D-443D-AB59-CAD22AB488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87A71-902E-4E5A-B1AB-97117FE60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8384055-4546-4FC0-A357-B88BFEAF4E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636FB50-33E4-4EB9-A50C-03F3236557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337362F-EA3E-47BB-ADCD-8DB510BA1F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4DE6F98-F2BE-4D15-A929-7E03745301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6375D27-90D7-4BE9-9E5A-E58C27F9E9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7F877A-99D7-4F59-A936-2128D860C6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E18435-78EA-4104-917F-42A84270C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7BE9C7-C937-4F7B-B081-2689B554EE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6B74562-2AE3-4F02-983C-B58A9492D7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E6E00B6-2507-4325-921F-E73ADB55C9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7A7E8-F2B3-4B19-A320-ADEC4F994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96532A5-BA59-4277-B8D9-3BBF584AFE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6D9A53E-A076-408D-BEA8-7311389E3C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C8E1026-1527-47FE-9BFE-937FEDC208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56318D7-709A-4D72-81D9-D077897961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1F62773-F4B3-4EE7-928B-0F793E55AB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DDC79DB-A9DC-45A9-AE16-97005A05CF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9643C88-6A74-42AF-88C1-1D619F4A0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1B4B57-73B9-4B34-A617-41D1682A3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EC8078C-A9E2-4869-AED4-837CEE8F07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524C4E2-669C-4C67-950E-512550FD0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C6589-1D9A-4E2F-91C0-3E0CC42EA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1685DBE-4944-41AC-9980-4C92BFF3DC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FE2637B-0433-4719-A47A-85235EBAAC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137D8D8-D2D9-4143-B769-47199C6B11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22B73B9-5BA5-43F9-83A4-3C8F60965F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BF4D7D4-0676-4B7D-BCF8-627A9A7C71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9BA766F-C480-48D7-9984-DDCBD0C756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5DACF11-0B59-47E3-9096-E0E157F4C2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1E70FF7-C6F5-4BAC-96CF-BA689BA256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ABB347B-B950-4821-AF33-BF7170BFA6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65B20FF-EC12-427F-A9B0-541C8DE5AC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E2FFE-4320-418B-B7B4-BCA77466C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18734A2-E60E-43FE-BDB8-2FDD08A47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2D67F1-FC16-4D76-A980-A7DF739A2E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EB8F928-9DD7-4D8E-829C-4C7BBC2C53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05C199A-56AA-40F3-A668-43FF26B1B8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C2B675B-E1D8-4495-93F7-9EE059E77A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1C9E6-FE75-4F3A-B2AC-9074708EF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5A67-9829-4777-9CA4-C137BB7EA534}"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B80F-D1C8-4194-B721-F6B89D1EE8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A8E6-46BB-4C18-A396-114CE4FA5277}"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F371-AE74-49C7-B3FD-C57414E80D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01FF-C476-4A40-8EDB-F6970DE3C51C}"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9431-2B8F-4E1A-8123-AC6CBD3FAA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470E-54D8-4946-9A16-CC2212DF4AEE}" type="datetime">
              <a:rPr b="0" lang="en-US" sz="1200" spc="-1" strike="noStrike">
                <a:solidFill>
                  <a:srgbClr val="fff39d"/>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5C17-C302-4F06-AD51-DB6A53A9E3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46E9-6655-4925-A9AB-E2F5A8DBB96F}"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1445-B1D9-4DF6-B86F-D02C9735DA1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5452-7BCE-4D4A-A4E2-83009A8BBB8B}"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F467-3CB4-4416-A500-9E7DE27CFB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5E07-64DE-46B1-AD97-A75709510249}"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97AC-21CE-409C-BAC6-68B45977BDA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rcot.com/content/committees/board/tac/rms/marstf/keydocs/2009/Draft_Supplemental_IDR_Required_Interval_Data_Extract__User_.doc" TargetMode="External"/><Relationship Id="rId2" Type="http://schemas.openxmlformats.org/officeDocument/2006/relationships/hyperlink" Target="http://www.ercot.com/content/committees/board/tac/rms/marstf/keydocs/2009/ESIID%20Join%20Diagram%20v01.ppt" TargetMode="External"/><Relationship Id="rId3" Type="http://schemas.openxmlformats.org/officeDocument/2006/relationships/hyperlink" Target="http://www.ercot.com/content/committees/board/tac/rms/marstf/keydocs/2009/ESIID%20Service%20History%20Usage%20Extract%20User%20Guide.doc" TargetMode="External"/><Relationship Id="rId4" Type="http://schemas.openxmlformats.org/officeDocument/2006/relationships/hyperlink" Target="http://www.ercot.com/content/committees/board/tac/rms/marstf/keydocs/2009/ESIID_Extract_DDL_v.08.sql.txt" TargetMode="External"/><Relationship Id="rId5" Type="http://schemas.openxmlformats.org/officeDocument/2006/relationships/hyperlink" Target="http://www.ercot.com/content/committees/board/tac/rms/marstf/keydocs/2009/Interval_Data_LSE_Activity_Report.xls" TargetMode="External"/><Relationship Id="rId6" Type="http://schemas.openxmlformats.org/officeDocument/2006/relationships/hyperlink" Target="http://www.ercot.com/content/committees/board/tac/rms/marstf/keydocs/2009/Market_Data_Transparency_quick_reference_guide.doc" TargetMode="External"/><Relationship Id="rId7" Type="http://schemas.openxmlformats.org/officeDocument/2006/relationships/slideLayout" Target="../slideLayouts/slideLayout2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MARS TASKFORCE</a:t>
            </a:r>
            <a:br>
              <a:rPr sz="3000"/>
            </a:br>
            <a:r>
              <a:rPr b="1" lang="en-US" sz="3000" spc="-1" strike="noStrike">
                <a:solidFill>
                  <a:srgbClr val="575f6d"/>
                </a:solidFill>
                <a:latin typeface="Century Schoolbook"/>
              </a:rPr>
              <a:t>2009 ACCOMPLISHMENTS &amp; </a:t>
            </a:r>
            <a:br>
              <a:rPr sz="3000"/>
            </a:br>
            <a:r>
              <a:rPr b="1" lang="en-US" sz="3000" spc="-1" strike="noStrike">
                <a:solidFill>
                  <a:srgbClr val="575f6d"/>
                </a:solidFill>
                <a:latin typeface="Century Schoolbook"/>
              </a:rPr>
              <a:t>2010 GOALS  </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RMS Update December 9, 2009 </a:t>
            </a:r>
            <a:endParaRPr b="0" lang="en-US" sz="1800" spc="-1" strike="noStrike">
              <a:solidFill>
                <a:srgbClr val="000000"/>
              </a:solidFill>
              <a:latin typeface="Century Schoolbook"/>
            </a:endParaRPr>
          </a:p>
        </p:txBody>
      </p:sp>
      <p:sp>
        <p:nvSpPr>
          <p:cNvPr id="360" name="Slide Number Placeholder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DAB6-1DC0-420C-B175-189EF028EF6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360"/>
            <a:ext cx="76960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Century Schoolbook"/>
              </a:rPr>
              <a:t>ACCOMPLISHMENTS:</a:t>
            </a:r>
            <a:endParaRPr b="0" lang="en-US" sz="4000" spc="-1" strike="noStrike">
              <a:solidFill>
                <a:srgbClr val="575f6d"/>
              </a:solidFill>
              <a:latin typeface="Century Schoolbook"/>
            </a:endParaRPr>
          </a:p>
        </p:txBody>
      </p:sp>
      <p:sp>
        <p:nvSpPr>
          <p:cNvPr id="362" name=""/>
          <p:cNvSpPr txBox="1"/>
          <p:nvPr/>
        </p:nvSpPr>
        <p:spPr>
          <a:xfrm>
            <a:off x="457200" y="1143000"/>
            <a:ext cx="7772400" cy="54864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veloped Retail Market Guide Revision section “</a:t>
            </a:r>
            <a:r>
              <a:rPr b="1" lang="en-US" sz="2400" spc="-1" strike="noStrike">
                <a:solidFill>
                  <a:srgbClr val="000000"/>
                </a:solidFill>
                <a:latin typeface="Century Schoolbook"/>
              </a:rPr>
              <a:t>7.15 Advanced Meter Interval Data File Format and Submission” </a:t>
            </a:r>
            <a:r>
              <a:rPr b="0" lang="en-US" sz="2400" spc="-1" strike="noStrike">
                <a:solidFill>
                  <a:srgbClr val="000000"/>
                </a:solidFill>
                <a:latin typeface="Century Schoolbook"/>
              </a:rPr>
              <a:t>that details processes for AMS “Provisioned” meters , TDSP’s FTP site and ERCOT Enhanced LSE file .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Schoolbook"/>
              </a:rPr>
              <a:t>RMGRR075</a:t>
            </a:r>
            <a:r>
              <a:rPr b="0" lang="en-US" sz="2100" spc="-1" strike="noStrike">
                <a:solidFill>
                  <a:srgbClr val="000000"/>
                </a:solidFill>
                <a:latin typeface="Century Schoolbook"/>
              </a:rPr>
              <a:t> was approved by RMS (May 09) and TAC (June 09), currently awaiting ERCOT’s  system implementation </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collaboration with TTPT, the MARS Taskforce agreed to the test script for testing LSE Files sent by TDSPs to ERCOT and ERCOT returns a file-level acknowledgement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ncor and CenterPoint Energy successfully completed LSE file testing in October 2009 </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2" marL="914400" indent="-18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7089-8D74-4A10-AFDE-1343E3E3E28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CCOMPLISHMENTS </a:t>
            </a:r>
            <a:endParaRPr b="0" lang="en-US" sz="3000" spc="-1" strike="noStrike">
              <a:solidFill>
                <a:srgbClr val="575f6d"/>
              </a:solidFill>
              <a:latin typeface="Century Schoolbook"/>
            </a:endParaRPr>
          </a:p>
        </p:txBody>
      </p:sp>
      <p:sp>
        <p:nvSpPr>
          <p:cNvPr id="365" name=""/>
          <p:cNvSpPr txBox="1"/>
          <p:nvPr/>
        </p:nvSpPr>
        <p:spPr>
          <a:xfrm>
            <a:off x="457200" y="1142640"/>
            <a:ext cx="7696080" cy="5257800"/>
          </a:xfrm>
          <a:prstGeom prst="rect">
            <a:avLst/>
          </a:prstGeom>
          <a:noFill/>
          <a:ln w="0">
            <a:noFill/>
          </a:ln>
        </p:spPr>
        <p:txBody>
          <a:bodyPr anchor="t">
            <a:normAutofit fontScale="94000"/>
          </a:bodyPr>
          <a:p>
            <a:pPr marL="256320" indent="-2563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veloped many documents to assist the market with new and revised extracts, user guides, reporting and Frequently Asked Questions (FAQs) </a:t>
            </a:r>
            <a:endParaRPr b="0" lang="en-US" sz="24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1"/>
              </a:rPr>
              <a:t>Draft_Supplemental_IDR_Required_Interval_Data_Extract__User_G</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2"/>
              </a:rPr>
              <a:t>ESIID Join Diagram v01</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3"/>
              </a:rPr>
              <a:t>ESIID Service History Usage Extract User Guide</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4"/>
              </a:rPr>
              <a:t>ESIID_Extract_DDL_v.08.sql</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5"/>
              </a:rPr>
              <a:t>Interval Data LSE Activity Report</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6"/>
              </a:rPr>
              <a:t>Market Data Transparency Quick Reference Guide</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rket Data Transparency Technical Files </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rket Data Transparency User Guide </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R80027_Advanced_Metering_Interim_Settlement_Solution__FAQs </a:t>
            </a:r>
            <a:endParaRPr b="0" lang="en-US" sz="2100" spc="-1" strike="noStrike">
              <a:solidFill>
                <a:srgbClr val="000000"/>
              </a:solidFill>
              <a:latin typeface="Century Schoolbook"/>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365D-6FB8-4441-B294-AD281C99484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ACCOMPLISHMENTS:</a:t>
            </a:r>
            <a:endParaRPr b="0" lang="en-US" sz="32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 satisfy AMIT BR-004 of the Interim Settlement Solution until the Texas Web Portal is available, both Oncor and CenterPoint Energy successfully implemented FTP sites providing 15 minute interval data for AMS meters already deployed and provisioned via the approved LSE file format developed by the MARS Taskfor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roughout the past year the taskforce provided both COPS and RMS monthly AMS Project 80027 status reports that included the critical dates, tasks and mileston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C4F4-FE76-4DAD-8FA7-1D5C495825F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380880"/>
            <a:ext cx="769608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Century Schoolbook"/>
              </a:rPr>
              <a:t>ACCOMPLISHMENTS:</a:t>
            </a:r>
            <a:endParaRPr b="0" lang="en-US" sz="4000" spc="-1" strike="noStrike">
              <a:solidFill>
                <a:srgbClr val="575f6d"/>
              </a:solidFill>
              <a:latin typeface="Century Schoolbook"/>
            </a:endParaRPr>
          </a:p>
        </p:txBody>
      </p:sp>
      <p:sp>
        <p:nvSpPr>
          <p:cNvPr id="371" name=""/>
          <p:cNvSpPr txBox="1"/>
          <p:nvPr/>
        </p:nvSpPr>
        <p:spPr>
          <a:xfrm>
            <a:off x="837720" y="1752120"/>
            <a:ext cx="7696440" cy="47516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fter an unanticipated project testing delay created by a power outage on October 7, 2009 at ERCOT’s Austin test facilities, the MARS Taskforce quickly discussed the issue at hand and agreed to a two-phased implementation schedule for the Interim Settlement Solution as follows: </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Architecture Completed -                </a:t>
            </a:r>
            <a:r>
              <a:rPr b="0" i="1" lang="en-US" sz="1800" spc="-1" strike="noStrike">
                <a:solidFill>
                  <a:srgbClr val="000000"/>
                </a:solidFill>
                <a:latin typeface="Century Schoolbook"/>
              </a:rPr>
              <a:t>	</a:t>
            </a:r>
            <a:r>
              <a:rPr b="1" i="1" lang="en-US" sz="1800" spc="-1" strike="noStrike">
                <a:solidFill>
                  <a:srgbClr val="000000"/>
                </a:solidFill>
                <a:latin typeface="Century Schoolbook"/>
              </a:rPr>
              <a:t>05/15/2009</a:t>
            </a:r>
            <a:r>
              <a:rPr b="0" i="1" lang="en-US" sz="1800" spc="-1" strike="noStrike">
                <a:solidFill>
                  <a:srgbClr val="000000"/>
                </a:solidFill>
                <a:latin typeface="Century Schoolbook"/>
              </a:rPr>
              <a: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Development Completed-                </a:t>
            </a:r>
            <a:r>
              <a:rPr b="0" i="1" lang="en-US" sz="1800" spc="-1" strike="noStrike">
                <a:solidFill>
                  <a:srgbClr val="000000"/>
                </a:solidFill>
                <a:latin typeface="Century Schoolbook"/>
              </a:rPr>
              <a:t>	</a:t>
            </a:r>
            <a:r>
              <a:rPr b="1" i="1" lang="en-US" sz="1800" spc="-1" strike="noStrike">
                <a:solidFill>
                  <a:srgbClr val="000000"/>
                </a:solidFill>
                <a:latin typeface="Century Schoolbook"/>
              </a:rPr>
              <a:t>07/15/2009</a:t>
            </a:r>
            <a:r>
              <a:rPr b="0" i="1" lang="en-US" sz="1800" spc="-1" strike="noStrike">
                <a:solidFill>
                  <a:srgbClr val="000000"/>
                </a:solidFill>
                <a:latin typeface="Century Schoolbook"/>
              </a:rPr>
              <a: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Detailed Design Completed-            </a:t>
            </a:r>
            <a:r>
              <a:rPr b="1" i="1" lang="en-US" sz="1800" spc="-1" strike="noStrike">
                <a:solidFill>
                  <a:srgbClr val="000000"/>
                </a:solidFill>
                <a:latin typeface="Century Schoolbook"/>
              </a:rPr>
              <a:t>08/11/2009</a:t>
            </a:r>
            <a:r>
              <a:rPr b="0" i="1" lang="en-US" sz="1800" spc="-1" strike="noStrike">
                <a:solidFill>
                  <a:srgbClr val="000000"/>
                </a:solidFill>
                <a:latin typeface="Century Schoolbook"/>
              </a:rPr>
              <a: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Schoolbook"/>
              </a:rPr>
              <a:t>GO-Live Implementation 1        </a:t>
            </a:r>
            <a:r>
              <a:rPr b="1" i="1" lang="en-US" sz="1800" spc="-1" strike="noStrike">
                <a:solidFill>
                  <a:srgbClr val="000000"/>
                </a:solidFill>
                <a:latin typeface="Century Schoolbook"/>
              </a:rPr>
              <a:t>	</a:t>
            </a:r>
            <a:r>
              <a:rPr b="1" i="1" lang="en-US" sz="1800" spc="-1" strike="noStrike">
                <a:solidFill>
                  <a:srgbClr val="000000"/>
                </a:solidFill>
                <a:latin typeface="Century Schoolbook"/>
              </a:rPr>
              <a:t>11/21/2009  (</a:t>
            </a:r>
            <a:r>
              <a:rPr b="1" i="1" lang="en-US" sz="1800" spc="-1" strike="noStrike">
                <a:solidFill>
                  <a:srgbClr val="ff0000"/>
                </a:solidFill>
                <a:latin typeface="Century Schoolbook"/>
              </a:rPr>
              <a:t>Completed</a:t>
            </a:r>
            <a:r>
              <a:rPr b="1" i="1" lang="en-US" sz="1800" spc="-1" strike="noStrike">
                <a:solidFill>
                  <a:srgbClr val="000000"/>
                </a:solidFill>
                <a:latin typeface="Century Schoolbook"/>
              </a:rPr>
              <a:t>)</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Schoolbook"/>
              </a:rPr>
              <a:t>GO-Live Implementation 2 </a:t>
            </a:r>
            <a:r>
              <a:rPr b="1" lang="en-US" sz="1800" spc="-1" strike="noStrike">
                <a:solidFill>
                  <a:srgbClr val="000000"/>
                </a:solidFill>
                <a:latin typeface="Century Schoolbook"/>
              </a:rPr>
              <a:t>        </a:t>
            </a:r>
            <a:r>
              <a:rPr b="1" i="1" lang="en-US" sz="1800" spc="-1" strike="noStrike">
                <a:solidFill>
                  <a:srgbClr val="000000"/>
                </a:solidFill>
                <a:latin typeface="Century Schoolbook"/>
              </a:rPr>
              <a:t>12/13/2009  (</a:t>
            </a:r>
            <a:r>
              <a:rPr b="1" i="1" lang="en-US" sz="1800" spc="-1" strike="noStrike">
                <a:solidFill>
                  <a:srgbClr val="ff0000"/>
                </a:solidFill>
                <a:latin typeface="Century Schoolbook"/>
              </a:rPr>
              <a:t>Scheduled</a:t>
            </a:r>
            <a:r>
              <a:rPr b="0" i="1" lang="en-US" sz="1800" spc="-1" strike="noStrike">
                <a:solidFill>
                  <a:srgbClr val="000000"/>
                </a:solidFill>
                <a:latin typeface="Century Schoolbook"/>
              </a:rPr>
              <a: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7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C3CF-BA07-4C87-960C-299AEAAB0FE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73" name="AutoShape 23"/>
          <p:cNvSpPr/>
          <p:nvPr/>
        </p:nvSpPr>
        <p:spPr>
          <a:xfrm>
            <a:off x="6019920" y="762120"/>
            <a:ext cx="914400" cy="838080"/>
          </a:xfrm>
          <a:custGeom>
            <a:avLst/>
            <a:gdLst>
              <a:gd name="textAreaLeft" fmla="*/ 282600 w 914400"/>
              <a:gd name="textAreaRight" fmla="*/ 631800 w 914400"/>
              <a:gd name="textAreaTop" fmla="*/ 320040 h 838080"/>
              <a:gd name="textAreaBottom" fmla="*/ 640440 h 838080"/>
            </a:gdLst>
            <a:ahLst/>
            <a:rect l="textAreaLeft" t="textAreaTop" r="textAreaRight" b="textAreaBottom"/>
            <a:pathLst>
              <a:path w="914400" h="838200">
                <a:moveTo>
                  <a:pt x="1" y="320163"/>
                </a:moveTo>
                <a:lnTo>
                  <a:pt x="349272" y="320165"/>
                </a:lnTo>
                <a:lnTo>
                  <a:pt x="457200" y="0"/>
                </a:lnTo>
                <a:lnTo>
                  <a:pt x="565128" y="320165"/>
                </a:lnTo>
                <a:lnTo>
                  <a:pt x="914399" y="320163"/>
                </a:lnTo>
                <a:lnTo>
                  <a:pt x="631832" y="518034"/>
                </a:lnTo>
                <a:lnTo>
                  <a:pt x="739765" y="838197"/>
                </a:lnTo>
                <a:lnTo>
                  <a:pt x="457200" y="640323"/>
                </a:lnTo>
                <a:lnTo>
                  <a:pt x="174635" y="838197"/>
                </a:lnTo>
                <a:lnTo>
                  <a:pt x="282568" y="518034"/>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3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32c16"/>
                </a:solidFill>
                <a:latin typeface="Century Schoolbook"/>
              </a:rPr>
              <a:t>2010 GOALS </a:t>
            </a:r>
            <a:endParaRPr b="0" lang="en-US" sz="3600" spc="-1" strike="noStrike">
              <a:solidFill>
                <a:srgbClr val="575f6d"/>
              </a:solidFill>
              <a:latin typeface="Century Schoolbook"/>
            </a:endParaRPr>
          </a:p>
        </p:txBody>
      </p:sp>
      <p:sp>
        <p:nvSpPr>
          <p:cNvPr id="375" name=""/>
          <p:cNvSpPr txBox="1"/>
          <p:nvPr/>
        </p:nvSpPr>
        <p:spPr>
          <a:xfrm>
            <a:off x="380520" y="1599840"/>
            <a:ext cx="8610840" cy="5257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nitor system performance and LSE file activities throughout: </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System Stabilization Complete  </a:t>
            </a:r>
            <a:r>
              <a:rPr b="0" i="1" lang="en-US" sz="1800" spc="-1" strike="noStrike">
                <a:solidFill>
                  <a:srgbClr val="000000"/>
                </a:solidFill>
                <a:latin typeface="Century Schoolbook"/>
              </a:rPr>
              <a:t>	</a:t>
            </a:r>
            <a:r>
              <a:rPr b="1" i="1" lang="en-US" sz="1800" spc="-1" strike="noStrike">
                <a:solidFill>
                  <a:srgbClr val="000000"/>
                </a:solidFill>
                <a:latin typeface="Century Schoolbook"/>
              </a:rPr>
              <a:t>03/19/2010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Project Completion schedule</a:t>
            </a:r>
            <a:r>
              <a:rPr b="0" i="1" lang="en-US" sz="1800" spc="-1" strike="noStrike">
                <a:solidFill>
                  <a:srgbClr val="000000"/>
                </a:solidFill>
                <a:latin typeface="Century Schoolbook"/>
              </a:rPr>
              <a:t>	</a:t>
            </a:r>
            <a:r>
              <a:rPr b="1" i="1" lang="en-US" sz="1800" spc="-1" strike="noStrike">
                <a:solidFill>
                  <a:srgbClr val="000000"/>
                </a:solidFill>
                <a:latin typeface="Century Schoolbook"/>
              </a:rPr>
              <a:t>05/21/2010</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Quickly develop a market resolution for any issues as they are identified after production implement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th the implementation of the Market’s Interim Settlement Solution, RMGRR075 documenting LSE files and processes and PRR 766 providing market protocol requirements, the MARS Taskforce will require RMS’ assistances and guidance to determine the taskforce’s next steps for 2010.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1972-7828-4D3A-8E49-83408A6B8EB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0000"/>
                </a:solidFill>
                <a:latin typeface="Century Schoolbook"/>
              </a:rPr>
              <a:t>MERRY CHRISTMAS </a:t>
            </a:r>
            <a:r>
              <a:rPr b="1" lang="en-US" sz="2700" spc="-1" strike="noStrike">
                <a:solidFill>
                  <a:srgbClr val="575f6d"/>
                </a:solidFill>
                <a:latin typeface="Century Schoolbook"/>
              </a:rPr>
              <a:t>&amp;</a:t>
            </a:r>
            <a:r>
              <a:rPr b="0" lang="en-US" sz="2700" spc="-1" strike="noStrike">
                <a:solidFill>
                  <a:srgbClr val="575f6d"/>
                </a:solidFill>
                <a:latin typeface="Century Schoolbook"/>
              </a:rPr>
              <a:t> </a:t>
            </a:r>
            <a:br>
              <a:rPr sz="2700"/>
            </a:br>
            <a:r>
              <a:rPr b="1" i="1" lang="en-US" sz="2700" spc="-1" strike="noStrike">
                <a:solidFill>
                  <a:srgbClr val="575f6d"/>
                </a:solidFill>
                <a:latin typeface="Century Schoolbook"/>
              </a:rPr>
              <a:t>THE</a:t>
            </a:r>
            <a:r>
              <a:rPr b="0" i="1" lang="en-US" sz="2700" spc="-1" strike="noStrike">
                <a:solidFill>
                  <a:srgbClr val="575f6d"/>
                </a:solidFill>
                <a:latin typeface="Century Schoolbook"/>
              </a:rPr>
              <a:t> </a:t>
            </a:r>
            <a:r>
              <a:rPr b="1" i="1" lang="en-US" sz="2700" spc="-1" strike="noStrike">
                <a:solidFill>
                  <a:srgbClr val="575f6d"/>
                </a:solidFill>
                <a:latin typeface="Century Schoolbook"/>
              </a:rPr>
              <a:t>HAPPIEST OF  NEW YEAR </a:t>
            </a:r>
            <a:br>
              <a:rPr sz="2700"/>
            </a:br>
            <a:r>
              <a:rPr b="1" lang="en-US" sz="2700" spc="-1" strike="noStrike">
                <a:solidFill>
                  <a:srgbClr val="575f6d"/>
                </a:solidFill>
                <a:latin typeface="Century Schoolbook"/>
              </a:rPr>
              <a:t>FROM MARS </a:t>
            </a:r>
            <a:endParaRPr b="0" lang="en-US" sz="2700" spc="-1" strike="noStrike">
              <a:solidFill>
                <a:srgbClr val="575f6d"/>
              </a:solidFill>
              <a:latin typeface="Century Schoolbook"/>
            </a:endParaRPr>
          </a:p>
        </p:txBody>
      </p:sp>
      <p:sp>
        <p:nvSpPr>
          <p:cNvPr id="3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4E2C-63F5-4587-B4F5-C4A17C0126C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379" name="Picture 7" descr="C:\Program Files\Microsoft Office\MEDIA\CAGCAT10\j0183290.wmf"/>
          <p:cNvPicPr/>
          <p:nvPr/>
        </p:nvPicPr>
        <p:blipFill>
          <a:blip r:embed="rId1"/>
          <a:stretch/>
        </p:blipFill>
        <p:spPr>
          <a:xfrm>
            <a:off x="838080" y="1828800"/>
            <a:ext cx="3124440" cy="3429000"/>
          </a:xfrm>
          <a:prstGeom prst="rect">
            <a:avLst/>
          </a:prstGeom>
          <a:ln w="0">
            <a:noFill/>
          </a:ln>
        </p:spPr>
      </p:pic>
      <p:pic>
        <p:nvPicPr>
          <p:cNvPr id="380" name="Picture 8" descr=""/>
          <p:cNvPicPr/>
          <p:nvPr/>
        </p:nvPicPr>
        <p:blipFill>
          <a:blip r:embed="rId2"/>
          <a:stretch/>
        </p:blipFill>
        <p:spPr>
          <a:xfrm>
            <a:off x="4038480" y="2286000"/>
            <a:ext cx="4343400" cy="3809880"/>
          </a:xfrm>
          <a:prstGeom prst="rect">
            <a:avLst/>
          </a:prstGeom>
          <a:ln w="0">
            <a:noFill/>
          </a:ln>
        </p:spPr>
      </p:pic>
      <p:sp>
        <p:nvSpPr>
          <p:cNvPr id="381" name=""/>
          <p:cNvSpPr txBox="1"/>
          <p:nvPr/>
        </p:nvSpPr>
        <p:spPr>
          <a:xfrm>
            <a:off x="456840" y="1600200"/>
            <a:ext cx="800100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AutoShape 9"/>
          <p:cNvSpPr/>
          <p:nvPr/>
        </p:nvSpPr>
        <p:spPr>
          <a:xfrm>
            <a:off x="-681120" y="-182520"/>
            <a:ext cx="9744120" cy="722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377"/>
                                        </p:tgtEl>
                                        <p:attrNameLst>
                                          <p:attrName>style.visibility</p:attrName>
                                        </p:attrNameLst>
                                      </p:cBhvr>
                                      <p:to>
                                        <p:strVal val="visible"/>
                                      </p:to>
                                    </p:set>
                                    <p:animEffect filter="blinds(horizontal)" transition="in">
                                      <p:cBhvr additive="repl">
                                        <p:cTn id="13" dur="500"/>
                                        <p:tgtEl>
                                          <p:spTgt spid="37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379"/>
                                        </p:tgtEl>
                                        <p:attrNameLst>
                                          <p:attrName>style.visibility</p:attrName>
                                        </p:attrNameLst>
                                      </p:cBhvr>
                                      <p:to>
                                        <p:strVal val="visible"/>
                                      </p:to>
                                    </p:set>
                                    <p:animEffect filter="fade" transition="in">
                                      <p:cBhvr additive="repl">
                                        <p:cTn id="18" dur="2000"/>
                                        <p:tgtEl>
                                          <p:spTgt spid="37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380"/>
                                        </p:tgtEl>
                                        <p:attrNameLst>
                                          <p:attrName>style.visibility</p:attrName>
                                        </p:attrNameLst>
                                      </p:cBhvr>
                                      <p:to>
                                        <p:strVal val="visible"/>
                                      </p:to>
                                    </p:set>
                                    <p:animEffect filter="fade" transition="in">
                                      <p:cBhvr additive="repl">
                                        <p:cTn id="23"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09-12-05T02:04:42Z</dcterms:modified>
  <cp:revision>121</cp:revision>
  <dc:subject/>
  <dc:title>MARS Taskforce </dc:title>
</cp:coreProperties>
</file>