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7C0-A3B7-4BAB-9257-1F972A04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719-2E7B-40E1-A86F-ECEC71A9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897-42AF-4F56-829D-D548EC96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E09-6473-4891-96AD-ECFDDD5E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D4BE-AA1E-441E-8B30-E33943E9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094A-006B-43FB-B309-F429A07A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53E5-1F0A-4A19-BCB8-589689E6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3575-8482-4A5B-AC3E-C144277A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2614-B26E-4B16-B312-FBA897C2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A0CE-5875-4B7A-9BF8-FE03995B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2774-2FF8-4E93-9493-DB8835F5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F3C-5280-40F6-9708-F5348DEC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A633-A1A3-49B4-BAC2-23DB68A6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5611-DA0D-4350-B0A2-EF84B588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84FF-03B7-45A2-8F24-6378A315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7E4A-73F5-4F40-A8F3-F042F90E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1430-47F7-4298-8057-5C7C807C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F14-4AF5-41F7-AF8D-691913F0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7CE-947C-4A56-9614-41008D89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0CC-8FCC-432B-B707-45D2ECF5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876-27EA-46C8-B136-09AFCA3D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C61-F65C-488F-A377-8019F3B6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057-A2DC-470C-AEE9-AB703A26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E2E-E00B-4F41-87A0-F38BD398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0B6C-6413-4327-83D6-9658D332C8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8A20-1FC3-4DCD-BC0E-DDF0C14C51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914400"/>
            <a:ext cx="784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PS 2009 Accomplishme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ecember 8, 200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ffff00"/>
                </a:solidFill>
                <a:uFillTx/>
                <a:latin typeface="Times New Roman"/>
              </a:rPr>
              <a:t>CCW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ved COPMGRRs 09, 10, 11, 12, 13 and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ved SCR 755, Website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izing COPMGRRs 15 and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d on the Client Support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d COPS Procedures tw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TPTF Final Report to T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d where COPS can assist, identified transitional issues, and determined COPS S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Market Commun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ffff00"/>
                </a:solidFill>
                <a:uFillTx/>
                <a:latin typeface="Times New Roman"/>
              </a:rPr>
              <a:t>PW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PGRR033 Synchronization of Load Profiling Guide with PRR8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PGRR034 Profile Model Spreadsheets - Calendar Extension and Delete Unused Mod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PGRR035 Addition of Time Of Use Schedules (TOUS) to Profiles with Interval Data Recorder (IDR) Meter Data Type Codes for Advanced Met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nd 2 sample load research data collection on sche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FE 2008 Report and Hurricane UFE discussions on profile adjust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ual Validation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sted with PRR language defining the process and scenarios for changing IDRs to Advanced Meters at request of RMW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R Analysis completed with recommendation to keep 700 kW thres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d and recommended profile scaling factors method remain s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d and recommended UFE allocation factors in lieu of AMS remain s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d and recommended distribution loss method due to AMS remain s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ffff00"/>
                </a:solidFill>
                <a:uFillTx/>
                <a:latin typeface="Times New Roman"/>
              </a:rPr>
              <a:t>SEW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an Issues Tracking report in conjunction with ERCOT to track and monitor Extract and Report Issu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ed regular reporting from ERCOT on the progress of Nodal COMS, the design of Reports and Extracts for the Nodal Mark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ed ERCOT in recalculation and further analysis on UFE during the Hurricane Ike ev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d the Data Extracts and Reports Service Level Agre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ffff00"/>
                </a:solidFill>
                <a:uFillTx/>
                <a:latin typeface="Times New Roman"/>
              </a:rPr>
              <a:t>NOIE DRG TF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sed Market awareness and created forum for discussion of Nodal requirements for registration and settlement of DG &gt; 50 kW &amp;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≤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ught forth concepts to COPS in regards to the registration and settlement of DG &gt; 50 kW &amp;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≤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to finalizing recommended language for NPRR for review by C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cmoore</cp:lastModifiedBy>
  <dcterms:modified xsi:type="dcterms:W3CDTF">2009-11-30T15:38:53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1534244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OPS presentation</vt:lpwstr>
  </property>
  <property fmtid="{D5CDD505-2E9C-101B-9397-08002B2CF9AE}" pid="6" name="_NewReviewCycle">
    <vt:lpwstr/>
  </property>
</Properties>
</file>