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79E7-01D4-40B5-ACDA-D4E747838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B5AB-052F-4892-9FF2-098EFB773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CB83-8711-4A2D-8397-730D2083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8EC1-9798-48CA-BE32-06810B93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DD4-41D5-4C13-9440-E7D098A7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B9D-6A61-4836-87B2-6D2DC55A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8317-0F77-4A39-A3B3-340BD31A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D043-CA79-4E93-B211-1FE1F886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FAC5-BF7A-4802-B49E-68F3E4E3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D832-BE13-41C7-A844-570B2212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29BF-6649-41D7-A275-555E4342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E4EC-2E44-4F1F-A9D4-DD1780D4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5760-2EC5-449C-8A2B-D3265209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95D3-FC86-428D-BFF8-1CA8FE74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292D-206A-4A5F-BC71-138B5B30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8AE3-C408-4E90-B8E3-AACC3288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E57A-1AD4-4281-9977-6B64D191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6944-1CEC-4E5D-A8E4-F8DC3751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FBAB-82B8-417E-982E-F9B383D0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4804-131B-49C1-9E4F-B9FA2DC9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79E-BF5B-483C-A751-A51B5794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388C-89F1-4387-8DA2-E5D5673F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9F8D-6B80-4A23-A882-4A7BA80D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E67C-C2CE-4C9D-84CF-A78625E0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87DF-08AF-4ED2-8FC3-1C4DCCC6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3A3-6085-4BC3-B13B-2D4B7B08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3D92-BFFE-4591-88BF-A84AA5BA87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90EF-EF6D-4DDE-9107-77D7ECFA68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November 19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925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CWG Update to C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ember 8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3FA0-42D8-4FBF-82F1-64370D8B8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November 19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ting Items for C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MGRR015, Section 8, ERCOT Settlement and Invoic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cludes a process flow chart of the invoice process and specifically addresses the ad hoc invoice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MGRR016, Update to Section 12, Renewable Energy Credits, align with PRR8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igns language with PRR808, Clean-up and Alignment of RECs Trading Program Language with PUCT Rules, and adds Micro-generators and REC Aggregators se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1CEA-F11E-4EBB-84B9-1D4FEF10B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November 19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equest for Input from COP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COT now has the ability to alert Market Participants (MPs) via email of changes via Really Simple Syndication (RSS) Feeds on the ERCOT.com webs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s will subscribe to the RSS Feeds for the items and receive update notifications via email when they are upd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COT has asked CCWG to assist in creating a list of the ERCOT.com website items for which MPs would like the ability to receive update notifications for new information post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EC9F-01FA-4E4D-814D-80F5AA4DD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November 19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Examples of ERCOT.com website items that could have RSS feed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Protocol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Market Gu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letins and No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tee Agendas and Sche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News Releases (News and Public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PE Re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6DE2-AEA0-48C3-9B87-A676218ED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November 19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mmercial Operations Market Gui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COPMGRR, Section 8.2, Settlement Statements and Inv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ted to Market Rules for a revision request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sections being work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6, Registration and Qua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7, Inputs to Settlement Process and Data Ag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8.3, Settlement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10, Extracts and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C8A7-C87F-4E00-856C-DEE24FBAA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’s Next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meetin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ember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9:30am – 12:3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MGRR, Section 8.2, Settlement Statements and Inv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ist of ERCOT.com website RSS F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work on other sections of the COP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1958-E8FA-4412-958A-377F2BED7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trenarym</cp:lastModifiedBy>
  <dcterms:modified xsi:type="dcterms:W3CDTF">2009-11-25T18:56:26Z</dcterms:modified>
  <cp:revision>206</cp:revision>
  <dc:subject/>
  <dc:title>CCWG 2006 Accomplishments</dc:title>
</cp:coreProperties>
</file>