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2294-E8BC-45F2-85FE-45D94D5F0C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58DE-8877-443B-8126-03C7DD37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F1E2-5851-4A11-94C7-C1B39177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53BF-4E00-4B98-B419-3EA0D6A40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FA1-A473-41C0-981E-D0D7954DC6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9B3-046A-4DE1-8C2B-696DC98A55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59B-F18B-4476-BB6F-C1EFA613F3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2F7-A4BC-4D4D-8E59-558DAA7EFF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B65-6ACF-4A5A-88CD-B1673BE6A8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29C-D469-451B-9370-25F3216D9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4AA-1689-44E1-A810-B0E61090C2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86A3-09E4-4F2C-904D-C76C2A0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C66-6DEB-4A36-B1A3-9B727B369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B73-9837-422B-A245-38F43976D2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ED8-8FBF-459E-B4B2-6994D163A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38D-1EF0-48C6-A0A3-925DC3A1CB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7B5-7E81-45FE-9EA0-F0AB19F7C9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8F158-0C17-4746-BF0E-A4EDF9757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2AF3B-8EFA-432A-9C65-2ECA3289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6222D-4610-414F-9998-A1B85CD4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02234-0B2B-4D21-8288-131DEE9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85C45-E509-4E9B-95FE-9C65FFA2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0D14-87EC-4B52-ABAA-1C24DDE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B3E6D-AEE5-45E5-909A-017152DD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EF145-3D6A-46D5-B12E-6AAFC741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0BC3F-DB19-472E-A0E1-A48523B8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2F60-3CA9-43A3-A5E2-C15CBFD6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D6045-8ABE-456E-9D25-00C1C51B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92DE1-C8CD-4CBB-A2C6-A1A75FE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C8C0E-4E36-4D45-9FF4-D17A81E28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9E9B1-3E37-44A1-ADC5-371C7A6F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7F2D7-CF3D-4077-AEEC-57DA2CB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372A3-A83A-4173-82E9-ECE25B35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6A07-49C5-4762-9066-03AFA4B0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562A5-9924-4B92-A0DC-AF2178F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BB250-6857-42EE-933C-AC094EC8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CB33B-5ED4-4A3E-A570-77BC5CA1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0C00F-F487-4CDD-8660-DA76C04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FEE42-D972-41B5-B3C7-9C2C6CC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23685-91AF-4ACA-9A9F-6AAEEE4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CF186-FCA8-431D-BBF9-D885E31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70A16-8B96-41D3-A5C4-AA281718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8D6D7-8A8C-457C-85E3-2A9B77F4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4795-A0FD-42BF-A2CA-8879F513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CB2D-05A4-4417-B4C5-B8DDC3D2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4958-D567-4074-A58D-F68C290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1064-0428-4EB0-99C6-25D90EB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E228-C777-45BA-9686-1D5C06CB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B25C-81F5-4F88-A540-5BAA34C5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8875-2ADF-4CE9-85B3-7DB4D86BC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CC91-80FC-4C18-9712-9327097D83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9A39-94CE-4786-9B6B-5386242B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cember 8,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559A-C621-4D4B-A38C-25653C185D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64480" cy="461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DB42-F784-42FD-B261-2AA44F67A9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omplishments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676520"/>
            <a:ext cx="81532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3 Synchronization of Load Profiling Guide with PRR8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4 Profile Model Spreadsheets - Calendar Extension and Delete Unused Mode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5 Addition of Time Of Use Schedules (TOUS) to Profiles with Interval Data Recorder (IDR) Meter Data Type Codes for Advanced Met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 2 sample load research data collection on schedule ending Dec. 31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FE 2008 Report and Hurricane UFE discussions on profile adjus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Validation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ed with PRR Draft PRR language defining the process and scenarios for changing IDRs to Advanced Meters at the request of the RMW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R Analysis completed with recommendation to not change the 700 kW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d and recommended profile scaling factors method to remain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d and recommended UFE allocation factors in lieu of AMS remain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d and recommended distribution loss method due to AMS remain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3ABC-2215-4D15-B30D-DCD455B27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in progress for Annual Validation suspension per AMS has been discussed and shall be on the next PWG ag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GRR shall be in order for changes per the NOIE DRG TF when the TF is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LPGRR to clean up section 1.1 Document Control per Marke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Administration LPGRR to clean up typo on Decision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 and PR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FD797-A869-4BCE-84C2-B528041789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9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 Call on Decemb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38EB-82AE-4BE6-8BE6-6CC6A6694F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9-11-30T18:28:45Z</dcterms:modified>
  <cp:revision>369</cp:revision>
  <dc:subject/>
  <dc:title>PowerPoint Presentation</dc:title>
</cp:coreProperties>
</file>