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B7E8-147F-4F53-9394-D38506FE8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C62C-6FC9-496B-874B-102E22A0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9649-8948-4691-849F-75604BD9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524-452C-49BC-94FB-0C82ED6E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4750-EC92-4DAD-BF84-7B13926CB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94A6-B425-49FD-9387-EEE0343B7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330E-2E29-4F57-9C45-8D97C5ECD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4751-48CE-420C-85C6-CEF9A7918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159D-C110-4A85-AF66-B5E06038A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BBE0-4723-45AA-89E4-09ADA174D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852B-2E96-4C38-8F71-AB640FAB3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DDDF-31AB-47C8-B3C7-E442D74B5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039B-8F48-4DC4-947F-B6E30C168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404-1B8E-47D1-B860-039EEE393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04E3-8DB0-4030-8778-FB2344F92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DC27-ED3A-42BD-AF21-308E39444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16E-52DD-4820-B979-67D8BE261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7DF7-7ABF-4009-8D4B-D3390856C9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99.81%. This was above the  service level target of 9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Report Explo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 (continue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rak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/19 (27 minutes) – MarkeTrak experienced an application issue which required a restart of servi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4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71640" y="9907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RSarasa</dc:creator>
  <dc:description/>
  <dc:language>en-US</dc:language>
  <cp:lastModifiedBy>tfelton</cp:lastModifiedBy>
  <dcterms:modified xsi:type="dcterms:W3CDTF">2009-12-03T17:06:09Z</dcterms:modified>
  <cp:revision>583</cp:revision>
  <dc:subject/>
  <dc:title>Instructions</dc:title>
</cp:coreProperties>
</file>