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EF7-EE0B-4E28-9E51-4318A37B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918-8596-41DA-BC59-092A571F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4EC-BBDA-408D-A495-1C080CB8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C0E-7044-4F1F-A13C-310D463A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124D-5260-4DD4-8D40-8D3BA632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95AC-0441-498D-A425-24DD0781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04EE-C615-43C2-B31F-1DB5AA0D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BD92-85F3-4A7A-9321-35178760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F05E-9F84-457A-9952-B5C3447C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0C8E-CBFA-494F-86EE-6917737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9F5A-251E-45F0-A392-E3F272E5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CA6-3B12-494B-BF87-F97B1B5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3880-4698-4D46-B8F0-8A8093E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A8C8-4245-4DF2-A89C-B6B927B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4C9F-0243-4FAA-9E19-9F14E2E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064C-6810-445F-B392-5133C153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3B32-214F-4CCE-946E-116B5000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34A-EFB7-4BCB-A97E-03BE64EA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47C-0155-445F-88D7-9C4B01E5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CC2-82F8-4E78-B11A-F889CC78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B5A-C17D-416A-BF85-938EBD88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1AA-01CF-4F52-A01A-73B8A79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735-BB7B-4AB6-B852-0A24078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7AE-C82B-41DF-9F07-0BA2A067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EEA7-3D77-483B-A988-9836D048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34D7-7E88-4F6C-BA69-A67A320F9D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cember 3, 200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ting Upd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591A-D26C-4EE5-AFB8-6AB05CA7B9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TX Nodal Implem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E828-2FF8-4238-81CF-301751F3A4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1143000"/>
          <a:ext cx="7696080" cy="4896000"/>
        </p:xfrm>
        <a:graphic>
          <a:graphicData uri="http://schemas.openxmlformats.org/drawingml/2006/table">
            <a:tbl>
              <a:tblPr/>
              <a:tblGrid>
                <a:gridCol w="1900080"/>
                <a:gridCol w="1528920"/>
                <a:gridCol w="2286000"/>
                <a:gridCol w="19810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ha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he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cop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.1: Market Connectivi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ILESTONE COMPLE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ct. 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P interface testing (API, Market Manager UI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rket System Rules Validation (Phase 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nnectivity testing began as schedule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Up to 16 MPs testing market submissions dail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me technical issues on market s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ew functional issue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: Real-Time Marke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id January-Early Februa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MS-SCED exe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CED results, report publis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RR auction execution (CRR UI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S submissions (API, OS UI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lanning comple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grated testing under way (CRR, OS, SCED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unning Real-Time operating scenarios twice weekl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: DAM/RU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ate March-Early Apri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MS-DAM, DRUC, HRUC, SCED exe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rket results, report publis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itial S&amp;B exe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utage, CRR integr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lanning in progr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grated testing under wa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xecuting DAM mechanic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: Full Functionali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ate April-Early Ma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un full nodal system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lanning in progr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rnal DST test Nov.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3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arking Deck items will be managed through ERCOT PMO via current Change Management proc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2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 open items; 3 ranked by P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P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pproved by 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R832, Deletion of Schedule Control Error (SCR) Posting Requir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R839, Revised Resource Category Generic Fuel Costs - Urg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R840, Update Trading Hub Conversion for 2010 Congestion Zones – Urg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96, Synchronization of Nodal Protocols with PRR827, Find Transaction and Find ESI ID Functions on the M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abled at 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R833, Primary Frequency Response Requirement from Existing WG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091, Scarcity Pricing and Mitigated Offer Cap During the Period Commencing on the Nodal Market Implementation Date and Continuing for a Total of 45 Da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46, ICCP Telemetry Information Submit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53, Generation Resource Fixed Quantity B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64, Resubmitting Ancillary Service Offers in SA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69, Clarify the Calculation and Posting of LMPs for the Load Zone and LMPs for each Hu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5876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d priority level from “high-medium” to “high-high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reviously Approved, but Tabled at TAC – sent to B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96, Synchronization of Nodal Protocols with PRR827, Find Transaction and Find ESI ID Functions on the M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BCB-70BE-4FE1-BD36-E5C3D62C6D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R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pproved as modified by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GRR226, Generation Resource Response Tim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GRR237, Clarify the WGR Voltage Ride-Through Requirement – Urg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32F0-43C3-4EBD-989D-2B507E915B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CO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pproved by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ed COPS Proced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0D5-7992-4B8F-81B6-C4A0779AA8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pproved by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GRR081, Texas New Mexico Power Updates to Processes and Contact In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1C18-67FD-4B50-BCC0-A538BBEA3C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Other Busi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House of Representatives Committee on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ent all RTOs and ISOs letter for preliminary investigation into FTRs (TC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Letter is posted on TAC site as background material for Dec 3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Webcast of Stakeholder Committe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around transparency vs.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around alternatives like WebE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only Texas Admin can provide this serv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A820-D052-4C5A-99A7-0DF5C9CD0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86BC-65C7-473A-A203-56B5DD8C2F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moore</cp:lastModifiedBy>
  <dcterms:modified xsi:type="dcterms:W3CDTF">2009-12-04T16:57:47Z</dcterms:modified>
  <cp:revision>1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26852134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TAC Update to COPS/RMS</vt:lpwstr>
  </property>
  <property fmtid="{D5CDD505-2E9C-101B-9397-08002B2CF9AE}" pid="6" name="_NewReviewCycle">
    <vt:lpwstr/>
  </property>
</Properties>
</file>