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A4C7-551B-420B-AB6E-A26D50F4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0507-005D-4553-9449-1F44EBC7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6B56-9DE1-4ECC-A793-2DC2471A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8AEA-A61F-41B0-B797-3B9E6846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09CC-AAF2-4260-B198-C6697C1A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35ED-6FAB-40DE-87B5-9D4DC114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E4C1-142E-4E1D-912B-D8680446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0104-13D9-4513-802B-12F0408A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A624-1C8D-4013-9FFB-5FD2C308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8DFE-8C51-4714-BB17-BD5C404E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BE39-C933-4BC5-89F8-7BF05F14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ABB2-4E25-47C8-84BD-095D4CF9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E29C-C8A1-47FD-90A6-DA75C73B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7F63-E5AA-4BAC-B3FA-0110649C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4BC2-823E-42E2-B0FB-20DA664B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E8CB-F6C5-44D0-93D3-7DA456F4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23A9-9CD2-4150-9EDF-8FAE44A3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238B4-E0FB-4AC9-BAF5-8B2DE470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98D52-CC50-49B4-829B-E0092934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BB0AD-0A91-4468-BB7B-5B2B8D43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EF55F-4246-4E6E-8E3E-F9A03B65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11E69-7E94-4C8A-86FC-6200B49A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70AA-3EF3-4E39-B2C8-28E30AA1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F7857-093A-43F3-B193-5311BA2E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23B5F-EEF4-43B3-89B8-616050C8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473DB-0A7C-4BF3-9E20-DDBBAA4C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163D0-8F8E-4642-9916-B820BEC1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BCC93-481F-41DF-836A-AE60E305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B8082-E967-4E7F-86EF-D6D678B2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F0E31-2812-467B-9B27-3D7CBBB4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B87CA-607F-43E4-B309-94857318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A6738-432B-4EC5-A3E6-490E542C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A9ADD-7ED2-4E7B-A810-FD7A3BB8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296F-328D-48F0-855B-AA167D26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3A5AE-C188-47D9-94CE-820B7DC4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749FE-F86E-4988-88D0-B88C9782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FA2DA-DC0F-4FB4-818D-56EDAA81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D740C-BF5A-499A-BE2F-A28013A0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CC113-1883-4805-9BD4-84FE3FB5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61107-5721-409D-879B-B77ADED4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A8EF0-E847-4794-ACA7-F4FADF14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9016E-F593-41FC-AF17-6ED6DD5E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E35C6-2D49-45B2-901F-EEEA3552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12B4-2838-44E7-8375-3AF30E6D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5370-7929-4566-AC00-CA464504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9A40-2D26-4A37-AD19-9B2B2D6E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5A84-27F3-46D4-B9EA-8FBFE24D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32B9-862F-46BE-BF10-F8651CE9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8EF6-324A-4C5C-8646-2BC2C6ED640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59AA-1D17-40F8-8455-83BC7CDD3C1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C87A-D3F2-41CD-9E2D-B76E3D180E9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B005-0BE9-4FAC-A909-1022C2B7E2C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2"/>
          <a:stretch/>
        </p:blipFill>
        <p:spPr>
          <a:xfrm>
            <a:off x="-6480" y="378000"/>
            <a:ext cx="9369720" cy="18223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33160" y="5486040"/>
            <a:ext cx="2819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3763"/>
                </a:solidFill>
                <a:latin typeface="Constantia"/>
              </a:rPr>
              <a:t>Bob Wittmey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3763"/>
                </a:solidFill>
                <a:latin typeface="Constantia"/>
              </a:rPr>
              <a:t>512 762 8895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G TF Chart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ine and investigate the reliability, and market, impacts as well as the interconnection processes/procedures for Generation Units with more than one interconnection in the ERCOT Market.  MIG will issue a whitepaper to WMS/ROS at their December meeting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MIG will issue a whitepaper to ROS/WMS containing a list of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96040" indent="-241200">
              <a:lnSpc>
                <a:spcPct val="8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nstantia"/>
              </a:rPr>
              <a:t>Reliability concerns and mitigation actions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2" marL="896040" indent="-241200">
              <a:lnSpc>
                <a:spcPct val="8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nstantia"/>
              </a:rPr>
              <a:t>Market pros and cons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2" marL="896040" indent="-241200">
              <a:lnSpc>
                <a:spcPct val="8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nstantia"/>
              </a:rPr>
              <a:t>Policy/Planning issues related to the interconnection process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for generation units with multiple interconnections in ERCOT</a:t>
            </a:r>
            <a:r>
              <a:rPr b="0" i="1" lang="en-US" sz="19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Rectangle 4" descr=""/>
          <p:cNvPicPr/>
          <p:nvPr/>
        </p:nvPicPr>
        <p:blipFill>
          <a:blip r:embed="rId1"/>
          <a:stretch/>
        </p:blipFill>
        <p:spPr>
          <a:xfrm>
            <a:off x="6784920" y="6095880"/>
            <a:ext cx="2170080" cy="77472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5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7" descr=""/>
          <p:cNvPicPr/>
          <p:nvPr/>
        </p:nvPicPr>
        <p:blipFill>
          <a:blip r:embed="rId2"/>
          <a:stretch/>
        </p:blipFill>
        <p:spPr>
          <a:xfrm>
            <a:off x="4292640" y="0"/>
            <a:ext cx="4851360" cy="27432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8"/>
          <p:cNvSpPr/>
          <p:nvPr/>
        </p:nvSpPr>
        <p:spPr>
          <a:xfrm>
            <a:off x="457200" y="21337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For ROS/WMS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ere we a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swers to most initial questions were sent out to WMS/R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w questions still under revie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ite paper is being develop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 Schedule for Final presentation in December (Draft in November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eneral Dire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08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xisting Protocols pretty well cover MIG’s today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me refinement/clarification will be requir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xpect that ERCOT will have the ability to direct a MIG to a specific point during an “ERCOT emergency”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xpect  a MIG will be able to request a specific point of interconnection with Notice {still being worked on but current book ends between 3 – 90 Days  - (30-90 more likely)}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(Book ends will be a decision point for WMS/ROS (Dec 09)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CRR eligible units will be locked to Sept 99 date not only for Commercial Date, but also Generation Interconnect Nod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ew Interconnects will follow SGIA guidelines, just like any other new unit (no priority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 MIG will likely face the risk of CCN Approval for inclusion in TCOS, before the TSP will build the second point of interconnec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4:36:28Z</dcterms:created>
  <dc:creator>Bob Wittmeyer</dc:creator>
  <dc:description/>
  <dc:language>en-US</dc:language>
  <cp:lastModifiedBy>Bob Wittmeyer</cp:lastModifiedBy>
  <dcterms:modified xsi:type="dcterms:W3CDTF">2009-11-05T15:58:24Z</dcterms:modified>
  <cp:revision>9</cp:revision>
  <dc:subject/>
  <dc:title>MIG TF</dc:title>
</cp:coreProperties>
</file>