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3E3-E8B1-42BB-99D0-E298648A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10D-C952-4F42-8AD6-BC1BF325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7B6-72EC-47F3-90E1-74FB9F53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350-41D4-4CFF-9D03-7793335D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D6F-A0B9-4749-8ABD-F60549B4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A1F-BFD9-4E27-B2EA-43D7B2CA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5CB-F2EE-414D-8A47-0498A957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FED-AAE3-4E39-9A71-74128C93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A69-08D3-4AF7-9F51-017DF85C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10F-9DAE-4601-98C7-21D576EE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2D9-080E-41D5-BBF0-284BE0E5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9AA-6A1E-49A7-AAF4-4DDCF844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B5F3-EDF0-4D98-8FFF-5F51EAB8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2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 (vice-ch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7960" y="312840"/>
            <a:ext cx="86680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7960" y="23184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8160" y="17640"/>
            <a:ext cx="92203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" y="203040"/>
            <a:ext cx="86680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7960" y="208080"/>
            <a:ext cx="8668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7960" y="60480"/>
            <a:ext cx="866808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6772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7960" y="169920"/>
            <a:ext cx="8668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3760" y="193680"/>
            <a:ext cx="9191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meet November 10 &amp;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ctober disturbances and remaining previous events not revie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Guide and Protocol revis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, governor testing &amp;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December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669960"/>
            <a:ext cx="9096480" cy="552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1143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36.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457200"/>
            <a:ext cx="9029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60" y="452520"/>
            <a:ext cx="90388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4120" y="3808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RCOT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56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380880"/>
            <a:ext cx="175248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Storms and Front crossing the state.  First day of 14 minute ra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58200" y="11430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0.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7524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2900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1104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1219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14479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ydney L. Niemeyer</cp:lastModifiedBy>
  <dcterms:modified xsi:type="dcterms:W3CDTF">2009-11-05T21:49:51Z</dcterms:modified>
  <cp:revision>40</cp:revision>
  <dc:subject/>
  <dc:title>Slide 1</dc:title>
</cp:coreProperties>
</file>