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1ECC-02D2-41C9-82B6-5544426E7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8651-5A57-4138-AFBA-D4FE66926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1921-1D9C-42D3-962F-08A7B2777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68E2-A117-4FB7-8ABC-6D1956B85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DFC09-CE96-43A0-A707-381DBB7182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C3E1C23-B131-495E-B4EC-B233DC7998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A300894A-EED0-4008-9FA1-3EB507B925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F1E9C1A0-75F5-4839-82D2-4B06B8804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E3408AB-0713-41BD-8DB5-1FAAB0216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6029D54-6F9B-4E6D-891E-ADF797236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E8D4337-A947-4F54-97F6-FE2D02892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4AA6C89D-5E80-4F74-BF27-DC4420335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69F1A03-E634-40B3-BAD6-8A236EC8D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034D6D5-DB2D-41D8-A908-11A6AEE24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A32C1C8-E521-4952-8F01-EA25D14CEB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9B394DC-53C6-42FD-9317-D15CC4FA6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6C1B-0746-4655-B070-2CD59AD5E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058A-FCFF-4AF9-A802-6F24A22A6E1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22" name="Picture 5" descr=""/>
          <p:cNvPicPr/>
          <p:nvPr/>
        </p:nvPicPr>
        <p:blipFill>
          <a:blip r:embed="rId1"/>
          <a:stretch/>
        </p:blipFill>
        <p:spPr>
          <a:xfrm>
            <a:off x="1600200" y="762120"/>
            <a:ext cx="6342120" cy="538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October performance was 99.84%.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Transaction Processing issu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 (300 minutes) – Registration application database tuning resulted in degraded performance. The tuning was performed as part of stabilization phase of the PR 80031_01 Retail Application Upgrades project. Further corrective measures restored performanc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in data center issue</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7, a fault with a Power Distribution Unit (PDU) during preventive maintenance testing caused a complete power outage in  the Austin data center. This failure resulted in corruption in several iTest databases including those being used for AMIT testing. Applications and databases for AMIT testing were rebuilt by 10/22. The final iTest rebuild is scheduled to be completed on 11/11</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3"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04" name="Picture 5" descr=""/>
          <p:cNvPicPr/>
          <p:nvPr/>
        </p:nvPicPr>
        <p:blipFill>
          <a:blip r:embed="rId1"/>
          <a:stretch/>
        </p:blipFill>
        <p:spPr>
          <a:xfrm>
            <a:off x="685800" y="762120"/>
            <a:ext cx="76960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ctober 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85800" y="762120"/>
            <a:ext cx="7715160" cy="520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477720" y="762120"/>
            <a:ext cx="8056800" cy="52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3" name="Picture 4" descr=""/>
          <p:cNvPicPr/>
          <p:nvPr/>
        </p:nvPicPr>
        <p:blipFill>
          <a:blip r:embed="rId1"/>
          <a:stretch/>
        </p:blipFill>
        <p:spPr>
          <a:xfrm>
            <a:off x="1649520" y="762120"/>
            <a:ext cx="627516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585800" y="762120"/>
            <a:ext cx="603432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523880" y="762120"/>
            <a:ext cx="6986880" cy="53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RSarasa</dc:creator>
  <dc:description/>
  <dc:language>en-US</dc:language>
  <cp:lastModifiedBy>tfelton</cp:lastModifiedBy>
  <dcterms:modified xsi:type="dcterms:W3CDTF">2009-11-09T14:45:14Z</dcterms:modified>
  <cp:revision>544</cp:revision>
  <dc:subject/>
  <dc:title>Instructions</dc:title>
</cp:coreProperties>
</file>