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A56-A34F-486F-A907-E35CE950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C9D-4083-40CA-A258-4E50666D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8D3-D3CA-4F09-9687-58B9E142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DE6-F83F-47FF-A093-92152196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3EBB-D032-46C4-A48A-6170D6FE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21C0-BF15-457D-AAA6-EA2DBD3E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1B05-FDF8-43F2-9175-CC1B4AF0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0BF2-583B-40DB-8A78-60E4154E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21EE-D7A2-482D-BC86-2B085F7F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F118-7F85-4D71-94B9-627919C1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1763-54BB-422E-8266-0AA35DFC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6D2-0FA7-4076-BB7A-3EE9799F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D51C-6887-4E33-9244-F5FC8254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7D8D-7368-4A55-A138-DA554CAA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A97D-DE9D-41AC-86CC-884E4BB0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7F12-EFFE-4A1B-94BD-99DF3B8A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D8B8-F672-4C2F-84BC-356A5818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77A-B946-4759-8E59-BB31340A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7FB-88DE-413D-A189-3E731503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C9B-A646-4DC4-A0B2-932B27E8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C03-8500-4594-94D4-F006BF27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84B-9171-4270-9809-78998E34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A11-00CE-46E1-8892-451F531C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C431-081F-4766-BAF4-8E752863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F5C4-EECF-4734-8718-DA4D61DE6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46AE-2D36-4B07-9ACE-BB3BFF3101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762120" y="914400"/>
            <a:ext cx="784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vember 5, 2009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eting Upda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32BC-3725-46B6-9A90-6D7D2FE817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November 5th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Board Update (October 20, 20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ved PRRs 817, 822, 823, 829, 8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R 811, Real Time Production Potential, remanded back to TAC and TAC remanded to W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ved NPRRs 174, 189, 191, 193, and 1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ved the Closely Related Elements for 2010 as recommended by T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 Armentrout announced that he will not seek another term as an Independent Director on the ERCOT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p Doggett was named as the interim CEO of ERC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53F6-6602-4CEE-8538-3DB4CDB241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November 5th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s and NPRRs Approved by TA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R824, Primary Frequency Response from W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R827, Find Transaction and Find ESI ID Functions on the 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R830, Reactive Power Capability Requirement (URG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R836, Revised Minimum Ramp Rate for Balancing Energy Service Down to Comport with PRR803 (URG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PRR Tabled by TAC for one mon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PRR196, Synchronization of Nodal Protocols with PRR827, Find Transaction and Find ESI ID Functions on the 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7087-D135-4995-9A5E-9F41090FB4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November 5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TAC Vo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F, Posting of Network Model to QSEs per Nodal Protocols – TAC approved the NATF recommendation with Private Use Network data pulled out for more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S, Additional 2010 Closely Related Elements – TAC approved three additional CREs as recommended by W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S, Resource Entity and Qualified Scheduling Entity affidavits for Verifiable Cost – TAC approved with one small 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S, OGRR223, Real Time Production Potential – Remanded by TAC to WMS along with PRR8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A5F2-7842-4F84-8B35-69469A2302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November 5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TAC Votes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S, NOGRR026, Change the name of Emergency Electric Curtailment Plan (EECP) to Energy Emergency Alert ( EEA) and Synchronization of EEA Steps with Protocols – 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S, LPGRR035, Addition of Time of Use Schedules (TOUS) to Profiles with Interval Data Recorder (IDR) Meter Data Type Codes for Advanced Meters (URGENT – 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TWG, 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rter Texas Renewables Integration Plan Report – 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 Planning, 20 Most Voltage Critical Buses per Nodal State Estimator Standards – 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9462-CA18-458F-812D-57CE2082FC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DC7C-4E5C-4E39-A7E3-6C1141CB94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trenarym</cp:lastModifiedBy>
  <dcterms:modified xsi:type="dcterms:W3CDTF">2009-11-10T00:14:28Z</dcterms:modified>
  <cp:revision>142</cp:revision>
  <dc:subject/>
  <dc:title>Slide 1</dc:title>
</cp:coreProperties>
</file>