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wmf" ContentType="image/x-wmf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76a55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BC39A-E081-4434-9509-F3763A79D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EB04D-82B4-4BDD-A3AC-12B8B2D9B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E9942-8846-4388-96EF-D72609B40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F0998-8D0C-4BC4-B925-68371BB7E3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DC19-58B9-4C35-A9D6-1D1A107EA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1CD2-AF8A-4935-87D4-56BDF70CB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3933-D377-4D75-94AE-272D6B6E5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1052-5400-4A97-AAB0-2B09780E4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88B1C-BADE-4BBE-B479-FB7C0B431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ECBCC-E753-4394-BCC6-C7C8846C0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F8F99-949F-4A02-A10D-7C12E5387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E6271-53D8-44DC-89D0-DF05C2A06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AAA6F-E430-4939-8671-99314C2BA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35163-0283-416F-9BF7-D4C323246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3ECCA-CA82-4C9A-B8F4-51E5ACF6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72B5-FCC7-4A69-8BC4-B806CE92D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BDBE8-77AE-4BBC-9D2E-610819611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2FBDD-79B1-4811-A481-5264B3193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9F9B6-8486-4118-8735-DB3FF4911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1BAAF-7F71-4200-8035-C558280D1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8D70D-EC86-42B2-93CC-7477B5539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E0E10-2094-45EA-A788-BA6CA5418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620D9-F9E6-4209-868B-C50F54DB7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13089-A586-447E-978B-E25A1DDA3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13407-47AA-4BCE-AED3-C6EBE5096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B2966-E7A9-4EF3-BE92-0AAEF5A13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6131-8832-4F6A-9C99-48B5FD858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DC49B-D8E8-4C36-A565-3E902383E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AA1E0-B743-48C1-9481-FFB273CE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C01C7-E63D-4C63-B5C5-65D99D0B2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9E856-C353-479D-A7E8-C06F5D55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2242A-CF38-45D2-9D6D-68C3708B2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26816-0891-4B85-A29A-7761A116D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7B979-B24C-4E2A-BA9A-884456F7C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1E882-9FC8-47FE-AE9A-1E264E684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01EBD-E5F1-41CA-9F83-009D32C16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CDCF3-A425-44E0-B711-DB684651E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34EB-2AE9-47D2-8CDA-BC12594BB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F7282-8484-4F5C-AE80-A2FAE917D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3298D-0008-44B1-9164-DBD716172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066D1-FE1A-4703-B897-F46763A31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28B3C-813F-4E38-96F2-BE5E7B46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1C10C-5B8A-4BA9-A7A9-5B036217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9B1BC-A20D-4856-92F7-916381E5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451EF-C3DD-4042-B7CC-A402D010D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B2A0B-5862-4CD4-9951-65D8C7F3C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F20CC-EDD7-4FDA-9B2D-1F2F1F2B6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F07732-9EE1-4FBD-8732-D11EAD981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B0E6-1707-4C4E-BDF3-EDB31D0D9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36340-C3BE-449F-AC50-F2A75959E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38FE46-03DE-4A55-B1F5-B9645EE79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6C4636-88E6-4C52-B12E-8A023A3D9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E88024-CA7B-45F5-90BE-34B1FC5E1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C35F58-D6DF-4BC5-BC41-01344F49B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FBF27-5F54-43DA-B569-6D6086A16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DA3CD7-AC55-47A9-A10F-9F0D3BE0A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D1BB7-1025-409B-A37A-3633FB48E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C5A512-4433-42CC-A54A-CC5174DD0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F39C1-CA6B-46E1-8ECD-F973B0723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0AA0-967B-46AF-8693-3632B7628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9FBAF-A5EE-425B-B826-EA046F4FF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BF1B8A-580A-4014-B8B2-04320936D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A90B07-3DE5-4106-9810-E1E21BD39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01E026-E9A4-4E2D-A29D-B1FBC2307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79C091-20BF-4518-BCAB-6BEC19A21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4B656A-5EEE-4F84-A5AF-F3A00CC49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7B03B-EC52-4590-B8F8-0F4D613B5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BD54B1-CED8-4D85-9ED8-3EAAAFE86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A3E78F-CF3D-4AA0-8229-7C0995B7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B34CC6-A0E2-4FDB-B983-07C52DE88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9B1A-B11C-4746-93E6-13F3A60D4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93C535-665A-493F-95EA-28674A2A0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B0FA64-232C-4631-9C7E-AC98EFBC6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089C3D-43FD-47C6-ACE8-F370786FB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D0A07E-B5E5-4CAC-8438-B97343D93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7CD2A0-C792-4DC2-921C-AABE2C74D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143961-7468-4035-994C-8010770CB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13E0C1-40B7-43FF-BEF1-413DA1939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D19469-A69C-4940-A312-356C9F2D2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1CD92E-5B39-4F22-868D-A779C3232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01765D-B0E8-4679-B934-B75F4160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5217-05E1-45FA-9F42-B4C5E36E9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9CF397-C65D-4DEE-B903-0E7C73D0E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9A9C81-67BD-4FC3-BD14-5B123BE18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73B1B2-9AB9-4EC9-A963-779A4307A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7A6087-B925-42E8-9F9F-5602F23CB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D5E63C-1155-4C0A-B8AA-31DF7544E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265FBB-163B-4820-A9A4-AB6AF507C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B503E0-BF6A-4767-B470-36DC23164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CFC634-A0C9-4ED6-98C7-753A7F83A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4D5B63-3769-4E99-802C-C2F168F7E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9A53C3-0206-41D0-B7E1-512F6EB7B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D051-D7B8-4831-AD4E-86EB1EEB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A7AC5A-6170-45A0-A330-07E48742D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E1EAAA-D6C6-4321-BD8B-9E1B674EA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1426CD-7E4A-4E95-9E0B-E9631EC01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AEBAC0-9428-4C8F-B35C-98E50E58C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4AA566-3022-4E78-B7FE-EB37C37F2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2BD837-302D-4272-A79A-C8D2972A6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B03651-83CB-4400-86C3-7A304B37C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3cbb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76a55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7A6E7-43DF-4957-BF5F-A4F10BECDC3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3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3a6f3e"/>
              </a:gs>
              <a:gs pos="50000">
                <a:srgbClr val="80b984"/>
              </a:gs>
              <a:gs pos="100000">
                <a:srgbClr val="3a6f3e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5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b3cbb5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1" name="Freeform 7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pic>
          <p:nvPicPr>
            <p:cNvPr id="54" name="Straight Connector 9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76a55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92146-BD44-4AC3-86A6-5AD4E93B960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3cbb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3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558659"/>
              </a:gs>
              <a:gs pos="100000">
                <a:srgbClr val="9ec3a1"/>
              </a:gs>
            </a:gsLst>
            <a:lin ang="16200000"/>
          </a:gradFill>
          <a:ln cap="rnd" w="3240">
            <a:solidFill>
              <a:srgbClr val="52775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Chevron 4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558659"/>
              </a:gs>
              <a:gs pos="100000">
                <a:srgbClr val="9ec3a1"/>
              </a:gs>
            </a:gsLst>
            <a:lin ang="16200000"/>
          </a:gradFill>
          <a:ln cap="rnd" w="3240">
            <a:solidFill>
              <a:srgbClr val="52775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aebde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1CC3D-0C72-40A4-9AA8-5F973DC702C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3cbb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aebde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CB37C-FD70-4A16-A9DA-AB286AE9FDD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76a55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FB51A-B0BE-47FA-B8E8-E6BD4ECFA85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3cbb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aebde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DBFF6-044B-4187-B643-A2DF2DFE47E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76a55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BB5E5-DB54-4D76-B93F-D84C169184B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4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3cbb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Freeform 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3" name="Right Triangle 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26" name="Straight Connector 7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558659"/>
              </a:gs>
              <a:gs pos="100000">
                <a:srgbClr val="9ec3a1"/>
              </a:gs>
            </a:gsLst>
            <a:lin ang="16200000"/>
          </a:gradFill>
          <a:ln cap="rnd" w="3240">
            <a:solidFill>
              <a:srgbClr val="52775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Chevron 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558659"/>
              </a:gs>
              <a:gs pos="100000">
                <a:srgbClr val="9ec3a1"/>
              </a:gs>
            </a:gsLst>
            <a:lin ang="16200000"/>
          </a:gradFill>
          <a:ln cap="rnd" w="3240">
            <a:solidFill>
              <a:srgbClr val="52775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aebde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CEE88-EBF7-489C-BCA0-7A5A69E17A6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rcot.com/services/client_svcs/mktrk_info/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-92160" y="1749600"/>
            <a:ext cx="9016920" cy="123156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428640"/>
            <a:ext cx="7772400" cy="1382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6a55"/>
                </a:solidFill>
                <a:latin typeface="Lucida Sans Unicode"/>
              </a:rPr>
              <a:t>Update to RM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6a55"/>
                </a:solidFill>
                <a:latin typeface="Lucida Sans Unicode"/>
              </a:rPr>
              <a:t>November 11, 2009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6a55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MTTF held a meeting Thursday, October 29 to discuss the 2010 ERCOT SLA.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Language has been added to the 2010 Draft SLA allowing for TDTWG to set a performance benchmark for MarkeTrak by the end of Q1 2010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Rectangle 2" descr=""/>
          <p:cNvPicPr/>
          <p:nvPr/>
        </p:nvPicPr>
        <p:blipFill>
          <a:blip r:embed="rId1"/>
          <a:stretch/>
        </p:blipFill>
        <p:spPr>
          <a:xfrm>
            <a:off x="457200" y="282600"/>
            <a:ext cx="8229600" cy="1125360"/>
          </a:xfrm>
          <a:prstGeom prst="rect">
            <a:avLst/>
          </a:prstGeom>
          <a:ln w="0">
            <a:noFill/>
          </a:ln>
        </p:spPr>
      </p:pic>
      <p:sp>
        <p:nvSpPr>
          <p:cNvPr id="381" name="AutoShape 6"/>
          <p:cNvSpPr/>
          <p:nvPr/>
        </p:nvSpPr>
        <p:spPr>
          <a:xfrm>
            <a:off x="0" y="1600200"/>
            <a:ext cx="685800" cy="609480"/>
          </a:xfrm>
          <a:custGeom>
            <a:avLst/>
            <a:gdLst>
              <a:gd name="textAreaLeft" fmla="*/ 211680 w 685800"/>
              <a:gd name="textAreaRight" fmla="*/ 474120 w 685800"/>
              <a:gd name="textAreaTop" fmla="*/ 232920 h 609480"/>
              <a:gd name="textAreaBottom" fmla="*/ 465840 h 609480"/>
            </a:gdLst>
            <a:ahLst/>
            <a:rect l="textAreaLeft" t="textAreaTop" r="textAreaRight" b="textAreaBottom"/>
            <a:pathLst>
              <a:path w="685800" h="609600">
                <a:moveTo>
                  <a:pt x="1" y="232846"/>
                </a:moveTo>
                <a:lnTo>
                  <a:pt x="261954" y="232847"/>
                </a:lnTo>
                <a:lnTo>
                  <a:pt x="342900" y="0"/>
                </a:lnTo>
                <a:lnTo>
                  <a:pt x="423846" y="232847"/>
                </a:lnTo>
                <a:lnTo>
                  <a:pt x="685799" y="232846"/>
                </a:lnTo>
                <a:lnTo>
                  <a:pt x="473874" y="376752"/>
                </a:lnTo>
                <a:lnTo>
                  <a:pt x="554824" y="609598"/>
                </a:lnTo>
                <a:lnTo>
                  <a:pt x="342900" y="465690"/>
                </a:lnTo>
                <a:lnTo>
                  <a:pt x="130976" y="609598"/>
                </a:lnTo>
                <a:lnTo>
                  <a:pt x="211926" y="376752"/>
                </a:lnTo>
                <a:close/>
              </a:path>
            </a:pathLst>
          </a:custGeom>
          <a:solidFill>
            <a:srgbClr val="72a3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Also discussed was reducing the timeframe for archiving closed MarkeTrak issues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Issues are presently archived 13 months after the close date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Proposed change would reduce this time period to 7 months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  <a:ea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MTTF requested that Market participants review whether any processes would be affected and send any concerns to Task Force leadership by November 25, 2009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The Task Force will endorse this change if there is no objection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Rectangle 2" descr=""/>
          <p:cNvPicPr/>
          <p:nvPr/>
        </p:nvPicPr>
        <p:blipFill>
          <a:blip r:embed="rId1"/>
          <a:stretch/>
        </p:blipFill>
        <p:spPr>
          <a:xfrm>
            <a:off x="457200" y="282600"/>
            <a:ext cx="8229600" cy="1125360"/>
          </a:xfrm>
          <a:prstGeom prst="rect">
            <a:avLst/>
          </a:prstGeom>
          <a:ln w="0">
            <a:noFill/>
          </a:ln>
        </p:spPr>
      </p:pic>
      <p:sp>
        <p:nvSpPr>
          <p:cNvPr id="384" name="AutoShape 6"/>
          <p:cNvSpPr/>
          <p:nvPr/>
        </p:nvSpPr>
        <p:spPr>
          <a:xfrm>
            <a:off x="0" y="1600200"/>
            <a:ext cx="685800" cy="609480"/>
          </a:xfrm>
          <a:custGeom>
            <a:avLst/>
            <a:gdLst>
              <a:gd name="textAreaLeft" fmla="*/ 211680 w 685800"/>
              <a:gd name="textAreaRight" fmla="*/ 474120 w 685800"/>
              <a:gd name="textAreaTop" fmla="*/ 232920 h 609480"/>
              <a:gd name="textAreaBottom" fmla="*/ 465840 h 609480"/>
            </a:gdLst>
            <a:ahLst/>
            <a:rect l="textAreaLeft" t="textAreaTop" r="textAreaRight" b="textAreaBottom"/>
            <a:pathLst>
              <a:path w="685800" h="609600">
                <a:moveTo>
                  <a:pt x="1" y="232846"/>
                </a:moveTo>
                <a:lnTo>
                  <a:pt x="261954" y="232847"/>
                </a:lnTo>
                <a:lnTo>
                  <a:pt x="342900" y="0"/>
                </a:lnTo>
                <a:lnTo>
                  <a:pt x="423846" y="232847"/>
                </a:lnTo>
                <a:lnTo>
                  <a:pt x="685799" y="232846"/>
                </a:lnTo>
                <a:lnTo>
                  <a:pt x="473874" y="376752"/>
                </a:lnTo>
                <a:lnTo>
                  <a:pt x="554824" y="609598"/>
                </a:lnTo>
                <a:lnTo>
                  <a:pt x="342900" y="465690"/>
                </a:lnTo>
                <a:lnTo>
                  <a:pt x="130976" y="609598"/>
                </a:lnTo>
                <a:lnTo>
                  <a:pt x="211926" y="376752"/>
                </a:lnTo>
                <a:close/>
              </a:path>
            </a:pathLst>
          </a:custGeom>
          <a:solidFill>
            <a:srgbClr val="72a3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AutoShape 8"/>
          <p:cNvSpPr/>
          <p:nvPr/>
        </p:nvSpPr>
        <p:spPr>
          <a:xfrm>
            <a:off x="0" y="2971800"/>
            <a:ext cx="762120" cy="609480"/>
          </a:xfrm>
          <a:custGeom>
            <a:avLst/>
            <a:gdLst>
              <a:gd name="textAreaLeft" fmla="*/ 235440 w 762120"/>
              <a:gd name="textAreaRight" fmla="*/ 526680 w 762120"/>
              <a:gd name="textAreaTop" fmla="*/ 232920 h 609480"/>
              <a:gd name="textAreaBottom" fmla="*/ 465840 h 609480"/>
            </a:gdLst>
            <a:ahLst/>
            <a:rect l="textAreaLeft" t="textAreaTop" r="textAreaRight" b="textAreaBottom"/>
            <a:pathLst>
              <a:path w="762000" h="609600">
                <a:moveTo>
                  <a:pt x="1" y="232846"/>
                </a:moveTo>
                <a:lnTo>
                  <a:pt x="291060" y="232847"/>
                </a:lnTo>
                <a:lnTo>
                  <a:pt x="381000" y="0"/>
                </a:lnTo>
                <a:lnTo>
                  <a:pt x="470940" y="232847"/>
                </a:lnTo>
                <a:lnTo>
                  <a:pt x="761999" y="232846"/>
                </a:lnTo>
                <a:lnTo>
                  <a:pt x="526527" y="376752"/>
                </a:lnTo>
                <a:lnTo>
                  <a:pt x="616471" y="609598"/>
                </a:lnTo>
                <a:lnTo>
                  <a:pt x="381000" y="465690"/>
                </a:lnTo>
                <a:lnTo>
                  <a:pt x="145529" y="609598"/>
                </a:lnTo>
                <a:lnTo>
                  <a:pt x="235473" y="376752"/>
                </a:lnTo>
                <a:close/>
              </a:path>
            </a:pathLst>
          </a:custGeom>
          <a:solidFill>
            <a:srgbClr val="72a3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AutoShape 8"/>
          <p:cNvSpPr/>
          <p:nvPr/>
        </p:nvSpPr>
        <p:spPr>
          <a:xfrm>
            <a:off x="0" y="4191120"/>
            <a:ext cx="762120" cy="609480"/>
          </a:xfrm>
          <a:custGeom>
            <a:avLst/>
            <a:gdLst>
              <a:gd name="textAreaLeft" fmla="*/ 235440 w 762120"/>
              <a:gd name="textAreaRight" fmla="*/ 526680 w 762120"/>
              <a:gd name="textAreaTop" fmla="*/ 232920 h 609480"/>
              <a:gd name="textAreaBottom" fmla="*/ 465840 h 609480"/>
            </a:gdLst>
            <a:ahLst/>
            <a:rect l="textAreaLeft" t="textAreaTop" r="textAreaRight" b="textAreaBottom"/>
            <a:pathLst>
              <a:path w="762000" h="609600">
                <a:moveTo>
                  <a:pt x="1" y="232846"/>
                </a:moveTo>
                <a:lnTo>
                  <a:pt x="291060" y="232847"/>
                </a:lnTo>
                <a:lnTo>
                  <a:pt x="381000" y="0"/>
                </a:lnTo>
                <a:lnTo>
                  <a:pt x="470940" y="232847"/>
                </a:lnTo>
                <a:lnTo>
                  <a:pt x="761999" y="232846"/>
                </a:lnTo>
                <a:lnTo>
                  <a:pt x="526527" y="376752"/>
                </a:lnTo>
                <a:lnTo>
                  <a:pt x="616471" y="609598"/>
                </a:lnTo>
                <a:lnTo>
                  <a:pt x="381000" y="465690"/>
                </a:lnTo>
                <a:lnTo>
                  <a:pt x="145529" y="609598"/>
                </a:lnTo>
                <a:lnTo>
                  <a:pt x="235473" y="376752"/>
                </a:lnTo>
                <a:close/>
              </a:path>
            </a:pathLst>
          </a:custGeom>
          <a:solidFill>
            <a:srgbClr val="72a3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ERCOT provided statistics for inadvertent gains and rescission-based issues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The Task Force wishes to remind MarkeTrak users to enter the correct sub-type and comments for rescission-based issues, as listed in the Retail Market Guide.  This will allow ERCOT to track these issues with greater accuracy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Rectangle 2" descr=""/>
          <p:cNvPicPr/>
          <p:nvPr/>
        </p:nvPicPr>
        <p:blipFill>
          <a:blip r:embed="rId1"/>
          <a:stretch/>
        </p:blipFill>
        <p:spPr>
          <a:xfrm>
            <a:off x="457200" y="282600"/>
            <a:ext cx="8229600" cy="1125360"/>
          </a:xfrm>
          <a:prstGeom prst="rect">
            <a:avLst/>
          </a:prstGeom>
          <a:ln w="0">
            <a:noFill/>
          </a:ln>
        </p:spPr>
      </p:pic>
      <p:sp>
        <p:nvSpPr>
          <p:cNvPr id="389" name="AutoShape 7"/>
          <p:cNvSpPr/>
          <p:nvPr/>
        </p:nvSpPr>
        <p:spPr>
          <a:xfrm>
            <a:off x="0" y="1371600"/>
            <a:ext cx="762120" cy="609480"/>
          </a:xfrm>
          <a:custGeom>
            <a:avLst/>
            <a:gdLst>
              <a:gd name="textAreaLeft" fmla="*/ 235440 w 762120"/>
              <a:gd name="textAreaRight" fmla="*/ 526680 w 762120"/>
              <a:gd name="textAreaTop" fmla="*/ 232920 h 609480"/>
              <a:gd name="textAreaBottom" fmla="*/ 465840 h 609480"/>
            </a:gdLst>
            <a:ahLst/>
            <a:rect l="textAreaLeft" t="textAreaTop" r="textAreaRight" b="textAreaBottom"/>
            <a:pathLst>
              <a:path w="762000" h="609600">
                <a:moveTo>
                  <a:pt x="1" y="232846"/>
                </a:moveTo>
                <a:lnTo>
                  <a:pt x="291060" y="232847"/>
                </a:lnTo>
                <a:lnTo>
                  <a:pt x="381000" y="0"/>
                </a:lnTo>
                <a:lnTo>
                  <a:pt x="470940" y="232847"/>
                </a:lnTo>
                <a:lnTo>
                  <a:pt x="761999" y="232846"/>
                </a:lnTo>
                <a:lnTo>
                  <a:pt x="526527" y="376752"/>
                </a:lnTo>
                <a:lnTo>
                  <a:pt x="616471" y="609598"/>
                </a:lnTo>
                <a:lnTo>
                  <a:pt x="381000" y="465690"/>
                </a:lnTo>
                <a:lnTo>
                  <a:pt x="145529" y="609598"/>
                </a:lnTo>
                <a:lnTo>
                  <a:pt x="235473" y="376752"/>
                </a:lnTo>
                <a:close/>
              </a:path>
            </a:pathLst>
          </a:custGeom>
          <a:solidFill>
            <a:srgbClr val="72a3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AutoShape 7"/>
          <p:cNvSpPr/>
          <p:nvPr/>
        </p:nvSpPr>
        <p:spPr>
          <a:xfrm>
            <a:off x="0" y="2743200"/>
            <a:ext cx="762120" cy="609480"/>
          </a:xfrm>
          <a:custGeom>
            <a:avLst/>
            <a:gdLst>
              <a:gd name="textAreaLeft" fmla="*/ 235440 w 762120"/>
              <a:gd name="textAreaRight" fmla="*/ 526680 w 762120"/>
              <a:gd name="textAreaTop" fmla="*/ 232920 h 609480"/>
              <a:gd name="textAreaBottom" fmla="*/ 465840 h 609480"/>
            </a:gdLst>
            <a:ahLst/>
            <a:rect l="textAreaLeft" t="textAreaTop" r="textAreaRight" b="textAreaBottom"/>
            <a:pathLst>
              <a:path w="762000" h="609600">
                <a:moveTo>
                  <a:pt x="1" y="232846"/>
                </a:moveTo>
                <a:lnTo>
                  <a:pt x="291060" y="232847"/>
                </a:lnTo>
                <a:lnTo>
                  <a:pt x="381000" y="0"/>
                </a:lnTo>
                <a:lnTo>
                  <a:pt x="470940" y="232847"/>
                </a:lnTo>
                <a:lnTo>
                  <a:pt x="761999" y="232846"/>
                </a:lnTo>
                <a:lnTo>
                  <a:pt x="526527" y="376752"/>
                </a:lnTo>
                <a:lnTo>
                  <a:pt x="616471" y="609598"/>
                </a:lnTo>
                <a:lnTo>
                  <a:pt x="381000" y="465690"/>
                </a:lnTo>
                <a:lnTo>
                  <a:pt x="145529" y="609598"/>
                </a:lnTo>
                <a:lnTo>
                  <a:pt x="235473" y="376752"/>
                </a:lnTo>
                <a:close/>
              </a:path>
            </a:pathLst>
          </a:custGeom>
          <a:solidFill>
            <a:srgbClr val="72a3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06632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b5353"/>
                </a:solidFill>
                <a:uFillTx/>
                <a:latin typeface="Lucida Sans Unicode"/>
                <a:hlinkClick r:id="rId1"/>
              </a:rPr>
              <a:t>http://www.ercot.com/services/client_svcs/mktrk_info/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User Guid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Bulk Insert Templat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MarkeTrak Workflow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MarkeTrak Tips and Trick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MarkeTrak API WSDL/XSD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Also direct link from MarkeTrak too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Title 2" descr=""/>
          <p:cNvPicPr/>
          <p:nvPr/>
        </p:nvPicPr>
        <p:blipFill>
          <a:blip r:embed="rId2"/>
          <a:stretch/>
        </p:blipFill>
        <p:spPr>
          <a:xfrm>
            <a:off x="195120" y="219240"/>
            <a:ext cx="8498160" cy="93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4" descr="MCj04042630000[1]"/>
          <p:cNvPicPr/>
          <p:nvPr/>
        </p:nvPicPr>
        <p:blipFill>
          <a:blip r:embed="rId1"/>
          <a:stretch/>
        </p:blipFill>
        <p:spPr>
          <a:xfrm>
            <a:off x="3652920" y="2897280"/>
            <a:ext cx="1838160" cy="1695240"/>
          </a:xfrm>
          <a:prstGeom prst="rect">
            <a:avLst/>
          </a:prstGeom>
          <a:ln w="0">
            <a:noFill/>
          </a:ln>
        </p:spPr>
      </p:pic>
      <p:pic>
        <p:nvPicPr>
          <p:cNvPr id="394" name="Rectangle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7T19:55:41Z</dcterms:created>
  <dc:creator>00015621</dc:creator>
  <dc:description/>
  <dc:language>en-US</dc:language>
  <cp:lastModifiedBy>balbracht</cp:lastModifiedBy>
  <dcterms:modified xsi:type="dcterms:W3CDTF">2009-11-10T22:47:07Z</dcterms:modified>
  <cp:revision>504</cp:revision>
  <dc:subject/>
  <dc:title>MarkeTrak Task Force</dc:title>
</cp:coreProperties>
</file>