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E19DF34-B39F-4360-AF48-4A0AA54A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04FE077-4E55-4106-B400-29EB323E8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D54A19B-887E-4224-BDBE-39DC1098C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7FD215C-BD46-40C3-8A99-597A2549F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85F2616-DF7C-479D-9547-963963277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B76960C-8A43-4A19-9AB4-B3442C88C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433708-1509-4254-9495-84377ED71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67FC41-E865-431C-88E4-38C4F7D9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5F0D2E9-D482-4363-87CD-F24EDC536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512-4EB1-46D2-8F3E-64DAA7F2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0F7-3401-49FC-85C5-26621FF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8DC-108C-49FF-8BE1-337300B7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09C-F5AE-468E-94EB-B8C87A44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C78-C50D-43C8-A07B-F684E330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5FE-CF0E-47BE-ACAC-9A2F2A44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E1B-D7FF-44B9-A7CF-2D9D34C8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459-3668-4976-8FFC-9BEBC21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CBD-EE35-4475-B45E-EC21A7E6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E2A-AA54-4FCA-9528-F1D00CE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93F-BF71-42E3-BE4F-BA5D8FF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C8C-D61B-407B-801B-FC50EC1D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F33E-0D25-4A65-9BD1-D8884E6DC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DB13-2AA2-49ED-BFC7-7B1D28B21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 11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13E8-AC29-4193-A27E-7C17A4259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d updates to the Retail 2010 Service Level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ed AMS LSE project deployment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TDTWG 2009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01CD-49C8-4EAB-B506-7589640DF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y Katskee presented the summary and detail pages of the incident log, and responded to questions related to the degradation on October 5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ed Retail 2010 Service Level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rovided details related to specific metrics where outage impacted the S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d MarkeTrak leadership’s comments to the 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 to recommend SLA to RMS in Decemb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1BFF-D319-4945-87DC-D7BE6C83E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6C43-9A35-4603-BBCD-C4C56A06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MS LSE project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for deployment is 11/21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Currently in Integrat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EF81-2291-4BBD-AE7F-D6693155B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d 2009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deliver 2009 accomplishments at December RMS mee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51C-552F-42C4-875F-09769D41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Volume of IAGs due to expedited swit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it 24/7 contact information. Annual update of the contact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C6CF-CA92-46EC-A903-91DFC480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9-11-05T15:15:06Z</dcterms:modified>
  <cp:revision>587</cp:revision>
  <dc:subject/>
  <dc:title>PowerPoint Presentation</dc:title>
</cp:coreProperties>
</file>