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1906-50DB-443B-99FB-33F09D14D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AFE9-D06A-4606-A5AD-0ECA396F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665-A1F5-4E22-9802-17FF54BE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B82F-E9D5-440F-993B-61E422B62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EDAA-814F-4C4B-8156-5F948D4E1EC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3F4C-5CA1-423F-8903-30EAF17326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2FC5-6B5A-43B8-B478-98292F87F8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272A-BBC5-4C0F-8416-82095C98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6668-8F65-48BF-AB89-CCBA3196D7C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CB6F-AEE9-498C-9468-8033FBF9DA0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1B37-744F-4486-BF27-F594ADCB20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1005-BE8F-4BFF-9671-815F0013091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9AF5-AE40-444D-9C19-275125E8A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E67-EE20-487A-BBB7-FD9CD22C25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5C04-F196-41F3-8B1A-2BE0A190E6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2A07-0ADF-4AC9-873D-8C857F880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421F-5DD0-4385-B286-F78709BF8A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67AD-94BA-4B05-A31E-215B34C9F9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26E1-80C7-41BF-B582-933F52E26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2286-21FD-401C-9F65-6AB3AAC8BF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7A6D-C26C-4083-B1DD-14221CED2D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67C3-3E2F-4A5D-9C5E-13F7B1FD8C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CBF7-4409-4563-B561-B2845866B5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91C4-0F45-4527-A9B0-F6C3EC9839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7E39-B6EF-4AAE-AA0B-181F6F1ADB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C15D-0C1C-4E63-9FF7-815D9BD9FC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E49F-7849-4048-BA18-C6E4C2429E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AEEC-ED9B-4F2D-B2B5-E35E99D05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162404-F568-4D30-AA9D-2525CFB4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01587E-7892-4536-8F61-E23E657A4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0B81B7-21BF-4CDF-9040-78B5AE7CF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9EFC01-808D-4460-8C8B-974B091F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037606-89E6-4D60-A25D-F0C15FF3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982AD9-22B5-4D1D-BE76-3B00CB9E6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3C6984-8F4A-4B5F-AB47-A93580620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7D5D05-649C-4545-8027-A537EF4B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333559-8067-4A2C-9D52-55D3E9F61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9CE0FC-0F88-4797-B831-77F52C3D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C36C5A-5409-48D9-9BB5-C99F7B61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49907B-BB47-4018-AFEC-56C6CB5F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EFB290-A52A-4F18-8BCE-D5CD79B9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F67B5C-EB56-43D4-A832-8120154B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434457-6E5D-46B7-ACD1-6182D88D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99F42F-E952-4F78-AA71-5F4D95EB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236-D05E-4CC8-BE1C-87C90E4B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5BD6B8-0C21-4BC3-92F2-53ABE2987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AFF378-ECED-40EB-ABE1-90311943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D8A2F6-02CD-4D21-A2F3-B02FDAC8A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01798D-7D39-4BAD-8938-09E37EB28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48FD50-E16B-4249-9F7B-82A5E6DC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0D311A-4CB1-49DE-8AE4-B12AF141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November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11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541440" y="785880"/>
          <a:ext cx="828828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82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TextBox 4"/>
          <p:cNvSpPr/>
          <p:nvPr/>
        </p:nvSpPr>
        <p:spPr>
          <a:xfrm>
            <a:off x="533520" y="3352680"/>
            <a:ext cx="439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40_01 moved to Closing on 10/23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50061_01 is expected to move to Closing in Nove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Object 3188"/>
          <p:cNvGraphicFramePr/>
          <p:nvPr/>
        </p:nvGraphicFramePr>
        <p:xfrm>
          <a:off x="541440" y="785880"/>
          <a:ext cx="8288280" cy="21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9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82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540720" y="1066680"/>
            <a:ext cx="39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projects currently in the Planning Pha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4" name="Object 3188"/>
          <p:cNvGraphicFramePr/>
          <p:nvPr/>
        </p:nvGraphicFramePr>
        <p:xfrm>
          <a:off x="541440" y="785880"/>
          <a:ext cx="8280360" cy="13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7" name="Object 3188"/>
          <p:cNvGraphicFramePr/>
          <p:nvPr/>
        </p:nvGraphicFramePr>
        <p:xfrm>
          <a:off x="541440" y="785880"/>
          <a:ext cx="8280360" cy="25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0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1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11-05T14:23:48Z</dcterms:modified>
  <cp:revision>592</cp:revision>
  <dc:subject/>
  <dc:title>Role of Account Management at ERCOT</dc:title>
</cp:coreProperties>
</file>