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59E1062-D70F-44F0-99B9-61ADC43AB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D0CBB86-4FE2-4FCC-AE55-27D9D2BA7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4D74EB5-C65E-4DCC-A1D9-A67B2AA2B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342C4C4-D545-4BD4-9F33-2FDF1BEDF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0430DF5-743C-4254-921B-7CA468694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46B3ECB-CCB3-4B91-B15E-C3932451B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37FB208-D23F-4A44-8C7C-5CB45B8BF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CDD8FF4-3142-458F-A752-A173E2E13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286FB79-E931-4267-813A-71AA623E0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B6822-B843-40E3-9B7F-A89AA434A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CDE6D-3FC2-4521-9C89-21E28DB9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045EC-E5D8-46D2-ABD4-5A4B7C110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5BBC8-0F58-4B88-A285-0B73580B8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E6D8-9FC4-4240-8BE1-764CC8157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DB60F-D454-4E32-8053-7B3D32DAC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A5CA4-120B-494E-B9C0-13DD3CCC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181E1-DCBC-4AE6-AA41-9853B59B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E021E-88AB-4BE2-95D0-9F9821AA7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95A2-97A7-4692-9693-25802A4E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A094-494B-4237-BF19-86942B6A1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014C-DE7D-4FD3-8D56-FF9104CEA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3991-E70C-44F4-AB17-A1C4267FB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D089-263F-43DC-B255-3BD781C6C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8D88-9691-4836-8464-ED992F6C3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ED50-AEF6-4A3F-9166-6C9E3D4B9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68120" y="1508040"/>
            <a:ext cx="8807760" cy="466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EB02-5D2D-4E04-A179-2AE979C9F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F79F-BC2A-44ED-AD6D-1B1D24F0C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1D47-8B51-4624-808B-2425EF459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100080" y="1706400"/>
            <a:ext cx="896760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A1D9-3374-4202-887B-342B835B3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243B-1C42-4520-8D0A-999C3C490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39680" y="164160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34F5-7EA8-499D-BDE6-A4BDA3E6C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55DD-C042-41A5-ADDD-631223E5D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438B-BCEA-4E48-AFA7-572704E10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0979-1D67-407B-BF12-03393A36C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174600" y="1920960"/>
            <a:ext cx="8817120" cy="356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6670-97D4-44E1-84F9-55551F377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9853-33B7-435F-A402-8C602E14FD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35080" y="373392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6F0B-FE0A-4E9C-A56D-9E9A51703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609480" y="1592280"/>
            <a:ext cx="7920000" cy="429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58F1-BC8B-4264-89C6-BD8EFE241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8024-4CAE-4BF2-90A9-4360580C8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58760" y="1523880"/>
            <a:ext cx="8832960" cy="448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11-04T20:19:50Z</dcterms:modified>
  <cp:revision>865</cp:revision>
  <dc:subject/>
  <dc:title>PowerPoint Presentation</dc:title>
</cp:coreProperties>
</file>