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F596FC7-8A1E-4BEE-AC71-C643CDC1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EC0FE7-5D15-4B5E-B3B1-DCD1BDE0A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BC5327F-BBAB-4C34-AF16-2614278C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 2008 – 1,466 MarkeTrak issues log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B65E77-4B42-4717-AE49-92676319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 2008 – 1,466 MarkeTrak issues log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960EBA-CC3D-4549-9F67-A95F78F7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68A362E-7E52-4329-95FC-5555F3F36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06BF2C-1638-461D-9177-78C25E3E9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727598B-2ADC-4580-9303-51D410706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A369FE6-54D2-4EF3-AAC9-5153CE0B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BC3-090C-4461-8EE9-AF3B3C3E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89E-7AB1-4F86-AB9F-CACF562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2D1-72D3-4F56-8EE2-DAE075A2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5C5-BEB4-4870-9A6A-D84AFA7F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E49-5D56-4783-B4C8-1ABEB851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547-7808-4855-BFD4-907B9A17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471-87F1-40A5-8035-2EA41E9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AA6-9158-45D8-AC9A-79FCAD4D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1C6-3235-4C57-A620-041B72D4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7AC-1963-4A28-9208-FB6BC6A9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EEE-B3CC-4C46-A3E1-E163505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CE3-1B19-4F14-8FA4-7A9EFF6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71B-2C19-4B78-A350-B45AC38B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A9B-87AE-45AD-929C-A655E7B22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80880" y="129528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up from April RMS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ted Switch/Customer Rescis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etail Customer Choice T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A9F1-18AF-46DE-A030-41E2CC42D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16002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G/IAL Customer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 Issue 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mments we’ve found on Resciss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has timely informed  CR  they want to cancel  change of service under Customer rescission…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 rescinded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customer recission MT not an IAG.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rescinded switch request within 3 federal business days…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CUSTOMER RESCISSION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 rescissioni-please process this issue…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5BA3-4BD9-4FA1-B282-68110EAB9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from the receiver to the sender of an .edi transaction to  acknowledge rece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Protocol Section 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, TDSP, or ERCOT shall respond with a 997 within 24 hours of receipt of an inbound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l parties must send Functional Acknowledgements (FA/997) for all EDI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B961-E355-4E7A-9EC4-33388155C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importa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successfully receive and process a 997 is the first indication of missing enrollments, usage, system issue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997s CRs, TDSPs and/or ERCOT are missing a critical audit t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hel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997s produced contain the correct data elements and match the transaction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eports can be utilized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ssing 997 Repo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posted da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April 2009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do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January ERCOT had 12.6% of 997s not successfully recei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count of outgoing transactions                  8,912,3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count of 997s not processed inbound        1,126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RCOT has found a significant # of 997s received that did not have all the data elements corresponding to the outgoing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8B3-7C74-4594-A30E-F569CE47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do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September ERCOT had .002% of 997s not successfully recei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 count of outgoing transactions                  10,207,5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 count of 997s not processed inbound        22,5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443-CE9B-4762-9C54-A0B1D5DA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D3C-FBCD-4EAE-B080-179C7742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7200" y="16002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G/IAL Customer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l Market Gu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2.5  Customer Rescission after Comple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Gaining CR may initiate the process of returning the Customer to the original CR by filing a MarkeTrak iss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ensure a fee is not assessed, the REP shall follow the process outlined in the MarkeTrak User’s Guide, including specific pre-determined comments stating “Customer rescission-please process this issue per P.U.C. SUBST. R. 25.474 (n)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3D4-27AB-41A3-B4A7-66DFDF83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G/IAL Customer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Users Gu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4 Submitting a Rescission-based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Customer rescission-please process this issue per P.U.C. SUBST. R. 25.474 (n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51444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 comment is required at the time of submission in order for the issue to be considered rescission-based.  Also, for reporting purposes, it is important that this comment be entere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xact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304-37CF-4DC9-A2D2-FFC23221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16002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228600" y="12193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/Cancel With Approval Issue 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Aggregat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362320"/>
          <a:ext cx="7924680" cy="3733560"/>
        </p:xfrm>
        <a:graphic>
          <a:graphicData uri="http://schemas.openxmlformats.org/drawingml/2006/table">
            <a:tbl>
              <a:tblPr/>
              <a:tblGrid>
                <a:gridCol w="2057400"/>
                <a:gridCol w="1904760"/>
                <a:gridCol w="1981440"/>
                <a:gridCol w="1981080"/>
              </a:tblGrid>
              <a:tr h="102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s Submit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1/09 to 8/16/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s Submit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17/09 to 10/31/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rease 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Lo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G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cel With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 Or 70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4FA0-4CC8-4631-9988-7FCFA41B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16002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808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G/IAL Customer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2971800"/>
          <a:ext cx="8076960" cy="2600280"/>
        </p:xfrm>
        <a:graphic>
          <a:graphicData uri="http://schemas.openxmlformats.org/drawingml/2006/table">
            <a:tbl>
              <a:tblPr/>
              <a:tblGrid>
                <a:gridCol w="2611440"/>
                <a:gridCol w="2609640"/>
                <a:gridCol w="2855880"/>
              </a:tblGrid>
              <a:tr h="1049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Lo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advertent G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0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rescission-please process this issue per P.U.C. Subst. R. 25.474 (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4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 Contain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86" name="Content Placeholder 2"/>
          <p:cNvSpPr/>
          <p:nvPr/>
        </p:nvSpPr>
        <p:spPr>
          <a:xfrm>
            <a:off x="228600" y="1219320"/>
            <a:ext cx="8686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 Issue 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Inadvertent Issues with Com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michelsen</cp:lastModifiedBy>
  <cp:lastPrinted>2002-09-24T18:27:58Z</cp:lastPrinted>
  <dcterms:modified xsi:type="dcterms:W3CDTF">2009-11-04T20:42:01Z</dcterms:modified>
  <cp:revision>780</cp:revision>
  <dc:subject/>
  <dc:title>PowerPoint Presentation</dc:title>
</cp:coreProperties>
</file>