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93DB-8780-4C91-842D-AF380CBC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ABEF-E558-4416-9005-F6CEAB90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FEC1-C49F-4F37-955B-F27E1024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9E2F-3E71-4DA7-AAE9-57046BB4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6CF9-77BB-47BC-AE63-D0978779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6B32-0DC4-499E-875D-48B7058A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BEF9-53CC-43BB-A94F-F0852441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7F5C-6DDB-402F-A1AF-C5EECBD1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5884-D607-46B2-897C-9E2A4571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1F30-2BAB-4992-8EF9-B7B00D86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8B85-E9C7-4052-ABA7-722A45B6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CD46-00EA-4BBA-AA7F-F7046C52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EA3C-5032-48D6-BFAA-6903CB68E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ember 11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mber 11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on Test Day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009 scheduled to conclude on 11/17/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 on 12/08/09 (blackout period beg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Existing CRs have entered Flight 1009 since the Oct. RMS update (2 Bank Change and 2 Change of Service Provi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was completed for RMGRR078 (CBCI fil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2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1/13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1/19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02/12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 Day 1 Transactions: 02/15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03/30/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9-11-09T13:28:33Z</dcterms:modified>
  <cp:revision>114</cp:revision>
  <dc:subject/>
  <dc:title>Instructions</dc:title>
</cp:coreProperties>
</file>