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pperplate Gothic Bold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C3BD-7C87-49E3-A6CA-3D31FC7856ED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9CFE-ACA9-4671-B63B-20BE6A0D8601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667C-F94A-4163-A27A-661579529071}" type="slidenum">
              <a:rPr b="0" lang="en-US" sz="12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pperplate Gothic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7B4-AFCB-4436-80E5-D0E9AABD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33D-DCB5-438A-B291-23D0C48A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240-5F8D-4685-87A4-A73EF2E4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7F4-A36D-4079-8888-F0B127EF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9A4C-D769-41CC-9294-933BCBD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804-C121-419A-A571-790E76CD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D346-C1CF-427E-981D-EFC7D32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150-D2CB-401F-8A00-959F1454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7334-ADCE-4078-A5ED-C689514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4A21-0B6E-4DB5-8E3C-0E2868D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A618-EB70-467C-9A57-F76B2A77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56E-F874-41F2-83F2-883F222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33E9-EBDD-4696-8153-1773DA6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681C-865C-45B4-B44E-0369FD2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C38-D66D-4EE2-BFB7-96E80C47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5E1F-4EAE-42F4-BBE5-9C70A06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953C-B898-454C-B438-566CB31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482-91DD-45C6-9BC3-110EBDD0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D85-AF9C-460C-9331-33506055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3DD-7F23-4C6E-8534-43F4AF4D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EBD-8A09-454D-9E2D-3F613AC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F92-8688-4404-9DE4-FD387D69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CA5-83DB-49A4-A273-8746BD64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B7D-37D7-4D4B-83AD-BBCFBA4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99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99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BB3-211C-463B-88C1-C176F9EEB6E0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99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pperplate Gothic Bol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99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8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pperplate Gothic Bol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pperplate Gothic Bold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Copperplate Gothic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pperplate Gothic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1798-92D4-4A35-937D-A5D9C9B419AF}" type="slidenum">
              <a:rPr b="0" lang="en-US" sz="1000" spc="-1" strike="noStrike">
                <a:solidFill>
                  <a:srgbClr val="ffffff"/>
                </a:solidFill>
                <a:latin typeface="Copperplate Gothic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pperplate Gothic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RMS   UPDATE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3505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ff6600"/>
                  </a:outerShdw>
                </a:effectLst>
                <a:latin typeface="Copperplate Gothic Bold"/>
              </a:rPr>
              <a:t>November 2009</a:t>
            </a:r>
            <a:endParaRPr b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f7cc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924680" cy="505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Approved RMGRR, will review impact analysis at next meeting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MARS TaskForce’s deliverable on interim AMS settlement experienced a delay when ERCOT’s testing system lost power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pperplate Gothic Bold"/>
              </a:rPr>
              <a:t>Staged implementation, approximately two week delay</a:t>
            </a:r>
            <a:endParaRPr b="0" lang="en-US" sz="16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TEXAS SET is investigating a non technical enhancement to the Implementation Guides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Texas Data Transport Working Group is reviewing the Service Level Agreement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-343080">
              <a:spcBef>
                <a:spcPts val="451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pperplate Gothic Bold"/>
              </a:rPr>
              <a:t>Retail Market will be sending email address in the Customer Billing Contact Information file starting in November</a:t>
            </a: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pperplate Gothic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ff6600"/>
                  </a:outerShdw>
                </a:effectLst>
                <a:latin typeface="Copperplate Gothic Bold"/>
              </a:rPr>
              <a:t>Updates</a:t>
            </a:r>
            <a:endParaRPr b="1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ff6600"/>
                </a:outerShdw>
              </a:effectLst>
              <a:latin typeface="Copperplate Gothic Bold"/>
              <a:ea typeface="Copperplate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09-11-05T15:18:07Z</dcterms:modified>
  <cp:revision>24</cp:revision>
  <dc:subject/>
  <dc:title>R.M.S UPDATE</dc:title>
</cp:coreProperties>
</file>