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6066-88A4-4978-A670-44FB19667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DD80-0256-46E2-93EA-BA8C16388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B622-ABE6-4033-98E8-1A525ACE1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6B84-3FD9-4109-9D32-BC9AF602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81C3-A37D-4157-A5FD-412619332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FA99-3142-44EF-8CC3-77050F7DB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CA83-D0B6-47E7-95C2-DD5F10B53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DC7EF-3A3A-4C7A-A80D-D735FACC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F194-4A55-471C-A52F-F66E082A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6335-F426-4759-8858-7ECA1A13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396F-8269-45B7-B5DE-B9E5814E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20E1-519E-49BF-9CCA-AE013B75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0167-3102-437A-A1CF-61443B71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886F-7EEE-4818-AAC8-2FDFE458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7DA2-AD53-4FFD-BC1D-1C352896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1653-D41D-4C17-973D-15C08A56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3E95-474B-4161-84A6-A943B48D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746EA-C4C1-40F4-A77D-7FB50156B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E2F1-38ED-4581-82E7-73B875B3C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B782-958E-4256-B727-77C2E7FA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C12D-2233-4F6A-AEE6-295E56B0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0FA1-0394-49C3-BFC7-88AD6004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D33E-F64F-4F8A-AEF1-397DDED8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0750-91A0-4E42-8ADC-CE3CC943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E904-9E0D-4487-9C13-5E3FAF11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C748-D6CC-4837-A1CC-4D6B606F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FF1A-38DB-44D6-AC0F-051A4C5134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A980-0840-481C-A06C-7137E7E5BD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October 27th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9250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CWG Update to C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vember  10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16DB-B845-4086-B6D2-4BF9D2BD5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October 27th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ting I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S Procedure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a section to reference the TAC Procedures for the election of the Chair and Vice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F344-5A23-4358-88C8-466F5DE31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October 27th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PMGR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MGRR015, Section 8, ERCOT Settlement and Invoic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WG will review the Impact Analysis and Recommendation report at the November 19, 2009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MGRR016, Update to Section 12, Renewable Energy Credits, align with PRR8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WG will review the Impact Analysis and Recommendation report at the November 19, 2009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8A53-F706-4B2C-B855-8DDCED0F3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October 27th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ommercial Operations Market Guid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 COPMGRR, Section 8.2, Settlement Statements and Inv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comments and sent to Market Rules fo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sections being work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6, Registration and Qual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7, Inputs to Settlement Process and Data Aggre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8.2, Settlement and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10, Extracts and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96E6-D586-411C-A808-C29B41FDF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ctober 27th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2009 Accomplishmen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PMGRRs 09, 10, 11, 12, 13 and 14 were approved this yea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PMGRR 15 and 16 are currently in progres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CR 755, Website Improvements, was approved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orked on the Client Support Surve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PS Procedures updated twi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PTF Final Report to TAC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viewed Market Communica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5849-CF2B-4449-A3FA-A9D20BE1A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ctober 27th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2010 Goa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the COP Market Guide and incorporate Nodal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on-going review of ERCOT Market No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NPRR’s, PRR’s, COPMGRR’s and comments on other guide revision requests or projects a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FAE1-47C2-4CCB-A506-D45B5CDA9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ctober 27th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Meeting Dates for 201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Thursday of the month, 9:30am – 3:30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6F4B-0B92-497E-8681-8809772B0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ctober 27th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xt meeting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ember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9:30am – 12:30pm (WEBE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MGRR015, Section 8, ERCOT Settlement and Invoic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MGRR016, Section 12, REC, align with PRR8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COPMGRR, Section 8.1, Settlement Statements and Invo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work on other sections of the COP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y 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3D01-0C5E-4025-92E9-E3C379959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5:58:45Z</dcterms:created>
  <dc:creator>BP - Judy Briscoe</dc:creator>
  <dc:description/>
  <dc:language>en-US</dc:language>
  <cp:lastModifiedBy>pcastillo</cp:lastModifiedBy>
  <dcterms:modified xsi:type="dcterms:W3CDTF">2009-10-28T12:52:17Z</dcterms:modified>
  <cp:revision>183</cp:revision>
  <dc:subject/>
  <dc:title>CCWG 2006 Accomplishments</dc:title>
</cp:coreProperties>
</file>