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182D-1B34-4826-8054-906BD71D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5AC3-2AA7-4D8F-8AD8-9C51CA02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4B70-7A61-43CF-B86A-5DADAFA2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B947-1A4E-47D7-9EAD-84BB5B27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685E-E0A8-44AE-94B8-0BB63417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6FCA-7B52-4CED-B455-231ED890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C083-A5FC-4538-B42B-51B62EF6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7036-E400-4538-8C31-B01967B4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FA14-DF28-4F49-9B70-55A8561C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9B36-8A4F-43C3-A7F5-1E9752C4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ADDE-A0B1-4F59-A683-37437D1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B9B8-A39B-438A-BF95-5A79B1BC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3250-2EAD-45F1-B4C6-9B9129980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48640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2084-FAEC-46C0-8A7F-BB4F7B11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tlement Discussion for ALL DG &lt; or = 1 M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on Tucker on behalf of the NOIE DRG Settlements Task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ther Discussion – Creating a PR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0492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2920" indent="-412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re value in creating a PRR at this point in t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PRR is presented to COPS in January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 case has it effective in June 2010 for norm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question brought to COPS in May 2009 by ERCOT was a Zonal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G with a design capacity &gt; 50kW - Market discussions needed to provid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otocols Section 10.2.2 require TDSP to report this generation to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otocols Section 16.5 does not require registration if less than 1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ther Discussion – Creating a NPR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0492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2920" indent="-412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re value in creating a NPRR at this point in ti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discussion has raised awareness on DG registration requirements in the Nodal Protoc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tocols 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d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ction 16.5 requires the Resource Entity to register each All-Inclusive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Resource Entity shall register each All-Inclusive Resource with ERCOT through ERCOT registration.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removes the ambiguity in the nodal market for the question raised by ERCOT regarding the zonal mar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s by Task Force members seem to indicate a desire to modify the nodal market requirement in regards to registration of DG less than 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PS Direction on Next Step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04920" y="83808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2920" indent="-412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e Drafting PRR langu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 NPRR languag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ther direction from COP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2920" indent="-412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Meeting Date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0120" indent="-412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verify meeting room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day November 2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day December 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day before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esday December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after COP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dnesday December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after 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iday December 1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 / Discu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Charge to the NOIE DRG Settlements Task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 forum for market discussions and bring recommendations to COPS on the Settlement of  DRG located behind NOIE metering points with a design capacity of 50kW or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a list of Pros and Cons for identified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1: Treat as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2: Treat as NOIE “load inflow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 3: Provide TDSP exemption from report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on drafting a PRR to make the zonal protocols equate to the nodal protocols for registration requirements to support “Option 1: Treat as Generation” for NOIE DRG = or &gt; 50kW &amp; &lt; 1MW and detail an implementation plan for the PR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Charge to the NOIE DRG Settlements Task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 at the threshold for submittal of data required by section 10.2.2 and any associated issues if a recommendation to change the threshold is m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work on the Task Force recommendation to move the threshold for the distributed generation data submission requirement to 1MW and apply this to all DG, not just DRG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00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5486400" y="645804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IE DRG Settlements Task Force Meeting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 – 9:30 am to 12: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 - 9:30 am to 12: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 - 9:30 am to 12: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 - 9:30 am to 12: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 - 9:30 am to 3:3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1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 - 1:30 pm to 5:0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d - 9:30 am to 12:00 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Meeting Date - TB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ask Force Meeting Attendance on November 2, 2009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066680"/>
          <a:ext cx="8229600" cy="2638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eb-e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 Tu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rryl Nel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c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ne Bran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in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ke Tro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vin Ophe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ck Brow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ic G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i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tin Loz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stin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n Riord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C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thy Sco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P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nja Min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C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5105520" y="645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reshold Trigger Point and “Automatic”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shold trigger point – DG installed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al - No need to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ed deployment of DG expected before Nodal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al - Apply to Load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Load Zone hi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 M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reshold - triggers Market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chan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gistration threshold is lowered below 1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shold is based on reducing the aggregate generation to no more than 7 MW in any Load Zone (Nodal Mark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issue a market notice that includes the new threshold for DG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value becomes effective 9 months after the market notice i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5105520" y="645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munication, Analysis &amp; Decisions on Registration Threshol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 the appropriate TAC sub-committee (COPS) of the change in DG registration requirements at the next meeting following the market not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priate TAC sub-committee (COPS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ze data and determine impact on market reliability and settlements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propriate TAC sub-committee (COPS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ction if they determine the impacts do not warrant lowering the threshold for DG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te a NP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r action for a month to gather additio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no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5105520" y="645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DSP Repor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unregistered DG &gt; 50kW &amp; &lt;= to 1 MW that sends outflow energy to the TDSP distribution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e area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e existing format for DRG less than 50 kW as required in the Load Profiling Gu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IE Areas – still under co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points from the Load Profiling Guides und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ion Agreement effective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PV renewable generation is pres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V generation capacity in kW (D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Wind renewable generation is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wind generation capacity in kW (D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renewable other than PV or wind is present (will need to include D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s of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generation capacity in kW (D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5105520" y="645804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Repor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 TDSP submitted da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registered DG &gt; 50kW &amp; &lt;= to 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 quarterly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led capacity by Lode Zone (Nodal Mark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reporting parameters to be defined by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E DRG Settlements TF update to COP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0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t</cp:lastModifiedBy>
  <dcterms:modified xsi:type="dcterms:W3CDTF">2009-11-05T18:43:21Z</dcterms:modified>
  <cp:revision>83</cp:revision>
  <dc:subject/>
  <dc:title>Instructions</dc:title>
</cp:coreProperties>
</file>