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CC1-D233-459D-A2BE-F96DE8CE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669-E804-48A5-AAD8-273B5FE4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F3C-E028-45D6-A87B-8F9710B3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951-E3E9-4138-9E84-A9BCD685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911-F42E-403A-AAF5-F6DBAD4B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F23-7828-4588-A86C-E53BEF32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520-F224-4AA2-99CC-BEF2ADB5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3D3-7F44-4D36-966C-B43B177D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97C-E906-40C3-9ADA-8B88655F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C2B-B302-4AF1-8DD2-C1773A42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434-5FDB-4EA2-AD79-AC54945D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2BD-5B4E-4FFF-8F6C-2BCEB54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19DD-42C9-421C-A42F-4E14492B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TWG Report to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vember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nry Durrw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8EF-6069-46EE-B6FF-D1019EC6A2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WG Recommendation to T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er TRIP as submitted by RTWG for distribution to the ERCOT Board and to the Public Utility Commission of Tex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C8F-A9D2-4A7C-8DBF-EDAE4A0E8E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13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F90-4F28-404E-A00A-EAFD2A5BEC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WG Meeting of October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n Utility Scale Solar Generation Integration – Hala Balouz, Electric Power Engineers (E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INI 30 MW Solar Photovoltaic Gener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Grid Interconnect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 concerns or challenges related to ERCOT voltage and frequency requirements for inverters used on solar insta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Issues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raft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 TRIP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BBE-2677-4C68-935C-ACE76DDBAE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AustinMap.png"/>
          <p:cNvPicPr/>
          <p:nvPr/>
        </p:nvPicPr>
        <p:blipFill>
          <a:blip r:embed="rId1"/>
          <a:stretch/>
        </p:blipFill>
        <p:spPr>
          <a:xfrm>
            <a:off x="5327640" y="3352680"/>
            <a:ext cx="3816360" cy="2597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MINI 30 MW Sol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5" descr="Exhibit B - AE Photo - RFPCMC0004 SECTION 0505 EX A.JPG"/>
          <p:cNvPicPr/>
          <p:nvPr/>
        </p:nvPicPr>
        <p:blipFill>
          <a:blip r:embed="rId2"/>
          <a:srcRect l="-9991" t="0" r="-9991" b="0"/>
          <a:stretch/>
        </p:blipFill>
        <p:spPr>
          <a:xfrm>
            <a:off x="380880" y="1143000"/>
            <a:ext cx="400068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Content Placeholder 3"/>
          <p:cNvSpPr/>
          <p:nvPr/>
        </p:nvSpPr>
        <p:spPr>
          <a:xfrm>
            <a:off x="4305240" y="1143000"/>
            <a:ext cx="4838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96000"/>
              </a:lnSpc>
              <a:spcBef>
                <a:spcPts val="601"/>
              </a:spcBef>
              <a:spcAft>
                <a:spcPts val="601"/>
              </a:spcAft>
              <a:buClr>
                <a:srgbClr val="a6a6a6"/>
              </a:buClr>
              <a:buSzPct val="120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64a4a"/>
                </a:solidFill>
                <a:latin typeface="Arial"/>
                <a:ea typeface="Geneva"/>
              </a:rPr>
              <a:t>34.4 MW (dc) / 30 MW (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6000"/>
              </a:lnSpc>
              <a:spcBef>
                <a:spcPts val="601"/>
              </a:spcBef>
              <a:spcAft>
                <a:spcPts val="601"/>
              </a:spcAft>
              <a:buClr>
                <a:srgbClr val="a6a6a6"/>
              </a:buClr>
              <a:buSzPct val="120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64a4a"/>
                </a:solidFill>
                <a:latin typeface="Arial"/>
                <a:ea typeface="Geneva"/>
              </a:rPr>
              <a:t>171,104 Suntech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6000"/>
              </a:lnSpc>
              <a:spcBef>
                <a:spcPts val="601"/>
              </a:spcBef>
              <a:spcAft>
                <a:spcPts val="601"/>
              </a:spcAft>
              <a:buClr>
                <a:srgbClr val="a6a6a6"/>
              </a:buClr>
              <a:buSzPct val="120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64a4a"/>
                </a:solidFill>
                <a:latin typeface="Arial"/>
                <a:ea typeface="Geneva"/>
              </a:rPr>
              <a:t>370 a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6000"/>
              </a:lnSpc>
              <a:spcBef>
                <a:spcPts val="601"/>
              </a:spcBef>
              <a:spcAft>
                <a:spcPts val="601"/>
              </a:spcAft>
              <a:buClr>
                <a:srgbClr val="a6a6a6"/>
              </a:buClr>
              <a:buSzPct val="120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64a4a"/>
                </a:solidFill>
                <a:latin typeface="Arial"/>
                <a:ea typeface="Geneva"/>
              </a:rPr>
              <a:t>20-degree Track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64a4a"/>
                </a:solidFill>
                <a:latin typeface="Arial"/>
                <a:ea typeface="Geneva"/>
              </a:rPr>
              <a:t>60 X 500 kW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6" descr="Gemini.JPG"/>
          <p:cNvPicPr/>
          <p:nvPr/>
        </p:nvPicPr>
        <p:blipFill>
          <a:blip r:embed="rId3"/>
          <a:stretch/>
        </p:blipFill>
        <p:spPr>
          <a:xfrm>
            <a:off x="4267080" y="5254560"/>
            <a:ext cx="14875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F05-2CC1-498C-AFEA-5D096283A7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5a74"/>
                </a:solidFill>
                <a:latin typeface="Arial"/>
              </a:rPr>
              <a:t>Satcon PowerGate Plus 500kW Inverter Voltage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9480" y="1143000"/>
          <a:ext cx="8382240" cy="4294080"/>
        </p:xfrm>
        <a:graphic>
          <a:graphicData uri="http://schemas.openxmlformats.org/drawingml/2006/table">
            <a:tbl>
              <a:tblPr/>
              <a:tblGrid>
                <a:gridCol w="2590920"/>
                <a:gridCol w="2514600"/>
                <a:gridCol w="32767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tage R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 V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OMINAL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OT Delay to Trip for Wind Gen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 &lt;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Discr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1af12"/>
                          </a:solidFill>
                          <a:latin typeface="Arial"/>
                        </a:rPr>
                        <a:t>In Complianc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Adjustable trip time between .16s and 1.0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 ≤ V ≤ 1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utomatic trip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inuous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1af12"/>
                          </a:solidFill>
                          <a:latin typeface="Arial"/>
                        </a:rPr>
                        <a:t>In Complianc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ontinuous operation from 88% to 1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≤ V &lt; 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s to 1.8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1af12"/>
                          </a:solidFill>
                          <a:latin typeface="Arial"/>
                        </a:rPr>
                        <a:t>In Complianc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Adjustable up to 2.0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≤ V &lt;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s to 1.1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ps after .16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&lt; V &lt; 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to 2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ps instan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ps instan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19051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: PowerGate Plus Installation, Operation, and Mainte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Guide &amp; ERCOT Operating Guides Section 3.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5ED-65ED-41E4-98B0-3F1BB2DA3B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5a74"/>
                </a:solidFill>
                <a:latin typeface="Arial"/>
              </a:rPr>
              <a:t>Satcon PowerGate Plus 500kW Inverter Frequency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1371600"/>
          <a:ext cx="8381880" cy="3624120"/>
        </p:xfrm>
        <a:graphic>
          <a:graphicData uri="http://schemas.openxmlformats.org/drawingml/2006/table">
            <a:tbl>
              <a:tblPr/>
              <a:tblGrid>
                <a:gridCol w="1981080"/>
                <a:gridCol w="2209680"/>
                <a:gridCol w="4191120"/>
              </a:tblGrid>
              <a:tr h="60624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OT Delay to Tr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5 &lt;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tor respon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af12"/>
                          </a:solidFill>
                          <a:latin typeface="Arial"/>
                        </a:rPr>
                        <a:t>In Complianc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adjustable trip time between .10s and .1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202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4 &lt; f ≤ 6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utomatic trip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inuous oper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af12"/>
                          </a:solidFill>
                          <a:latin typeface="Arial"/>
                        </a:rPr>
                        <a:t>In Complianc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ill operate with the gird frequency between 59.3-60.5Hz as default set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4 &lt; f ≤ 5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less than 9 min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n only ride-through for 5 minutes (300 second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5764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 &lt; f ≤ 5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less than 30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af12"/>
                          </a:solidFill>
                          <a:latin typeface="Arial"/>
                        </a:rPr>
                        <a:t>In Complian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0.16 seconds (adjustable, max 300 sec) down to 57 Hz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310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 &lt; f ≤ 5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less than 2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af12"/>
                          </a:solidFill>
                          <a:latin typeface="Arial"/>
                        </a:rPr>
                        <a:t>In Complian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0.16 seconds (adjustable, max 300 sec) down to 57 Hz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64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≤ 57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ime delay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af12"/>
                          </a:solidFill>
                          <a:latin typeface="Arial"/>
                        </a:rPr>
                        <a:t>In Complianc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Instant tripping at 57 Hz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6" name="TextBox 8"/>
          <p:cNvSpPr/>
          <p:nvPr/>
        </p:nvSpPr>
        <p:spPr>
          <a:xfrm>
            <a:off x="19051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: PowerGate Plus Installation, Operation, and Mainte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9AD-375C-4FF2-97FC-9D112F8374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echnical Challenges Rai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1523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enhanced interconnection procedures and standards to address reactive power control, voltage and frequency ride-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 inverter side to lessen the power quality impacts and improve voltage and frequency compli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45C-1013-4177-B272-955265F70E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Quarter TRIP Report -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port covers 4 months (not 3) in order to align the report with normal quarterly reporting periods; future reports will cover 3 month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ew wind generating capacity in ERCOT as of September 30, 2009 = 8,515 MW, an increase of 380 MW from the last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ther Creek III (200 MW in Sterling 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alote Creek 1 Wind (180 MW in San Patricio 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ew renewable capacity in ERCOT increased from 8,278 MW to 8,660 MW, an increase of 382 MW from the last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ind farms signed Generation Interconnect Agreements since the last re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tlesnake Wind Farm (200 MW in McCulloch 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dro Hill Wind (150 MW in Webb 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21E-15CA-4DEA-B7A4-365352D0A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Wind Generation Capacity in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924680" cy="540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EEB-D532-4D51-A0A7-EA20183AAA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Quarter TRIP Report -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Workshop III (June), which focused on the ERCOT Low Voltage Ride-Through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CT Workshop (Docket No. 37339)(Aug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hallenges related to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reliability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incentives to implement such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alloc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24A-8BAF-4790-9D7A-4FA6C0A6D7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49:35Z</dcterms:created>
  <dc:creator>Henry Durrwachter</dc:creator>
  <dc:description/>
  <dc:language>en-US</dc:language>
  <cp:lastModifiedBy>Luminant Energy 09-18-2009</cp:lastModifiedBy>
  <dcterms:modified xsi:type="dcterms:W3CDTF">2009-10-29T20:48:01Z</dcterms:modified>
  <cp:revision>30</cp:revision>
  <dc:subject/>
  <dc:title>Slide 1</dc:title>
</cp:coreProperties>
</file>