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825-2A46-4B06-96B6-0DEBB9B8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9B6-AA5F-45DF-98A8-366DE5D4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31F-E6BF-45F8-8F70-0B93F83C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7B-FEA1-49E4-A3C0-C68E98E7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FE4A-75B8-4535-A1D0-5AEC4626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BAFA-53EF-4C49-A282-4F2F932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4B0D-08BE-4BB3-829F-617C3FA5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5734-B749-4376-90BC-51F7AF43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93F6-2561-4798-9C8C-888D77B9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F540-1A7A-46A9-912C-C3D23D13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CE2-33C9-4FA0-AB77-63CD663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8A0-1E9D-435C-B99F-8A0EA109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50EE-35FA-40F6-9C9A-A7E66D7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04A8-16B0-4933-BB4D-53D74AC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2D8-2116-4649-8025-CA581ED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C80A-4670-4902-B737-6EE67BB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DE19-FFBD-44C2-B886-23A346DC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6AE-9015-488C-820B-2FF192AC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114-B634-4329-B230-17E04A0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7F0-8611-435B-853A-D8E9996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94D-1E87-4331-AF68-F5FC4AC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E92-6368-4ED6-9133-76EA682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FCF-B693-4FF7-9A97-A0515F1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3FE-07DB-432B-9CA4-A0187CA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0F0-36BC-4313-964F-FBAC6C28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F76-5F3E-4A99-9CC2-1CBA77E04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vember 5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 from Oct 13</a:t>
            </a:r>
            <a:r>
              <a:rPr b="0" lang="en-US" sz="37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7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GRR035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RG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ddition of Time Of Use Schedules (TOUS) to Profiles with Interval Data Recorder (IDR) Meter Data Type Codes for Advanced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s still need the TOU data on the 867_03s for their TOUS Customers, even after ERCOT begins settling on the 15-minute interval data for AMS meters.  PUC Final Order requires REPS to continue to support their existing TOUS function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or cost impact to be managed under the operations and management (O&amp;M) budgets of the affected depar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impact due to update to Lodestar table to include Profile IDs that allow TOUS for AMS meters.  No code changes are necessa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D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D Approval 11/17/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d 150 day notice will end around 4/17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CC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5, Section 8, ERCOT Settlement and Invoic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6, Update to Section 12, Renewable Energy Credits, align with PRR8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are currently in 20 day comment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.com Satisfaction Survey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9 Users Participated in Survey, 57%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s that can be implemented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ogle search applia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ced search fea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Cal feature added by end of ye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S feeds by end of ye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esign of meeting calendar lay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improvements will be implemented by SCR755 which is tabled at C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GRR035, Addition of Time Of Use Schedules (TOUS) to Profiles with Interval Data Recorder (IDR) Meter Data Type Codes for Advanced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150 day notice required after BOD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Recommended approval to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PS 10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AC 11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OD 11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150 notice ends around 4/17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ng if Annual Validation 2010 is needed due to 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d Echols is new Vice 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2680" y="1752480"/>
            <a:ext cx="895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and Extract issues continue to decline, issues with completeness or erroneous data in extracts have not appeared in so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vestigating combining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and Wholesale SLAs for reports/ex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I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ork to move threshold for the DG data submission requirement to 1MW and apply this to all DG, not just D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 various languag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, NPRR, RMG section 7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reporting requir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Meeting - October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dal RTM Settlement 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al settlement schedule will advance the capture of generation and load data for use in settlements by 1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on: Operating Day +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: Operating Day +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y th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number of Operating Days to be processed in the settlement system on a daily basis and to be verified by business on business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minimize the risk of a back-out / rerun on all other settlement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reduce risk of posting statements and invoices late when verification identifies errors and a back-out/rerun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10-23T16:54:21Z</dcterms:modified>
  <cp:revision>87</cp:revision>
  <dc:subject/>
  <dc:title>Slide 1</dc:title>
</cp:coreProperties>
</file>