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8D60-F981-4188-9072-569B9416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ACC5-BCF2-4522-97B9-E4D859B6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E58A-DE7F-456F-8D60-1DEC9ED0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544B-3332-4D13-83D0-A3686352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2890-8420-443B-A272-D82D74B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2418-8485-4B38-BF69-E4E67DC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B5FF-190B-4F30-ACA1-3E18481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A051-DE45-488E-9035-2B0E9F5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89B1-53C3-4CBC-BAEA-1A2833E5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23AC-FA52-42BB-8603-84D2EC35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658-20BE-48A8-9AB2-0E3B03FC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2F33-9221-4C5F-87BB-59713D1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377-9719-4AE9-9DA5-BC539E30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8-19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DD04-E939-44C2-800D-5CB9B83F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8-1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2769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posed Changes for the 2010 Methodology for Determining Ancillary Service Require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05 November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438280" y="5257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Du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changes to the Non-spin Reserve Service (NSRS) requi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ing NSRS requirements using the proposed method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and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 of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changes for 2010 are to the requirement calculations for NS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oppose to analyzing the last 90 days, ERCOT will instead analyze the last 30 days and the same month of the previous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hing that is done for Regulation Service requirement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yond calculat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, ERCOT will also calculate the average uncertainty in the net load forecast to determine if there is a tendency in the forecast to over-fore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ly, ERCOT will consider that the size of the largest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to cover the loss of the largest unit during periods of highe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ails of NSRS Requirement Calcul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the same 4 hours blocks, ERCOT will calculate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of the net load forecast uncertainty using the 30 days prior to the study and the same month of the previous year for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gulation Up Service requirements will be subtracted from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values to determine an initial NSRS requirement for each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also calculate the average net load forecast uncertainty to determine if there has been a tendency towards over-forecasting net load for any block of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is tendency is observed, the calculated value will be added to the initially calculated NSRS requirement (requirement determined us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ails of NSRS Requirement Calculations cont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ly, the same average uncertainty value will be subtracted from the ERCOT load forecast during the month for the set of hours to which is ap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will be capped at 1000 MW (WMS recommended 1500 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s MWs from Load Forecast to NSRS requirement for periods during which over-forecasting has been historically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loor of the single largest unit will be applied to on-peak hours (HE 7 – 2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against risk of loss of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s during which this risk is the highest may not correlate with the periods during which net load forecast uncertainty is the hig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SRS requirement will then be posted in the usual fash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85800"/>
            <a:ext cx="9144000" cy="556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thodology Results – August ‘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52480" y="838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045400" y="8380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219320"/>
          <a:ext cx="2666880" cy="4647960"/>
        </p:xfrm>
        <a:graphic>
          <a:graphicData uri="http://schemas.openxmlformats.org/drawingml/2006/table">
            <a:tbl>
              <a:tblPr/>
              <a:tblGrid>
                <a:gridCol w="984240"/>
                <a:gridCol w="1682640"/>
              </a:tblGrid>
              <a:tr h="7286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 Requi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8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8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Straight Connector 8"/>
          <p:cNvSpPr/>
          <p:nvPr/>
        </p:nvSpPr>
        <p:spPr>
          <a:xfrm flipV="1">
            <a:off x="3809880" y="83772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191120" y="1219320"/>
          <a:ext cx="4267080" cy="4662360"/>
        </p:xfrm>
        <a:graphic>
          <a:graphicData uri="http://schemas.openxmlformats.org/drawingml/2006/table">
            <a:tbl>
              <a:tblPr/>
              <a:tblGrid>
                <a:gridCol w="722160"/>
                <a:gridCol w="1128600"/>
                <a:gridCol w="1208160"/>
                <a:gridCol w="1208160"/>
              </a:tblGrid>
              <a:tr h="7898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th Percentile - Reg. Up Requi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et Load Forecast Average Error (Capped at -1500 M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 Requirement (With Average Error and On-peak Flo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0" y="685800"/>
            <a:ext cx="9144000" cy="556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thodology Results – October ‘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52480" y="838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045400" y="8380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219320"/>
          <a:ext cx="2666880" cy="4647960"/>
        </p:xfrm>
        <a:graphic>
          <a:graphicData uri="http://schemas.openxmlformats.org/drawingml/2006/table">
            <a:tbl>
              <a:tblPr/>
              <a:tblGrid>
                <a:gridCol w="984240"/>
                <a:gridCol w="1682640"/>
              </a:tblGrid>
              <a:tr h="728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 Requi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8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38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Straight Connector 7"/>
          <p:cNvSpPr/>
          <p:nvPr/>
        </p:nvSpPr>
        <p:spPr>
          <a:xfrm flipV="1">
            <a:off x="3809880" y="83772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91120" y="1219320"/>
          <a:ext cx="4267080" cy="4694040"/>
        </p:xfrm>
        <a:graphic>
          <a:graphicData uri="http://schemas.openxmlformats.org/drawingml/2006/table">
            <a:tbl>
              <a:tblPr/>
              <a:tblGrid>
                <a:gridCol w="722160"/>
                <a:gridCol w="1128600"/>
                <a:gridCol w="1208160"/>
                <a:gridCol w="1208160"/>
              </a:tblGrid>
              <a:tr h="8060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th Percentile - Reg. Up Requi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et Load Forecast Average Error (Capped at -1500 M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 Requirement (With Average Error and On-peak Flo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s use of additional historical data to capture both recent observations and possible seasonal tend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shift MWs from the ERCOT load forecast to the NSRS requirement during periods in which the net load forecast has tended to over-fore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es concern that  a greater risk of loss of generation may not coincide with a greater risk of net load forecast uncertain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4:43:34Z</dcterms:created>
  <dc:creator>Chad Thompson</dc:creator>
  <dc:description/>
  <dc:language>en-US</dc:language>
  <cp:lastModifiedBy>balbracht</cp:lastModifiedBy>
  <dcterms:modified xsi:type="dcterms:W3CDTF">2009-10-29T21:39:55Z</dcterms:modified>
  <cp:revision>79</cp:revision>
  <dc:subject/>
  <dc:title>Instructions</dc:title>
</cp:coreProperties>
</file>