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B6FD-F45D-45CF-A554-F8771119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9E0B-1E89-4071-934C-F893F6E0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B8C3-6495-44D7-88A5-9C2869CE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C578-E84A-4CBA-9210-D727AE55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14DA-2792-4D77-9870-33DC919C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C691-C7E2-46BF-97C9-0B81639B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9732-44C9-41E0-80D6-FE6CF896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62E53-2129-4B16-9E06-34039784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E24B-0A3E-45F4-8F10-6624465E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0305-2B14-4983-8342-D02D6CD9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B1A3-8099-40B6-B662-B6540A10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5AA1-52D9-4754-96B8-E0A49AF8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61F8-6207-409C-A2E0-1876D910A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vember 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66F4-5A40-4F96-B9C1-7299984F4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mber 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chnical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779C-1A94-4508-A267-36BF03B87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6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vember 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ember 5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merican Electric Power Services Corpor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rpus Christi Area Improvements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ay Teixei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nager, Regional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 Need - Backgrou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838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 discrete drivers for this projec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ney Davis repower interconnection agreement signed in Jun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eces Bay repower interconnection agreement signed in Jun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ability improvements needed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iculty in scheduling maintenance outages in Corpus Christi ar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EPSC submitted the Corpus Christi Improvements Project for RPG review in March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interconnection projects, summer peak reliability projects, maintenance reliability projects, and congestion relief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 received from area industrial customers indicating the potential for the projects to have a significant negative affect on their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 not resolved during Study Mode – AEP and customers continued to work together during ERCOT Independent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COT Independent Review began in May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5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5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scription of Recommendation – Total Cost $101.2 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4120" y="1066680"/>
            <a:ext cx="35812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lvl="1" marL="804240" indent="-365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new Gila subst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329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ocate Koch Upriver – Nueces Bay 138 kV line into Gi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329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ocate Highway 9 – Nueces Bay 138 kV double-circuit into Gi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329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ocate Whitepoint – Nueces Bay 138 kV line #2 into Gi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build/ reconductor Valero East – Highway 9 69 kV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onductor Lon Hill – Hearn Road 69 kV 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138 kV line Barney Davis – Laguna and install new 138/69 kV autotransformer at Lag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build Barney Davis – Alazan – Nelson Sharpe 138 kV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grade Westside – Cabaniss 138 kV line terminal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grade both Lon Hill 138/69 kV autotransfor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CorpusArea1.jpg"/>
          <p:cNvPicPr/>
          <p:nvPr/>
        </p:nvPicPr>
        <p:blipFill>
          <a:blip r:embed="rId1"/>
          <a:stretch/>
        </p:blipFill>
        <p:spPr>
          <a:xfrm>
            <a:off x="228600" y="990720"/>
            <a:ext cx="5402160" cy="5029200"/>
          </a:xfrm>
          <a:prstGeom prst="rect">
            <a:avLst/>
          </a:prstGeom>
          <a:ln w="0">
            <a:noFill/>
          </a:ln>
        </p:spPr>
      </p:pic>
      <p:sp>
        <p:nvSpPr>
          <p:cNvPr id="149" name="Straight Connector 19"/>
          <p:cNvSpPr/>
          <p:nvPr/>
        </p:nvSpPr>
        <p:spPr>
          <a:xfrm>
            <a:off x="1294560" y="1523880"/>
            <a:ext cx="228600" cy="609840"/>
          </a:xfrm>
          <a:prstGeom prst="line">
            <a:avLst/>
          </a:prstGeom>
          <a:ln w="88920">
            <a:solidFill>
              <a:srgbClr val="ffff00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3352680" y="1981080"/>
            <a:ext cx="228600" cy="228600"/>
          </a:xfrm>
          <a:prstGeom prst="rect">
            <a:avLst/>
          </a:prstGeom>
          <a:solidFill>
            <a:srgbClr val="ff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23"/>
          <p:cNvSpPr/>
          <p:nvPr/>
        </p:nvSpPr>
        <p:spPr>
          <a:xfrm>
            <a:off x="2286000" y="1981080"/>
            <a:ext cx="838080" cy="914400"/>
          </a:xfrm>
          <a:prstGeom prst="line">
            <a:avLst/>
          </a:prstGeom>
          <a:ln w="88920">
            <a:solidFill>
              <a:srgbClr val="ffff00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25"/>
          <p:cNvSpPr/>
          <p:nvPr/>
        </p:nvSpPr>
        <p:spPr>
          <a:xfrm flipV="1">
            <a:off x="3886200" y="4800600"/>
            <a:ext cx="914400" cy="76320"/>
          </a:xfrm>
          <a:prstGeom prst="line">
            <a:avLst/>
          </a:prstGeom>
          <a:ln w="88920">
            <a:solidFill>
              <a:srgbClr val="ffff00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27"/>
          <p:cNvSpPr/>
          <p:nvPr/>
        </p:nvSpPr>
        <p:spPr>
          <a:xfrm flipV="1">
            <a:off x="2819520" y="4876560"/>
            <a:ext cx="1143000" cy="609480"/>
          </a:xfrm>
          <a:prstGeom prst="line">
            <a:avLst/>
          </a:prstGeom>
          <a:ln w="88920">
            <a:solidFill>
              <a:srgbClr val="ffff00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29"/>
          <p:cNvSpPr/>
          <p:nvPr/>
        </p:nvSpPr>
        <p:spPr>
          <a:xfrm flipV="1">
            <a:off x="1295280" y="5409720"/>
            <a:ext cx="1524240" cy="381240"/>
          </a:xfrm>
          <a:prstGeom prst="line">
            <a:avLst/>
          </a:prstGeom>
          <a:ln w="88920">
            <a:solidFill>
              <a:srgbClr val="ffff00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33"/>
          <p:cNvSpPr/>
          <p:nvPr/>
        </p:nvSpPr>
        <p:spPr>
          <a:xfrm flipV="1">
            <a:off x="4876920" y="4419720"/>
            <a:ext cx="304560" cy="380880"/>
          </a:xfrm>
          <a:prstGeom prst="line">
            <a:avLst/>
          </a:prstGeom>
          <a:ln w="88920">
            <a:solidFill>
              <a:srgbClr val="ffff00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6"/>
          <p:cNvSpPr/>
          <p:nvPr/>
        </p:nvSpPr>
        <p:spPr>
          <a:xfrm>
            <a:off x="5029200" y="4267080"/>
            <a:ext cx="228600" cy="228600"/>
          </a:xfrm>
          <a:prstGeom prst="rect">
            <a:avLst/>
          </a:prstGeom>
          <a:solidFill>
            <a:srgbClr val="ff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37"/>
          <p:cNvSpPr/>
          <p:nvPr/>
        </p:nvSpPr>
        <p:spPr>
          <a:xfrm>
            <a:off x="3048120" y="3505320"/>
            <a:ext cx="304560" cy="304560"/>
          </a:xfrm>
          <a:prstGeom prst="line">
            <a:avLst/>
          </a:prstGeom>
          <a:ln w="88920">
            <a:solidFill>
              <a:srgbClr val="ffff00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0"/>
          <p:cNvSpPr/>
          <p:nvPr/>
        </p:nvSpPr>
        <p:spPr>
          <a:xfrm>
            <a:off x="1371600" y="2057400"/>
            <a:ext cx="228600" cy="228600"/>
          </a:xfrm>
          <a:prstGeom prst="rect">
            <a:avLst/>
          </a:prstGeom>
          <a:solidFill>
            <a:srgbClr val="ff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17"/>
          <p:cNvCxnSpPr>
            <a:endCxn id="150" idx="3"/>
          </p:cNvCxnSpPr>
          <p:nvPr/>
        </p:nvCxnSpPr>
        <p:spPr>
          <a:xfrm flipH="1">
            <a:off x="3580560" y="1294200"/>
            <a:ext cx="2210760" cy="801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Straight Arrow Connector 21"/>
          <p:cNvCxnSpPr/>
          <p:nvPr/>
        </p:nvCxnSpPr>
        <p:spPr>
          <a:xfrm flipH="1" flipV="1">
            <a:off x="2971440" y="2666520"/>
            <a:ext cx="274392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1" name="Straight Arrow Connector 31"/>
          <p:cNvCxnSpPr/>
          <p:nvPr/>
        </p:nvCxnSpPr>
        <p:spPr>
          <a:xfrm flipH="1" flipV="1">
            <a:off x="1523520" y="1980360"/>
            <a:ext cx="4191840" cy="1677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Straight Arrow Connector 35"/>
          <p:cNvCxnSpPr>
            <a:endCxn id="156" idx="3"/>
          </p:cNvCxnSpPr>
          <p:nvPr/>
        </p:nvCxnSpPr>
        <p:spPr>
          <a:xfrm flipH="1">
            <a:off x="5257440" y="4113720"/>
            <a:ext cx="457920" cy="267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Straight Arrow Connector 41"/>
          <p:cNvCxnSpPr/>
          <p:nvPr/>
        </p:nvCxnSpPr>
        <p:spPr>
          <a:xfrm flipH="1">
            <a:off x="3504960" y="4876920"/>
            <a:ext cx="228672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Straight Arrow Connector 44"/>
          <p:cNvCxnSpPr/>
          <p:nvPr/>
        </p:nvCxnSpPr>
        <p:spPr>
          <a:xfrm flipH="1" flipV="1">
            <a:off x="3276000" y="3733200"/>
            <a:ext cx="2515320" cy="1600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Straight Arrow Connector 49"/>
          <p:cNvCxnSpPr>
            <a:endCxn id="158" idx="2"/>
          </p:cNvCxnSpPr>
          <p:nvPr/>
        </p:nvCxnSpPr>
        <p:spPr>
          <a:xfrm flipH="1" flipV="1">
            <a:off x="1485360" y="2285280"/>
            <a:ext cx="4229640" cy="3429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iscussion of Op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7617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eces Bay Interconn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 options consid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 chosen - Build new Gila substation with 3 lines moved from Nueces Bay – Cost = $39.7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iability analysis with Maintenance out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llow Airline autotransformer mainten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 138 kV line Barney Davis – Laguna and install new 138/69 kV autotransformer at Laguna – Cost = $15.1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llow Koch Upriver autotransformer mainten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nductor Lon Hill-Hearn Road 69 kV line and rebuild/ reconductor Highway 9- Valero East 69 kV line - Cost = $6.6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ion redispatch, including generation from industrial generators, needed during these maintenance perio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mmer Peak Reliability analysis (no Maintenance Outag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4 Summer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grade both Lon Hill 138/69 kV autotransformers – $1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5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iscussion of Op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gestion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4 Economic case from 2009 Five-Year Transmiss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o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960" indent="-369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build Barney Davis-Alazan-Nelson Sharpe 138 kV line such that the Rate B is 717 MVA, bypass the Nelson Sharpe PST, Upgrade Westside-Cabaniss 138 kV line terminal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6320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= $27.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960" indent="-369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 a new Barney Davis-Nelson Sharpe 138 kV line on new ROW, Upgrade Westside-Cabaniss 138 kV line terminal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6320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= $41.6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er consid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on 1 should not require CCN and may be implemented to reduce congestion sooner; output of Barney Davis restricted while line is being rebui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on 2 would require CCN and may take longer to imp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on 1 costs less with superior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tion 1 cho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5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akeholder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keholder review period for this project was held in April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ere dissenting comments on the submitted project but none on this recommended packa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5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Support for the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will be requesting that the projects recommended as part of the Corpus Christi Area Improvements project be endorsed by the ERCOT Boar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5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324160" y="224784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5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6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Dan Woodfin - ERCOT</cp:lastModifiedBy>
  <dcterms:modified xsi:type="dcterms:W3CDTF">2009-10-29T16:36:30Z</dcterms:modified>
  <cp:revision>45</cp:revision>
  <dc:subject/>
  <dc:title>Instructions</dc:title>
</cp:coreProperties>
</file>