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1897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2060-00B5-4B50-BA7B-D4E159310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1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5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3" descr="TRE Logo_rgb_2_medtransp_use for Word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4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457200" y="63244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2438280"/>
            <a:ext cx="639108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Texas RE Board Update to TAC</a:t>
            </a:r>
            <a:br>
              <a:rPr sz="4000"/>
            </a:b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November 5, 2009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6502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87"/>
                </a:solidFill>
                <a:latin typeface="Arial Black"/>
              </a:rPr>
              <a:t>Susan Vinc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87"/>
                </a:solidFill>
                <a:latin typeface="Arial Black"/>
              </a:rPr>
              <a:t>Director, Legal Affai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457200" y="63244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905120"/>
            <a:ext cx="731520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Questions?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5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Texas RE Bylaws Update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ard of Directors approved Bylaws for a legally separate Texas RE at its October 19, 2009 meeting – to allow Texas RE to discuss with membership, NERC and FER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 Membership S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24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ystem Coordination and Planning (RC, BA, PA, RP, I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24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nsmission (TO, TP, TOP, TS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24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operative or River Authority Util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24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nicipal Util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24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neration (GO, GO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24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ad Serving and Marketing (and future Demand-Side function) (LSE, PS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Governance Structure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ybrid Board – 9 Dir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Independent 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RE 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Affiliated (membership) 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 of Member Representatives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 Chair of Member Representatives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CT Chair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 offici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UC Public Counsel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 offici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Committ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iability Standards Committ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 Representatives Committ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non-statutory (Protocol) activ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5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Reliability Standards Committee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040" y="10663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 to current Reliability Standards Committe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representatives from each of the 6 Standards Development Sectors will serve annuall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 Coordination and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operative or River Authority Ut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nicipal Ut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 Serving, Marketing, Demand Response,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ny entity with a direct and material interest in the ERCOT region BPS that is not eligible for membership in any other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5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Reliability Standards Committee – cont.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040" y="10663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, participate in, and manage the Regional Standards Development Process, including proposed new or revisions to Regional Standards and Regional Vari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ordinate the development of Regional Standards and variances with the development of national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, review, and comment 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(national) standards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standards interpretation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5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Member Representatives Committee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 representatives each from the 6 Membership Sectors (except Sectors with &lt; 2 members) will serve annually and will annually select a chair and vice chair to serve as Board memb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dvice and recommendations to the Board, through its chair and vice chair (as directors) regard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budgets and business pl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mechanisms of Texas 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matters relevant to reliability of the ERCOT BPS or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matters pertinent to purpose and operations of Texas RE (except standards develop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create subcommittees or working groups, if needed for specific to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5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Bylaws and Delegation Agreement Timeline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10666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vember 2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8:30 a.m. – Straw Membership Meeting to allow potential members to comment (by sector) on Bylaws, Delegation Agreement, and Business Plan and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 December 1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Pre-filing discussion with FER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 January 1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Any changes to proposed Delegation Agreement posted for comment (date subject to pre-filing meeting with FER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 February 1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NERC Board of Trustees consideration of Delegation Agre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 February 2010 – Formally file Amended Delegation Agreement and Budget with FER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5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Anticipated Formation Timeline 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10666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ly 2010 – locate Independent Dire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2010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as RE Certificate of Formation and IRS non-profit exemption request fil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in membership activities in anticipation of FERC appro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membership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ors may hold elections for RSC and MRC candid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on FERC approval of Delegation Agre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first formal membership meeting to formally approve Bylaws and Independent Dir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5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LSE Registration Update – CFR Approved! 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nsus reached on Load Serving Entity Coordinated Functional Registration (CF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CFR Declaration and Matrix of responsibilities accepted by Texas RE and NERC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t to LSE Working Group on October 2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ive date for CFR is January 1,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ed participants (transmission or distribution providers, QSEs representing LaaR or EILS) may sign up to join at any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 LSE registration begins January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5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Susan Vincent</dc:creator>
  <dc:description/>
  <dc:language>en-US</dc:language>
  <cp:lastModifiedBy>balbracht</cp:lastModifiedBy>
  <dcterms:modified xsi:type="dcterms:W3CDTF">2009-11-04T19:37:58Z</dcterms:modified>
  <cp:revision>113</cp:revision>
  <dc:subject>November 5, 2009 TAC Meeting</dc:subject>
  <dc:title>Board Update to TAC</dc:title>
</cp:coreProperties>
</file>