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5CEB0F-6C87-4C44-8125-FB046943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DE6B4D-26DA-4625-83D6-AACB19CA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0F2465-1E54-4B48-B427-6891C494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B18C9F-0070-4252-BB18-987FC02C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51CF73-0368-4956-9408-71ADA76C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344261-2524-4939-B6E4-8FFA5125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2ED851-3750-4250-AE9D-292501D2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4AFEB2-8CF2-46FC-837B-4A80D1CF0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395DE3-5E81-45D4-9328-6304C111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158953-8768-4DDE-AD6E-E9E4B5C7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EF5C2B-9E2A-4F9B-A316-522993EE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65A085-1AF6-4524-BC78-C3C4716A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8586-89EF-4D6A-B295-08E70004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99A7-620E-41B2-8DCF-2516609A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5FA1-50D0-4269-9B7F-F13FF8B1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281E-4428-465C-95E2-AE31B2F2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AAE5-CF99-4950-9916-B882FCD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C992-A533-4E63-8B77-A91A5E1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87A2-D732-40D9-828D-A2AF62A6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EEEC-E859-4A6F-8BAB-2CA44EE7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7E62-B006-4E0E-A39F-5CE726F4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BFE7-5798-4C4A-BE6E-03D5822E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3274-D25E-4600-9623-88B8605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F294-AF4C-471A-AF70-6FA7BB9F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6527-29DF-4067-BE6A-768B206C9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6878-69D3-4E6D-9609-4CA8E2C403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672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15998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7920" y="4952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438280" y="4419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cal Conges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62320" y="3504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/Isabel Fl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E00D-0D54-4ACE-AF44-1C543E237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in OOME instructions is a result 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in installed wind capacity from an average of 4,614MWs in January 2008 to 8,111MWs by the end of Dec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ages taken to maintain and improve transmis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ton 345kV Sub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llow Jacket Phase Shifting Transformer,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hwood 345/138kV Sub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tto - Salado new 345kV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 Miguel - Lobo 345kV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A134-7F75-4D50-B68C-8523AD3A5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gestion – top 10 YTD through Septemb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685800"/>
          <a:ext cx="8763120" cy="5514840"/>
        </p:xfrm>
        <a:graphic>
          <a:graphicData uri="http://schemas.openxmlformats.org/drawingml/2006/table">
            <a:tbl>
              <a:tblPr/>
              <a:tblGrid>
                <a:gridCol w="2590920"/>
                <a:gridCol w="1828800"/>
                <a:gridCol w="990360"/>
                <a:gridCol w="1524240"/>
                <a:gridCol w="1828800"/>
              </a:tblGrid>
              <a:tr h="29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g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loaded E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.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/Ou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S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 Sh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 Sh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6,056,9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cas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ham SES-Long Creek 345kV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ow Switch-Austrop 345kV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le Pecan Creek - Trading Ho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Angelo Power Station - Menard 138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2,390,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klaunion-Fisher Road Switch 345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High 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 Jacket Phase Shifting Transformer (08TPIT013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S-Menard line improvements (09TPIT02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ham-Long Creek 345kV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le Pecan Creek-Tradinghouse &amp; Temple Switch-Lake Creek 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Angelo Power Station -Shrew T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,795,5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ame as abov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linger - Santa Anna 138k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linger - Humble 69k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8,513,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Switch TU 345/138kV AXFMR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-Abilene South 69kV, rebuild (08TPIT008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ley Im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ley Im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6,299,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k Creek - Ballinger 138KV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linger - San Angelo Red Creek 138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es - Rowena 69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5,621,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High 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manche Switch TU 345/138kV AXFMR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 Jacket Phase Shifting Transformer (08TPIT013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anche Peak SES - DeCordova SES &amp; Wolf Hollow - Rocky Creek 345k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ord 345/138kV Autotransfor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68,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enaska TM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manche Switch TU (CMNSW) 345/138kV AXFMR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mill - DeSoto Switch - Cedar Hill Switch 345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mill - DeSo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39,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b-Venus Swi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Levee-Norwood 345kV line (06TPIT00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ard - Gillespie 138k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ard Au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620,3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High 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den-Yellow Jacket 69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 Jacket Phase Shifting Transformer (08TPIT013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anche Peak SES - DeCordova SES &amp; Wolf Hollow - Rocky Creek 345k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us Switch - Comanche Peak 345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15,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d outage Comanche Peak SES - Parker Switch 345k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er Switch-Everman 345kV line (10TPIT01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477B-7EE5-421C-9368-BEC7B4247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increase in local congestion and Out of Merit Energy (OOME) volume between 2008 and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OME Class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OME Up and OOME Down quantities are calculated relative to the Generator’s Resourc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prices result in Wind OOM Up quantities despite actual curtai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OME Class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in installed wind capacity from an average of 4,614MWs in January 2008 to 8,111MWs by the end of Dec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wind capacity currently at 8,515MWs concentrated with about 8,000 in the West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ag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82C-37E6-44E5-98D2-BD3CDD96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OME &amp; Wind Capacit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80880" y="594360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OME volume shown in MWhs and installed wind capacity in M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3741-3107-4F7F-8817-13958CC3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OME Up: 2008 &amp; 2009 West Wind Extrac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80880" y="594360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OME Up volume shown in MWhs; West zone wind generation extrac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D9E-B18C-4789-8F0F-0B737262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OME Down: 2008 &amp; 2009 West Wind Extrac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0880" y="594360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OME Down volume shown in MWhs with West zone wind deployments extrac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14C5-3036-4A7D-A62F-5DADA2C2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E – North Zo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917E-D4A2-4462-BE4C-C1E63853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E – South Zo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DB4-C89E-473D-9970-49869B6A2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E – Houston Zo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8253-1567-4317-A775-B0C007D92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E – West Zo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 - ERCOT</cp:lastModifiedBy>
  <dcterms:modified xsi:type="dcterms:W3CDTF">2009-11-03T23:44:46Z</dcterms:modified>
  <cp:revision>500</cp:revision>
  <dc:subject/>
  <dc:title>Instructions</dc:title>
</cp:coreProperties>
</file>