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744-0A49-4F70-907D-16AC9F88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0B6-95FF-453A-9D90-F813633C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CAE-2715-4D4C-B483-489E0622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234-2BFF-467F-9B41-BB5FFD22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134-35F5-4C77-8FC6-2DAC7D8F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5F3-8A83-4C7C-BE85-47C5BE49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8B2-72C1-40AC-9296-3E9FFAF6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EB6-1DB6-4E45-955D-C9C8B78B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294-F9F4-4518-B863-5980DA01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767-8ACF-4AED-855B-7E345DE0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63E-EFD3-45CB-9B23-C4F85EB2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2DD-2F88-43AD-A970-4BFA8505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3076-6930-4368-91B2-6FE8E18AB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 (vice-ch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7960" y="312840"/>
            <a:ext cx="86680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7960" y="231840"/>
            <a:ext cx="8668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160" y="17640"/>
            <a:ext cx="922032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7960" y="203040"/>
            <a:ext cx="86680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7960" y="208080"/>
            <a:ext cx="8668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7960" y="60480"/>
            <a:ext cx="866808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6772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7960" y="169920"/>
            <a:ext cx="8668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3760" y="193680"/>
            <a:ext cx="9191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tion Resources Governor 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s with governors presently set with an intentional deadband less than +/-0.017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,107 MW Total Capacity Identified by PDCWG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90 MW Lig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39 MW C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20 MW Combustion Turbine Combined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19 MW Combustion Turbine Simpl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9 MW Steam Turbine – natural gas f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0 MW Hy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DCWG members are still gather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DCWG Meeting October 14,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ugust and September 2009 Frequency Events and evaluate Resource and QSE performance during these ev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nterconnection Primary Frequency Response average performance and Interconnection minimum frequency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OGR to address new definitions of Primary Frequency Response and Gover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3760" y="380880"/>
            <a:ext cx="9191520" cy="6248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990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= 141.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480" y="380880"/>
            <a:ext cx="9029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60" y="455760"/>
            <a:ext cx="90388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0016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24080" y="380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39.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720" y="17524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235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6915240" y="123840"/>
            <a:ext cx="16192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RCOT as a single control area is exempt from CPS2.  These scores are For Informa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1219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144792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3:32Z</dcterms:created>
  <dc:creator>Sydney L. Niemeyer</dc:creator>
  <dc:description/>
  <dc:language>en-US</dc:language>
  <cp:lastModifiedBy>Sydney L. Niemeyer</cp:lastModifiedBy>
  <dcterms:modified xsi:type="dcterms:W3CDTF">2009-10-08T20:10:57Z</dcterms:modified>
  <cp:revision>35</cp:revision>
  <dc:subject/>
  <dc:title>Slide 1</dc:title>
</cp:coreProperties>
</file>