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A2F-7FA7-4677-A7EF-A10B1444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3B9D-FD43-401F-9A90-5A3AC2EF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F01D-872D-42BB-A299-AC7855E2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CDE-008A-4A5A-A462-63AECDF9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5E67-4CFA-42A9-B640-BDD4F108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CAF-697D-49F6-9D9D-C020F89D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9160-F4B4-4EC8-A649-0839B096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DDFD-7CDD-48EB-B82E-11CA4178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C36-6392-4894-8E53-D2E746BA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7B9-8E95-4430-984B-77D6CA9C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580-31A5-4AC5-9697-54971A81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AF8-3484-4429-94D9-1463EC6E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ECC9-8207-4969-AC1D-BA529E2AE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NOMCRhelp@erco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/15/09 – SEM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4120" y="4876920"/>
            <a:ext cx="3504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ody Rick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 ERCOT Network Mod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426708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838080" y="3276000"/>
            <a:ext cx="486000" cy="990360"/>
          </a:xfrm>
          <a:prstGeom prst="downArrow">
            <a:avLst>
              <a:gd name="adj1" fmla="val 50000"/>
              <a:gd name="adj2" fmla="val 509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81952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590920"/>
            <a:ext cx="1371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426708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819520" y="3276000"/>
            <a:ext cx="485640" cy="990360"/>
          </a:xfrm>
          <a:prstGeom prst="downArrow">
            <a:avLst>
              <a:gd name="adj1" fmla="val 50000"/>
              <a:gd name="adj2" fmla="val 509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281952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2590920"/>
            <a:ext cx="1371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2438280"/>
            <a:ext cx="838080" cy="733680"/>
          </a:xfrm>
          <a:custGeom>
            <a:avLst/>
            <a:gdLst>
              <a:gd name="textAreaLeft" fmla="*/ 279360 w 838080"/>
              <a:gd name="textAreaRight" fmla="*/ 717840 w 838080"/>
              <a:gd name="textAreaTop" fmla="*/ 42264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C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133720"/>
            <a:ext cx="1371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3434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248520" y="2438280"/>
            <a:ext cx="485640" cy="1905120"/>
          </a:xfrm>
          <a:prstGeom prst="downArrow">
            <a:avLst>
              <a:gd name="adj1" fmla="val 50000"/>
              <a:gd name="adj2" fmla="val 980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C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327672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3733920"/>
            <a:ext cx="1371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2133720"/>
            <a:ext cx="1371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2438280"/>
            <a:ext cx="485640" cy="838440"/>
          </a:xfrm>
          <a:prstGeom prst="downArrow">
            <a:avLst>
              <a:gd name="adj1" fmla="val 50000"/>
              <a:gd name="adj2" fmla="val 43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77320" y="43434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458200" y="2438280"/>
            <a:ext cx="485640" cy="1905120"/>
          </a:xfrm>
          <a:prstGeom prst="downArrow">
            <a:avLst>
              <a:gd name="adj1" fmla="val 50000"/>
              <a:gd name="adj2" fmla="val 980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C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243828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43800" y="2133720"/>
            <a:ext cx="1371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1295280"/>
            <a:ext cx="0" cy="487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1295280"/>
            <a:ext cx="0" cy="487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1219320"/>
            <a:ext cx="0" cy="487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9880" y="1295280"/>
            <a:ext cx="140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 – June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47120" y="1295280"/>
            <a:ext cx="195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009 –Nodal Go-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1800" y="1295280"/>
            <a:ext cx="17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009 – Sep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66400" y="129528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al Go-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7840" y="57150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99840" y="228600"/>
            <a:ext cx="63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y ERCOT Network Operation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64160" y="15238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723920" y="1676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1676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ner/Operator Diffi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to expedite ownership 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has changed ownership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18 subst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ove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00 pieces of equip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ased on corrections of the zonal model using data provided by the T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al-Zonal conversion has slowed validation eff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-required data in TSP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NM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P Model Change Activity during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305560" cy="3573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843480" y="5562720"/>
            <a:ext cx="739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50,000 data modifications have been made since the start of 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843120" y="6095880"/>
            <a:ext cx="56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4,000,000 data attributes elements in th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SWG Coord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-monthly Webex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off special meetings for outstand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tracking workshe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guide re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odeling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MCRhelp@ercot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immediat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1:54:06Z</dcterms:created>
  <dc:creator>wrickerson</dc:creator>
  <dc:description/>
  <dc:language>en-US</dc:language>
  <cp:lastModifiedBy>wrickerson</cp:lastModifiedBy>
  <dcterms:modified xsi:type="dcterms:W3CDTF">2009-10-15T13:37:26Z</dcterms:modified>
  <cp:revision>15</cp:revision>
  <dc:subject/>
  <dc:title>10/15/09 – SEM Update</dc:title>
</cp:coreProperties>
</file>