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EAB8-0C87-4386-80C2-16A0E78F4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6E37-2BCA-446D-9CB1-00BC7119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0548-54EE-4243-8945-7B80A9F3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62FE-5229-41FC-89FA-61CF41B8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E06-7B88-446C-999F-2247D23E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8EC-C662-4F95-832E-9AF7BA2D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20A-3E7E-4F70-962A-4CF1479B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8B9-1A87-4B5F-B1D3-EF479DA2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2FBC-2935-4B80-9836-3A1A52AB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DCC5-1B3F-49DF-99B9-BD89A15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FB9B-4D4D-40FA-8999-EDEFD390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F048-7635-485C-B369-EC11B709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F507-FE46-4825-97EB-2A5A411C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9648-9772-4C29-809D-30F53D10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71C2-3EB4-4AB1-9C8A-269D76F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423-89AD-425F-A1EB-6CE5EF1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C487-9ADD-46F7-A3CF-75C8194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DE16-8963-42B4-9940-94FCA64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7BF1-5665-4692-BAEC-CD0351B5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85CE-D8DF-4B6F-BD48-71AD96C5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16DC-1ABA-4564-A07D-2649F667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2AB9-F973-44D2-9D71-E5929BFE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40BC-D1E5-42B2-A69E-979C1D9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E4CB-B9D5-42A8-A81A-2A0F2760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DF76-F841-479B-BFB2-867238B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7F29-B132-46AC-B014-DADA89B2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B43-BE82-4616-842B-D3C934EB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016B-7E79-4C46-AB43-4CB70AF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0CC5-DC32-4F91-B0BF-31FEFA5A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718B-7011-4C32-A46A-F23B7B30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297D-2FD8-4094-81A0-8DD0115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C872-D1D9-4A76-98BD-F95C8EE5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C4F9-5CCF-418A-92F8-7CD77A47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41C0-E816-4854-8CFD-D18C993C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8374-EAC6-4ADF-A095-16CD0BC6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6373-CB73-4221-A701-CF99094E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599E-2120-49F9-B0B3-7EC80C87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23A-2BAA-4A82-824D-7186D881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36B18-C882-4847-B7EF-1DA63D23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715E-399A-4514-8DD5-4E4E7DEE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F0E3-B892-4A81-A0DB-1C747ECD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77D1E-97E8-421B-B2B9-1688370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00560-3C41-4A8A-97A4-AE659A9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435A-5676-4FD9-BC80-0553E222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85A5-CE07-42DB-AF2F-0D633E46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2DB1-88D9-4969-B8CF-878BAAD7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825E-1CB9-43B9-8535-CC77DF18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1C5C6-5157-4020-9016-881B1C58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A16-C244-4856-B06F-08D14225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305E-1FD9-40DB-BD0B-A3F5A692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28069-FB20-4FCF-8198-B650B076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B685-1471-43DD-98E3-BFB77496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CD07-C6F9-45EB-852D-29274F26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0B43-A8E8-4570-8C28-D3C29F82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199F-8F9D-4ABE-AE28-702E6AC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CB331-AB75-494B-83BA-6BF59E4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0164B-88D2-4922-A69A-B65CF19D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2F922-D5F1-4624-9BEC-41DE89EA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3617-A339-4B77-8C25-6AAE1EE3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692-F1BC-4197-B8F7-CDB3C733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A870-7C86-4425-976D-62022333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750E-2694-43CC-8DB6-7AA9E660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82AD5-4C2B-4E26-B34F-505F5F33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58DFA-269B-4E68-9F12-E8216BE6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5884C-ED86-43BF-9761-D1141B94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B1C4-D3C0-42BE-B8E1-9B0E40B7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70DE4-8B0A-4ACE-B830-8A8ED69C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288BB-C9D8-484D-80DE-EB1AC52D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84C5-B292-4E9B-87F3-E0B56E21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942CE-27B8-4AC7-A088-1CA4C5A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D26-AEF2-4CA4-B8C5-8FC674F3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8177-C575-43BF-9880-757630A0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4D68C-DEE6-4FC2-93D3-7AF4FB52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98EFE-81C7-44B7-A8E1-BC7A21C0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5952E-17AB-4DF6-A762-24E89F74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C718F-7266-4A4C-8056-75989DBB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F972-E26C-42D8-8DCA-3C191FDA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8F088-7E5A-4F04-8DE1-E3CC8927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E9502-8DBA-421F-901A-EBD8A20B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F8E11-C771-4A83-B9D2-D98B9F99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C6F09-4314-4E0F-914D-742A115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2EC-BF48-4FF5-9C9B-81F67744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910A-B8E2-4C22-9F42-6BD583A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11190-6433-49E9-99C8-A50223D4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DC65-1F32-4225-8F18-04AAD15A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6B0B9-F41C-4A43-8F45-E0AF6789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D043C-DCC6-4E60-AAB3-A4D3376F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743B-6194-4435-82C2-8A997D79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354B-B0D0-44ED-B654-E05053F6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C2F6F-3DB7-4232-9A2E-5D35F552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02D9-D790-4B6A-9ADC-EFC72BE8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924F3-2D67-46A7-A2C6-785F9430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714-21D8-4B43-B3CD-977E6375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43A88-91EC-48F6-AA6C-DE08B88B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0C92E-1CE9-41EA-8237-EAC2020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CBE5A-9993-4A34-87A1-4FD0D146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167E7-4E9B-4E04-B0E6-18B7DDD8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8518-15C3-48F8-8651-8C0B720D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78F3F-A7F1-4CF7-B799-87BB8B03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2565F-FA96-4EC0-9BE6-671B6D44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7169-1FC5-4DC1-BD64-0A6217D19A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305B-F05F-4068-87F6-DA54141EE0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8CA6-77B1-4AB7-9744-4FFCF26F2C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31D-C75F-45A2-9C1F-F210827038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4FDE-27EB-4A41-8136-C479A16990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A456-FC96-40AA-BD09-44D2A90C9C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2D99-41D1-4E6B-90A5-1E93B1F09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025F-9D14-44AF-8A22-15C6A492E1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92160" y="1749600"/>
            <a:ext cx="9016920" cy="1231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October 14, 200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RCOT’s 2010 SLA, including MarkeTrak, was reviewed at this month’s TDTWG meeting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MarkeTrak response time and critical window availability was discussed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TTF leadership determined the 2010 MarkeTrak SLA needed further review from the MarkeTrak taskfor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8600" y="1600200"/>
            <a:ext cx="685800" cy="60948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4267080"/>
            <a:ext cx="762120" cy="60984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next meeting will be held on Thursday, October 29, 2009 at the ERCOT Met Center.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Tahoma"/>
              </a:rPr>
              <a:t>The MT Taskforce is encouraging all Market Participants who utilize the tool to attend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CR756-”Enhancements to the MarkeTrak Application”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s tabled at RMS at this time until the “Parking Deck” is set up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52280" y="1371600"/>
            <a:ext cx="762120" cy="60948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320040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Reliant</cp:lastModifiedBy>
  <dcterms:modified xsi:type="dcterms:W3CDTF">2009-10-13T13:42:38Z</dcterms:modified>
  <cp:revision>488</cp:revision>
  <dc:subject/>
  <dc:title>MarkeTrak Task Force</dc:title>
</cp:coreProperties>
</file>