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Copperplate Gothic Bold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86C0-73BB-4472-A358-DF3F5F735371}" type="slidenum"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1A20-4FFE-4A21-93A4-34C5CB0B8174}" type="slidenum">
              <a:rPr b="0" lang="en-US" sz="1200" spc="-1" strike="noStrike">
                <a:solidFill>
                  <a:srgbClr val="ffffff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B2FC-7A89-4EA7-B86C-A53C5F1929D1}" type="slidenum">
              <a:rPr b="0" lang="en-US" sz="1200" spc="-1" strike="noStrike">
                <a:solidFill>
                  <a:srgbClr val="ffffff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D089-4779-4E33-96A7-3B823C822B68}" type="slidenum">
              <a:rPr b="0" lang="en-US" sz="1200" spc="-1" strike="noStrike">
                <a:solidFill>
                  <a:srgbClr val="ffffff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50D6-D7A0-4FE3-86AF-47855D7E0981}" type="slidenum">
              <a:rPr b="0" lang="en-US" sz="1200" spc="-1" strike="noStrike">
                <a:solidFill>
                  <a:srgbClr val="ffffff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5338-44F2-4DB6-A4D6-9E0093CF39F3}" type="slidenum">
              <a:rPr b="0" lang="en-US" sz="1200" spc="-1" strike="noStrike">
                <a:solidFill>
                  <a:srgbClr val="ffffff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787E-9348-49D8-8AE7-58ABF57E6AA2}" type="slidenum">
              <a:rPr b="0" lang="en-US" sz="1200" spc="-1" strike="noStrike">
                <a:solidFill>
                  <a:srgbClr val="ffffff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B920-A1A7-4815-B423-1DAA81C36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3C47-4204-4C5E-BBD0-F1A7D322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655C-FD9E-4E6F-85BA-1B73404CD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9EA6-08BB-42CE-9680-1BC087061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B242-5A38-4EF8-806D-514B4470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92A4-311B-4852-A586-A40B9915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56AA-5A42-40FC-9328-EC6D311D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F745-D113-4BC1-BFF2-84F4258A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91FF-C4AE-4AD1-8B8A-EBC87DBC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BA14-E83B-46FE-A461-2124BD26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4F13-73BF-41BB-85F6-2BA3E97B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B709-3F2F-48EB-8D3A-AEC3D834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B998-0315-4569-9090-DBA39D7F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7AB9-FE65-4C0D-B4B6-2258DB72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E5C8-C094-4CA5-9C28-08372747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1A6F-A78F-4AD0-A475-F72D8A2F8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AD6A-4681-4E07-AC58-20540B789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81D0-B7E1-441B-892D-6EC9FB59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D97A-C55B-418C-B629-1F275B9B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05F5-06D8-41C2-ABF0-CEAEEC80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0470-A51F-4C54-B006-C59A84B9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70EF-E5C6-43B9-B96B-9337BBB4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09F3-08B1-4C22-B6D0-13DFA460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C47F-DE5A-4A35-8B3D-79B2E897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pperplate Gothic Bold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pperplate Gothic Bold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ffffcc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ffffc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Copperplate Gothic Bold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pperplate Gothic Bol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pperplate Gothic Bol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pperplate Gothic Bol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pperplate Gothic Bold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pperplate Gothic 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8803-FB04-47D5-9AB1-5073442B7073}" type="slidenum">
              <a:rPr b="0" lang="en-US" sz="1000" spc="-1" strike="noStrike">
                <a:solidFill>
                  <a:srgbClr val="ffffff"/>
                </a:solidFill>
                <a:latin typeface="Copperplate Gothic Bol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5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pperplate Gothic Bold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pperplate Gothic Bold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pperplate Gothic Bold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ffffc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Copperplate Gothic Bold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Copperplate Gothic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pperplate Gothic Bol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pperplate Gothic Bol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pperplate Gothic Bol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pperplate Gothic Bold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pperplate Gothic 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CB5B-9E5A-414F-B45D-3D45FA6891BC}" type="slidenum">
              <a:rPr b="0" lang="en-US" sz="1000" spc="-1" strike="noStrike">
                <a:solidFill>
                  <a:srgbClr val="ffffff"/>
                </a:solidFill>
                <a:latin typeface="Copperplate Gothic Bol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82880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65760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48640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-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7432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5720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4008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43000" y="205740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ff6600"/>
                  </a:outerShdw>
                </a:effectLst>
                <a:latin typeface="Copperplate Gothic Bold"/>
              </a:rPr>
              <a:t>TAC   UPDATE</a:t>
            </a:r>
            <a:endParaRPr b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ff6600"/>
                </a:outerShdw>
              </a:effectLst>
              <a:latin typeface="Copperplate Gothic Bold"/>
              <a:ea typeface="Copperplate Gothic Bol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43000" y="3429000"/>
            <a:ext cx="3505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6600"/>
                  </a:outerShdw>
                </a:effectLst>
                <a:latin typeface="Copperplate Gothic Bold"/>
              </a:rPr>
              <a:t>October 2009</a:t>
            </a:r>
            <a:endParaRPr b="1" lang="en-US" sz="3200" spc="1" strike="noStrike">
              <a:ln w="936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6600"/>
                </a:outerShdw>
              </a:effectLst>
              <a:latin typeface="Copperplate Gothic Bold"/>
              <a:ea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82880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65760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48640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-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7432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5720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4008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914400" y="19810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Copperplate Gothic Bold"/>
              </a:rPr>
              <a:t>PRS</a:t>
            </a: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Revision Request (PRR) (Vote): </a:t>
            </a: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  <a:p>
            <a:pPr lvl="2" marL="1143000" indent="-22860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pperplate Gothic Bold"/>
              </a:rPr>
              <a:t>PRR811, Real Time Production Potential : </a:t>
            </a:r>
            <a:r>
              <a:rPr b="0" lang="en-US" sz="1600" spc="-1" strike="noStrike">
                <a:solidFill>
                  <a:srgbClr val="ff9933"/>
                </a:solidFill>
                <a:latin typeface="Copperplate Gothic Bold"/>
              </a:rPr>
              <a:t>No Impacts, Approved</a:t>
            </a:r>
            <a:endParaRPr b="0" lang="en-US" sz="1600" spc="-1" strike="noStrike">
              <a:solidFill>
                <a:srgbClr val="ffffff"/>
              </a:solidFill>
              <a:latin typeface="Copperplate Gothic Bold"/>
            </a:endParaRPr>
          </a:p>
          <a:p>
            <a:pPr lvl="2" marL="1143000" indent="-22860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pperplate Gothic Bold"/>
              </a:rPr>
              <a:t>PRR822, Removing Access to Restricted Computer Systems, Control Systems, and Facilities – URGENT : </a:t>
            </a:r>
            <a:r>
              <a:rPr b="0" lang="en-US" sz="1600" spc="-1" strike="noStrike">
                <a:solidFill>
                  <a:srgbClr val="ff9933"/>
                </a:solidFill>
                <a:latin typeface="Copperplate Gothic Bold"/>
              </a:rPr>
              <a:t>Approved, effective date of Jan 1, 2010</a:t>
            </a:r>
            <a:endParaRPr b="0" lang="en-US" sz="1600" spc="-1" strike="noStrike">
              <a:solidFill>
                <a:srgbClr val="ffffff"/>
              </a:solidFill>
              <a:latin typeface="Copperplate Gothic Bold"/>
            </a:endParaRPr>
          </a:p>
          <a:p>
            <a:pPr lvl="2" marL="1143000" indent="-22860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pperplate Gothic Bold"/>
              </a:rPr>
              <a:t>PRR823, Clarifying Language for Resource 12-Month Rolling Planned Outage Schedule : </a:t>
            </a:r>
            <a:r>
              <a:rPr b="0" lang="en-US" sz="1600" spc="-1" strike="noStrike">
                <a:solidFill>
                  <a:srgbClr val="ff9933"/>
                </a:solidFill>
                <a:latin typeface="Copperplate Gothic Bold"/>
              </a:rPr>
              <a:t>No Impacts, Approved</a:t>
            </a:r>
            <a:endParaRPr b="0" lang="en-US" sz="1600" spc="-1" strike="noStrike">
              <a:solidFill>
                <a:srgbClr val="ffffff"/>
              </a:solidFill>
              <a:latin typeface="Copperplate Gothic Bold"/>
            </a:endParaRPr>
          </a:p>
          <a:p>
            <a:pPr lvl="2" marL="1143000" indent="-22860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pperplate Gothic Bold"/>
              </a:rPr>
              <a:t>PRR829, Total Transmission Capacity Correction - URGENT: </a:t>
            </a:r>
            <a:r>
              <a:rPr b="0" lang="en-US" sz="1600" spc="-1" strike="noStrike">
                <a:solidFill>
                  <a:srgbClr val="ff9933"/>
                </a:solidFill>
                <a:latin typeface="Copperplate Gothic Bold"/>
              </a:rPr>
              <a:t>No Impacts, Approved</a:t>
            </a:r>
            <a:endParaRPr b="0" lang="en-US" sz="1600" spc="-1" strike="noStrike">
              <a:solidFill>
                <a:srgbClr val="ffffff"/>
              </a:solidFill>
              <a:latin typeface="Copperplate Gothic Bold"/>
            </a:endParaRPr>
          </a:p>
          <a:p>
            <a:pPr lvl="2" marL="1143000" indent="-22860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pperplate Gothic Bold"/>
              </a:rPr>
              <a:t>PRR831, Annual Transmission Congestion Rights (TCR) Auction Amount – URGENT : </a:t>
            </a:r>
            <a:r>
              <a:rPr b="0" lang="en-US" sz="1600" spc="-1" strike="noStrike">
                <a:solidFill>
                  <a:srgbClr val="ff9933"/>
                </a:solidFill>
                <a:latin typeface="Copperplate Gothic Bold"/>
              </a:rPr>
              <a:t>No Impacts, Approved</a:t>
            </a:r>
            <a:endParaRPr b="0" lang="en-US" sz="1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66680" y="45720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ff6600"/>
                  </a:outerShdw>
                </a:effectLst>
                <a:latin typeface="Copperplate Gothic Bold"/>
              </a:rPr>
              <a:t>Voting Items</a:t>
            </a:r>
            <a:endParaRPr b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ff6600"/>
                </a:outerShdw>
              </a:effectLst>
              <a:latin typeface="Copperplate Gothic Bold"/>
              <a:ea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82880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65760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48640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-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7432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5720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4008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914400" y="19810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Copperplate Gothic Bold"/>
              </a:rPr>
              <a:t>PRS</a:t>
            </a: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Nodal Protocol Revision Request (NPRR) (Vote): </a:t>
            </a: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  <a:p>
            <a:pPr lvl="2" marL="1143000" indent="-22860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pperplate Gothic Bold"/>
              </a:rPr>
              <a:t>NPRR189, Ancillary Service Deployment Clarification:  </a:t>
            </a:r>
            <a:r>
              <a:rPr b="0" lang="en-US" sz="1600" spc="-1" strike="noStrike">
                <a:solidFill>
                  <a:srgbClr val="ff9933"/>
                </a:solidFill>
                <a:latin typeface="Copperplate Gothic Bold"/>
              </a:rPr>
              <a:t>Minimal Impact, Approved  </a:t>
            </a:r>
            <a:endParaRPr b="0" lang="en-US" sz="1600" spc="-1" strike="noStrike">
              <a:solidFill>
                <a:srgbClr val="ffffff"/>
              </a:solidFill>
              <a:latin typeface="Copperplate Gothic Bold"/>
            </a:endParaRPr>
          </a:p>
          <a:p>
            <a:pPr lvl="2" marL="1143000" indent="-22860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pperplate Gothic Bold"/>
              </a:rPr>
              <a:t>NPRR191, Synchronization of PRR819, Changes to Support Revisions to the PUCT POLR and Expedited Switch Rules : </a:t>
            </a:r>
            <a:r>
              <a:rPr b="0" lang="en-US" sz="1600" spc="-1" strike="noStrike">
                <a:solidFill>
                  <a:srgbClr val="ff9933"/>
                </a:solidFill>
                <a:latin typeface="Copperplate Gothic Bold"/>
              </a:rPr>
              <a:t>No Impacts, Approved</a:t>
            </a:r>
            <a:endParaRPr b="0" lang="en-US" sz="1600" spc="-1" strike="noStrike">
              <a:solidFill>
                <a:srgbClr val="ffffff"/>
              </a:solidFill>
              <a:latin typeface="Copperplate Gothic Bold"/>
            </a:endParaRPr>
          </a:p>
          <a:p>
            <a:pPr lvl="2" marL="1143000" indent="-22860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pperplate Gothic Bold"/>
              </a:rPr>
              <a:t>NPRR193, Application of Nodal Implementation Surcharge in Verifiable Costs : </a:t>
            </a:r>
            <a:r>
              <a:rPr b="0" lang="en-US" sz="1600" spc="-1" strike="noStrike">
                <a:solidFill>
                  <a:srgbClr val="ff9933"/>
                </a:solidFill>
                <a:latin typeface="Copperplate Gothic Bold"/>
              </a:rPr>
              <a:t>No Impacts, Approved</a:t>
            </a:r>
            <a:endParaRPr b="0" lang="en-US" sz="1600" spc="-1" strike="noStrike">
              <a:solidFill>
                <a:srgbClr val="ffffff"/>
              </a:solidFill>
              <a:latin typeface="Copperplate Gothic Bold"/>
            </a:endParaRPr>
          </a:p>
          <a:p>
            <a:pPr lvl="2" marL="1143000" indent="-22860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pperplate Gothic Bold"/>
              </a:rPr>
              <a:t>NPRR195, Removal of McCamey Congestion Management from Nodal Protocols: </a:t>
            </a:r>
            <a:r>
              <a:rPr b="0" lang="en-US" sz="1600" spc="-1" strike="noStrike">
                <a:solidFill>
                  <a:srgbClr val="ff9933"/>
                </a:solidFill>
                <a:latin typeface="Copperplate Gothic Bold"/>
              </a:rPr>
              <a:t>No Impacts, Approved</a:t>
            </a:r>
            <a:endParaRPr b="0" lang="en-US" sz="1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6680" y="45720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ff6600"/>
                  </a:outerShdw>
                </a:effectLst>
                <a:latin typeface="Copperplate Gothic Bold"/>
              </a:rPr>
              <a:t>Voting Items</a:t>
            </a:r>
            <a:endParaRPr b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ff6600"/>
                </a:outerShdw>
              </a:effectLst>
              <a:latin typeface="Copperplate Gothic Bold"/>
              <a:ea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82880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65760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548640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-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7432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5720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4008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914400" y="19810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Unfunded Projects List Quarterly Update</a:t>
            </a:r>
            <a:r>
              <a:rPr b="0" lang="en-US" sz="1800" spc="-1" strike="noStrike">
                <a:solidFill>
                  <a:srgbClr val="ff9933"/>
                </a:solidFill>
                <a:latin typeface="Copperplate Gothic Bol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Copperplate Gothic Bold"/>
              </a:rPr>
              <a:t>No Unfunded projects</a:t>
            </a:r>
            <a:endParaRPr b="0" lang="en-US" sz="1600" spc="-1" strike="noStrike">
              <a:solidFill>
                <a:srgbClr val="ffffff"/>
              </a:solidFill>
              <a:latin typeface="Copperplate Gothic Bol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66680" y="45720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ff6600"/>
                  </a:outerShdw>
                </a:effectLst>
                <a:latin typeface="Copperplate Gothic Bold"/>
              </a:rPr>
              <a:t>Voting Items</a:t>
            </a:r>
            <a:endParaRPr b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ff6600"/>
                </a:outerShdw>
              </a:effectLst>
              <a:latin typeface="Copperplate Gothic Bold"/>
              <a:ea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82880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65760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548640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-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7432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5720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4008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914400" y="19810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Copperplate Gothic Bold"/>
              </a:rPr>
              <a:t>Revision Requests Tabled at TAC:</a:t>
            </a: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NPRR174, FIP Modifications in Verifiable Startup and Minimum Energy Cost and Recovery of Exceptional Fuel Costs During RUC Intervals (Vote): </a:t>
            </a:r>
            <a:r>
              <a:rPr b="0" lang="en-US" sz="1800" spc="-1" strike="noStrike">
                <a:solidFill>
                  <a:srgbClr val="ff9933"/>
                </a:solidFill>
                <a:latin typeface="Copperplate Gothic Bold"/>
              </a:rPr>
              <a:t>Two Votes, first to reject failed, second to accept was approved</a:t>
            </a: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Copperplate Gothic Bold"/>
              </a:rPr>
              <a:t>Wholesale Market Subcommittee Report*</a:t>
            </a: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2010 Closely Related Element Recommendation (Vote): </a:t>
            </a:r>
            <a:r>
              <a:rPr b="0" lang="en-US" sz="1800" spc="-1" strike="noStrike">
                <a:solidFill>
                  <a:srgbClr val="ff9933"/>
                </a:solidFill>
                <a:latin typeface="Copperplate Gothic Bold"/>
              </a:rPr>
              <a:t>Motion to approve 25 CREs as recommended by WMS</a:t>
            </a: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66680" y="45720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ff6600"/>
                  </a:outerShdw>
                </a:effectLst>
                <a:latin typeface="Copperplate Gothic Bold"/>
              </a:rPr>
              <a:t>Voting Items</a:t>
            </a:r>
            <a:endParaRPr b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ff6600"/>
                </a:outerShdw>
              </a:effectLst>
              <a:latin typeface="Copperplate Gothic Bold"/>
              <a:ea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82880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65760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5486400"/>
            <a:ext cx="838080" cy="1828800"/>
          </a:xfrm>
          <a:prstGeom prst="flowChartDecision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-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7432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5720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64008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14400" y="19810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Copperplate Gothic Bold"/>
              </a:rPr>
              <a:t>Reliability and Operations Subcommittee Report *</a:t>
            </a: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pperplate Gothic Bold"/>
              </a:rPr>
              <a:t>OGRR225, Quick Start Units Qualification Ramp Period (Vote) : </a:t>
            </a:r>
            <a:r>
              <a:rPr b="0" lang="en-US" sz="1600" spc="-1" strike="noStrike">
                <a:solidFill>
                  <a:srgbClr val="ff9933"/>
                </a:solidFill>
                <a:latin typeface="Copperplate Gothic Bold"/>
              </a:rPr>
              <a:t>Approved as revised</a:t>
            </a:r>
            <a:endParaRPr b="0" lang="en-US" sz="1600" spc="-1" strike="noStrike">
              <a:solidFill>
                <a:srgbClr val="ffffff"/>
              </a:solidFill>
              <a:latin typeface="Copperplate Gothic Bol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pperplate Gothic Bold"/>
              </a:rPr>
              <a:t>OGRR235, Total Transmission Capacity Correction - URGENT (Vote) : </a:t>
            </a:r>
            <a:r>
              <a:rPr b="0" lang="en-US" sz="1600" spc="-1" strike="noStrike">
                <a:solidFill>
                  <a:srgbClr val="ff9933"/>
                </a:solidFill>
                <a:latin typeface="Copperplate Gothic Bold"/>
              </a:rPr>
              <a:t>Approved</a:t>
            </a:r>
            <a:endParaRPr b="0" lang="en-US" sz="1600" spc="-1" strike="noStrike">
              <a:solidFill>
                <a:srgbClr val="ffffff"/>
              </a:solidFill>
              <a:latin typeface="Copperplate Gothic Bol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pperplate Gothic Bold"/>
              </a:rPr>
              <a:t>NOGRR030, Synchronization - Total Transmission Capacity Correction - URGENT (Vote) : </a:t>
            </a:r>
            <a:r>
              <a:rPr b="0" lang="en-US" sz="1600" spc="-1" strike="noStrike">
                <a:solidFill>
                  <a:srgbClr val="ff9933"/>
                </a:solidFill>
                <a:latin typeface="Copperplate Gothic Bold"/>
              </a:rPr>
              <a:t>Approved</a:t>
            </a:r>
            <a:endParaRPr b="0" lang="en-US" sz="1600" spc="-1" strike="noStrike">
              <a:solidFill>
                <a:srgbClr val="ffffff"/>
              </a:solidFill>
              <a:latin typeface="Copperplate Gothic Bol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Copperplate Gothic Bold"/>
              </a:rPr>
              <a:t>Retail Market Subcommittee Report*</a:t>
            </a: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pperplate Gothic Bold"/>
              </a:rPr>
              <a:t>RMGRR080, Define E-mail Address Format for the Detail Record in the Customer Billing Contact Information File - URGENT (Vote) : </a:t>
            </a:r>
            <a:r>
              <a:rPr b="0" lang="en-US" sz="1600" spc="-1" strike="noStrike">
                <a:solidFill>
                  <a:srgbClr val="ff9933"/>
                </a:solidFill>
                <a:latin typeface="Copperplate Gothic Bold"/>
              </a:rPr>
              <a:t>Approved</a:t>
            </a:r>
            <a:endParaRPr b="0" lang="en-US" sz="1600" spc="-1" strike="noStrike">
              <a:solidFill>
                <a:srgbClr val="ffffff"/>
              </a:solidFill>
              <a:latin typeface="Copperplate Gothic Bol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pperplate Gothic Bold"/>
              </a:rPr>
              <a:t>CMGRR010, Synchronization of Competitive Metering Guide with PRR804, Revisions to Section 21 Appeal Process (Vote) : </a:t>
            </a:r>
            <a:r>
              <a:rPr b="0" lang="en-US" sz="1600" spc="-1" strike="noStrike">
                <a:solidFill>
                  <a:srgbClr val="ff9933"/>
                </a:solidFill>
                <a:latin typeface="Copperplate Gothic Bold"/>
              </a:rPr>
              <a:t>Approved</a:t>
            </a:r>
            <a:endParaRPr b="0" lang="en-US" sz="1600" spc="-1" strike="noStrike">
              <a:solidFill>
                <a:srgbClr val="ffffff"/>
              </a:solidFill>
              <a:latin typeface="Copperplate Gothic Bol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Copperplate Gothic Bold"/>
              </a:rPr>
              <a:t>Question to RMS about outage the previous week, ERCOT addressed questions.</a:t>
            </a:r>
            <a:endParaRPr b="0" lang="en-US" sz="1600" spc="-1" strike="noStrike">
              <a:solidFill>
                <a:srgbClr val="ffffff"/>
              </a:solidFill>
              <a:latin typeface="Copperplate Gothic Bol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Copperplate Gothic Bold"/>
              </a:rPr>
              <a:t>Commercial Operations Subcommittee Report*</a:t>
            </a: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pperplate Gothic Bold"/>
              </a:rPr>
              <a:t>COPMGRR012, Creating Section 11, Disputes and Data Extract Variances (Vote) : </a:t>
            </a:r>
            <a:r>
              <a:rPr b="0" lang="en-US" sz="1600" spc="-1" strike="noStrike">
                <a:solidFill>
                  <a:srgbClr val="ff9933"/>
                </a:solidFill>
                <a:latin typeface="Copperplate Gothic Bold"/>
              </a:rPr>
              <a:t>Approved</a:t>
            </a:r>
            <a:endParaRPr b="0" lang="en-US" sz="1600" spc="-1" strike="noStrike">
              <a:solidFill>
                <a:srgbClr val="ffffff"/>
              </a:solidFill>
              <a:latin typeface="Copperplate Gothic Bol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pperplate Gothic Bold"/>
              </a:rPr>
              <a:t>LPGRR034, Profile Model Spreadsheets - Calendar Extension and Delete Unused Models  (Vote): </a:t>
            </a:r>
            <a:r>
              <a:rPr b="0" lang="en-US" sz="1600" spc="-1" strike="noStrike">
                <a:solidFill>
                  <a:srgbClr val="ff9933"/>
                </a:solidFill>
                <a:latin typeface="Copperplate Gothic Bold"/>
              </a:rPr>
              <a:t>Approved </a:t>
            </a:r>
            <a:endParaRPr b="0" lang="en-US" sz="1600" spc="-1" strike="noStrike">
              <a:solidFill>
                <a:srgbClr val="ffffff"/>
              </a:solidFill>
              <a:latin typeface="Copperplate Gothic Bol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066680" y="45720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ff6600"/>
                  </a:outerShdw>
                </a:effectLst>
                <a:latin typeface="Copperplate Gothic Bold"/>
              </a:rPr>
              <a:t>Voting Items</a:t>
            </a:r>
            <a:endParaRPr b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ff6600"/>
                </a:outerShdw>
              </a:effectLst>
              <a:latin typeface="Copperplate Gothic Bold"/>
              <a:ea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6:19:53Z</dcterms:created>
  <dc:creator>Windows XP ver. 2.2</dc:creator>
  <dc:description/>
  <dc:language>en-US</dc:language>
  <cp:lastModifiedBy>kpatrick</cp:lastModifiedBy>
  <dcterms:modified xsi:type="dcterms:W3CDTF">2009-10-12T17:36:55Z</dcterms:modified>
  <cp:revision>22</cp:revision>
  <dc:subject/>
  <dc:title>R.M.S UPDATE</dc:title>
</cp:coreProperties>
</file>