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B27007A-5AE4-4431-A6AD-6659F2BAA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57E93F3-3105-41D9-BE2C-CD69FD27A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6640" y="696960"/>
            <a:ext cx="4647960" cy="3486240"/>
          </a:xfrm>
          <a:prstGeom prst="rect">
            <a:avLst/>
          </a:prstGeom>
          <a:ln w="0">
            <a:noFill/>
          </a:ln>
        </p:spPr>
      </p:sp>
      <p:sp>
        <p:nvSpPr>
          <p:cNvPr id="13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7B43DB1-4572-4765-BA2E-D99F7180F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06640" y="696960"/>
            <a:ext cx="4647960" cy="3486240"/>
          </a:xfrm>
          <a:prstGeom prst="rect">
            <a:avLst/>
          </a:prstGeom>
          <a:ln w="0">
            <a:noFill/>
          </a:ln>
        </p:spPr>
      </p:sp>
      <p:sp>
        <p:nvSpPr>
          <p:cNvPr id="13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65F370C-9B9C-4391-AEE2-674CFDA2E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6640" y="696960"/>
            <a:ext cx="4647960" cy="3486240"/>
          </a:xfrm>
          <a:prstGeom prst="rect">
            <a:avLst/>
          </a:prstGeom>
          <a:ln w="0">
            <a:noFill/>
          </a:ln>
        </p:spPr>
      </p:sp>
      <p:sp>
        <p:nvSpPr>
          <p:cNvPr id="14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66D603-0751-4860-AAA3-91E6FF5D7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06640" y="696960"/>
            <a:ext cx="4647960" cy="3486240"/>
          </a:xfrm>
          <a:prstGeom prst="rect">
            <a:avLst/>
          </a:prstGeom>
          <a:ln w="0">
            <a:noFill/>
          </a:ln>
        </p:spPr>
      </p:sp>
      <p:sp>
        <p:nvSpPr>
          <p:cNvPr id="14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D1FB9BB-D8E3-41A1-B288-23B12657A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06640" y="696960"/>
            <a:ext cx="4647960" cy="3486240"/>
          </a:xfrm>
          <a:prstGeom prst="rect">
            <a:avLst/>
          </a:prstGeom>
          <a:ln w="0">
            <a:noFill/>
          </a:ln>
        </p:spPr>
      </p:sp>
      <p:sp>
        <p:nvSpPr>
          <p:cNvPr id="14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87EEFA4-7539-4673-AC4B-9A07F5546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06640" y="696960"/>
            <a:ext cx="4647960" cy="3486240"/>
          </a:xfrm>
          <a:prstGeom prst="rect">
            <a:avLst/>
          </a:prstGeom>
          <a:ln w="0">
            <a:noFill/>
          </a:ln>
        </p:spPr>
      </p:sp>
      <p:sp>
        <p:nvSpPr>
          <p:cNvPr id="15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F3A10C-CF93-47A0-B3F5-EF5AA45AB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06640" y="696960"/>
            <a:ext cx="4647960" cy="3486240"/>
          </a:xfrm>
          <a:prstGeom prst="rect">
            <a:avLst/>
          </a:prstGeom>
          <a:ln w="0">
            <a:noFill/>
          </a:ln>
        </p:spPr>
      </p:sp>
      <p:sp>
        <p:nvSpPr>
          <p:cNvPr id="15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B3EE00C-4157-4CA0-881E-90779CD57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06640" y="696960"/>
            <a:ext cx="4647960" cy="3486240"/>
          </a:xfrm>
          <a:prstGeom prst="rect">
            <a:avLst/>
          </a:prstGeom>
          <a:ln w="0">
            <a:noFill/>
          </a:ln>
        </p:spPr>
      </p:sp>
      <p:sp>
        <p:nvSpPr>
          <p:cNvPr id="15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430FB-34AC-4862-A06C-7224BC190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4C57B-7081-451E-9716-64F0605C3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DD6EA-091D-409F-964E-AB573CD99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B9A27-3C61-4AE4-8AFE-D0977CA5E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C9018-712B-4E8F-B1B5-1FC57A5BD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14A45-6ACD-483A-BC90-6B82F1616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46F05-87C3-491A-9D3C-5A9E6E11A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367BD-E07C-4DF8-8C64-C21E410D9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A2FDF-C8C7-4765-A023-D196595CB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31474-BB89-46EB-BBAE-B91D0CD6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28992-8B3C-4FAC-A20A-82312D65C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25705-C0F0-4D53-9F1E-FEC947A70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C993-1FC3-417B-9003-D65FCA70C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F4FC-7752-4695-81A3-30114F4EC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EE3F-7629-4D8D-8264-C112011EE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3"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5"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7"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F470-C0E1-4646-838B-D8CF06958F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1"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7" descr=""/>
          <p:cNvPicPr/>
          <p:nvPr/>
        </p:nvPicPr>
        <p:blipFill>
          <a:blip r:embed="rId1"/>
          <a:stretch/>
        </p:blipFill>
        <p:spPr>
          <a:xfrm>
            <a:off x="182520" y="1432080"/>
            <a:ext cx="8809200" cy="46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0AC3-8342-47F2-9C0E-2D5B62C48D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BBFC-DD55-4EF7-BCD2-838854B1A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5"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6"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73B0-E1CB-4A10-85B7-5E76195163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09"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100080" y="1569960"/>
            <a:ext cx="896760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32D3-FFB8-4DA7-8759-347DD83C8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8"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19"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73FA-ECBA-4121-AEB6-667AE7AA3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2"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6" descr=""/>
          <p:cNvPicPr/>
          <p:nvPr/>
        </p:nvPicPr>
        <p:blipFill>
          <a:blip r:embed="rId1"/>
          <a:stretch/>
        </p:blipFill>
        <p:spPr>
          <a:xfrm>
            <a:off x="142920" y="164160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32CD-A5EB-436F-90E3-CA340D4D4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2"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1A8C-98B2-4466-8D3C-854573812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9DA5-FF2E-4DDA-9C65-55B5E4E19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8E44-D2F9-4103-9520-2CC84B75C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6" descr=""/>
          <p:cNvPicPr/>
          <p:nvPr/>
        </p:nvPicPr>
        <p:blipFill>
          <a:blip r:embed="rId1"/>
          <a:stretch/>
        </p:blipFill>
        <p:spPr>
          <a:xfrm>
            <a:off x="152280" y="1789200"/>
            <a:ext cx="878364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F683-4F23-43C0-870D-6B267F7C5E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B858-914F-4DA1-B4EF-12C68AE99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35080" y="3657600"/>
            <a:ext cx="86803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CC68-3A60-48A6-BE83-FD5BFC8E0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2" name="Picture 13" descr=""/>
          <p:cNvPicPr/>
          <p:nvPr/>
        </p:nvPicPr>
        <p:blipFill>
          <a:blip r:embed="rId1"/>
          <a:stretch/>
        </p:blipFill>
        <p:spPr>
          <a:xfrm>
            <a:off x="433440" y="1585800"/>
            <a:ext cx="8253360" cy="448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F9DE-686D-4EC6-AC09-1AB425A8C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5"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1E5E-FA49-43E7-A5A3-60C39D5B0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8"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
          <p:cNvPicPr/>
          <p:nvPr/>
        </p:nvPicPr>
        <p:blipFill>
          <a:blip r:embed="rId1"/>
          <a:stretch/>
        </p:blipFill>
        <p:spPr>
          <a:xfrm>
            <a:off x="158760" y="1539720"/>
            <a:ext cx="8832960" cy="448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10-08T18:33:38Z</dcterms:modified>
  <cp:revision>863</cp:revision>
  <dc:subject/>
  <dc:title>PowerPoint Presentation</dc:title>
</cp:coreProperties>
</file>