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B8A-9128-43A4-B0A1-F16B21D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D1F-0E0D-4E73-A095-CCBE195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061-A3D6-4727-8CAF-D30ACA51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D60-B637-46B4-B4CF-2D4B22F5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491-E355-4F03-9D2E-51BBF38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4F9-C379-40E7-B190-923419C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C53-0CAB-4941-A238-D2762CE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08D-B446-49C3-993A-436164F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9EB-FAE6-4E68-BD25-70922AA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E48-1805-4826-B6F4-82FAC91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AC5-B472-4448-8861-2E95D8F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D24-2D35-4795-9E3A-48D1F579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D221-B0E9-4F54-BA25-E3F31FB7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2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/14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38560" y="1863720"/>
            <a:ext cx="4671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scussed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rocess fo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hanging IDR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1614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2919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MWG met on (09/18/09) and reviewed  our progress report to RMS (09/09/09) to remind the group of the history of the discussion on this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ur main goal was to create a Protocol revision recommendation for changing IDR meters to advanced meters (AMS) and provide to PWG for their review and feedback prior to the RMWG making any final recommendations to 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460520"/>
            <a:ext cx="8686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made recommendations and provided proposed PRR language to the PWG for the following 5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enario 1 - ESI IDs above the mandatory threshold that have an IDR meter install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eave as an IDR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enario 2 – New ESI IDs with an estimated load above 700 k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nstall an IDR me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460520"/>
            <a:ext cx="8686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made recommendations and provided proposed PRR language to the PWG for the following 5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enario 3 - ESI IDs currently below the mandatory threshold with an advanced meter where the demand moves above the threshol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o be treated in the market as an IDR meter for Profile Type and meter data submittal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buClr>
                <a:srgbClr val="0000ff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DSP choice on whether to actually replace the advanced meter with an IDR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78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371600"/>
            <a:ext cx="86868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made recommendations and provided proposed PRR language to the PWG for the following 5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enario 4 - ESI IDs currently above the threshold with an IDR meter where the demand moves below the threshol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ustomer/REP choice to change to an advanced mete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342720"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demand is below the threshold for 12 consecutive month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342720"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customer has not requested the installation of an IDR meter in the last 1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460520"/>
            <a:ext cx="868680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made recommendations and provided proposed PRR language to the PWG for the following 5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enario 5 - ESI IDs currently below the threshold with an IDR met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ustomer/REP choice to change to an advanced meter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342720"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demand is below the threshold for 12 consecutive month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342720"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the customer has not requested the installation of an IDR meter in the last 1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600200"/>
            <a:ext cx="861048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RMWG Recommendation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ESI IDs above the threshold require an IDR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ESI IDs below the threshold with an IDR Meter have an option for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n IDR Meter is required to have a Profile Type of “BUSIDRRQ” and for the IDR data to be submitted to ERCOT in an 867_03 trans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reated and sent proposed PRR language to the PWG for their review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WG provided feedback (one minor re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MWG to meet to discuss and create Protocol and RMG language to finalize policy and operational recommendations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9-09-30T19:17:37Z</dcterms:modified>
  <cp:revision>204</cp:revision>
  <dc:subject/>
  <dc:title>Slide 1</dc:title>
</cp:coreProperties>
</file>