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D90F-8C81-4398-B925-2A24A5D1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D8A8-A5D3-4944-8584-0499D688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B0AE-0C44-4F4B-896D-FEAFF788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19A9-A322-40A4-A686-3FD5B18B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A92F-A31E-4709-A945-6026E6D0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1EE0-A600-40F4-84DB-C8F43AD9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37BE-4106-49BE-8B2D-618A72D6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5079-56B2-4B9A-9294-B0F68F97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117F-32FE-4DAB-A2B2-6A3F85DE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D724-7FE4-4D9A-8FB6-A62FFC45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0D78-ED4C-488C-80A9-DEC25980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D98-5134-49B6-8DAC-E7FD4BBB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BE10-8E96-4A84-9DFE-FD90EAAF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516D-4075-453B-8ADD-720014D6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4610-CB2D-402E-94B9-01E9819E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A066-6BE7-4589-885D-DF67EF3B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C517-3763-4CEA-BFBF-3C9B0679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39C-4D84-467D-8444-223B1D82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E03-EAC1-49E9-B2BE-3FDE76CD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77C8-BA72-4033-901C-B701E9F7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E7D-B365-4A9D-80CB-5B7375AC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C8D4-3C51-42C2-A2C3-7CC22C4D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1B2-D5B3-4F26-8FDA-5F3F2B0F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F5F7-65CD-42D9-926E-6176C2FC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D0F9-4671-4C0E-B6A3-172FBE0FDA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87A0-CF34-4ED6-8C32-103E469F87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914400"/>
            <a:ext cx="784836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ub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Update to RM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October 14, 200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Oct 13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CCW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MGRR015, Section 8, ERCOT Settlement and Invoic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MGRR016, Update to Section 12, Renewable Energy Credits, align with PRR8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th are currently in 20 day comment peri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.com Satisfaction Survey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9 Users Participated in Survey, 57%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rovements that can be implemented n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oogle search applianc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vanced search fea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Cal feature added by end of ye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SS feeds by end of ye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design of meeting calendar layo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improvements will be implemented by SCR755 which is tabled at C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Oct 13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PGRR035, Addition of Time Of Use Schedules (TOUS) to Profiles with Interval Data Recorder (IDR) Meter Data Type Codes for Advanced 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150 day notice required after BOD appro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Recommended approval to TA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OPS 10/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AC 11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BOD 11/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150 notice ends around 4/17/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ng if AV 2010 is needed due to 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Ed Echols is new V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Oct 13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W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2680" y="1752480"/>
            <a:ext cx="8955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Oct 13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 and Extract issues continue to decline, issues with completeness or erroneous data in extracts have not appeared in som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Investigating combining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ail and Wholesale SLAs for reports/ex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Oct 13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I DRG T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 work to move threshold for the DG data submission requirement to 1MW and apply this to all DG, not just D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ing various language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, NPRR, RMG section 7.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ng reporting requir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Meeting - October 1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fter 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Oct 13</a:t>
            </a:r>
            <a:r>
              <a:rPr b="0" lang="en-US" sz="38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dal RTM Settlement Time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al settlement schedule will advance the capture of generation and load data for use in settlements by 1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tion: Operating Day +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: Operating Day +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Why the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number of Operating Days to be processed in the settlement system on a daily basis and to be verified by business on business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to minimize the risk of a back-out / rerun on all other settlement jo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to reduce risk of posting statements and invoices late when verification identifies errors and a back-out/rerun is 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cmoore</cp:lastModifiedBy>
  <dcterms:modified xsi:type="dcterms:W3CDTF">2009-10-13T20:57:44Z</dcterms:modified>
  <cp:revision>7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11080370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COPS update for RMS</vt:lpwstr>
  </property>
  <property fmtid="{D5CDD505-2E9C-101B-9397-08002B2CF9AE}" pid="6" name="_NewReviewCycle">
    <vt:lpwstr/>
  </property>
</Properties>
</file>