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1E3D-A48B-492A-B52A-38872E26A9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3546-DE18-41CE-BD36-621D414B1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0A41-AE8B-435B-9D6A-CBE34867B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4A4F-9C0E-49D9-9150-5531C6B56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1E9B-9019-4E05-B8AA-AE8FA952EA9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FEA0-D36C-4DF9-8160-8C4BA85B21E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E6CF-8D38-4E51-A059-F486F641FCE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726F-1E53-4239-BE63-A90FBD13A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D344E-CD91-4AF5-8844-8DB32A72FB4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57319-3592-4AF5-9FE2-F376DB91ABC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F662-5858-4267-8C5A-77678130A69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2C92-6271-4AF5-AA2C-6BC5B505225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D72CE-6952-4689-B239-CD130F6647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C4BA-EC88-49A9-A5E5-9F1634C071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3FAB4-99FF-46EA-9DE3-461562B819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4032-A2DF-4E67-B41A-AFEDB2A6A6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24307-D201-455E-A386-6C4FCC7D12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D217-257F-4B31-B928-3314C911FC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C83C-7DB8-4812-8A7C-BFD37E4EEB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4354-E083-409B-868C-44163D6724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FE88-A2F2-4C8C-80A7-A5C1579E98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08EC-7F2A-4D21-8F40-7562582274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BD9E-A2B1-479A-8A9D-6512B28BC72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248E-5590-46C1-BF6D-BAF8FC41272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5E44-93FA-40BC-9937-16D51F35011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3B71-FF44-4284-8C1F-79AD833371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E36A-459E-4BE5-8237-4E7DDFA7516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04E1-FE28-44F8-8CC9-FCB5E65EB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4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26584D-266B-4032-8899-0A8E07FEB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4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4C7BB5-6C89-47BB-BB67-8392ADC9F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4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EF3794-041A-47AB-B697-FF3CBFC6B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4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4FCADF-5844-4882-B33F-67708D38D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4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548B14-DE82-45D6-AE33-9FF9A3FB0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43CDC2-E5AA-417A-86FE-A296493E6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1EBA55-7085-49AA-B358-46135DEFD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114B22-573F-4398-8A4B-632D2B0DF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C57C64-4D91-4B9C-A1D6-DB938A3E9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7B01B5-ACC9-4D41-AA01-D50221B86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89C9E8-4A8C-4A0E-873D-FFA421244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C5E032-27C6-440F-94C1-2A8E9084A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F5788E-E061-4390-9212-9346A4CB7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00A280-1D9C-48DB-95DF-76D7AF1A5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0B170E-BB25-4B5B-9A09-2851CBE20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B67164-4878-40B3-90AE-0F518491F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5A75-64ED-4900-BE30-1E06E8178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06F06C-8C13-4A79-B6DE-D69EB8528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4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41DE19-D479-4F12-8723-5FF0292BF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4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3A5D97-22F2-4C00-9D08-FDAAA704A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4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B8A797-8E2F-4143-8B5E-670B825D9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4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C89A5E-C6B0-4794-B3C2-25BC807DF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4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DDBDCE-9FC5-47B1-A894-8BF89E761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October 2009 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October 14, 2009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4" name="Object 3188"/>
          <p:cNvGraphicFramePr/>
          <p:nvPr/>
        </p:nvGraphicFramePr>
        <p:xfrm>
          <a:off x="541440" y="782640"/>
          <a:ext cx="828828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5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2640"/>
                    <a:ext cx="828828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7" name="Text Box 3"/>
          <p:cNvSpPr/>
          <p:nvPr/>
        </p:nvSpPr>
        <p:spPr>
          <a:xfrm>
            <a:off x="304920" y="55087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8" name="Object 3188"/>
          <p:cNvGraphicFramePr/>
          <p:nvPr/>
        </p:nvGraphicFramePr>
        <p:xfrm>
          <a:off x="541440" y="782640"/>
          <a:ext cx="8296200" cy="223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9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2640"/>
                    <a:ext cx="82962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0" name="TextBox 4"/>
          <p:cNvSpPr/>
          <p:nvPr/>
        </p:nvSpPr>
        <p:spPr>
          <a:xfrm>
            <a:off x="565920" y="3581280"/>
            <a:ext cx="4216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80040_01 is expected to move to Closing in Octob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50061_01 migrated to production on 09/26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80031_01 migrated to production on 09/26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2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3" name="Object 3188"/>
          <p:cNvGraphicFramePr/>
          <p:nvPr/>
        </p:nvGraphicFramePr>
        <p:xfrm>
          <a:off x="541440" y="782640"/>
          <a:ext cx="8288280" cy="80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4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2640"/>
                    <a:ext cx="82882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5" name="TextBox 4"/>
          <p:cNvSpPr/>
          <p:nvPr/>
        </p:nvSpPr>
        <p:spPr>
          <a:xfrm>
            <a:off x="623520" y="1905120"/>
            <a:ext cx="424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90024_01 is scheduled to gate to Execution on 10/3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On Hold, Deferre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7" name="Object 3188"/>
          <p:cNvGraphicFramePr/>
          <p:nvPr/>
        </p:nvGraphicFramePr>
        <p:xfrm>
          <a:off x="541440" y="782640"/>
          <a:ext cx="8288280" cy="139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8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2640"/>
                    <a:ext cx="82882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0" name="Object 3188"/>
          <p:cNvGraphicFramePr/>
          <p:nvPr/>
        </p:nvGraphicFramePr>
        <p:xfrm>
          <a:off x="541440" y="782640"/>
          <a:ext cx="8288280" cy="223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1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2640"/>
                    <a:ext cx="828828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10/01/2009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152280" y="762120"/>
          <a:ext cx="8763120" cy="4491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4.09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3.94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46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5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09-10-13T13:08:05Z</dcterms:modified>
  <cp:revision>583</cp:revision>
  <dc:subject/>
  <dc:title>Role of Account Management at ERCOT</dc:title>
</cp:coreProperties>
</file>