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7960" y="687240"/>
            <a:ext cx="4592520" cy="344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24D004A-3D56-44CB-A6B3-14DBFCE6D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25E1AF2-C194-4A32-9DC4-2AF64E6FA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D0FA532-64A9-4599-8CE1-C154BE887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25CAA48-E52D-4263-99F7-628157B94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D3C58C9-0786-4217-8749-A8E316614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F4FEA2F-8006-42B7-8F18-1135E2250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AA2D781-EBB7-48B5-9BF2-153123BA9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981AF2E-4AD7-4D83-ADA9-795F4E207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14C6-2596-4CE7-8FFE-AAE1309E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90C-E81D-4635-8F7F-89024C89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3A1C-C18D-4827-B0E5-FBA76B05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A6F5-FDCD-4247-88FB-209DC63A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4AEB-0124-4DFA-AF58-4B0FA3ED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A8CA-9B0C-47FF-8DDD-B86C1631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310B-855C-4E32-9FD7-6ED9EE9B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5A2C-5E21-4113-A88E-27E7991C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91AD-ED8A-411D-B672-3531C401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A34F-C32D-4287-AA80-8EB35C69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7B6-7553-47EE-9350-D644F110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C6B4-A0E9-467D-A474-8982B506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57EA-7933-4E4D-8868-3E1FA7945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Copy of Ercot Logo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WordArt 12"/>
          <p:cNvSpPr txBox="1"/>
          <p:nvPr/>
        </p:nvSpPr>
        <p:spPr>
          <a:xfrm>
            <a:off x="228600" y="38088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2439-7BEF-4537-B27D-D546C1806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105520" y="5789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 14, 200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9C8A-23E3-47EF-8AA1-671728AED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ed ERCOT System Outages and fail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ed Retail 2010 Service Level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ed AMS LSE project,  deploy 11/14/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A39A-0968-4801-BE39-9220C6FD0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d working with the ERCOT Manager of Operations to address each system incid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y Katskee presented the summary and detail pages of the incident log, and responded to questions related to the outages 09/27 and 09/2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ed Retail 2010 Service Level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provided details related to specific metrics where outage impacted the S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of 2010 two tier SLA reviewed with level 1 and level 2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 with MarkeTrak leadership in reviewing SL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5734-20F3-40C7-B64D-FCA7579D1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B623-8475-47FE-A096-96D175EBC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AMS LSE project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for deployment is 11/14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Currently in Integration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MP to get involved in Ad Hoc Dev testing to insure no issues or concerns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that ERCOT’s plan for 2010 does not currently include interfacing with the TDSP Common Web Por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3CB5-E28A-49A4-8D89-3663B1A49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57200" y="129528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DTWG Follow-up item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to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 feedback from MTTF meet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rak performance tun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Volume of IAGs due to expedited swit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sit 24/7 contact information. Annual update of the contact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5017-401E-4FC3-9BC2-32151FE63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Registered User</cp:lastModifiedBy>
  <cp:lastPrinted>2002-09-24T18:27:58Z</cp:lastPrinted>
  <dcterms:modified xsi:type="dcterms:W3CDTF">2009-10-12T14:31:08Z</dcterms:modified>
  <cp:revision>584</cp:revision>
  <dc:subject/>
  <dc:title>PowerPoint Presentation</dc:title>
</cp:coreProperties>
</file>