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9474-E078-4E13-A034-071754D2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611C-6C15-43A4-85BD-2A29EF4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ECA5-03F3-4B8B-8D6F-B40DD25F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7266-B4C6-403F-9CFB-80BB5875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A785-CF77-41B3-8609-119AD48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D262-F2AE-44B8-965E-0FFE8DEF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1090-9835-4BAE-AE72-64EAAC06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5D33-5EC2-4D58-B45F-B04147F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B22B-0DEB-4966-A6E3-0B45753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0A49-0292-44AB-B868-4DE8AE6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D423-C9C2-4A87-8C99-1373E1E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3E82-C5A3-45EB-B153-126F38C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509-6E61-4BA9-BE42-C19A53C5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4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14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n Test Day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9 scheduled to conclude on 11/17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12/08/09 (blackout period be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ew CRs (includes 4 Additional DUNS) and 4 Existing CRs are testing this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Existing CRs have signed up to test RMGRR078 (CBCI fil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2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1/13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1/19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2/12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 Day 1 Transactions: 02/15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3/30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10-12T14:19:25Z</dcterms:modified>
  <cp:revision>113</cp:revision>
  <dc:subject/>
  <dc:title>Instructions</dc:title>
</cp:coreProperties>
</file>