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8EED-F8F1-46D3-BEA6-F6F3AD11D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45B4-7DCA-4E37-8D54-1D9A6FD88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947D-1B0C-4224-A752-70E28D397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F87D-782C-4525-A9DF-5D3DA4E30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BC561-2284-4C41-B0ED-BD87FC279A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F715B3F-5A2E-48C6-847E-B975D2680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C17458C-16DC-4404-9D53-9D2F67532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7831679F-075A-4140-B794-C209EDF80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5BC5E4A-25C4-4F65-BE42-1012183E3D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D027486-BFCE-4912-A3F9-84668530CA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E23F4A8-7CA9-4671-8C23-0515A0C25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937B075-8951-4932-A57B-93A8920A2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40AA126-8FB8-4D55-83C3-2EEB8784BC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16195B4-C961-4AB2-B95B-D887CA755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EC3C3AA-19DB-4DC6-AFD2-AE451481E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3F5552B-D164-4C8B-9AE5-073315AF7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92E2-08C8-4750-925B-A10AA4D81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80F8-0892-443A-801D-BCA7668C451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to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22" name="Picture 5" descr=""/>
          <p:cNvPicPr/>
          <p:nvPr/>
        </p:nvPicPr>
        <p:blipFill>
          <a:blip r:embed="rId1"/>
          <a:stretch/>
        </p:blipFill>
        <p:spPr>
          <a:xfrm>
            <a:off x="1371600" y="762120"/>
            <a:ext cx="7013520" cy="544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September performance was 98.98%. This was below the service level target of 9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September performance was 99.92%.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September performance was 99.75%. This was above the service level target of 98%</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September performance was 99.05%.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September performance was 99.74%. This was above the  service level target of 99%</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22960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SLA Impacting Issues</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Transaction Processing</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7/09 - NAESB application received processing errors from a service provider following a planned Retail systems upgrade, resulting in an outage that impacted  transaction processing for 372 Minutes. The NAESB application was rolled back to the previous version to restore the service.  The upgrade of this application will be rescheduled following a thorough testing with the market</a:t>
            </a:r>
            <a:endParaRPr b="0" lang="en-US" sz="16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3"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04" name="Picture 5" descr=""/>
          <p:cNvPicPr/>
          <p:nvPr/>
        </p:nvPicPr>
        <p:blipFill>
          <a:blip r:embed="rId1"/>
          <a:stretch/>
        </p:blipFill>
        <p:spPr>
          <a:xfrm>
            <a:off x="623880" y="762120"/>
            <a:ext cx="79106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ptember 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85800" y="738360"/>
            <a:ext cx="7824960" cy="53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485640" y="762120"/>
            <a:ext cx="828036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3" name="Picture 4" descr=""/>
          <p:cNvPicPr/>
          <p:nvPr/>
        </p:nvPicPr>
        <p:blipFill>
          <a:blip r:embed="rId1"/>
          <a:stretch/>
        </p:blipFill>
        <p:spPr>
          <a:xfrm>
            <a:off x="1447920" y="744480"/>
            <a:ext cx="7010280" cy="545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371600" y="762120"/>
            <a:ext cx="6705720" cy="53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262160" y="762120"/>
            <a:ext cx="6662520" cy="53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09-10-08T12:49:36Z</dcterms:modified>
  <cp:revision>460</cp:revision>
  <dc:subject/>
  <dc:title>Instructions</dc:title>
</cp:coreProperties>
</file>