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92CE-620E-4B87-86A5-70C454723B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1CE8-029F-44CB-BCE2-E498D0CCB5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7CC7-ED81-4B54-8FD4-44E9F254DF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3554-527D-4FEA-AECD-2C3E45CB64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8145-DC86-42B5-BC79-29F5D59138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AB4D-14A9-4823-95E4-20B45DEC2F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4FFF-973F-4F00-ACC7-666A04D2AE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42AD-2FA9-4054-910C-F8A025F657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5DE6-3066-4950-9348-135BD692FB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F959-585C-491C-A000-4AFF634990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BE9A7-AC25-43AA-81DE-93CE17E2E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70A5-F586-4989-BDED-9AA2C4E2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2A426-F146-40DA-8A92-8EF0FB80F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07974-4AED-4915-A3AC-2FF4DE9D4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14C28-C45D-4D8D-B8CD-1DD35787C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743D9-4C12-4356-B7FB-5FA2267E9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86364-26E1-4E75-A0F1-EC172514A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3F76A-328B-4C9F-A0F9-DDC320365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F2DF0-6760-48F1-BFDA-E9AE62211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28F02-8E47-4653-B218-24F14D5DA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BBFD4-FA39-4B36-A533-AF8228B46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34925-BE67-43EC-B390-51E2FCA2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4A630-CFFF-4D5A-A50C-4C2AF7802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79D11-53D4-4729-814A-5BA503512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0CA68-17AB-455F-B33E-438A6B7BB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71C7C-0BE4-4C6C-A7D0-AC3B24296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24C68-11AE-4C0F-BF0F-D1512957F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0D3EB8-03BD-49E0-BA9A-47E60CC3A9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34BC924F-31F3-46C8-B465-83CE7D875D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BB83C66B-3BF8-48FF-8C2A-AE68D166C1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B902F511-7ACD-4644-ADBC-7B72841692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sldNum" idx="7"/>
          </p:nvPr>
        </p:nvSpPr>
        <p:spPr/>
        <p:txBody>
          <a:bodyPr/>
          <a:p>
            <a:fld id="{0E9E82C1-5BCE-4621-9D23-F383520E73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E7582-DC7B-4295-841F-C889C5815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7"/>
          </p:nvPr>
        </p:nvSpPr>
        <p:spPr/>
        <p:txBody>
          <a:bodyPr/>
          <a:p>
            <a:fld id="{713D2229-F79B-4718-A655-DA68D26BD0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1B207074-C3A8-44D0-9B18-5A57A07A90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EA76B092-BED0-4BDF-B17B-101FB55D55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1C6A2FE6-D97C-4556-A650-99E1B7BF33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B0788123-0CD9-4B33-BA8B-4E99EF71A1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1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7"/>
          </p:nvPr>
        </p:nvSpPr>
        <p:spPr/>
        <p:txBody>
          <a:bodyPr/>
          <a:p>
            <a:fld id="{6383F477-5777-4B0C-81E0-097B419738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1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7"/>
          </p:nvPr>
        </p:nvSpPr>
        <p:spPr/>
        <p:txBody>
          <a:bodyPr/>
          <a:p>
            <a:fld id="{1C63AA9A-7C8E-4DAF-9C80-52F46FBDC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75A91-CE4C-4B28-B85B-EA4125D6F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222EF-7EC4-450D-9EEF-7F5255E1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4958-E633-4F38-A86E-400C71DEC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2BAA-F28D-4E8C-8E07-63811416D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2150-ECE4-4458-B1CA-7DF362975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5B261-4C8D-4940-B466-F6EE0B21E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5104-E849-4F10-8628-A3ED1BD2872E}"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7CF7-FAD8-42F4-B275-36CE6E55D8B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6C40-7D75-473B-8DCB-E14BC0589380}"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DCA9-8D42-40B1-9710-DDAA6154359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83"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834A-D6BC-4B97-B84D-A8463CDB20A3}"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committees/board/tac/rms/marstf/"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ppt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129"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S Update October 13,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304920" y="1523880"/>
          <a:ext cx="8839080" cy="5262840"/>
        </p:xfrm>
        <a:graphic>
          <a:graphicData uri="http://schemas.openxmlformats.org/drawingml/2006/table">
            <a:tbl>
              <a:tblPr/>
              <a:tblGrid>
                <a:gridCol w="3603600"/>
                <a:gridCol w="2266920"/>
                <a:gridCol w="296856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 Mileston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Dat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r>
              <a:tr h="535320">
                <a:tc>
                  <a:txBody>
                    <a:bodyPr lIns="90000" rIns="90000" tIns="46800" bIns="4680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Technical Architecture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15/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1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velopmen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7/24/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tailed Designs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328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1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i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Market 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2400">
                <a:tc>
                  <a:txBody>
                    <a:bodyPr lIns="90000" rIns="90000" tIns="46800" bIns="46800" anchor="ctr">
                      <a:noAutofit/>
                    </a:bodyPr>
                    <a:p>
                      <a:pP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Go Liv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11/14/2009 </a:t>
                      </a:r>
                      <a:endParaRPr b="0" lang="en-US" sz="18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off-cyc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0868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Go Live (Contingency 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12/12/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Stabilization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3/19/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rojec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21/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1"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ERCOT’s AMS Projec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9/30/09 Status Repor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AutoShape 23"/>
          <p:cNvSpPr/>
          <p:nvPr/>
        </p:nvSpPr>
        <p:spPr>
          <a:xfrm>
            <a:off x="6400800" y="50292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Slide Number Placeholder 4"/>
          <p:cNvSpPr/>
          <p:nvPr/>
        </p:nvSpPr>
        <p:spPr>
          <a:xfrm>
            <a:off x="6705720" y="6400800"/>
            <a:ext cx="24382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Project 80027 - Update</a:t>
            </a:r>
            <a:br>
              <a:rPr sz="4400"/>
            </a:br>
            <a:r>
              <a:rPr b="0" lang="en-US" sz="4400" spc="-1" strike="noStrike">
                <a:solidFill>
                  <a:srgbClr val="e8edf2"/>
                </a:solidFill>
                <a:latin typeface="Tahoma"/>
              </a:rPr>
              <a:t>Market Testing</a:t>
            </a:r>
            <a:endParaRPr b="0" lang="en-US" sz="4400" spc="-1" strike="noStrike">
              <a:solidFill>
                <a:srgbClr val="e8edf2"/>
              </a:solidFill>
              <a:latin typeface="Tahoma"/>
            </a:endParaRPr>
          </a:p>
        </p:txBody>
      </p:sp>
      <p:sp>
        <p:nvSpPr>
          <p:cNvPr id="135" name="TextBox 3"/>
          <p:cNvSpPr/>
          <p:nvPr/>
        </p:nvSpPr>
        <p:spPr>
          <a:xfrm>
            <a:off x="609480" y="200016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cope of Market Testing</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DSP submits Advanced Metering LSE interval data file submission and ERCOT returns a file-level acknowledg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arget Dates for Market Tes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ctober 19 – November 6, 2009</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xt Step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the project progresses through development activities and the detailed ERCOT testing schedule is refined, coordination activities will be scheduled with the TDS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ptember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137" name=""/>
          <p:cNvSpPr txBox="1"/>
          <p:nvPr/>
        </p:nvSpPr>
        <p:spPr>
          <a:xfrm>
            <a:off x="457200" y="1752480"/>
            <a:ext cx="8229600" cy="54864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e discussed the changes to ERCOT’s reporting, DDLs, extracts and web services that are needed to support AMS 15 minute interval data.</a:t>
            </a: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Link to MARS Taskforce key documents:  </a:t>
            </a:r>
            <a:r>
              <a:rPr b="0" lang="en-US" sz="2200" spc="-1" strike="noStrike" u="sng">
                <a:solidFill>
                  <a:srgbClr val="d59f07"/>
                </a:solidFill>
                <a:uFillTx/>
                <a:latin typeface="Tahoma"/>
                <a:hlinkClick r:id="rId1"/>
              </a:rPr>
              <a:t>http://www.ercot.com/committees/board/tac/rms/marstf/</a:t>
            </a:r>
            <a:r>
              <a:rPr b="0" lang="en-US" sz="2200" spc="-1" strike="noStrike">
                <a:solidFill>
                  <a:srgbClr val="ffffff"/>
                </a:solidFill>
                <a:latin typeface="Tahoma"/>
              </a:rPr>
              <a:t> </a:t>
            </a:r>
            <a:endParaRPr b="0" lang="en-US" sz="2200" spc="-1" strike="noStrike">
              <a:solidFill>
                <a:srgbClr val="ffffff"/>
              </a:solidFill>
              <a:latin typeface="Tahoma"/>
            </a:endParaRPr>
          </a:p>
          <a:p>
            <a:pPr lvl="2" marL="11430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 </a:t>
            </a:r>
            <a:endParaRPr b="0" lang="en-US" sz="1900" spc="-1" strike="noStrike">
              <a:solidFill>
                <a:srgbClr val="ffffff"/>
              </a:solidFill>
              <a:latin typeface="Tahoma"/>
            </a:endParaRPr>
          </a:p>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e agreed to the scheduling plan for 814_20s that would be expected to be sent to ERCOT from Oncor and CenterPoint Energy to change load profiles and/or AMS meter information effective November 16, 2009. </a:t>
            </a: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re was some concern voiced that the AMS 814_20 scheduling team at ERCOT may need to be aware of the Business Annual Validation 814_20s because TDSPs may also schedule AV 814_20s to be sent to ERCOT in November that could create a problem based upon the volume of 814_20s and when they are sent. </a:t>
            </a:r>
            <a:endParaRPr b="0" lang="en-US" sz="2200" spc="-1" strike="noStrike">
              <a:solidFill>
                <a:srgbClr val="ffffff"/>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0804-BB81-4171-B239-5108C4E0133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graphicFrame>
        <p:nvGraphicFramePr>
          <p:cNvPr id="139" name="Object 6"/>
          <p:cNvGraphicFramePr/>
          <p:nvPr/>
        </p:nvGraphicFramePr>
        <p:xfrm>
          <a:off x="228600" y="5867280"/>
          <a:ext cx="914400" cy="714600"/>
        </p:xfrm>
        <a:graphic>
          <a:graphicData uri="http://schemas.openxmlformats.org/presentationml/2006/ole">
            <p:oleObj r:id="rId2" spid="">
              <p:embed/>
              <p:pic>
                <p:nvPicPr>
                  <p:cNvPr id="140" name="Object 6" descr=""/>
                  <p:cNvPicPr/>
                  <p:nvPr/>
                </p:nvPicPr>
                <p:blipFill>
                  <a:blip r:embed="rId3"/>
                  <a:stretch/>
                </p:blipFill>
                <p:spPr>
                  <a:xfrm>
                    <a:off x="228600" y="58672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September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142" name=""/>
          <p:cNvSpPr txBox="1"/>
          <p:nvPr/>
        </p:nvSpPr>
        <p:spPr>
          <a:xfrm>
            <a:off x="228600" y="1523880"/>
            <a:ext cx="8763120" cy="5639040"/>
          </a:xfrm>
          <a:prstGeom prst="rect">
            <a:avLst/>
          </a:prstGeom>
          <a:noFill/>
          <a:ln w="0">
            <a:noFill/>
          </a:ln>
          <a:effectLst>
            <a:outerShdw dist="17819" dir="2700000" blurRad="0" rotWithShape="0">
              <a:srgbClr val="000000"/>
            </a:outerShdw>
          </a:effectLst>
        </p:spPr>
        <p:txBody>
          <a:bodyPr anchor="t">
            <a:normAutofit fontScale="98000"/>
          </a:bodyPr>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he TDSPs proposed a 6 day delay in sending LSE files/data to ERCOT for settlement processing.  The TDSPs stated that in their current design there would always be a 6 day delay in providing LSE data to ERCOT because:</a:t>
            </a:r>
            <a:endParaRPr b="0" lang="en-US" sz="25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re would always be new meters being installed,</a:t>
            </a:r>
            <a:endParaRPr b="0" lang="en-US" sz="22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 transactional process and timeline needed to change non-IDR to IDR profiles must coincide with a cycle meter read , and </a:t>
            </a:r>
            <a:endParaRPr b="0" lang="en-US" sz="22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o minimize the volume of rejects for transactions within the LSE file where the load profile change transactions may not have successfully posted at ERCOT.</a:t>
            </a:r>
            <a:endParaRPr b="0" lang="en-US" sz="2200" spc="-1" strike="noStrike">
              <a:solidFill>
                <a:srgbClr val="ffffff"/>
              </a:solidFill>
              <a:latin typeface="Tahoma"/>
            </a:endParaRPr>
          </a:p>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DSPs agreed that they will continue to post daily LSE files to TDSP’s FTP sites or Web Portal for CR(s) downloads so any delay in LSE files/data being sent to ERCOT </a:t>
            </a:r>
            <a:r>
              <a:rPr b="1" lang="en-US" sz="2500" spc="-1" strike="noStrike">
                <a:solidFill>
                  <a:srgbClr val="ffffff"/>
                </a:solidFill>
                <a:latin typeface="Tahoma"/>
              </a:rPr>
              <a:t>will not</a:t>
            </a:r>
            <a:r>
              <a:rPr b="0" lang="en-US" sz="2500" spc="-1" strike="noStrike">
                <a:solidFill>
                  <a:srgbClr val="ffffff"/>
                </a:solidFill>
                <a:latin typeface="Tahoma"/>
              </a:rPr>
              <a:t> impact the CRs processes where 15-minute data will continue to be provided daily.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September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144" name=""/>
          <p:cNvSpPr txBox="1"/>
          <p:nvPr/>
        </p:nvSpPr>
        <p:spPr>
          <a:xfrm>
            <a:off x="228600" y="1218960"/>
            <a:ext cx="8763120" cy="563868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e to some confusion with the information being provided by the TDSPs during this meeting, the Taskforce did not come to any conclusion on the TDSP’s proposed process  in sending LSE files to ERCOT, therefore Oncor and CenterPoint Energy were given the following action item:</a:t>
            </a:r>
            <a:endParaRPr b="0" lang="en-US" sz="3200" spc="-1" strike="noStrike">
              <a:solidFill>
                <a:srgbClr val="ffffff"/>
              </a:solidFill>
              <a:latin typeface="Tahoma"/>
            </a:endParaRPr>
          </a:p>
          <a:p>
            <a:pPr lvl="1" marL="720720" indent="-27720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expected timeline that TDSPs will provide LSE files to ERCOT?</a:t>
            </a:r>
            <a:endParaRPr b="0" lang="en-US" sz="28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WebEx conference call was scheduled on Friday, October 9, 2009 for TDSPs to provide a response to this action ite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October 9, 2009 </a:t>
            </a:r>
            <a:br>
              <a:rPr sz="4400"/>
            </a:br>
            <a:r>
              <a:rPr b="0" lang="en-US" sz="4400" spc="-1" strike="noStrike">
                <a:solidFill>
                  <a:srgbClr val="e8edf2"/>
                </a:solidFill>
                <a:latin typeface="Tahoma"/>
              </a:rPr>
              <a:t>MARS Taskforce WebEx </a:t>
            </a:r>
            <a:endParaRPr b="0" lang="en-US" sz="4400" spc="-1" strike="noStrike">
              <a:solidFill>
                <a:srgbClr val="e8edf2"/>
              </a:solidFill>
              <a:latin typeface="Tahoma"/>
            </a:endParaRPr>
          </a:p>
        </p:txBody>
      </p:sp>
      <p:pic>
        <p:nvPicPr>
          <p:cNvPr id="146" name="Content Placeholder 2" descr=""/>
          <p:cNvPicPr/>
          <p:nvPr/>
        </p:nvPicPr>
        <p:blipFill>
          <a:blip r:embed="rId1"/>
          <a:stretch/>
        </p:blipFill>
        <p:spPr>
          <a:xfrm>
            <a:off x="-6480" y="1212840"/>
            <a:ext cx="9180720" cy="5675400"/>
          </a:xfrm>
          <a:prstGeom prst="rect">
            <a:avLst/>
          </a:prstGeom>
          <a:ln w="0">
            <a:noFill/>
          </a:ln>
          <a:effectLst>
            <a:outerShdw dist="17819" dir="2700000" blurRad="0" rotWithShape="0">
              <a:srgbClr val="000000"/>
            </a:outerShdw>
          </a:effectLst>
        </p:spPr>
      </p:pic>
      <p:graphicFrame>
        <p:nvGraphicFramePr>
          <p:cNvPr id="147" name="Object 2"/>
          <p:cNvGraphicFramePr/>
          <p:nvPr/>
        </p:nvGraphicFramePr>
        <p:xfrm>
          <a:off x="5486400" y="5638680"/>
          <a:ext cx="914400" cy="714600"/>
        </p:xfrm>
        <a:graphic>
          <a:graphicData uri="http://schemas.openxmlformats.org/presentationml/2006/ole">
            <p:oleObj progId="PowerPoint.Show.12" r:id="rId2" spid="">
              <p:embed/>
              <p:pic>
                <p:nvPicPr>
                  <p:cNvPr id="148" name="Object 2" descr=""/>
                  <p:cNvPicPr/>
                  <p:nvPr/>
                </p:nvPicPr>
                <p:blipFill>
                  <a:blip r:embed="rId3"/>
                  <a:stretch/>
                </p:blipFill>
                <p:spPr>
                  <a:xfrm>
                    <a:off x="5486400" y="56386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50" name=""/>
          <p:cNvSpPr txBox="1"/>
          <p:nvPr/>
        </p:nvSpPr>
        <p:spPr>
          <a:xfrm>
            <a:off x="533520" y="1752480"/>
            <a:ext cx="8229600" cy="510552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will be a WebEx scheduled on Wednesday, October 28, 2009 at 3:30 PM-5:00 PM </a:t>
            </a:r>
            <a:endParaRPr b="0" lang="en-US" sz="3200" spc="-1" strike="noStrike">
              <a:solidFill>
                <a:srgbClr val="ffffff"/>
              </a:solidFill>
              <a:latin typeface="Tahoma"/>
            </a:endParaRPr>
          </a:p>
          <a:p>
            <a:pPr lvl="1" marL="720720" indent="-27720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nda Items:</a:t>
            </a:r>
            <a:endParaRPr b="0" lang="en-US" sz="28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 Status Report update, may include Market test results to date.  </a:t>
            </a:r>
            <a:endParaRPr b="0" lang="en-US" sz="24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ure all procedures/task required for a smooth November 14</a:t>
            </a:r>
            <a:r>
              <a:rPr b="0" lang="en-US" sz="2400" spc="-1" strike="noStrike" baseline="30000">
                <a:solidFill>
                  <a:srgbClr val="ffffff"/>
                </a:solidFill>
                <a:latin typeface="Tahoma"/>
              </a:rPr>
              <a:t>th</a:t>
            </a:r>
            <a:r>
              <a:rPr b="0" lang="en-US" sz="2400" spc="-1" strike="noStrike">
                <a:solidFill>
                  <a:srgbClr val="ffffff"/>
                </a:solidFill>
                <a:latin typeface="Tahoma"/>
              </a:rPr>
              <a:t> production implementation have been resolved or completed </a:t>
            </a:r>
            <a:endParaRPr b="0" lang="en-US" sz="24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hedule next meeting date(s) Post Go-Live</a:t>
            </a:r>
            <a:endParaRPr b="0" lang="en-US" sz="24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ue to update RMS and COPS on project status. </a:t>
            </a:r>
            <a:endParaRPr b="0" lang="en-US" sz="3200" spc="-1" strike="noStrike">
              <a:solidFill>
                <a:srgbClr val="ffffff"/>
              </a:solidFill>
              <a:latin typeface="Tahoma"/>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A79A-ADE5-4AA3-9764-08D033447AD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53"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54" name="Picture 4" descr="j0385990.jpg"/>
          <p:cNvPicPr/>
          <p:nvPr/>
        </p:nvPicPr>
        <p:blipFill>
          <a:blip r:embed="rId2"/>
          <a:stretch/>
        </p:blipFill>
        <p:spPr>
          <a:xfrm>
            <a:off x="-6480" y="1670040"/>
            <a:ext cx="3292560" cy="3444840"/>
          </a:xfrm>
          <a:prstGeom prst="rect">
            <a:avLst/>
          </a:prstGeom>
          <a:ln w="0">
            <a:noFill/>
          </a:ln>
        </p:spPr>
      </p:pic>
      <p:pic>
        <p:nvPicPr>
          <p:cNvPr id="155" name="Picture 5" descr="j0320142.wmf"/>
          <p:cNvPicPr/>
          <p:nvPr/>
        </p:nvPicPr>
        <p:blipFill>
          <a:blip r:embed="rId3"/>
          <a:stretch/>
        </p:blipFill>
        <p:spPr>
          <a:xfrm>
            <a:off x="5877000" y="1695600"/>
            <a:ext cx="3029040" cy="6912000"/>
          </a:xfrm>
          <a:prstGeom prst="rect">
            <a:avLst/>
          </a:prstGeom>
          <a:ln w="0">
            <a:noFill/>
          </a:ln>
        </p:spPr>
      </p:pic>
      <p:sp>
        <p:nvSpPr>
          <p:cNvPr id="15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C666-8649-4175-96F4-CB48F3D26502}"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10-09T20:30:49Z</dcterms:modified>
  <cp:revision>181</cp:revision>
  <dc:subject/>
  <dc:title>MARS Taskforce </dc:title>
</cp:coreProperties>
</file>