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pperplate Gothic Bold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5A63-66AD-4F0B-BB2C-102CFC937EC4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3CEC-F06D-4CB3-8D95-1D58C9EC9D39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063E-3CE8-49AC-88D3-8C4EF419004E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66F3-F239-49C0-8E32-C88A6CC99846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1A4A-1DE9-43BF-8FEB-C501D6D67800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A653-D333-4C1C-9CA5-50D38EA3AEA0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F101-C40E-4027-8F12-D02FE3D1F3FD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561-6845-46EB-A887-2C68AA26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F91-1E18-40FC-B987-A870E78D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5C7-6035-4555-A2E5-02FF7DCD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CD3-0F63-469C-98A4-F5320C6D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A798-BDFD-4CD2-A340-6ED57C2F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897F-3660-4C1A-BD31-C12952AF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D5A7-CCFA-4BAA-83B1-0683117B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B90F-23DD-4216-BF3E-23348752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5676-7661-4450-A75A-3820CF5E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38C4-257B-45A7-A9E2-6A940C40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F287-F595-44B0-936F-F0D87F62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3BC-DC3C-46A0-BD98-58959943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D3DF-2368-4816-BBEE-D9C52234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28A5-22D0-4013-8699-216A2216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EEA5-1A98-4021-842C-45FECB46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461F-1A14-4B20-A70E-9938B7E4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CF5D-5B59-4EB1-9FC1-55D300E3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7DB-C528-413D-B408-568A12EF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5A9-3034-4DCE-B807-7FB041F3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B0F-4BBD-478F-B4AC-4CC14E76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EA2-6108-41B6-AB0E-C81DF1A1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EE6-ACA8-48ED-94EE-8E5F1D0A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ADB0-EFFD-43D9-AC4C-DEA62F6A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4B4-C65B-4160-8247-8C55471B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pperplate Gothic Bold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BD2E-803E-45BD-A838-CE190E158780}" type="slidenum"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5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pperplate Gothic Bold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DC22-97B6-46FB-B99D-E75ED929B949}" type="slidenum"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3000" y="205740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TAC   UPDATE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43000" y="3429000"/>
            <a:ext cx="3505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6600"/>
                  </a:outerShdw>
                </a:effectLst>
                <a:latin typeface="Copperplate Gothic Bold"/>
              </a:rPr>
              <a:t>October 2009</a:t>
            </a:r>
            <a:endParaRPr b="1" lang="en-US" sz="32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Copperplate Gothic Bold"/>
              </a:rPr>
              <a:t>PRS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Revision Request (PRR) (Vote): 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PRR811, Real Time Production Potential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No Impacts, 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PRR822, Removing Access to Restricted Computer Systems, Control Systems, and Facilities – URGENT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Approved, effective date of Jan 1, 2010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PRR823, Clarifying Language for Resource 12-Month Rolling Planned Outage Schedule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No Impacts, 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PRR829, Total Transmission Capacity Correction - URGENT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No Impacts, 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PRR831, Annual Transmission Congestion Rights (TCR) Auction Amount – URGENT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No Impacts, 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68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Voting Items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Copperplate Gothic Bold"/>
              </a:rPr>
              <a:t>PRS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Nodal Protocol Revision Request (NPRR) (Vote): 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NPRR189, Ancillary Service Deployment Clarification: 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Minimal Impact, Approved  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NPRR191, Synchronization of PRR819, Changes to Support Revisions to the PUCT POLR and Expedited Switch Rules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No Impacts, 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NPRR193, Application of Nodal Implementation Surcharge in Verifiable Costs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No Impacts, 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NPRR195, Removal of McCamey Congestion Management from Nodal Protocols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No Impacts, 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68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Voting Items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Unfunded Projects List Quarterly Update</a:t>
            </a:r>
            <a:r>
              <a:rPr b="0" lang="en-US" sz="1800" spc="-1" strike="noStrike">
                <a:solidFill>
                  <a:srgbClr val="ff9933"/>
                </a:solidFill>
                <a:latin typeface="Copperplate Gothic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No Unfunded projects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68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Voting Items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pperplate Gothic Bold"/>
              </a:rPr>
              <a:t>Revision Requests Tabled at TAC: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NPRR174, FIP Modifications in Verifiable Startup and Minimum Energy Cost and Recovery of Exceptional Fuel Costs During RUC Intervals (Vote): </a:t>
            </a:r>
            <a:r>
              <a:rPr b="0" lang="en-US" sz="1800" spc="-1" strike="noStrike">
                <a:solidFill>
                  <a:srgbClr val="ff9933"/>
                </a:solidFill>
                <a:latin typeface="Copperplate Gothic Bold"/>
              </a:rPr>
              <a:t>Two Votes, first to reject failed, second to accept was approved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pperplate Gothic Bold"/>
              </a:rPr>
              <a:t>Wholesale Market Subcommittee Report*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2010 Closely Related Element Recommendation (Vote): </a:t>
            </a:r>
            <a:r>
              <a:rPr b="0" lang="en-US" sz="1800" spc="-1" strike="noStrike">
                <a:solidFill>
                  <a:srgbClr val="ff9933"/>
                </a:solidFill>
                <a:latin typeface="Copperplate Gothic Bold"/>
              </a:rPr>
              <a:t>Motion to approve 25 CREs as recommended by WMS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6668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Voting Items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pperplate Gothic Bold"/>
              </a:rPr>
              <a:t>Reliability and Operations Subcommittee Report *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OGRR225, Quick Start Units Qualification Ramp Period (Vote)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Approved as revis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OGRR235, Total Transmission Capacity Correction - URGENT (Vote)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NOGRR030, Synchronization - Total Transmission Capacity Correction - URGENT (Vote)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pperplate Gothic Bold"/>
              </a:rPr>
              <a:t>Retail Market Subcommittee Report*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RMGRR080, Define E-mail Address Format for the Detail Record in the Customer Billing Contact Information File - URGENT (Vote)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CMGRR010, Synchronization of Competitive Metering Guide with PRR804, Revisions to Section 21 Appeal Process (Vote)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Question to RMS about outage the previous week, ERCOT addressed questions.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pperplate Gothic Bold"/>
              </a:rPr>
              <a:t>Commercial Operations Subcommittee Report*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COPMGRR012, Creating Section 11, Disputes and Data Extract Variances (Vote)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LPGRR034, Profile Model Spreadsheets - Calendar Extension and Delete Unused Models  (Vote)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Approved 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6668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Voting Items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6:19:53Z</dcterms:created>
  <dc:creator>Windows XP ver. 2.2</dc:creator>
  <dc:description/>
  <dc:language>en-US</dc:language>
  <cp:lastModifiedBy>kpatrick</cp:lastModifiedBy>
  <dcterms:modified xsi:type="dcterms:W3CDTF">2009-10-12T17:36:55Z</dcterms:modified>
  <cp:revision>22</cp:revision>
  <dc:subject/>
  <dc:title>R.M.S UPDATE</dc:title>
</cp:coreProperties>
</file>