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124068-A3FB-466F-8B5C-6A6D9A1CE71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86B8575-4DCD-4831-8B07-A8C947853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F09734E-6318-4437-899E-EDCDC6DB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D6D6E32-4A19-4E43-9C03-1414C24BD3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828BA1-16E8-4315-9D28-D36736F08A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415782-30B5-41A3-90DC-656219E627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A9B630-E37C-4E79-BFDF-96AAD1A3D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0DC843-D17D-4430-A18C-A351C335B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72A5ECF-6C5E-42A3-A234-E02CAB5BB1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53398DA-4596-4DB5-AC9B-54B06C5B0D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0028D18-FD12-40BD-BA89-CEFC92FE0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A4742-BF86-4EB8-8655-226BB022F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23527A-366F-4BD8-8596-F1986F330F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2F2BEB-473C-4815-98F1-415128C4B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9053BFC-98C7-4C50-9ABF-C7C6A0F04A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E0D375D-0F5A-41F2-8907-88A1C506F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4629F2E-9871-4895-80B5-1993B1D17B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892587-1418-4927-AD54-233F3092083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5B13ED6-3E9B-4A1C-8144-4C4084D89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9DF25BE-3865-4167-B03C-4C9CCF52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6ACD418-7837-4C31-954F-199C2D038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DCB4DD1-976E-43FB-A87F-DB8E872CA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373E90-5059-466B-BD22-DAE56A692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ABFE5D6-86A4-43D3-AFF9-656A19572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46F639C-4FF8-46AD-AF75-1452FB83E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5B2C325-8C6A-4FAC-B43F-5ECBE341D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66B587F-36BE-4A7C-9661-0825CDE0F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B1B8759-64B9-4E90-92B3-D04142423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7815274-A002-44F2-8BEE-8AD2F7BD6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C0D7F47-1C32-428B-A221-626D2F84192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8F24E7-4E96-448B-80A1-3A8C9EA7DA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9D7386-FBD9-4AFD-9B0F-50BB84B1E1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DCFBDC-2BD8-4A52-8CDC-C7ECC373DF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1BB033-E1F2-4972-AE3B-B14140D39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29964E-4D06-42BF-801F-F4F70EFBC5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9CCE31-4DB6-498A-9F72-85447A106B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525F80-5BAB-498D-A71F-7B2969A2C3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AD08F9-E568-4D57-AFAB-8CDAF7C018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1D6D33-EECE-4507-B268-9F76C84783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FF9DE1-2FD5-478C-9904-55D0C09097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92BB34-6264-4E2F-8A93-3C9223E1B6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700849-C68C-4311-AC3B-2CADA10708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2420A3-36BD-466D-92D2-68E138381D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E0D507D-4683-46F6-B102-34C47607A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C0C8D86-F1EA-4455-AC40-6C0158C37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F81C5B-4AB8-448A-A76A-D19FD00D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A6807B3-3DAD-4F8B-A316-6653AC3D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CF3170-111E-4ED1-9475-EB37AFACFE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AC93-AEBA-4FCA-9B43-7BBA110A49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2E34-C1A2-4739-A926-0B33CC6B0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A0F8-25D2-407A-B0C3-91186EF0E32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EF5E-D644-489B-A533-E1110E474A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315200" y="76320"/>
            <a:ext cx="1752480" cy="941400"/>
          </a:xfrm>
          <a:prstGeom prst="rect">
            <a:avLst/>
          </a:prstGeom>
          <a:ln w="0">
            <a:noFill/>
          </a:ln>
        </p:spPr>
      </p:pic>
      <p:sp>
        <p:nvSpPr>
          <p:cNvPr id="137"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hyperlink" Target="http://www.ercot.com/mktrules/issues/lpgrr/025-049/035/index" TargetMode="External"/><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WG Update Repor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nie Podraza</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rect Energy</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WG Chair</a:t>
            </a: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f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COPS Mee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October 13, 2009</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44D123E9-28BD-4D29-B650-9204F40D7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 Profile IDs</a:t>
            </a:r>
            <a:endParaRPr b="0" lang="en-US" sz="3200" spc="-1" strike="noStrike">
              <a:solidFill>
                <a:srgbClr val="000000"/>
              </a:solidFill>
              <a:latin typeface="Times New Roman"/>
            </a:endParaRPr>
          </a:p>
        </p:txBody>
      </p:sp>
      <p:pic>
        <p:nvPicPr>
          <p:cNvPr id="193" name="" descr=""/>
          <p:cNvPicPr/>
          <p:nvPr/>
        </p:nvPicPr>
        <p:blipFill>
          <a:blip r:embed="rId1"/>
          <a:stretch/>
        </p:blipFill>
        <p:spPr>
          <a:xfrm>
            <a:off x="112680" y="1752480"/>
            <a:ext cx="8955000" cy="3048120"/>
          </a:xfrm>
          <a:prstGeom prst="rect">
            <a:avLst/>
          </a:prstGeom>
          <a:ln w="0">
            <a:noFill/>
          </a:ln>
        </p:spPr>
      </p:pic>
      <p:sp>
        <p:nvSpPr>
          <p:cNvPr id="194" name=""/>
          <p:cNvSpPr/>
          <p:nvPr/>
        </p:nvSpPr>
        <p:spPr>
          <a:xfrm>
            <a:off x="762120" y="5105520"/>
            <a:ext cx="7619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Day new profile notice is required.</a:t>
            </a:r>
            <a:endParaRPr b="0" lang="en-US" sz="2400" spc="-1" strike="noStrike">
              <a:solidFill>
                <a:srgbClr val="000000"/>
              </a:solidFill>
              <a:latin typeface="Times New Roman"/>
            </a:endParaRPr>
          </a:p>
        </p:txBody>
      </p:sp>
      <p:sp>
        <p:nvSpPr>
          <p:cNvPr id="2" name="PlaceHolder 1"/>
          <p:cNvSpPr>
            <a:spLocks noGrp="1"/>
          </p:cNvSpPr>
          <p:nvPr>
            <p:ph type="sldNum" idx="8"/>
          </p:nvPr>
        </p:nvSpPr>
        <p:spPr/>
        <p:txBody>
          <a:bodyPr/>
          <a:p>
            <a:fld id="{C3263C6C-01D0-49A7-B653-8835570758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Vote</a:t>
            </a:r>
            <a:endParaRPr b="0" lang="en-US" sz="3200" spc="-1" strike="noStrike">
              <a:solidFill>
                <a:srgbClr val="000000"/>
              </a:solidFill>
              <a:latin typeface="Times New Roman"/>
            </a:endParaRPr>
          </a:p>
        </p:txBody>
      </p:sp>
      <p:sp>
        <p:nvSpPr>
          <p:cNvPr id="1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GRR035</a:t>
            </a: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 of Time Of Use Schedules (TOUS) to Profiles with Interval Data Recorder (IDR) Meter Data Type Codes for Advanced Met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VO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Urgent Status the PWG has no comment</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rcot.com/mktrules/issues/lpgrr/025-049/035/index</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BF60E1BC-14B7-4A34-BCF5-370D7429F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1981080" y="1828800"/>
            <a:ext cx="4876920" cy="2590920"/>
          </a:xfrm>
          <a:prstGeom prst="rect">
            <a:avLst/>
          </a:prstGeom>
          <a:ln w="0">
            <a:noFill/>
          </a:ln>
        </p:spPr>
      </p:pic>
      <p:sp>
        <p:nvSpPr>
          <p:cNvPr id="200" name=""/>
          <p:cNvSpPr/>
          <p:nvPr/>
        </p:nvSpPr>
        <p:spPr>
          <a:xfrm>
            <a:off x="609480" y="4495680"/>
            <a:ext cx="8001000" cy="1572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9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alls in November and December TBD</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8CE9B15-B043-41C6-8EBA-9456E2B3F9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Leadership </a:t>
            </a:r>
            <a:r>
              <a:rPr b="1" lang="en-US" sz="3200" spc="-1" strike="noStrike">
                <a:solidFill>
                  <a:srgbClr val="008080"/>
                </a:solidFill>
                <a:latin typeface="Arial"/>
              </a:rPr>
              <a:t>Vote</a:t>
            </a:r>
            <a:endParaRPr b="0" lang="en-US" sz="3200" spc="-1" strike="noStrike">
              <a:solidFill>
                <a:srgbClr val="000000"/>
              </a:solidFill>
              <a:latin typeface="Times New Roman"/>
            </a:endParaRPr>
          </a:p>
        </p:txBody>
      </p:sp>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requests that COPS approv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 Echols of Onc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been nominate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ric Goff of Reliant Energy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rve as the PWG Vice Chai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remaining 2009 term</a:t>
            </a: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EF7FDFE-52D2-4160-82B0-979BCAB358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1768320"/>
            <a:ext cx="8464320" cy="4327560"/>
          </a:xfrm>
          <a:prstGeom prst="rect">
            <a:avLst/>
          </a:prstGeom>
          <a:ln w="0">
            <a:noFill/>
          </a:ln>
        </p:spPr>
      </p:pic>
      <p:sp>
        <p:nvSpPr>
          <p:cNvPr id="2" name="PlaceHolder 1"/>
          <p:cNvSpPr>
            <a:spLocks noGrp="1"/>
          </p:cNvSpPr>
          <p:nvPr>
            <p:ph type="sldNum" idx="2"/>
          </p:nvPr>
        </p:nvSpPr>
        <p:spPr/>
        <p:txBody>
          <a:bodyPr/>
          <a:p>
            <a:fld id="{35E15B6A-7BF0-404A-AFBB-AFB70F1D08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09 Schedule</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362240" y="1066680"/>
            <a:ext cx="6419520" cy="4562640"/>
          </a:xfrm>
          <a:prstGeom prst="rect">
            <a:avLst/>
          </a:prstGeom>
          <a:ln w="0">
            <a:noFill/>
          </a:ln>
        </p:spPr>
      </p:pic>
      <p:sp>
        <p:nvSpPr>
          <p:cNvPr id="181" name=""/>
          <p:cNvSpPr/>
          <p:nvPr/>
        </p:nvSpPr>
        <p:spPr>
          <a:xfrm>
            <a:off x="609480" y="5638680"/>
            <a:ext cx="7925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Verdana"/>
              </a:rPr>
              <a:t>2009 AV on schedule no issues</a:t>
            </a:r>
            <a:endParaRPr b="0" lang="en-US" sz="2400" spc="-1" strike="noStrike">
              <a:solidFill>
                <a:srgbClr val="000000"/>
              </a:solidFill>
              <a:latin typeface="Times New Roman"/>
            </a:endParaRPr>
          </a:p>
        </p:txBody>
      </p:sp>
      <p:sp>
        <p:nvSpPr>
          <p:cNvPr id="2" name="PlaceHolder 1"/>
          <p:cNvSpPr>
            <a:spLocks noGrp="1"/>
          </p:cNvSpPr>
          <p:nvPr>
            <p:ph type="sldNum" idx="8"/>
          </p:nvPr>
        </p:nvSpPr>
        <p:spPr/>
        <p:txBody>
          <a:bodyPr/>
          <a:p>
            <a:fld id="{6418F65C-3D92-4392-9BF6-3D91163413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09 Schedule</a:t>
            </a:r>
            <a:endParaRPr b="0" lang="en-US" sz="2400" spc="-1" strike="noStrike">
              <a:solidFill>
                <a:srgbClr val="000000"/>
              </a:solidFill>
              <a:latin typeface="Times New Roman"/>
            </a:endParaRPr>
          </a:p>
        </p:txBody>
      </p:sp>
      <p:sp>
        <p:nvSpPr>
          <p:cNvPr id="183" name=""/>
          <p:cNvSpPr/>
          <p:nvPr/>
        </p:nvSpPr>
        <p:spPr>
          <a:xfrm>
            <a:off x="380880" y="1981080"/>
            <a:ext cx="7925040" cy="285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surveyed MPs to see if, as a result of AMS rollout, AV 2010 is needed;</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Email issued 8/10/2009, subject “Annual Validation 2010 to Do or Not to Do”. </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responses to the PWG Chair.</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ussion at the PWG meetings have occurred.</a:t>
            </a:r>
            <a:endParaRPr b="0" lang="en-US" sz="2400" spc="-1" strike="noStrike">
              <a:solidFill>
                <a:srgbClr val="000000"/>
              </a:solidFill>
              <a:latin typeface="Times New Roman"/>
            </a:endParaRPr>
          </a:p>
        </p:txBody>
      </p:sp>
      <p:sp>
        <p:nvSpPr>
          <p:cNvPr id="2" name="PlaceHolder 1"/>
          <p:cNvSpPr>
            <a:spLocks noGrp="1"/>
          </p:cNvSpPr>
          <p:nvPr>
            <p:ph type="sldNum" idx="8"/>
          </p:nvPr>
        </p:nvSpPr>
        <p:spPr/>
        <p:txBody>
          <a:bodyPr/>
          <a:p>
            <a:fld id="{E07FD38A-8703-4AD5-A71D-C2D688F74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Loss Factors in Relation to UFE?</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UFE by cause is problematic if not impossibl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MS deployment, trending analysis of UFE can be performed to determine if expected results are confirmed, i.e. a decrease of UFE due to elimination of profile modeling error, some aggregation issues, and some theft problems that are components of UFE. </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meters should reduce profile modeling error, settlement daily allocation and some theft portions of UFE leaving perhaps error in distribution losses as the main remaining driver of UF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FE is +- 1.0% for the majority intervals in 2008 even with the Hurricanes so how close is close enough. </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see 1% variance significant in market cost.</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istent bias is preferred over unpredictable variation.</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MCPE a good estimator of UFE cost?</a:t>
            </a:r>
            <a:endParaRPr b="0" lang="en-US" sz="1800" spc="-1" strike="noStrike">
              <a:solidFill>
                <a:srgbClr val="000000"/>
              </a:solidFill>
              <a:latin typeface="Arial"/>
            </a:endParaRPr>
          </a:p>
        </p:txBody>
      </p:sp>
      <p:sp>
        <p:nvSpPr>
          <p:cNvPr id="185"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BA87CBB-6FDB-4AFB-AB27-12058E321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Loss Factors in Relation to UFE?</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are encouraged in ERCOT protocols to perform and refresh loss load studies that support the ERCOT loss coefficient methodology.</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TDSPs refresh loss studies during tariff filings where accuracy of the study has oversight from the PUCT and Intervener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of distribution losses change very little over tim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could perform regression analysis to develop the coefficients for TDSP loss studies by computing loss amounts at several different load levels ranging from lowest to highest loads and to apply the study results to develop the coefficients specified in the protocol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hree coefficients method is significantly better than the original straight line method in Protocols. The three coefficient method more accurately describes the loss factor over various load level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osses by TDSP may be preferred over one statewide method.</a:t>
            </a:r>
            <a:endParaRPr b="0" lang="en-US" sz="1800" spc="-1" strike="noStrike">
              <a:solidFill>
                <a:srgbClr val="000000"/>
              </a:solidFill>
              <a:latin typeface="Arial"/>
            </a:endParaRPr>
          </a:p>
        </p:txBody>
      </p:sp>
      <p:sp>
        <p:nvSpPr>
          <p:cNvPr id="187"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 (continued)</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D810873-49F8-48C5-ADEE-3CB61E00B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Loss Factors in Relation to UFE?</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for Engineering Professional at the TDSP performing TDSP loss calculations vs. system-wide regression analysis on ERCOT load and generation values which could include influence from other factors such as theft as opposed isolating just losse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ts of a TDSP loss study are time consuming and costly to perform.</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t after Nodal resource constraints are lifted or AMS installation is completed.</a:t>
            </a:r>
            <a:endParaRPr b="0" lang="en-US" sz="2000" spc="-1" strike="noStrike">
              <a:solidFill>
                <a:srgbClr val="000000"/>
              </a:solidFill>
              <a:latin typeface="Arial"/>
            </a:endParaRPr>
          </a:p>
          <a:p>
            <a:pPr lvl="2" marL="1371600" indent="-4572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Discussions shall continue at the next PWG meeting.</a:t>
            </a:r>
            <a:endParaRPr b="0" lang="en-US" sz="2000" spc="-1" strike="noStrike">
              <a:solidFill>
                <a:srgbClr val="000000"/>
              </a:solidFill>
              <a:latin typeface="Arial"/>
            </a:endParaRPr>
          </a:p>
        </p:txBody>
      </p:sp>
      <p:sp>
        <p:nvSpPr>
          <p:cNvPr id="189"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 (continued)</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FFBB998-74BB-4CC5-B150-FBA9C3DE98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in progress for Annual Validation suspension per AMS.</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PRR language defining the process and scenarios for changing IDRs to Advanced Meters reviewed at the request of the Retail Metering Working Group at PWG Meeting on 9/23/2009.  Revision may recycle through the PWG after considered at RMWG.</a:t>
            </a:r>
            <a:endParaRPr b="0" lang="en-US" sz="2800" spc="-1" strike="noStrike">
              <a:solidFill>
                <a:srgbClr val="000000"/>
              </a:solidFill>
              <a:latin typeface="Arial"/>
            </a:endParaRPr>
          </a:p>
        </p:txBody>
      </p:sp>
      <p:sp>
        <p:nvSpPr>
          <p:cNvPr id="191"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PRR Status</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2582D59-80EF-491F-9F6B-95CE44785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9-10-06T11:41:06Z</dcterms:modified>
  <cp:revision>364</cp:revision>
  <dc:subject/>
  <dc:title>PowerPoint Presentation</dc:title>
</cp:coreProperties>
</file>