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423A-5CBD-4BA0-90AF-ED64FEB3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91B-ECD2-4519-9891-8898E96A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4F1-1182-4410-B9AD-D0C1F3FC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1DF-97F2-4174-B214-00E4022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5CE-3D9B-430F-996E-D979EA5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B42-5AEF-42A9-BCF7-5CD07768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ACB6-EC86-4299-87E4-AB3A5D89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975-C567-4D0B-99C3-17224CC3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D43D-D4F8-4C87-AF6F-37E44C56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DE4-D9E4-401C-A8E8-5D892A4A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D4C-5AE4-4793-9066-C8FA7C2F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EEC3-F099-46A4-9EC9-445CC61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F6A-8FC3-4E1A-9608-3680A4F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8C2-75D5-45AD-A923-7D3AE6F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CEF6-AD8B-4805-870A-ACF443C0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64F-F214-4335-8325-774BB3C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5E62-803D-4567-B5A4-8B99AA8A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45DD-FEFF-4B10-928D-186CA795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AD7D-F19A-4A34-AE09-6D6C16AA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DC8-3872-435A-87F5-1771E9F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950-9FAD-4A32-9788-F03C68C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F6A-7202-4279-805E-822D096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00D-8B89-4885-BE2C-F845028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703-5012-497D-96C3-6112C3E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207-A527-4509-8BF5-EDA14F2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DC4-9824-4983-B676-E3ED4FF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9F15-8ED8-4722-962D-3A0D27986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EFB1-7425-48B2-9F54-0E6708D27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 1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D46-8DEF-4287-99E5-09F216F5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vot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 Outlin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Section Outlines to reflect actual subsection names an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ction doesn’t exist yet, indicated (Propo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67C-9B29-4919-BB1A-CF2FE66E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5, Section 8, ERCOT Settlement and Invoic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n 20 day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will consider Comments and language changes, October 27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6, Update to Section 12, Renewable Energy Credits, align with PRR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n 20 day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will consider Comments and language changes, October 27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5A5B-B04E-4C5F-9E5A-4E327ACF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COPMGRR, Section 8.2, Settlement Statements and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sent to Market Rules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ections being work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, Registration and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2, Settlement and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143-6E73-4EDE-88F9-2C2AF68D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RCOT.com Satisfaction Survey Resul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Users Participated in Survey, 57%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Locating Information and Timely P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of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Other ISO Web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/Updates to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90E3-7CD7-4F3A-A92A-52ECA6D8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RCOT.com Satisfaction Survey Resul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unctionality, Suggested Improv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Protoco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earch to remove certain types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eturns (too many doc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by data – most recent to 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AF9-03EA-40EA-A45A-169EBECC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RCOT.com Satisfaction Survey Resul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ble to Other ISO Websites, Suggested Improv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forecast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er number 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ing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ance schedule (ERCOT &amp; T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refreshing to avoid screen scra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calendar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posting of historical/archiv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1AEE-CD2C-4E8E-8681-EF26EADAD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RCOT.com Satisfaction Survey Resul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that can be implemented now to ERCOT.co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 search appl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d search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Cal feature added by end of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SS feeds by end of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esign of meeting calendar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mprovements will be implemented by SCR755 which is tabled at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6F4-5CB4-44B4-97D2-34968451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September 2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9:30am – 12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5, Section 8, ERCOT Settlement and Invo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6, Section 12, REC, align with PRR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PMGRR, Section 8.1, Settlement Statements and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other sections of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9C90-6A21-49CD-9580-33160932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10-05T18:14:07Z</dcterms:modified>
  <cp:revision>182</cp:revision>
  <dc:subject/>
  <dc:title>CCWG 2006 Accomplishments</dc:title>
</cp:coreProperties>
</file>