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4D3D-5EF3-417B-88A0-5661F8805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MT meeting July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Communications Workshop –Fall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 Workshops – 3 locations 2x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Market Training classess currently Nodal 101 and LSE 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1B7F-870E-4D08-A703-473251B9E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0A6F-BF44-4D77-8F07-046EE817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77A5-FD34-46A4-9BD7-B39B4C85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9397-3B6D-423A-9B5D-FE655DD1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B313-FA69-41CC-B918-10A58EAA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19C4-1AD4-42A2-829D-A59B2024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AC47-DD20-4463-8C50-1D4C0AD9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4DB0-F2FC-4E9F-B6A0-36E56CB9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6D1B-58B9-493C-9D7E-8D0EEF1C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02AE-10A1-42DC-8D80-C029D7F5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64A8-27B2-40E7-A43F-415D7BC4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2F39-D617-44A1-B30C-89253B19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6111-2491-4692-A6D1-0604B60B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112E-7F77-47CB-9D08-87FE00C08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0EEE-05F9-4839-B9FF-39BC1F597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2B24-C9A9-4D5B-A911-8FF29C18E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20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dt" idx="21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78E4-A218-434E-9E5B-B2BBB768E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logo"/>
          <p:cNvPicPr/>
          <p:nvPr/>
        </p:nvPicPr>
        <p:blipFill>
          <a:blip r:embed="rId3"/>
          <a:stretch/>
        </p:blipFill>
        <p:spPr>
          <a:xfrm>
            <a:off x="228600" y="701640"/>
            <a:ext cx="1066680" cy="4269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 October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RS 1: Market Trials Kick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CC3B-CD4D-4672-BFE5-CB6D5E1ED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6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40E7-4BEA-4C5A-9BF6-4E4284C46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8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dt" idx="9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AE0B-2655-4B53-8831-540DBB533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ftr" idx="10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dt" idx="11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72A2-7399-41BA-8959-AC430CD1C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dt" idx="1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7501-DB13-4172-AB50-A984059C3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4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dt" idx="15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C6D6-3F08-46EE-85BD-83660473E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ftr" idx="16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dt" idx="1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09B8-8479-48C9-B84C-D0B155E34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18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dt" idx="19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kki G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adiness and Trans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articipant Readiness Approach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Date Placeholder 7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 Octo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8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RS 1: Market Trials Kick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utreach Program Over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ntative Outreach Scheduled Site Vis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876920" y="1523880"/>
          <a:ext cx="4038480" cy="4459320"/>
        </p:xfrm>
        <a:graphic>
          <a:graphicData uri="http://schemas.openxmlformats.org/drawingml/2006/table">
            <a:tbl>
              <a:tblPr/>
              <a:tblGrid>
                <a:gridCol w="3047760"/>
                <a:gridCol w="990720"/>
              </a:tblGrid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 ENERGY COMP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D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T ENERGY L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OS ELECTR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TU (Bryan Texas Utilities)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-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DF SUEZ ENERGY MARKE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-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CIDEN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LL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-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ASKA POWER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M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XTERA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PANEL (Houst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-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 PANEL (Houst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-EAGLE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TEND ENERGY L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 AND R Q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533520" y="1523880"/>
          <a:ext cx="4038480" cy="4496040"/>
        </p:xfrm>
        <a:graphic>
          <a:graphicData uri="http://schemas.openxmlformats.org/drawingml/2006/table">
            <a:tbl>
              <a:tblPr/>
              <a:tblGrid>
                <a:gridCol w="3276360"/>
                <a:gridCol w="762120"/>
              </a:tblGrid>
              <a:tr h="257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5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ER COLORADO RIVER AUTH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7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PINE COR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-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5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TIN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7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OF GAR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-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5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AZ POWER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7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n-N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P 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5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MINANT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7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NERGY WIND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5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ERICAN ELECTRIC POWER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7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ELLATION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5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L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7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EG ENERGY RESOUR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-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5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G TEXAS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D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7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LCRUM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D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GLE ENERGY PARTNERS I LP (QSE, RE, SQ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D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7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D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518" name="Picture 2" descr="C:\Program Files\Microsoft Office\MEDIA\OFFICE12\Bullets\BD21301_.gif"/>
          <p:cNvPicPr/>
          <p:nvPr/>
        </p:nvPicPr>
        <p:blipFill>
          <a:blip r:embed="rId1"/>
          <a:stretch/>
        </p:blipFill>
        <p:spPr>
          <a:xfrm>
            <a:off x="380880" y="236232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3" descr="C:\Program Files\Microsoft Office\MEDIA\OFFICE12\Bullets\BD21301_.gif"/>
          <p:cNvPicPr/>
          <p:nvPr/>
        </p:nvPicPr>
        <p:blipFill>
          <a:blip r:embed="rId2"/>
          <a:stretch/>
        </p:blipFill>
        <p:spPr>
          <a:xfrm>
            <a:off x="380880" y="185724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C:\Program Files\Microsoft Office\MEDIA\OFFICE12\Bullets\BD21301_.gif"/>
          <p:cNvPicPr/>
          <p:nvPr/>
        </p:nvPicPr>
        <p:blipFill>
          <a:blip r:embed="rId3"/>
          <a:stretch/>
        </p:blipFill>
        <p:spPr>
          <a:xfrm>
            <a:off x="380880" y="26193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C:\Program Files\Microsoft Office\MEDIA\OFFICE12\Bullets\BD21301_.gif"/>
          <p:cNvPicPr/>
          <p:nvPr/>
        </p:nvPicPr>
        <p:blipFill>
          <a:blip r:embed="rId4"/>
          <a:stretch/>
        </p:blipFill>
        <p:spPr>
          <a:xfrm>
            <a:off x="380880" y="33814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C:\Program Files\Microsoft Office\MEDIA\OFFICE12\Bullets\BD21301_.gif"/>
          <p:cNvPicPr/>
          <p:nvPr/>
        </p:nvPicPr>
        <p:blipFill>
          <a:blip r:embed="rId5"/>
          <a:stretch/>
        </p:blipFill>
        <p:spPr>
          <a:xfrm>
            <a:off x="380880" y="208584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C:\Program Files\Microsoft Office\MEDIA\OFFICE12\Bullets\BD21301_.gif"/>
          <p:cNvPicPr/>
          <p:nvPr/>
        </p:nvPicPr>
        <p:blipFill>
          <a:blip r:embed="rId6"/>
          <a:stretch/>
        </p:blipFill>
        <p:spPr>
          <a:xfrm>
            <a:off x="380880" y="391464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Date Placeholder 16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7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utreach Program Over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Participant “Menu” Topics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al Program Update (mandatory) – (75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ess Center and Readiness Scorecard – (45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-Ahead Market Implementation – (60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 Revenue Rights (CRR) Auction Implementation – (60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ility Unit Commitment Implementation – (60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metry &amp; Load Frequency Control (LFC) – (30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Market Processes &amp; Systems – (60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al Settlement and Billing Processes – (60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s and Data Extracts – (30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Date Placeholder 8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ooter Placeholder 9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utreach Program Over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is represented by ERCO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gram consists of subject matter experts, client services representatives, and an offsite coordina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nsite visit has four members including at least one representative from each of the following areas based on selected top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Operation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ess project team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Date Placeholder 7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ooter Placeholder 8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utreach Program Over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ess Outreach Contact Inform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lcolm C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Participant Readiness Outreach Coordin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carter@erco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914) 434-4404 mob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Date Placeholder 7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ooter Placeholder 9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adiness Center Approach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Rounded Rectangle 11"/>
          <p:cNvSpPr/>
          <p:nvPr/>
        </p:nvSpPr>
        <p:spPr>
          <a:xfrm>
            <a:off x="5216400" y="380880"/>
            <a:ext cx="1822680" cy="70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 and Qua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ounded Rectangle 19"/>
          <p:cNvSpPr/>
          <p:nvPr/>
        </p:nvSpPr>
        <p:spPr>
          <a:xfrm>
            <a:off x="5216400" y="1187280"/>
            <a:ext cx="1822680" cy="709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box Web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ounded Rectangle 20"/>
          <p:cNvSpPr/>
          <p:nvPr/>
        </p:nvSpPr>
        <p:spPr>
          <a:xfrm>
            <a:off x="5205240" y="1995480"/>
            <a:ext cx="1833840" cy="709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ounded Rectangle 21"/>
          <p:cNvSpPr/>
          <p:nvPr/>
        </p:nvSpPr>
        <p:spPr>
          <a:xfrm>
            <a:off x="5189400" y="2792520"/>
            <a:ext cx="1849680" cy="709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T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ounded Rectangle 22"/>
          <p:cNvSpPr/>
          <p:nvPr/>
        </p:nvSpPr>
        <p:spPr>
          <a:xfrm>
            <a:off x="5173560" y="3587760"/>
            <a:ext cx="1865520" cy="709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iness Score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ounded Rectangle 23"/>
          <p:cNvSpPr/>
          <p:nvPr/>
        </p:nvSpPr>
        <p:spPr>
          <a:xfrm>
            <a:off x="5175360" y="5191200"/>
            <a:ext cx="1881000" cy="709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al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ounded Rectangle 24"/>
          <p:cNvSpPr/>
          <p:nvPr/>
        </p:nvSpPr>
        <p:spPr>
          <a:xfrm>
            <a:off x="5187960" y="5979960"/>
            <a:ext cx="1897200" cy="70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iness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ounded Rectangle 25"/>
          <p:cNvSpPr/>
          <p:nvPr/>
        </p:nvSpPr>
        <p:spPr>
          <a:xfrm>
            <a:off x="2693880" y="3193920"/>
            <a:ext cx="1808280" cy="709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iness Center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5" name="Elbow Connector 27"/>
          <p:cNvCxnSpPr>
            <a:stCxn id="554" idx="0"/>
            <a:endCxn id="547" idx="1"/>
          </p:cNvCxnSpPr>
          <p:nvPr/>
        </p:nvCxnSpPr>
        <p:spPr>
          <a:xfrm flipH="1" flipV="1" rot="5400000">
            <a:off x="3177360" y="1154880"/>
            <a:ext cx="2459160" cy="1620000"/>
          </a:xfrm>
          <a:prstGeom prst="bentConnector2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556" name="Elbow Connector 27"/>
          <p:cNvCxnSpPr>
            <a:stCxn id="554" idx="0"/>
            <a:endCxn id="548" idx="1"/>
          </p:cNvCxnSpPr>
          <p:nvPr/>
        </p:nvCxnSpPr>
        <p:spPr>
          <a:xfrm flipH="1" flipV="1" rot="5400000">
            <a:off x="3580200" y="1557720"/>
            <a:ext cx="1653120" cy="1620000"/>
          </a:xfrm>
          <a:prstGeom prst="bentConnector2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557" name="Elbow Connector 27"/>
          <p:cNvCxnSpPr>
            <a:stCxn id="554" idx="0"/>
            <a:endCxn id="549" idx="1"/>
          </p:cNvCxnSpPr>
          <p:nvPr/>
        </p:nvCxnSpPr>
        <p:spPr>
          <a:xfrm flipH="1" flipV="1" rot="5400000">
            <a:off x="3978720" y="1967760"/>
            <a:ext cx="843480" cy="1608840"/>
          </a:xfrm>
          <a:prstGeom prst="bentConnector2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558" name="Elbow Connector 27"/>
          <p:cNvCxnSpPr>
            <a:stCxn id="554" idx="3"/>
            <a:endCxn id="550" idx="1"/>
          </p:cNvCxnSpPr>
          <p:nvPr/>
        </p:nvCxnSpPr>
        <p:spPr>
          <a:xfrm flipV="1">
            <a:off x="4501800" y="3146040"/>
            <a:ext cx="687960" cy="403920"/>
          </a:xfrm>
          <a:prstGeom prst="bentConnector3">
            <a:avLst>
              <a:gd name="adj1" fmla="val 5000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559" name="Elbow Connector 27"/>
          <p:cNvCxnSpPr>
            <a:stCxn id="554" idx="3"/>
            <a:endCxn id="551" idx="1"/>
          </p:cNvCxnSpPr>
          <p:nvPr/>
        </p:nvCxnSpPr>
        <p:spPr>
          <a:xfrm>
            <a:off x="4501800" y="3549600"/>
            <a:ext cx="672120" cy="394560"/>
          </a:xfrm>
          <a:prstGeom prst="bentConnector3">
            <a:avLst>
              <a:gd name="adj1" fmla="val 5000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560" name="Elbow Connector 27"/>
          <p:cNvCxnSpPr>
            <a:stCxn id="554" idx="2"/>
            <a:endCxn id="552" idx="1"/>
          </p:cNvCxnSpPr>
          <p:nvPr/>
        </p:nvCxnSpPr>
        <p:spPr>
          <a:xfrm flipH="1" rot="16200000">
            <a:off x="3565440" y="3934800"/>
            <a:ext cx="1641960" cy="1578960"/>
          </a:xfrm>
          <a:prstGeom prst="bentConnector2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561" name="Elbow Connector 27"/>
          <p:cNvCxnSpPr>
            <a:stCxn id="554" idx="2"/>
            <a:endCxn id="553" idx="1"/>
          </p:cNvCxnSpPr>
          <p:nvPr/>
        </p:nvCxnSpPr>
        <p:spPr>
          <a:xfrm flipH="1" rot="16200000">
            <a:off x="3176280" y="4323240"/>
            <a:ext cx="2431080" cy="1591560"/>
          </a:xfrm>
          <a:prstGeom prst="bentConnector2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562" name="Rounded Rectangle 49"/>
          <p:cNvSpPr/>
          <p:nvPr/>
        </p:nvSpPr>
        <p:spPr>
          <a:xfrm>
            <a:off x="212760" y="3193920"/>
            <a:ext cx="1835280" cy="709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al.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Elbow Connector 27"/>
          <p:cNvCxnSpPr>
            <a:stCxn id="562" idx="3"/>
            <a:endCxn id="554" idx="1"/>
          </p:cNvCxnSpPr>
          <p:nvPr/>
        </p:nvCxnSpPr>
        <p:spPr>
          <a:xfrm>
            <a:off x="2048040" y="3549240"/>
            <a:ext cx="646560" cy="1080"/>
          </a:xfrm>
          <a:prstGeom prst="bentConnector3">
            <a:avLst>
              <a:gd name="adj1" fmla="val 49972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564" name="Elbow Connector 27"/>
          <p:cNvCxnSpPr>
            <a:stCxn id="550" idx="3"/>
            <a:endCxn id="565" idx="1"/>
          </p:cNvCxnSpPr>
          <p:nvPr/>
        </p:nvCxnSpPr>
        <p:spPr>
          <a:xfrm flipV="1">
            <a:off x="7038720" y="2809080"/>
            <a:ext cx="214920" cy="337320"/>
          </a:xfrm>
          <a:prstGeom prst="bentConnector3">
            <a:avLst>
              <a:gd name="adj1" fmla="val 5000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566" name="Elbow Connector 27"/>
          <p:cNvCxnSpPr>
            <a:stCxn id="550" idx="3"/>
            <a:endCxn id="567" idx="1"/>
          </p:cNvCxnSpPr>
          <p:nvPr/>
        </p:nvCxnSpPr>
        <p:spPr>
          <a:xfrm>
            <a:off x="7038720" y="3146040"/>
            <a:ext cx="2149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568" name="Rectangle 98"/>
          <p:cNvSpPr/>
          <p:nvPr/>
        </p:nvSpPr>
        <p:spPr>
          <a:xfrm>
            <a:off x="2048040" y="1790640"/>
            <a:ext cx="1238040" cy="914400"/>
          </a:xfrm>
          <a:prstGeom prst="rect">
            <a:avLst/>
          </a:prstGeom>
          <a:solidFill>
            <a:srgbClr val="8ac6c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nding 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99"/>
          <p:cNvSpPr/>
          <p:nvPr/>
        </p:nvSpPr>
        <p:spPr>
          <a:xfrm>
            <a:off x="7543800" y="4176720"/>
            <a:ext cx="1238400" cy="914400"/>
          </a:xfrm>
          <a:prstGeom prst="rect">
            <a:avLst/>
          </a:prstGeom>
          <a:solidFill>
            <a:srgbClr val="8ac6c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ill down 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Straight Arrow Connector 101"/>
          <p:cNvCxnSpPr>
            <a:stCxn id="569" idx="0"/>
            <a:endCxn id="567" idx="2"/>
          </p:cNvCxnSpPr>
          <p:nvPr/>
        </p:nvCxnSpPr>
        <p:spPr>
          <a:xfrm flipV="1">
            <a:off x="8161920" y="3761640"/>
            <a:ext cx="6840" cy="415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571" name="Elbow Connector 105"/>
          <p:cNvCxnSpPr>
            <a:stCxn id="568" idx="2"/>
            <a:endCxn id="554" idx="0"/>
          </p:cNvCxnSpPr>
          <p:nvPr/>
        </p:nvCxnSpPr>
        <p:spPr>
          <a:xfrm flipH="1" rot="16200000">
            <a:off x="2887560" y="2484000"/>
            <a:ext cx="489600" cy="930960"/>
          </a:xfrm>
          <a:prstGeom prst="bentConnector3">
            <a:avLst>
              <a:gd name="adj1" fmla="val 49963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572" name="Picture 4" descr="C:\Documents and Settings\bmcelfresh\My Documents\My Pictures\Microsoft Clip Organizer\j0440035.png"/>
          <p:cNvPicPr/>
          <p:nvPr/>
        </p:nvPicPr>
        <p:blipFill>
          <a:blip r:embed="rId1"/>
          <a:stretch/>
        </p:blipFill>
        <p:spPr>
          <a:xfrm>
            <a:off x="6595920" y="1996920"/>
            <a:ext cx="432000" cy="3067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" descr="C:\Documents and Settings\bmcelfresh\My Documents\My Pictures\Microsoft Clip Organizer\j0440035.png"/>
          <p:cNvPicPr/>
          <p:nvPr/>
        </p:nvPicPr>
        <p:blipFill>
          <a:blip r:embed="rId2"/>
          <a:stretch/>
        </p:blipFill>
        <p:spPr>
          <a:xfrm>
            <a:off x="6608880" y="2792520"/>
            <a:ext cx="430200" cy="3045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C:\Documents and Settings\bmcelfresh\My Documents\My Pictures\Microsoft Clip Organizer\j0440035.png"/>
          <p:cNvPicPr/>
          <p:nvPr/>
        </p:nvPicPr>
        <p:blipFill>
          <a:blip r:embed="rId3"/>
          <a:stretch/>
        </p:blipFill>
        <p:spPr>
          <a:xfrm>
            <a:off x="6595920" y="5979960"/>
            <a:ext cx="432000" cy="304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C:\Documents and Settings\bmcelfresh\My Documents\My Pictures\Microsoft Clip Organizer\j0440035.png"/>
          <p:cNvPicPr/>
          <p:nvPr/>
        </p:nvPicPr>
        <p:blipFill>
          <a:blip r:embed="rId4"/>
          <a:stretch/>
        </p:blipFill>
        <p:spPr>
          <a:xfrm>
            <a:off x="8397720" y="4148280"/>
            <a:ext cx="432000" cy="3045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" descr="C:\Documents and Settings\bmcelfresh\My Documents\My Pictures\Microsoft Clip Organizer\j0424826.wmf"/>
          <p:cNvPicPr/>
          <p:nvPr/>
        </p:nvPicPr>
        <p:blipFill>
          <a:blip r:embed="rId5"/>
          <a:stretch/>
        </p:blipFill>
        <p:spPr>
          <a:xfrm>
            <a:off x="4111560" y="3124080"/>
            <a:ext cx="460440" cy="408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" descr="C:\Documents and Settings\bmcelfresh\My Documents\My Pictures\Microsoft Clip Organizer\j0424826.wmf"/>
          <p:cNvPicPr/>
          <p:nvPr/>
        </p:nvPicPr>
        <p:blipFill>
          <a:blip r:embed="rId6"/>
          <a:stretch/>
        </p:blipFill>
        <p:spPr>
          <a:xfrm>
            <a:off x="6595920" y="3587760"/>
            <a:ext cx="460440" cy="407880"/>
          </a:xfrm>
          <a:prstGeom prst="rect">
            <a:avLst/>
          </a:prstGeom>
          <a:ln w="0">
            <a:noFill/>
          </a:ln>
        </p:spPr>
      </p:pic>
      <p:sp>
        <p:nvSpPr>
          <p:cNvPr id="567" name="Rounded Rectangle 38"/>
          <p:cNvSpPr/>
          <p:nvPr/>
        </p:nvSpPr>
        <p:spPr>
          <a:xfrm>
            <a:off x="7253280" y="3216240"/>
            <a:ext cx="1833480" cy="546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iness Dashbo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ounded Rectangle 52"/>
          <p:cNvSpPr/>
          <p:nvPr/>
        </p:nvSpPr>
        <p:spPr>
          <a:xfrm>
            <a:off x="7253280" y="2536920"/>
            <a:ext cx="1833480" cy="546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ounded Rectangle 64"/>
          <p:cNvSpPr/>
          <p:nvPr/>
        </p:nvSpPr>
        <p:spPr>
          <a:xfrm>
            <a:off x="5175360" y="4381560"/>
            <a:ext cx="1881000" cy="709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al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9" name="Elbow Connector 27"/>
          <p:cNvCxnSpPr>
            <a:stCxn id="554" idx="2"/>
            <a:endCxn id="578" idx="1"/>
          </p:cNvCxnSpPr>
          <p:nvPr/>
        </p:nvCxnSpPr>
        <p:spPr>
          <a:xfrm flipH="1" rot="16200000">
            <a:off x="3969360" y="3530880"/>
            <a:ext cx="834120" cy="1578960"/>
          </a:xfrm>
          <a:prstGeom prst="bentConnector2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580" name="TextBox 71"/>
          <p:cNvSpPr/>
          <p:nvPr/>
        </p:nvSpPr>
        <p:spPr>
          <a:xfrm>
            <a:off x="142920" y="5346720"/>
            <a:ext cx="3378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iness Center U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nodal.ercot.com/readiness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Date Placeholder 39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adiness Center Home Pag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83" name="Picture 3" descr=""/>
          <p:cNvPicPr/>
          <p:nvPr/>
        </p:nvPicPr>
        <p:blipFill>
          <a:blip r:embed="rId1"/>
          <a:srcRect l="18047" t="13999" r="19692" b="3037"/>
          <a:stretch/>
        </p:blipFill>
        <p:spPr>
          <a:xfrm>
            <a:off x="3586320" y="1368360"/>
            <a:ext cx="5478480" cy="4572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 txBox="1"/>
          <p:nvPr/>
        </p:nvSpPr>
        <p:spPr>
          <a:xfrm>
            <a:off x="12240" y="1279440"/>
            <a:ext cx="356868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2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endar with Market Calls, Training Classes, Outreach Visits, and Semin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release a graphical, downloadable cale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documents:  2010 Market Trials Road Map, and the Nodal Integrated Program Sche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8"/>
          <p:cNvSpPr/>
          <p:nvPr/>
        </p:nvSpPr>
        <p:spPr>
          <a:xfrm>
            <a:off x="7829640" y="2952720"/>
            <a:ext cx="10666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10 Market Trials Roadma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dal Integrated Program Schedu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9"/>
          <p:cNvSpPr/>
          <p:nvPr/>
        </p:nvSpPr>
        <p:spPr>
          <a:xfrm>
            <a:off x="7839000" y="3753000"/>
            <a:ext cx="1028880" cy="352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adiness Mailbo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" descr="C:\Documents and Settings\bmcelfresh\My Documents\My Pictures\Microsoft Clip Organizer\j0424826.wmf"/>
          <p:cNvPicPr/>
          <p:nvPr/>
        </p:nvPicPr>
        <p:blipFill>
          <a:blip r:embed="rId2"/>
          <a:stretch/>
        </p:blipFill>
        <p:spPr>
          <a:xfrm>
            <a:off x="8604360" y="2952720"/>
            <a:ext cx="460440" cy="4078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C:\Documents and Settings\bmcelfresh\My Documents\My Pictures\Microsoft Clip Organizer\j0424826.wmf"/>
          <p:cNvPicPr/>
          <p:nvPr/>
        </p:nvPicPr>
        <p:blipFill>
          <a:blip r:embed="rId3"/>
          <a:stretch/>
        </p:blipFill>
        <p:spPr>
          <a:xfrm>
            <a:off x="7981920" y="4621320"/>
            <a:ext cx="460440" cy="407880"/>
          </a:xfrm>
          <a:prstGeom prst="rect">
            <a:avLst/>
          </a:prstGeom>
          <a:ln w="0">
            <a:noFill/>
          </a:ln>
        </p:spPr>
      </p:pic>
      <p:sp>
        <p:nvSpPr>
          <p:cNvPr id="589" name="Date Placeholder 10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ooter Placeholder 11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3" descr=""/>
          <p:cNvPicPr/>
          <p:nvPr/>
        </p:nvPicPr>
        <p:blipFill>
          <a:blip r:embed="rId1"/>
          <a:srcRect l="18977" t="15452" r="20822" b="33672"/>
          <a:stretch/>
        </p:blipFill>
        <p:spPr>
          <a:xfrm>
            <a:off x="3639960" y="1352520"/>
            <a:ext cx="5351760" cy="283212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adiness Contac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228600" y="1066680"/>
            <a:ext cx="3733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contact information for the following specific area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Read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Read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ess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ess Score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ooter Placeholder 1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Date Placeholder 7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8678880" y="6539040"/>
            <a:ext cx="465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0E80-7B6D-4E15-BDAB-63F9F0F447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4" descr="C:\Documents and Settings\bmcelfresh\My Documents\My Pictures\Microsoft Clip Organizer\j0440035.png"/>
          <p:cNvPicPr/>
          <p:nvPr/>
        </p:nvPicPr>
        <p:blipFill>
          <a:blip r:embed="rId2"/>
          <a:stretch/>
        </p:blipFill>
        <p:spPr>
          <a:xfrm>
            <a:off x="7891560" y="2268360"/>
            <a:ext cx="787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3" descr=""/>
          <p:cNvPicPr/>
          <p:nvPr/>
        </p:nvPicPr>
        <p:blipFill>
          <a:blip r:embed="rId1"/>
          <a:srcRect l="18927" t="15423" r="20796" b="10450"/>
          <a:stretch/>
        </p:blipFill>
        <p:spPr>
          <a:xfrm>
            <a:off x="3259080" y="1298520"/>
            <a:ext cx="5419800" cy="417348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utreach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Footer Placeholder 1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Date Placeholder 9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-360" y="1279440"/>
            <a:ext cx="336852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endar of Site Visit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s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reach 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sitory of Market Readiness Series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8678880" y="6539040"/>
            <a:ext cx="465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B53A-10A5-449B-BCD3-F9D3C24345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4" descr="C:\Documents and Settings\bmcelfresh\My Documents\My Pictures\Microsoft Clip Organizer\j0440035.png"/>
          <p:cNvPicPr/>
          <p:nvPr/>
        </p:nvPicPr>
        <p:blipFill>
          <a:blip r:embed="rId2"/>
          <a:stretch/>
        </p:blipFill>
        <p:spPr>
          <a:xfrm>
            <a:off x="7210440" y="4325760"/>
            <a:ext cx="787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"/>
          <p:cNvPicPr/>
          <p:nvPr/>
        </p:nvPicPr>
        <p:blipFill>
          <a:blip r:embed="rId1"/>
          <a:srcRect l="31016" t="15301" r="20640" b="4569"/>
          <a:stretch/>
        </p:blipFill>
        <p:spPr>
          <a:xfrm>
            <a:off x="228600" y="1822320"/>
            <a:ext cx="4130640" cy="428796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Tria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Content Placeholder 2"/>
          <p:cNvSpPr/>
          <p:nvPr/>
        </p:nvSpPr>
        <p:spPr>
          <a:xfrm>
            <a:off x="88920" y="914400"/>
            <a:ext cx="433080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7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ed by functional areas and readiness instead of  Market Trials ph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26"/>
          <p:cNvSpPr/>
          <p:nvPr/>
        </p:nvSpPr>
        <p:spPr>
          <a:xfrm>
            <a:off x="77760" y="3957480"/>
            <a:ext cx="1332000" cy="2214720"/>
          </a:xfrm>
          <a:prstGeom prst="ellips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Content Placeholder 2"/>
          <p:cNvSpPr/>
          <p:nvPr/>
        </p:nvSpPr>
        <p:spPr>
          <a:xfrm>
            <a:off x="4270320" y="914400"/>
            <a:ext cx="440856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5763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rials functional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35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35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gestion Revenue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35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-Ahead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35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 Unit Comm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35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age 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35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S/Sett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35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63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35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Read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35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 Read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63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drill-down page will areas for key documents, dashboards, recent presentations, and status rep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30"/>
          <p:cNvSpPr/>
          <p:nvPr/>
        </p:nvSpPr>
        <p:spPr>
          <a:xfrm>
            <a:off x="6786360" y="5943600"/>
            <a:ext cx="21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 Examples subject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4" descr="C:\Documents and Settings\bmcelfresh\My Documents\My Pictures\Microsoft Clip Organizer\j0440035.png"/>
          <p:cNvPicPr/>
          <p:nvPr/>
        </p:nvPicPr>
        <p:blipFill>
          <a:blip r:embed="rId2"/>
          <a:stretch/>
        </p:blipFill>
        <p:spPr>
          <a:xfrm>
            <a:off x="1832040" y="5487840"/>
            <a:ext cx="788760" cy="557280"/>
          </a:xfrm>
          <a:prstGeom prst="rect">
            <a:avLst/>
          </a:prstGeom>
          <a:ln w="0">
            <a:noFill/>
          </a:ln>
        </p:spPr>
      </p:pic>
      <p:cxnSp>
        <p:nvCxnSpPr>
          <p:cNvPr id="612" name="Straight Arrow Connector 28"/>
          <p:cNvCxnSpPr>
            <a:stCxn id="608" idx="6"/>
          </p:cNvCxnSpPr>
          <p:nvPr/>
        </p:nvCxnSpPr>
        <p:spPr>
          <a:xfrm flipV="1">
            <a:off x="1409400" y="2742480"/>
            <a:ext cx="3375720" cy="232164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613" name="Date Placeholder 10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ooter Placeholder 11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4" descr=""/>
          <p:cNvPicPr/>
          <p:nvPr/>
        </p:nvPicPr>
        <p:blipFill>
          <a:blip r:embed="rId1"/>
          <a:srcRect l="35528" t="62458" r="45330" b="25018"/>
          <a:stretch/>
        </p:blipFill>
        <p:spPr>
          <a:xfrm>
            <a:off x="3200400" y="714240"/>
            <a:ext cx="2341440" cy="119088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adiness Scorecard Approach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70920" y="2133720"/>
            <a:ext cx="968220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Read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MP’s responsibilities through Marke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ls and Go-L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lup by MP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s weighted by Load Ratio Sh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applic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 view of individual MP’s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Read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ERCOT’s responsibilities through Market Trials and Go-L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internal areas outside of Market Trials like procedure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8678880" y="6539040"/>
            <a:ext cx="465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FD78-ADAA-4822-9293-E927F0A155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Content Placeholder 5"/>
          <p:cNvSpPr/>
          <p:nvPr/>
        </p:nvSpPr>
        <p:spPr>
          <a:xfrm>
            <a:off x="4435560" y="1352520"/>
            <a:ext cx="4211640" cy="38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63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63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13"/>
          <p:cNvSpPr/>
          <p:nvPr/>
        </p:nvSpPr>
        <p:spPr>
          <a:xfrm>
            <a:off x="5727600" y="5715000"/>
            <a:ext cx="34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scorecard.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5"/>
          <p:cNvSpPr/>
          <p:nvPr/>
        </p:nvSpPr>
        <p:spPr>
          <a:xfrm>
            <a:off x="3740760" y="18288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exam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ate Placeholder 9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1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extBox 5" descr=""/>
          <p:cNvPicPr/>
          <p:nvPr/>
        </p:nvPicPr>
        <p:blipFill>
          <a:blip r:embed="rId1"/>
          <a:stretch/>
        </p:blipFill>
        <p:spPr>
          <a:xfrm>
            <a:off x="371520" y="3449520"/>
            <a:ext cx="476280" cy="196380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adiness Touch poi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762120" y="762120"/>
          <a:ext cx="8153280" cy="5438520"/>
        </p:xfrm>
        <a:graphic>
          <a:graphicData uri="http://schemas.openxmlformats.org/drawingml/2006/table">
            <a:tbl>
              <a:tblPr/>
              <a:tblGrid>
                <a:gridCol w="1538280"/>
                <a:gridCol w="2154240"/>
                <a:gridCol w="4460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i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keholder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d meet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 based worksh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working grou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 – November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iculum courses cycle every 6-8 wee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al as needed workshops in 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 courses available through online Learning Management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d site vi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 2009 – March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-selected cont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nd Functional expertise delivered to site vis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by site vi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10 – November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ggered by metric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emptive site visit prior to formal repor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ly-developed mitigation plan to improve readiness metr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9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ess Ce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 – Go-L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.ercot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recard.ercot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80" name="Rectangle 7"/>
          <p:cNvSpPr/>
          <p:nvPr/>
        </p:nvSpPr>
        <p:spPr>
          <a:xfrm>
            <a:off x="380880" y="3457440"/>
            <a:ext cx="1905120" cy="1952640"/>
          </a:xfrm>
          <a:prstGeom prst="rect">
            <a:avLst/>
          </a:prstGeom>
          <a:solidFill>
            <a:srgbClr val="bbe0e3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adiness Scorecard Sitema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8707320" y="6539040"/>
            <a:ext cx="465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BF28-51CA-4921-8A19-AEC16EEBBF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ounded Rectangle 19"/>
          <p:cNvSpPr/>
          <p:nvPr/>
        </p:nvSpPr>
        <p:spPr>
          <a:xfrm>
            <a:off x="112680" y="3408480"/>
            <a:ext cx="1865520" cy="709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ess Score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ounded Rectangle 32"/>
          <p:cNvSpPr/>
          <p:nvPr/>
        </p:nvSpPr>
        <p:spPr>
          <a:xfrm>
            <a:off x="1293840" y="2136600"/>
            <a:ext cx="1865160" cy="709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Read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ounded Rectangle 33"/>
          <p:cNvSpPr/>
          <p:nvPr/>
        </p:nvSpPr>
        <p:spPr>
          <a:xfrm>
            <a:off x="1322280" y="4637160"/>
            <a:ext cx="1865520" cy="70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 Read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9" name="Elbow Connector 27"/>
          <p:cNvCxnSpPr>
            <a:stCxn id="626" idx="0"/>
            <a:endCxn id="627" idx="1"/>
          </p:cNvCxnSpPr>
          <p:nvPr/>
        </p:nvCxnSpPr>
        <p:spPr>
          <a:xfrm flipH="1" flipV="1" rot="5400000">
            <a:off x="711000" y="2825280"/>
            <a:ext cx="918360" cy="248400"/>
          </a:xfrm>
          <a:prstGeom prst="bentConnector2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630" name="Elbow Connector 27"/>
          <p:cNvCxnSpPr>
            <a:stCxn id="626" idx="2"/>
            <a:endCxn id="628" idx="1"/>
          </p:cNvCxnSpPr>
          <p:nvPr/>
        </p:nvCxnSpPr>
        <p:spPr>
          <a:xfrm flipH="1" rot="16200000">
            <a:off x="746640" y="4416120"/>
            <a:ext cx="873720" cy="276840"/>
          </a:xfrm>
          <a:prstGeom prst="bentConnector2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631" name="Rounded Rectangle 41"/>
          <p:cNvSpPr/>
          <p:nvPr/>
        </p:nvSpPr>
        <p:spPr>
          <a:xfrm>
            <a:off x="3340080" y="1743120"/>
            <a:ext cx="2289240" cy="1504800"/>
          </a:xfrm>
          <a:prstGeom prst="roundRect">
            <a:avLst>
              <a:gd name="adj" fmla="val 16667"/>
            </a:avLst>
          </a:prstGeom>
          <a:solidFill>
            <a:srgbClr val="8ac6c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RCOT Score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y Overall Read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y Market Tria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ctional 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ounded Rectangle 42"/>
          <p:cNvSpPr/>
          <p:nvPr/>
        </p:nvSpPr>
        <p:spPr>
          <a:xfrm>
            <a:off x="3359160" y="4267080"/>
            <a:ext cx="2289240" cy="1447920"/>
          </a:xfrm>
          <a:prstGeom prst="roundRect">
            <a:avLst>
              <a:gd name="adj" fmla="val 16667"/>
            </a:avLst>
          </a:prstGeom>
          <a:solidFill>
            <a:srgbClr val="8ac6c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MP Score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y MP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y Market Trials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cti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ounded Rectangle 45"/>
          <p:cNvSpPr/>
          <p:nvPr/>
        </p:nvSpPr>
        <p:spPr>
          <a:xfrm>
            <a:off x="5896080" y="4276800"/>
            <a:ext cx="2289240" cy="143496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ECURE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P’s individual metrics  by Market Trials Functi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P’s Summary Page of all me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4" name="Elbow Connector 27"/>
          <p:cNvCxnSpPr>
            <a:stCxn id="627" idx="3"/>
            <a:endCxn id="631" idx="1"/>
          </p:cNvCxnSpPr>
          <p:nvPr/>
        </p:nvCxnSpPr>
        <p:spPr>
          <a:xfrm>
            <a:off x="3158640" y="2490480"/>
            <a:ext cx="181800" cy="5400"/>
          </a:xfrm>
          <a:prstGeom prst="bentConnector3">
            <a:avLst>
              <a:gd name="adj1" fmla="val 5000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635" name="Elbow Connector 27"/>
          <p:cNvCxnSpPr>
            <a:stCxn id="628" idx="3"/>
            <a:endCxn id="632" idx="1"/>
          </p:cNvCxnSpPr>
          <p:nvPr/>
        </p:nvCxnSpPr>
        <p:spPr>
          <a:xfrm flipV="1">
            <a:off x="3187800" y="4990320"/>
            <a:ext cx="172080" cy="1080"/>
          </a:xfrm>
          <a:prstGeom prst="bentConnector3">
            <a:avLst>
              <a:gd name="adj1" fmla="val 49895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636" name="Elbow Connector 27"/>
          <p:cNvCxnSpPr>
            <a:stCxn id="632" idx="3"/>
            <a:endCxn id="633" idx="1"/>
          </p:cNvCxnSpPr>
          <p:nvPr/>
        </p:nvCxnSpPr>
        <p:spPr>
          <a:xfrm>
            <a:off x="5648400" y="4990680"/>
            <a:ext cx="248400" cy="3960"/>
          </a:xfrm>
          <a:prstGeom prst="bentConnector3">
            <a:avLst>
              <a:gd name="adj1" fmla="val 49927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637" name="Date Placeholder 1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ooter Placeholder 16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adiness Scorecard Rollou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TextBox 6"/>
          <p:cNvSpPr/>
          <p:nvPr/>
        </p:nvSpPr>
        <p:spPr>
          <a:xfrm>
            <a:off x="355680" y="5943600"/>
            <a:ext cx="445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 Criteria for the metrics will be in the Market Trials Hand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517680" y="2039760"/>
          <a:ext cx="8132760" cy="2918160"/>
        </p:xfrm>
        <a:graphic>
          <a:graphicData uri="http://schemas.openxmlformats.org/drawingml/2006/table">
            <a:tbl>
              <a:tblPr/>
              <a:tblGrid>
                <a:gridCol w="1625400"/>
                <a:gridCol w="1627200"/>
                <a:gridCol w="1627200"/>
                <a:gridCol w="1625760"/>
                <a:gridCol w="1627200"/>
              </a:tblGrid>
              <a:tr h="90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rec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ober ’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ember ’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ember ’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uary ‘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</a:tr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Readi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me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/RT      Submissions &amp;    Qual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Readi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7160" indent="-2271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27160" indent="-2271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RC Compli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ce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42" name="Rectangle 9"/>
          <p:cNvSpPr/>
          <p:nvPr/>
        </p:nvSpPr>
        <p:spPr>
          <a:xfrm>
            <a:off x="5030280" y="496404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s month of metric ini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8707320" y="6539040"/>
            <a:ext cx="465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2233-1910-417F-B886-1BB879EA6A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Date Placeholder 8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ooter Placeholder 11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12"/>
          <p:cNvSpPr/>
          <p:nvPr/>
        </p:nvSpPr>
        <p:spPr>
          <a:xfrm>
            <a:off x="533520" y="990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s will be initiated on the Readiness Scorecard when the metric is being used to measure a relevant market trials phase…only those that are active are vi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2" descr="Picture"/>
          <p:cNvPicPr/>
          <p:nvPr/>
        </p:nvPicPr>
        <p:blipFill>
          <a:blip r:embed="rId1"/>
          <a:stretch/>
        </p:blipFill>
        <p:spPr>
          <a:xfrm>
            <a:off x="6718320" y="4267080"/>
            <a:ext cx="2233440" cy="193356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Training Approach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Nodal training cours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to facilitate entry into the nodal mar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 on Nodal Readiness 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 terms an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s between Nodal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impacts on business and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rse Sche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urses offered on 6-week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offered in Austin, Houston &amp; Da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-based training available on dem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Date Placeholder 7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8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Training Curriculu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152280" y="825480"/>
          <a:ext cx="8915400" cy="4851360"/>
        </p:xfrm>
        <a:graphic>
          <a:graphicData uri="http://schemas.openxmlformats.org/drawingml/2006/table">
            <a:tbl>
              <a:tblPr/>
              <a:tblGrid>
                <a:gridCol w="3457800"/>
                <a:gridCol w="1360440"/>
                <a:gridCol w="758880"/>
                <a:gridCol w="1858680"/>
                <a:gridCol w="147960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rs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ro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b-Based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Nodal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Entity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Training Prog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ion Revenue R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s of L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101 for Wind Gen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Model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IE QSE Ope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lements 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88" name="TextBox 9"/>
          <p:cNvSpPr/>
          <p:nvPr/>
        </p:nvSpPr>
        <p:spPr>
          <a:xfrm>
            <a:off x="3137040" y="5791320"/>
            <a:ext cx="60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All Web-Based courses are currentl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Training Curriculum Detai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should atten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audience varies by course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etails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nodal.ercot.com/training/readiness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rse Content and Prerequi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 course descriptions available 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://nodal.ercot.com/training/courses/index.ht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5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ther Nodal Training Cours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14480" y="1320840"/>
          <a:ext cx="8915400" cy="3238560"/>
        </p:xfrm>
        <a:graphic>
          <a:graphicData uri="http://schemas.openxmlformats.org/drawingml/2006/table">
            <a:tbl>
              <a:tblPr/>
              <a:tblGrid>
                <a:gridCol w="3284280"/>
                <a:gridCol w="3002040"/>
                <a:gridCol w="1293840"/>
                <a:gridCol w="13352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ro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b-B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lement Worksh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06440" indent="-228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ion Revenue R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06440" indent="-228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-Ahead 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06440" indent="-228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-Time, including Reliability Unit Commi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able Cost Worksh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ed several times in 200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le again as need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 User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age Scheduler User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97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ooter Placeholder 5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Upcoming Training Opportuniti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76320" y="1020600"/>
          <a:ext cx="8915400" cy="4694400"/>
        </p:xfrm>
        <a:graphic>
          <a:graphicData uri="http://schemas.openxmlformats.org/drawingml/2006/table">
            <a:tbl>
              <a:tblPr/>
              <a:tblGrid>
                <a:gridCol w="2921040"/>
                <a:gridCol w="1923840"/>
                <a:gridCol w="4070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rt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Training Prog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ndham Garden Hotel (Aust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Nodal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land Fire Admin Building (Dall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Met Center (Aust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Entity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land Fire Admin Building (Dall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EG (Newark, NJ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Nodal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Met Center (Aust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 Settlement Worksh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Met Center (Aust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Entity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Met Center (Aust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 Settlement Worksh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pine (Houst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Met Center (Aust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pine (Houst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 Settlement Worksh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ndham Garden Hotel (Aust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s of L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Met Center (Aust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501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5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Upcoming Training Opportuniti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76320" y="1143000"/>
          <a:ext cx="8915400" cy="3017880"/>
        </p:xfrm>
        <a:graphic>
          <a:graphicData uri="http://schemas.openxmlformats.org/drawingml/2006/table">
            <a:tbl>
              <a:tblPr/>
              <a:tblGrid>
                <a:gridCol w="2921040"/>
                <a:gridCol w="1923840"/>
                <a:gridCol w="4070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rt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 Settlement Worksh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mber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land Fire Admin Building (Dall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Nodal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mber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pine (Houst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mber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aska (Dall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Entity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mbe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pine (Houst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mber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EG (Newark, NJ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mber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point ECDC (Houst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 Settlement Worksh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mber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EG (Newark, NJ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 Settlement Worksh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mber 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EG (Newark, NJ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05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5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utreach Program Approach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components to the Outreach Progra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609480" y="1447920"/>
          <a:ext cx="7620120" cy="4343400"/>
        </p:xfrm>
        <a:graphic>
          <a:graphicData uri="http://schemas.openxmlformats.org/drawingml/2006/table">
            <a:tbl>
              <a:tblPr/>
              <a:tblGrid>
                <a:gridCol w="3810240"/>
                <a:gridCol w="380988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cheduled Site Vi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tandby Site Vi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00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5360" indent="-2188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2d2d8a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Market Participant will receive a “menu” with a number of offerings available to the Market Participant and duration of the offering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25360" indent="-2188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2d2d8a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rket Participant will be able to prioritize and select up to 6 hours of the available offerings to build what its scheduled site visit will entai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25360" indent="-2188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2d2d8a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cheduled Outreach site visits will occur between October 2009 and March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25360" indent="-2188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2d2d8a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site visits are tentatively plann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5360" indent="-2188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2d2d8a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ggered by Readiness Scorecard metric change going Yellow or Green and unable to resolve without onsite evaluat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25360" indent="-2188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2d2d8a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ally being conducted to collaboratively develop a mitigation plan to the get market participant “back to green”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25360" indent="-2188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2d2d8a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igation plans will document the issue and the finding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25360" indent="-2188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2d2d8a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by site visits may occur between March 2010 and September 201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10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ate Placeholder 8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9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 1: Market Trials Ki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Nodal Communications</dc:creator>
  <dc:description/>
  <dc:language>en-US</dc:language>
  <cp:lastModifiedBy>mmereness</cp:lastModifiedBy>
  <dcterms:modified xsi:type="dcterms:W3CDTF">2009-10-07T22:31:40Z</dcterms:modified>
  <cp:revision>554</cp:revision>
  <dc:subject>April Board Meeting</dc:subject>
  <dc:title>Nodal Program Update</dc:title>
</cp:coreProperties>
</file>