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BCFBA-4A6D-40F9-91D6-78DC080E8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2318F-432B-4D84-B95C-193177C6D36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ogize for me not being in attend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8416C-21CB-4323-B31C-02D9C90F22C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113A4-A089-47C8-A093-E7168919864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DCAB2-4850-4239-ADA7-CDF6CEEF903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B8931-3C9F-4D4E-9DD3-97A55606414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FA59C-81ED-4D15-9FA3-46B1E918AF1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B1E8-D09E-4C3A-8A58-4607C4AC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3E5B-A36C-49FD-BB67-F1D16F0C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79E9-C987-4D9F-A17F-2D0C735F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CE674-2195-41D0-A36A-E62B5B2E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A3A8-A5F6-4C68-8933-26141825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BA89-D6DA-493C-94A9-75A6B2F4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C54C-8E49-4EE8-B118-3BE013C6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4847-7C74-4245-AAA6-B1FF312F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7E36-479C-4948-85D2-FAEEB27B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20B0-10B9-452D-BCD3-95960462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893D-4CA0-478A-9653-13EE4504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4BBF-B93A-48DE-883D-B8E7281A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2AF8-144A-486C-953C-B81F2DA9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D52B-8A39-434C-84ED-2EF98029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4A06-D7D0-4101-81C4-7F63B4C6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88A8-286C-494E-AEF8-C3978A99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847B-6083-4B47-8C9A-3820B1E3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E00AD-B84C-417C-B519-F952E75E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EF61-05B3-4755-818A-161401C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6945-1F55-499E-B6AA-3E0240EE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5F1E-89CB-4F7C-B7E0-46968C1B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B45D-EBBC-4F01-A526-B6BB1B59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800B-B529-41D8-A26B-620ED49C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BC9D-8D32-41BE-A025-FCE6E3DE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2B61-6351-426F-8440-76666CC0A9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" name="Object 23"/>
          <p:cNvGraphicFramePr/>
          <p:nvPr/>
        </p:nvGraphicFramePr>
        <p:xfrm>
          <a:off x="0" y="0"/>
          <a:ext cx="251460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5146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9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aphicFrame>
        <p:nvGraphicFramePr>
          <p:cNvPr id="61" name="Object 33"/>
          <p:cNvGraphicFramePr/>
          <p:nvPr/>
        </p:nvGraphicFramePr>
        <p:xfrm>
          <a:off x="0" y="0"/>
          <a:ext cx="525780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2578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5A12-2B35-4D1E-8610-65B077E05A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NPRR 174 Reconsideration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tober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In Brief</a:t>
            </a: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Nodal Protocol Revision Request (NPRR) 17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August, 2009, WMS made a recommendation to adopt a percentage adder to FIP (10%) with no bandwidth (“Y”=10%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fter WMS and one day before the September TAC meeting , NRG Texas Power and City of Eastland submitted alternative NPRR language to propose to convert the X variable to a $0.50 adder, rather than a percentage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omments stated that the “$0.50 adder better reflects imbalance fees and transport fees that are usually contracted by the resource owners at a set rate and not a percentage of FIP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 must be a percentage due to system limitations, and changing X will be a manual process by ERCOT staff, the NRG/Eastland comments proposed to change X twice a month, on the same schedule that other verifiable cost manual updates are don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C tabled the NPRR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 one mont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MS Vote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Vote #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motion made by the Consumer Segment to </a:t>
            </a:r>
            <a:r>
              <a:rPr b="0" lang="en-US" sz="2000" spc="-1" strike="noStrike">
                <a:solidFill>
                  <a:srgbClr val="ffc000"/>
                </a:solidFill>
                <a:latin typeface="Garamond"/>
              </a:rPr>
              <a:t>adopt the previous WMS percentage recommendation with a bandwidth introduced (“Y” value) of 2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motion failed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es – 4 (3 Consumer and 1 Ind. Rep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 – 1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bstain – 3 (2 Co-op and 1 IOU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Vote #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motion made by the IPM segment to </a:t>
            </a:r>
            <a:r>
              <a:rPr b="0" lang="en-US" sz="2000" spc="-1" strike="noStrike">
                <a:solidFill>
                  <a:srgbClr val="ffc000"/>
                </a:solidFill>
                <a:latin typeface="Garamond"/>
              </a:rPr>
              <a:t>endorse the 09022009 NRG/Eastland Comment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motion passed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es – 1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 –  3 (Consume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bstain – 2 (1 IG and 1 IOU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MS Recommenda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10312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TAC Approve endorse NPRR174 as amended by the 9/2/09 NRG Texas Power and City of Eastland com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3" descr=""/>
          <p:cNvPicPr/>
          <p:nvPr/>
        </p:nvPicPr>
        <p:blipFill>
          <a:blip r:embed="rId1"/>
          <a:stretch/>
        </p:blipFill>
        <p:spPr>
          <a:xfrm>
            <a:off x="371520" y="1133640"/>
            <a:ext cx="85532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MPj04394070000[1]"/>
          <p:cNvPicPr/>
          <p:nvPr/>
        </p:nvPicPr>
        <p:blipFill>
          <a:blip r:embed="rId1"/>
          <a:stretch/>
        </p:blipFill>
        <p:spPr>
          <a:xfrm>
            <a:off x="2590920" y="1066680"/>
            <a:ext cx="43416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9:20:50Z</dcterms:created>
  <dc:creator>Barbara Clemenhagen</dc:creator>
  <dc:description/>
  <dc:language>en-US</dc:language>
  <cp:lastModifiedBy>Barbara Clemenhagen</cp:lastModifiedBy>
  <dcterms:modified xsi:type="dcterms:W3CDTF">2009-09-22T14:37:00Z</dcterms:modified>
  <cp:revision>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