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pperplate Gothic Bold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F9FF-DC73-4B0D-95B5-08B78EA2EDEE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B273-2E7B-48EC-ABB3-AD35F835C3ED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F008-3A2D-45B6-8617-2B47100D46EF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15B-B9EF-4695-AA3A-5E0AD1ED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E71-F0D7-403E-A1C6-985EACC0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AB4-CBC9-40AD-B450-9559365E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5A3-21EC-4306-B294-EC1E21B5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C28B-6C17-48C9-9EA4-AED856AE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FD24-BD9E-4AB6-839B-04087D9B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176F-0FAD-4AE3-83E2-F1D97495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4715-3F39-46F3-ACF1-BC5A84DD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D4A7-2F20-4F12-A528-C992905B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CCF1-7A3E-4CF2-B4DF-8AE0728F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4F23-16A4-45F3-896E-88E9B4EB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583-9A3A-4B63-9194-989423EC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D5B8-91D1-4E74-B57C-E3077ACF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CF36-1298-4B3E-90FA-F9D14912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9774-CE5E-43AF-BCCA-704D843C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7410-1951-4704-A805-F8E9B3AE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3B6B-5C6C-461B-8E7B-94910C02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45C-9F08-4486-9F3C-0D332AF0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E65-EA7F-44E3-A979-A79DDDD3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36D-531E-4513-96FF-766CE526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A8A-A100-4F81-A83D-33958222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7C4-ACBE-426E-8577-E01848E1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16B-35F2-4018-B888-C842773C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677-C9ED-4648-A38C-4F44B4C3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pperplate Gothic Bold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CEB5-A558-4673-B10A-6C203B409216}" type="slidenum"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pperplate Gothic Bold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2D1D-933C-4C0C-BF6E-0068F32C8F84}" type="slidenum"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205740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RMS   UPDATE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3000" y="3429000"/>
            <a:ext cx="3505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6600"/>
                  </a:outerShdw>
                </a:effectLst>
                <a:latin typeface="Copperplate Gothic Bold"/>
              </a:rPr>
              <a:t>October 2009</a:t>
            </a:r>
            <a:endParaRPr b="1" lang="en-US" sz="32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pperplate Gothic Bold"/>
              </a:rPr>
              <a:t>RMGRR080</a:t>
            </a:r>
            <a:r>
              <a:rPr b="1" lang="en-US" sz="2400" spc="-1" strike="noStrike">
                <a:solidFill>
                  <a:srgbClr val="ffffff"/>
                </a:solidFill>
                <a:latin typeface="Copperplate Gothic Bold"/>
              </a:rPr>
              <a:t>, Define E-mail Address Format for the Detail Record in the Customer Billing Contact Information File</a:t>
            </a:r>
            <a:endParaRPr b="0" lang="en-US" sz="24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pperplate Gothic Bold"/>
              </a:rPr>
              <a:t>Note: Market Testing to occur in October</a:t>
            </a: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pperplate Gothic Bold"/>
              </a:rPr>
              <a:t>CMGRR010</a:t>
            </a:r>
            <a:r>
              <a:rPr b="1" lang="en-US" sz="2400" spc="-1" strike="noStrike">
                <a:solidFill>
                  <a:srgbClr val="ffffff"/>
                </a:solidFill>
                <a:latin typeface="Copperplate Gothic Bold"/>
              </a:rPr>
              <a:t>, Synchronization of Competitive Metering Guide with PRR804, Revisions to Section 21 Appeal Process</a:t>
            </a:r>
            <a:endParaRPr b="0" lang="en-US" sz="2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Voting Items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09-09-28T15:39:49Z</dcterms:modified>
  <cp:revision>19</cp:revision>
  <dc:subject/>
  <dc:title>R.M.S UPDATE</dc:title>
</cp:coreProperties>
</file>