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9540E-ED1F-4D50-91A0-05409E866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91EFB-8F2E-40F7-8532-8E78D91A0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80EFF-2DD8-4363-AB8C-F92A04F3D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7EAE8-A952-4211-BF64-0E0A215A3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62783-DC63-48B4-AAF8-0A8F068C6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DE238-5202-4895-A708-3DA95719C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22B67-DFC1-4B3E-8B75-01DAD5ADE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295CC-3E5D-403C-A2A4-B7279440E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3704E-9322-4521-B109-11B10BE70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B442D-8754-455E-BF58-451A459CF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D8346-7A1E-49DD-8E04-168FBB730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161B7-2F2D-442A-9220-C9044388C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3688-A719-4A1F-8F69-AA9A7D0A4A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7427880"/>
          </a:xfrm>
          <a:prstGeom prst="rect">
            <a:avLst/>
          </a:prstGeom>
          <a:ln w="0">
            <a:noFill/>
          </a:ln>
        </p:spPr>
      </p:pic>
      <p:sp>
        <p:nvSpPr>
          <p:cNvPr id="42" name="PlaceHolder 1"/>
          <p:cNvSpPr>
            <a:spLocks noGrp="1"/>
          </p:cNvSpPr>
          <p:nvPr>
            <p:ph type="title"/>
          </p:nvPr>
        </p:nvSpPr>
        <p:spPr>
          <a:xfrm>
            <a:off x="60948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TWG Report to TAC</a:t>
            </a:r>
            <a:endParaRPr b="0" lang="en-US" sz="4400" spc="-1" strike="noStrike">
              <a:solidFill>
                <a:srgbClr val="000000"/>
              </a:solidFill>
              <a:latin typeface="Arial"/>
            </a:endParaRPr>
          </a:p>
        </p:txBody>
      </p:sp>
      <p:sp>
        <p:nvSpPr>
          <p:cNvPr id="43" name="PlaceHolder 2"/>
          <p:cNvSpPr>
            <a:spLocks noGrp="1"/>
          </p:cNvSpPr>
          <p:nvPr>
            <p:ph type="subTitle"/>
          </p:nvPr>
        </p:nvSpPr>
        <p:spPr>
          <a:xfrm>
            <a:off x="1295280" y="3048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ctober 1,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nry Durrwacht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A180409-CCDC-4D74-882E-7879C304310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ort from September RTWG Meeting</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on flywheel storage technology from Power Tree Cor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building a flywheel that is 120" tall and 48" wide weighing approximately 80 thousand pounds (4</a:t>
            </a:r>
            <a:r>
              <a:rPr b="0" lang="en-US" sz="2400" spc="-1" strike="noStrike" baseline="30000">
                <a:solidFill>
                  <a:srgbClr val="000000"/>
                </a:solidFill>
                <a:latin typeface="Arial"/>
              </a:rPr>
              <a:t>th</a:t>
            </a:r>
            <a:r>
              <a:rPr b="0" lang="en-US" sz="2400" spc="-1" strike="noStrike">
                <a:solidFill>
                  <a:srgbClr val="000000"/>
                </a:solidFill>
                <a:latin typeface="Arial"/>
              </a:rPr>
              <a:t> generation desig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exterior containment is 11 feet wide, 11 feet tall and 30 feet long (about the size of a semi-trail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characteristics (at 10,000 rpm):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 megawatt hou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 input/output efficiency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1B8105D-D973-4959-809C-629EBEC4246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4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5">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ort from September RTWG Meeting</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 on concentrating solar power (CSP) technology by Acciona Solar Power, Inc.</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data on Nevada Solar One, a 64 MW CSP plant placed in service in 2007</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P output fits ERCOT summer peak better than wind due to thermal storage capabilit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iona is working on at least two utility-scale CSP projects in ERCOT</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 name="" descr=""/>
          <p:cNvPicPr/>
          <p:nvPr/>
        </p:nvPicPr>
        <p:blipFill>
          <a:blip r:embed="rId1"/>
          <a:stretch/>
        </p:blipFill>
        <p:spPr>
          <a:xfrm>
            <a:off x="4876920" y="2209680"/>
            <a:ext cx="4114800" cy="2743200"/>
          </a:xfrm>
          <a:prstGeom prst="rect">
            <a:avLst/>
          </a:prstGeom>
          <a:ln w="0">
            <a:noFill/>
          </a:ln>
        </p:spPr>
      </p:pic>
      <p:sp>
        <p:nvSpPr>
          <p:cNvPr id="4" name="PlaceHolder 3"/>
          <p:cNvSpPr>
            <a:spLocks noGrp="1"/>
          </p:cNvSpPr>
          <p:nvPr>
            <p:ph type="sldNum" idx="3"/>
          </p:nvPr>
        </p:nvSpPr>
        <p:spPr/>
        <p:txBody>
          <a:bodyPr/>
          <a:p>
            <a:fld id="{2534DF3D-6B6E-4A86-94E0-66928168A391}" type="slidenum">
              <a:t>3</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7">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7">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7">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ort from September RTWG Meeting</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ed whitepapers 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 Ramping Events (Walter Rei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applications for storage technologies in ERCOT (Steve Iss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discussion centered around need for additional ERCOT resources (human and computer) to accomplish many of the issues that the RTWG has identified and that the Market Participants have addressed through new PRRs and NPR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for TAC consideration: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increasingly large amounts of variable renewable resources be reliably integrated into the ERCOT grid given the limited amount of resources (financial and personnel) likely to be available to ERCOT in the foreseeable futur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A4585A8-6B9F-4FBA-97F8-B7D5E2DBE5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Work</a:t>
            </a:r>
            <a:endParaRPr b="0" lang="en-US" sz="4400" spc="-1" strike="noStrike">
              <a:solidFill>
                <a:srgbClr val="000000"/>
              </a:solidFill>
              <a:latin typeface="Arial"/>
            </a:endParaRPr>
          </a:p>
        </p:txBody>
      </p:sp>
      <p:sp>
        <p:nvSpPr>
          <p:cNvPr id="52" name="PlaceHolder 2"/>
          <p:cNvSpPr>
            <a:spLocks noGrp="1"/>
          </p:cNvSpPr>
          <p:nvPr>
            <p:ph/>
          </p:nvPr>
        </p:nvSpPr>
        <p:spPr>
          <a:xfrm>
            <a:off x="456840" y="1600200"/>
            <a:ext cx="7620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input from ERCOT Board (on Oct. 19) on draft Texas Renewables Implementation Plan (TRIP) with the intent to finalize that document by the end of this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3</a:t>
            </a:r>
            <a:r>
              <a:rPr b="0" lang="en-US" sz="2800" spc="-1" strike="noStrike" baseline="30000">
                <a:solidFill>
                  <a:srgbClr val="000000"/>
                </a:solidFill>
                <a:latin typeface="Arial"/>
              </a:rPr>
              <a:t>rd</a:t>
            </a:r>
            <a:r>
              <a:rPr b="0" lang="en-US" sz="2800" spc="-1" strike="noStrike">
                <a:solidFill>
                  <a:srgbClr val="000000"/>
                </a:solidFill>
                <a:latin typeface="Arial"/>
              </a:rPr>
              <a:t> Quarter Report for the PUCT and submit for TAC approval in Novemb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on applicability of storage technologies in ERCOT from an outside expert (December 2009).</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193CCF8-D85F-480F-A530-EB76713E9A3B}"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601200" cy="6864480"/>
          </a:xfrm>
          <a:prstGeom prst="rect">
            <a:avLst/>
          </a:prstGeom>
          <a:ln w="0">
            <a:noFill/>
          </a:ln>
        </p:spPr>
      </p:pic>
      <p:sp>
        <p:nvSpPr>
          <p:cNvPr id="5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B6B7D9C-EB0E-4C63-9A5F-384FD586DAAB}"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3:49:35Z</dcterms:created>
  <dc:creator>Henry Durrwachter</dc:creator>
  <dc:description/>
  <dc:language>en-US</dc:language>
  <cp:lastModifiedBy>Luminant Energy 09-18-2009</cp:lastModifiedBy>
  <dcterms:modified xsi:type="dcterms:W3CDTF">2009-09-23T20:35:14Z</dcterms:modified>
  <cp:revision>26</cp:revision>
  <dc:subject/>
  <dc:title>Slide 1</dc:title>
</cp:coreProperties>
</file>