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5E4-F4AA-4629-8850-1C203E8A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4F2-6CE6-46DE-A511-3A9D30F5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BAE8-31E3-425D-99C5-27E7E1F9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BAE-E6B9-4680-B706-4A11C98B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AB2-8A5D-48B7-B131-C925F15B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9BD-35A3-455D-A1C8-0AAD9713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615-54D6-47C6-8975-B2B75938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FEB-8AB0-4FAB-90D2-BE838BAB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F6B-20BC-46F0-91DA-AF000BCD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BF2-451C-4BAC-B331-49FCBE59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E1B-A160-43C7-9BA2-6AA28AE2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5D0-1E1C-4ACB-970D-0EE987E9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34CC-E0AA-4B1E-9E8E-FDC303CAE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10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 (vice-chai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660240"/>
            <a:ext cx="9144000" cy="55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7960" y="322200"/>
            <a:ext cx="866808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7960" y="169920"/>
            <a:ext cx="8668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DCWG Meeting September 9,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e comments on PRR824 Primary Frequency Response from WGRs - defin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August 2009 Frequency Events and evaluate Resource and QSE performance during these ev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Interconnection Primary Frequency Response average performance and Interconnection minimum frequency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esting progress of +/-0.017 Hz governor deadband and linear droop curve on electronic and digital govern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096480" cy="6629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29400" y="9907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= 147.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240" y="460440"/>
            <a:ext cx="9029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560" y="452520"/>
            <a:ext cx="903888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0016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124080" y="380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PS1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143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12 Month Rolling Average = 138.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48720" y="17524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"/>
          <p:cNvSpPr/>
          <p:nvPr/>
        </p:nvSpPr>
        <p:spPr>
          <a:xfrm>
            <a:off x="6915240" y="123840"/>
            <a:ext cx="16192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RCOT as a single control area is exempt from CPS2.  These scores are For Informa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1219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3.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14479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7:13:32Z</dcterms:created>
  <dc:creator>Sydney L. Niemeyer</dc:creator>
  <dc:description/>
  <dc:language>en-US</dc:language>
  <cp:lastModifiedBy>Sydney L. Niemeyer</cp:lastModifiedBy>
  <dcterms:modified xsi:type="dcterms:W3CDTF">2009-09-02T23:59:29Z</dcterms:modified>
  <cp:revision>31</cp:revision>
  <dc:subject/>
  <dc:title>Slide 1</dc:title>
</cp:coreProperties>
</file>