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4658-C58A-4611-94B1-76CE143D3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BAL-001-TRE</a:t>
            </a:r>
            <a:br>
              <a:rPr sz="2000"/>
            </a:br>
            <a:r>
              <a:rPr b="0" lang="en-US" sz="2000" spc="-1" strike="noStrike">
                <a:solidFill>
                  <a:srgbClr val="003296"/>
                </a:solidFill>
                <a:latin typeface="Arial Black"/>
              </a:rPr>
              <a:t>Standard Drafting Team Members, September 2009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dney Niemeyer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.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nth Palani*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nn Weld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n McInty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ard Ill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Ma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l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 Zden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 Alternative Ener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. Gene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new member for ROS approv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ick Terril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uminant Genera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J. James</dc:creator>
  <dc:description/>
  <cp:keywords>ERCOT Waiver SDT CPS2</cp:keywords>
  <dc:language>en-US</dc:language>
  <cp:lastModifiedBy>jjames</cp:lastModifiedBy>
  <dcterms:modified xsi:type="dcterms:W3CDTF">2009-09-02T13:55:36Z</dcterms:modified>
  <cp:revision>97</cp:revision>
  <dc:subject>SAR-003</dc:subject>
  <dc:title>ERCOT Waiver SDT CPS2</dc:title>
</cp:coreProperties>
</file>