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440997-260A-4A81-812C-D47AB90ED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1C589F-E070-43A4-91B3-784348A7D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AD17A4-ACF9-41B5-9547-33009CC2A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8B16D9-F3E9-49D8-AD15-7B78E8D34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119DA0-50F9-49B8-8FFD-C5F352258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6FEE46-4E46-4350-85B5-7ECDDC1BC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B3546D-8481-4AA4-97D6-C0A4C6F43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A3E8-C061-421C-A911-D7C95A4957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E39E-02B5-48D9-8AE1-CDB17F28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1E76-1118-4149-8077-23B45C78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3B8C-B2F6-4330-B2EA-9E64663DFA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EBA4-4EA7-423D-92B3-9AAD3E31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8D88-5A88-48D2-B19D-7E2BBCC7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FDA1-89D8-4B88-BF03-67BF085E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F399-DE24-4A9E-AC98-BD8403A0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1B0E-F8E6-4825-8C90-E2842F41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21EE-3573-4A68-9575-43326C95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D6DD-0EED-4CE8-8035-B849C563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91FD-BDA1-426E-A31B-246A87D3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D661-0237-4E64-843B-ED76D4A6B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D2D3-2FB9-44CC-BC9D-A83B15EB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arking Deck Discuss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ptember 17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ing deck concept approv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on 4/23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on 5/7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Nodal Program Committee on 7/20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on 8/6/2009 (on remand from Bo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of Directors on 8/19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What is the Parking Deck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st of revision requests for Nodal post-Go-Live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med “Not Needed for Nodal Go-Live” by the ERCOT CEO (per PRR7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oard can overturn the CEO determination on app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Board-approved and in-flight items are tr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changes to the Nodal systems will be managed in structured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king deck will serve as input to releas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worksheet on the PPL spreadsheet on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” stakeholder review process takes place for items on the parking d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S, TAC, and Board review and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in gray-boxe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 provided by PRS to indicate relative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Analysis (IA) deferred to a futur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a future date (probably mid-2010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begin completing IAs on parking deck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recommend parking deck items for inclusion in planned post-Go-Live Nodal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keholder process will consider the proposed releases during the yearly project prioritization process and make recommendations to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Data Elements To Be Captur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 Captur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ring Stakeholder Approval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Document (NPRRxxx, NOGRRxxx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r, Submission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O Determination, Determination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Status, Approval Dates (PRS, TAC, B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(Critical, High, High/Medium, Med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ed System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Data Elements To Be Captur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vided by ERCOT at a Futur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Analysis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to De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levant Impact Analysis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ed when an item is added to a post-Go-Live Nodal release for plann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– 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would like to bring parking deck items forward in an orderly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requested that ERCOT document the approach for populating and managing items in the parking 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market agreement of process, reviews will be conducted with impacted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9-16T16:26:43Z</dcterms:modified>
  <cp:revision>438</cp:revision>
  <dc:subject/>
  <dc:title>Instructions</dc:title>
</cp:coreProperties>
</file>