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D6F74-6815-4E12-9133-C6AECA37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B441-57C7-48B2-8746-ADA73D1E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4DC2B-93BD-493B-9E1F-B7E3A78B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F10BB-529F-40CA-8CE1-CAC961C9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930D-4D0D-49CE-BF30-FA44448F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A0F0-D968-4D24-A995-0A742EB6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8751-7CD6-4675-90FE-48CF0A77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F6FF-8A0D-4AE2-94B0-CDF5A464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9417-ACFB-4F12-9DF1-B7E6AD49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02F8-DDDE-4BD6-8E0B-435C8F21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769D-BE90-44F3-A806-9615C50F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1E66-512B-4100-9469-087B1B6C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0F4F-95AC-4BFC-AF4C-918F8EA0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7E27-525D-415A-8AE3-9318E147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AEE8-06B0-497A-A86D-F24B5E53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1657-FF1C-4061-BED0-5BFF4495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C904-7158-4DFF-A3D3-1DEADDFC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A4E2-5F95-4F60-9449-5C3E431F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C270-EEC8-4FCB-81E1-D8A6D2F7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7A97-64A2-4FDD-AD89-AB0E7E68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8C77-6753-4DD6-B6EE-E6BFFCE7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11EC-24EA-4697-830C-9DBDB07E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FEDB-50DE-4749-90F1-840AC283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BD6D0-9A0B-49D6-B7B9-F952288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A930-0FBE-491F-9CA7-58AEBDBF4E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715C-D1DA-434A-A6F0-4BB1BB94DE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Market Credit Working Group Update to W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d. Sept 16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ssumptions Option 3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ount quantities at all Settlement Points – Resource Nodes, Load Zones and Hu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l quantities at gross – no net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hen data not available for CRRAH or QSE at  a settlement point – assume zero val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uantities in M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RRs counted at Source Settlement Po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xclude the follow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10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MR generation volu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10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mergency – BLTR DCT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10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Oklaun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articipant Activity Ratio Share – Option 3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AESp + DAEPp + RTQQESp + RTQQEPp +   SSSKp + SSSRp 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TMG1p *4) + (RTAMLp * 4) + RTDCIMPp + RTOBLsource p + DAOBLsource p + DAOBLRsource p + DAOPTsource p +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OPTRsource p + RTOPTsource p + RTOPTRsource p)   +     (DAFG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     (DAESp + DAEPp + RTQQESp + RTQQEPp + SSSKp + SSSRp + (RTMG1p *4) + (RTAMLp * 4) + RTDCIMPp RTOBLsource p + DAOBLsource p + DAOBLRsource p + DAOPTsource p + DAOPTRsource p + RTOPTsource p + RTOPTRsource p)   +     (DAFGR)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14400" y="1066680"/>
                <a:ext cx="217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Σ</m:t>
                        </m:r>
                      </m:e>
                      <m:lim>
                        <m:r>
                          <m:t xml:space="preserve">p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2"/>
              <p:cNvSpPr txBox="1"/>
              <p:nvPr/>
            </p:nvSpPr>
            <p:spPr>
              <a:xfrm>
                <a:off x="838080" y="4038480"/>
                <a:ext cx="8082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Σ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all q and crra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191120"/>
                <a:ext cx="217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Σ</m:t>
                        </m:r>
                      </m:e>
                      <m:lim>
                        <m:r>
                          <m:t xml:space="preserve">p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tion 1 (Shams to Present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parate presentation to be provided by Sh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ault Methodology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s WMS have a preference for either Option 1, 2 or 3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ce Default methodology is completed, then MCWG will begin working on the other part of Motion 2 (further shortening of DAM) as well as Motion 1 (Short-pay fun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uture Items for MCWG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rection of invoice timing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 bottom up review of existing creditworthiness standards (after CCRO Best Practices effor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tion of settlement cycle due to PRR 568 (7day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rther reductions in settlement cy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includes looking at the potential to reduce the settlement cycle 30% with improved meter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xt Meeting ~MCW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ursday  September  24, 2009  9:30 AM -11:30 CST (phone –Do we need in person/ Webex/longer?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lete recommendation to WMS on Options 1,2 or 3 for default methodology (if neede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n second, Further acceleration of DAM (Completes Motion 2 from W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, Short-pay Fund (Motion 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pefully for the October WMS meeting, work on both WMS motions 1 and 2 will be comple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CWG August 2009 Update Overview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date on MCWG work on the two motions approved by WMS in Ju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chanics of Options 1, 2, and 3 for Default Method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sible direction on preference by WM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 Items for MCW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xt MCWG Me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Update on motions approved by WMS at July Meeting (1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543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view options for shared short-pay fund (Participants and ERCOT In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xpanded loss mutualization for entire market AND accelerated D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ork towards PRR’s to provide to WMS for revie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Update on motions approved by WMS at July Meeting (2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ugust 1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CWG Conference C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ugust 2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CWG Face-to-face Meeting (plus Webex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ptember 2nd</a:t>
            </a:r>
            <a:r>
              <a:rPr b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CWG Conference Cal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MCWG August Meetings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, loss method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ons Identified for Lo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e options identi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Option 2 –Default Methodolog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on 2: 180 days later, ERCOT uplifts default amounts using an allocation based on the absolute value of payments and charges where a participant’s allocated portion relative to the corresponding total activity is equal to the absolute value of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ayment for Energy Offers cleared in the DAM at the Settlement Point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harge for Energy Bids cleared in the DAM at the Settlement Point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ayment or charge for congestion for its Self-Schedules at the Settlement Point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Real Time Energy Imbalance payment or charge at the Settlement Point less amounts paid to RMR Resources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ayment for DC Tie imports at the Settlement Point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Base Point Deviation Charge at the Settlement Point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ayments and charges for CRR ownership – Real Time Obligations, Day Ahead Obligations and Obligations with Refunds, Day Ahead Options and Options with Refunds, Real Time Options and Options with Refunds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ayment for Flow Gates Right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ssumptions –Option 2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0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sider the absolute value of payments and charges at all Settlement Points – Resource Nodes, Load Zones and Hu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0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When payment or charge not available for CRRAH or QSE  – assume zero val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0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xclude the follow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10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MR compens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10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mergency – BLTR DC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10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klaun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10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pacity payments and Voltage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articipant Activity Ratio Share – Option 2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ES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EP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MW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CC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EI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EI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rmr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DCIMP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PD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OBL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OBL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OBLR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OPT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OPTR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OPT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OPTR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 +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FGR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  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ES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EP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MW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CC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EI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EI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rmr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DCIMP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PD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OBL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OBL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OBLR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OPT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OPTR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OPT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TOPTR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source 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  +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FGRAM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9480" y="1143000"/>
                <a:ext cx="217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Σ</m:t>
                        </m:r>
                      </m:e>
                      <m:lim>
                        <m:r>
                          <m:t xml:space="preserve">p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22"/>
              <p:cNvSpPr txBox="1"/>
              <p:nvPr/>
            </p:nvSpPr>
            <p:spPr>
              <a:xfrm>
                <a:off x="838080" y="3962520"/>
                <a:ext cx="8082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Σ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all q and crra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05120" y="3962520"/>
                <a:ext cx="217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Σ</m:t>
                        </m:r>
                      </m:e>
                      <m:lim>
                        <m:r>
                          <m:t xml:space="preserve">p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Option 3 –Default Methodolog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on 3: 180 days later, ERCOT uplifts default amounts using an allocation based on MW where a participant’s allocated portion relative to the corresponding total activity is equal to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amount of its Energy Offers cleared in the DAM at the Settlement Point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amount of its Energy Bids cleared in the DAM at the Settlement Point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amount of its Energy Trades at the Settlement Point where the QSE is the seller; plu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amount of its Energy Trades at the Settlement Point where the QSE is the buyer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amount of its Self-Scheduled quantity at the source and sink Settlement Points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aggregated generation of its Generators less RMR volumes (multiplied times 4) at the Settlement Point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aggregated Load (multiplied times 4) at the Settlement Point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amount of its DC Tie imports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R ownership at the source Settlement Point – Real Time Obligations, Day Ahead Obligations and Obligations with Refunds, Day Ahead Options and Options with Refunds, Real Time Options and Options with Refunds; pl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total ownership of FGR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7:11:00Z</dcterms:created>
  <dc:creator>daviesm</dc:creator>
  <dc:description/>
  <dc:language>en-US</dc:language>
  <cp:lastModifiedBy>daviesm</cp:lastModifiedBy>
  <dcterms:modified xsi:type="dcterms:W3CDTF">2009-09-14T21:43:09Z</dcterms:modified>
  <cp:revision>25</cp:revision>
  <dc:subject/>
  <dc:title>Market Credit Working Group Update to WMS</dc:title>
</cp:coreProperties>
</file>