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274-D143-463F-A83D-9EB6AABE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8FA-E790-40CE-8848-D2A3F99D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C03-CDB1-4F6D-B921-4FE7B752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116-BB53-475E-A342-4AE7EE8E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031F-82C1-4545-A3C8-50B05A98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5FE3-A945-418D-92BF-C5ADD32F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5B43-D408-4C67-BCCD-E7A8A3D2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4E98-3D0C-4B4A-887C-A707FD52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B470-71D7-47A1-A782-55A92220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6ED0-FADE-456C-AC4E-35A58CEF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9B10-F0F1-40AC-B054-0E7E65A3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A62-6260-42A6-8AC4-90E97E9E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4600-C852-4330-9ECA-4E4BDFEE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2F8B-01F3-42C3-B4D9-A8F290FD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A753-833D-48DB-A952-A1587017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FC10-DBB7-42E1-A439-B010D234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BAE2-3C20-4CE3-99E2-1CC8E2A7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476-D9DA-4246-9618-0248DEAD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8F3-F584-4012-BC64-C2195B3F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22C-910D-4438-A7F7-C9077F1C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19E-6358-4ABD-A1D0-8036C256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192-BF68-4E83-B702-06339E1D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17B-B240-4D78-A4EE-FC769996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A21-7737-4C5C-9797-10D13C38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80B8-39F3-423F-9F0A-D7BBE88318C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6213-C22C-4FF5-97E7-F024AD5621E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QSE Managers Working Grou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47560" y="3048120"/>
            <a:ext cx="7010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eting No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4 September, 200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ort to WM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6 September, 200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vid Detelich - Chairper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ad Forecast Error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>
            <a:alphaModFix amt="40000"/>
          </a:blip>
          <a:stretch/>
        </p:blipFill>
        <p:spPr>
          <a:xfrm>
            <a:off x="304920" y="1979640"/>
            <a:ext cx="853416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t Load Err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RCOT to look at same month of previous year to determine A/S quantitie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Load Forecast has been changed by ERCOT Support to the historically most accurate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ad over forecast in the summer months is typically due to rain and overcast conditions in parts of the state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cecff"/>
                </a:solidFill>
                <a:latin typeface="Arial"/>
              </a:rPr>
              <a:t>NSRS and RPRS</a:t>
            </a:r>
            <a:endParaRPr b="0" lang="en-US" sz="4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SRS is for load uncertain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PRS is for expected load and ancillary obliga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load forecast contains an amount of uncertainty or bia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SRS is better suited for this uncertainty instead of RP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ext steps towards updated methodolog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RCOT to determine how to calculate the load bias amou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RCOT to determine how this would be used without a systems chang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MWG will review the data, calculations and conclusions with ERCOT at next meet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cecff"/>
                </a:solidFill>
                <a:latin typeface="Arial"/>
              </a:rPr>
              <a:t>OGRR226, Generation Resource Response Time Requirement</a:t>
            </a:r>
            <a:endParaRPr b="0" lang="en-US" sz="4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ez submitted comments that stated the requirements should be on the QSE and not the resource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MWG reviewed the comments and concurred.  Addresses the staffing requirement issu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WG incorporated the comm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ME present to address the PUN issu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cecff"/>
                </a:solidFill>
                <a:latin typeface="Arial"/>
              </a:rPr>
              <a:t>PRR803 Testing Progress</a:t>
            </a:r>
            <a:endParaRPr b="0" lang="en-US" sz="4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P’s should schedule the 14 minute ramp test with ERC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 have tested, 16 have attested complia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uestion on what time of the day on 10/28 will the change occur.  ERCOT to address at next QMWG meet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xt Meeting: October 7,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nd generation forecast accura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cillary methodology discu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nd Forecast Nodal Issu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QSE Managers Working Group Topic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Wind Plant Availability Website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Wind Generation Forecast accuracy analysi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Ancillary Services Procurement Methodology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OGRR226, Generation Resource Response Time Requirement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PRR803 Testing Progres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ind Plant Availability Websit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WS uses # turbines X rating for max capacity – users should check numb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have been entries on the system for 22 resour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RCOT working on JOU issu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MWG will discuss draft PRR at next meeting – mandatory us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uld like usefulness information from A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GRPP Forecast accuracy analysi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"/>
              </a:rPr>
              <a:t>Additional Analysis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aeaea"/>
                </a:solidFill>
                <a:latin typeface="Arial"/>
              </a:rPr>
              <a:t>STWPF</a:t>
            </a:r>
            <a:endParaRPr b="0" lang="en-US" sz="31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aeaea"/>
                </a:solidFill>
                <a:latin typeface="Arial"/>
              </a:rPr>
              <a:t>Histograms</a:t>
            </a:r>
            <a:endParaRPr b="0" lang="en-US" sz="31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"/>
              </a:rPr>
              <a:t>Quality of input data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"/>
              </a:rPr>
              <a:t>How to get the MET data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"/>
              </a:rPr>
              <a:t>Impact on Nodal Day Ahead Co-optimization and RUC Process 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uracy Calcul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4479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ased on Day Ahead resource plans submitted by QSE’s compared to aggregate WGRPP AWS forecast in order to scale the STWPF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>
            <a:alphaModFix amt="39000"/>
          </a:blip>
          <a:stretch/>
        </p:blipFill>
        <p:spPr>
          <a:xfrm>
            <a:off x="228600" y="2743200"/>
            <a:ext cx="86868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uly Data in Histog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9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82040" cy="5397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879080" y="2743200"/>
            <a:ext cx="2795760" cy="36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isk of Over Commitmen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450440" y="2743200"/>
            <a:ext cx="1982160" cy="36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isk of Shortag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T Data Qua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989000" y="1143000"/>
            <a:ext cx="5226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GRPP Forecast accuracy concer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"/>
              </a:rPr>
              <a:t>Need to get all the MET data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aeaea"/>
                </a:solidFill>
                <a:latin typeface="Arial"/>
              </a:rPr>
              <a:t>Client Reps working with QSE/RE</a:t>
            </a:r>
            <a:endParaRPr b="0" lang="en-US" sz="31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aeaea"/>
                </a:solidFill>
                <a:latin typeface="Arial"/>
              </a:rPr>
              <a:t>ERCOT to issue compliance complaints</a:t>
            </a:r>
            <a:endParaRPr b="0" lang="en-US" sz="31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"/>
              </a:rPr>
              <a:t>Outage data will allow tracking of more forecasts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"/>
              </a:rPr>
              <a:t>Action on the topic of Impact on Nodal Day Ahead Co-optimization and RUC Process 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cecff"/>
                </a:solidFill>
                <a:latin typeface="Arial"/>
              </a:rPr>
              <a:t>Ancillary Services Discussion</a:t>
            </a:r>
            <a:endParaRPr b="0" lang="en-US" sz="4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ket Participants requested that ERCOT address the following issues and consider making revisions to the Ancillary Services methodology for 2010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t Load 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of trailing 90 days d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oad forecasting error or bi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nd forecasting – WGRPP at 80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5:02:42Z</dcterms:created>
  <dc:creator>Brandon Whittle</dc:creator>
  <dc:description/>
  <dc:language>en-US</dc:language>
  <cp:lastModifiedBy>CPS Energy</cp:lastModifiedBy>
  <dcterms:modified xsi:type="dcterms:W3CDTF">2009-09-15T21:27:53Z</dcterms:modified>
  <cp:revision>85</cp:revision>
  <dc:subject/>
  <dc:title>QSE Manager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