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740F-1BE4-4D1A-9583-F5B783B81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A01C-C829-4399-BF40-95496C42D6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732A-9D7E-4EB2-8102-A7B46BBB93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B791-D00D-4111-92B7-8BF5D36625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349E-78E9-4201-A89A-E83B550264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58FAB-D7B8-49D2-9BCC-DB58625A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456F-ADBC-4246-8FBC-12456287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0AD9B-8B42-41A8-B844-4A303FC7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9423C-DB0B-4E4F-8B74-FBAE7148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0650-21B3-4380-9F8E-F789B9D0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7121-8B36-4DAF-9F1F-19BAC476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69BA-3E0B-489D-8DDA-C39EF28A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D06C-771E-4EC4-AC3B-3498E544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692A-BEB5-4F5E-A60C-E2998EB1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F817-FBCC-4906-82C4-1BEA243B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6935-D282-42A4-9C7D-D9FE03A9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E338F-1EF1-48CB-9F7A-791B3ED3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5EE4-4EA9-47B8-AFEE-84391EDA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78A7-9330-44F2-A871-7A2F537C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5F16-97BB-4A2F-9413-8BB2BF32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28FB-C354-4A5E-B25F-D4C4A3AA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9460-3164-4168-B6E2-18C04F38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6BCD6-8843-44D7-A628-C2431426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0C98A-3912-4638-AEB1-9CC1B57E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DFDA0-AD80-4BF2-9048-318B8811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48DE-F5C7-4E34-8C23-3F1E1CCC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F3B3B-4340-4BE6-8FEC-747FD175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AD84D-AC2D-4537-84F5-0D590C96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2024-1331-4465-9FDC-5429DE2C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7648-3809-4B6B-B72F-3506E57DAC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2457-9974-4D0D-B858-284F5679BB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7648-1ADF-4C04-B4B5-F17BC8368B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4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Verifiable Cost  Working Group (VCWG) 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VC Manual Updat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44197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Wholesale Market Sub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ptember 16,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72C8-0F34-4A4C-913A-995168D028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 Manual Chan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hanges to rules for QSEs vs Resources filing VC cos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522800" indent="-522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f the Resource Entity submits VC, ERCOT 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will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share the final approved VC results with the QS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522800" indent="-522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s will allow ERCOT to send to all QSEs their approved VC results via extract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52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ime table for calculating and posting emission cos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522800" indent="-522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effective period will be the 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rd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uesday of each month through the 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Monday of the following month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52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ime table for calculating and posting the cost of Reference Resources for PPA (same as emission above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CEA5-5083-43E8-9AB0-B8FC0414C5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 Manual Chan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etermining cost for PPAs without a Reference Resource for Hot or Intermediate start typ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60520" indent="-501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st of a hot start = Cost of cold start x 0.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460520" indent="-501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st of a cold start = Cost of cold start x 0.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46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hanged startup fuel requirements for seasonal cos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60520" indent="-501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uel consumption rates to be the lesser of the last 3 starts or every start within the past three years for each seas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460520" indent="-501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Current requirement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for last 10 start or every start within the past three years for each seas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46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cedures for establishing verifiable O&amp;M costs with insufficient historical data (approved by WMS in August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pdated methodologies for determining VC as described in Appendix 1A and 1B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4265-27E5-43EA-A4EE-C3E4F361F1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 Manual Chan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moved requirement for graphics as shown belo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7" descr="heat efficiency graph_alt_whole3_revised_labels"/>
          <p:cNvPicPr/>
          <p:nvPr/>
        </p:nvPicPr>
        <p:blipFill>
          <a:blip r:embed="rId1"/>
          <a:stretch/>
        </p:blipFill>
        <p:spPr>
          <a:xfrm>
            <a:off x="1297080" y="2192400"/>
            <a:ext cx="6475320" cy="429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igonzalez</cp:lastModifiedBy>
  <dcterms:modified xsi:type="dcterms:W3CDTF">2009-09-14T18:24:23Z</dcterms:modified>
  <cp:revision>293</cp:revision>
  <dc:subject/>
  <dc:title>Protocol Revision Subcommittee</dc:title>
</cp:coreProperties>
</file>