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C619-4C4F-400C-8497-DA850656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9CF1-9521-4B6D-9181-BD9D19A935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BA6B-0C3A-4DD8-B316-4D1B33CE8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B709-619C-4AB9-BB6F-60C0BD382C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ABBB-99FE-4361-8677-EA20D72E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6135-C12F-4EA5-9DDF-30BE3CFE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8DA3-5549-4461-AB7E-8055BBF0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8BE5-3822-4D95-AE71-A0F721C5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37D1-7B66-4D50-AB37-A30F1C4C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A928-A3D8-4C4C-B2A5-267C118A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C181-D6FA-4258-A4C0-01AAAC3A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1AB2-FA97-4B59-9C78-8C7E36B9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A965-7CE4-45A4-8D9D-ACC0BA7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CF9C-9EED-4EE0-829B-FFE2F600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98AE-8C65-4099-A130-E58597C3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0568-09BB-4210-ACC0-7DC6F56A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BC9C-ADF5-4581-8FD7-11B844C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2C1-2BC1-44DA-90F4-0411A92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D1CF-A024-482B-9635-0F888C23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D8AE-AF03-4CE8-AC0C-FFF40B7C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7114-B0B0-47E2-A306-CA4367EC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23DA-A5C5-4FE4-B3E9-28085838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18F2-8711-4963-A803-3634CBDB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19CD-1F7F-4D18-BE7F-8D556319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D433-5E23-45DD-8013-9409143A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37AB-3D5A-4A2C-A060-D97FF2C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846D-D8CC-4EA3-8009-E62BD6BA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DB57-9DE7-445A-9BBC-7CE1A0D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9C2F-3B8C-4B35-8031-038A43947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2C77-98C1-4DD4-93A2-C4A6706A09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B6D-C170-4491-84E2-6C3F02433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Working Group (VCWG)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ptember 16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3CFF-B1F6-480B-8F19-5B07B5012C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CWG Meeting September 9,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lusion of maintenance labor costs in VC (White paper Vote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clusion of labor costs that  include retirement contributions, medical and taxes as allocated on the work order for maintenance perform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source Entity must demonstrate it employs permanent maintenance staff in support of power plant opera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bor costs are limited to costs associated with labor for maintenance of the un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duction of maintenance staff must be conveyed to ERCO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163D-F0D6-4CF7-AE6A-0DA11AB49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view of new proposal for proxy heat rate by Lumina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going discus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eatment of O &amp; M for new resour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eatment of Auxiliary P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emand Char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eatment of costs for New Tech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xt Meeting October 14, 200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2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53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igonzalez</cp:lastModifiedBy>
  <dcterms:modified xsi:type="dcterms:W3CDTF">2009-09-14T17:41:30Z</dcterms:modified>
  <cp:revision>281</cp:revision>
  <dc:subject/>
  <dc:title>Protocol Revision Subcommittee</dc:title>
</cp:coreProperties>
</file>