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290E-2ECB-45CC-9E3E-E6751B54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5B81-F418-4ED0-8B9B-081F194F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7B0F-DD2B-4C2C-8EF4-B5CC503C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EB43-DB76-4A67-83DD-06204A3B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7F35-ECC8-4145-8F62-8C6A6B98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8A83-5010-4179-9280-68361439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6CEC-BE30-4C03-A334-00732114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C85C-E82F-434E-83EF-5EB4EFB9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6983-9C2D-4B5A-9AA4-AE894730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3E46-1B9D-4CDC-903F-396DD26E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4179-E29B-4A24-9A35-D442E3A5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6D6B-AAD8-41B1-8C15-FE983388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E937-A210-447B-B9DE-9270EF34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3874-EE01-49E5-815D-91B61BD3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9A17-2F9D-451E-AF6E-5B41701F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909B-6FAA-40D6-9349-A7EC195D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BA1C-1AC8-4E65-BD37-7B9DF35A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9752-1532-4DDF-914D-C8CCF910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841D-1A97-4985-B5D5-9EE19BDD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60F6-6AB5-4C9D-A7AE-20891ADF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BA62-E36C-4362-896D-92F75E53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42A2-BDAE-4543-B215-2679FB0C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4A69-4807-46CC-9C0E-6EF9A6A1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FA7-C0BB-44E8-AA87-AEA56766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5692-C236-479C-BF5E-5CBF54D86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9649-4DCF-4410-8484-EF8F7EC3B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PRR 168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the Definition of “Start-up” and Include the Fuel from Breaker Close to LSL in Startup Cos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ctive of NPRR 168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sources to recuperate their variable operating costs and thus make these Entities whole as allowed under DAM and RUC market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SEs or Resource Entities to file Resource fuel consumption from breaker close to LSL and breaker open to shutdown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ludes reduction to startup cost to reflects estimate of expected revenue that would be credited to Q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tion/clawback is determined by calculating a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eat rate prox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ultiplied by fuel price that will  estimate Settlement Point Price as described in Verifiable Cost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urrent Heat Rate Proxy “H”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247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8458200" cy="2638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48"/>
          <p:cNvSpPr/>
          <p:nvPr/>
        </p:nvSpPr>
        <p:spPr>
          <a:xfrm>
            <a:off x="462240" y="175248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MS Voted to support the following process as discussed by VCWG, howeve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has not been incorporated in the manual yet 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uminant’s Propos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uminant supports the process as developed by VCWG, but offers the following modific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ACT- Most units will be coming online in these circumstances during OFF-PEAK hours, not ON-PEAK hours                (ERCOT’s data from May 2009 illustrated this point)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o better reflect the actual impact of the clawback, the proxy heat rate will be overstated by using a daily average- therefore clawing back too much money and units will not recuperate their actual cos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uminant proposes the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only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modification be the ERCOT calculates the proxy Heat Rate for the next period based on the Average Off-Peak Hub prices published for a 14 day perio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ext steps- WMS would need to re-vote on this issu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9:19:39Z</dcterms:created>
  <dc:creator>Registered User</dc:creator>
  <dc:description/>
  <dc:language>en-US</dc:language>
  <cp:lastModifiedBy>igonzalez</cp:lastModifiedBy>
  <dcterms:modified xsi:type="dcterms:W3CDTF">2009-09-14T17:42:00Z</dcterms:modified>
  <cp:revision>8</cp:revision>
  <dc:subject/>
  <dc:title>NPRR 168</dc:title>
</cp:coreProperties>
</file>