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0CC1-D318-4E40-8A00-AD998BBC31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8E32-B552-4F41-A73C-06E37895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BAB9-90EA-4827-9BB8-11BE1AA2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3419-E2CC-4518-BF41-6FD694A68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B671-8782-45D4-9237-94BF3410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46ED-98E4-47F3-8766-7855027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FC38-D287-4F95-A0E0-802C2AC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5921-132D-4868-BE20-7837F47C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73A4-49CC-4E99-96A7-23CE65ED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A666-1AB7-428E-9276-D1F80FF6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7F12-444B-4336-B82C-A67597BC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9181-8156-4592-875E-93FFCCA9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ABA9-36BF-405F-914F-C643747DB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C624-255C-4107-AB6D-F808C8A4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finance_audit/keydocs/2009/0217/20090217_FA_Meeting_Materials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ptember 17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CEO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ing Market Input on Revisions to CEO Review 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caught up with the backlog of CEO review items and is staying current with new revis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performed over 100 CEO reviews, we have found ways to more efficiently capture input and suggest an opinion to the 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ised form leverages the current method used to develop the ERCOT CEO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check box input sections into a single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ing COO/CTO/CIO sections to suggested position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miscellaneous edits to enhance c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 is still undergoing intern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aft revision will be provided to PRS prior to 9/17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3878-A29D-4F93-B7AB-FC8DA81DEA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Project Spending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9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3 Unfunded Project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 Review Form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F749-2640-4E47-9BE2-F8B4608441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5278320"/>
            <a:ext cx="6629400" cy="66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vised 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, IO, MO, RO, 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ly 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gust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ptember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46A6-BF4E-4FEB-8256-78F091CFFE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Budgets and Project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0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Refresh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5975-562F-44BC-8E78-AF67BD68D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Spending Update – 9/4/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762120"/>
          <a:ext cx="8305560" cy="495612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106,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575,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9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9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13,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09,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092,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033,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857,7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39,6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790,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15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9,676,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Expa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98,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6,665,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535400" y="596124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8672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892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1920" y="5943600"/>
            <a:ext cx="280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ments in project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5867280"/>
            <a:ext cx="2590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8280" y="594360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867280"/>
            <a:ext cx="2895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334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438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6095880"/>
            <a:ext cx="228600" cy="12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12193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29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5943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3240" y="594360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9120" y="5943600"/>
            <a:ext cx="3000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for Add’l Minor Cap It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1219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16444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20574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954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8862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495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B563-F81F-4C90-9CCC-1FA8B09E3F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Unfunded Project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unded Project List – Quarterly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t any unfunded market projects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 since last report (6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799 process is limiting additions to the PPL as Nodal delivery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funded” does not include Parking Lot items (Priorit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821  Update of Section 21, Process for Protocol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its suggested by this PRR eliminate the quarterly unfunded projects reporting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2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79EA-C197-4EFD-90BA-FD8DE922C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89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Enhancements (SCR7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3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8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L Audit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80036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COT / TRE Accoun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meetings/finance_audit/keydocs/2009/0217/20090217_FA_Meeting_Materials.pd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(p. 8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58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roject Server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317/20090317_FA_Meeting_Materials.pdf  (p. 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46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26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422/20090422_FA_Meeting_Materials.pdf  (p. 69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93B8-4019-4E7E-9748-2B3F9D3C6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PR-80016_01 Security C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PR-80040_01 TIBCO Siebel Integration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616/20090616_FA_Meeting_Materials.pdf  (p. 2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 PR-80044_01 Tape Hardware Backup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of aging tape backup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speed and capacity; power and space reduction in data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PR-90022_01 Zonal AWS Wind Gen Forecast for Q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CR754 / PRR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place ERCOT email delivery of AWS forecast to QSEs with a more secure and programmatic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8681-3209-48A6-9F08-1CB7F2E73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3657600"/>
            <a:ext cx="8686800" cy="227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PR-70034_01 Vendor Contract Information Database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2 of an effort to allow better management and reporting of vendor contracts by ERCOT’s Legal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PR-80042_01 Cyber-Securit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and enhance ERCOT cyber-security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PR-90023_01 Single Tim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dual entry of project time reporting into project management system and time repor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16_01 Cyber-Securit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and enhance ERCOT cyber-security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90024_01 POLR Rule and Expedited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pedited 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rtion of project implemented on 8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10/24/09, the switch cancellation and notification window is shortened from 5 business days to 2 business days prior to Scheduled Meter Rea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3E7C-3A26-46EF-BEEE-EBDA4F9822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9-11T03:22:22Z</dcterms:modified>
  <cp:revision>415</cp:revision>
  <dc:subject/>
  <dc:title>Instructions</dc:title>
</cp:coreProperties>
</file>