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7960" y="687240"/>
            <a:ext cx="4592520" cy="344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2AAFDF9-EB8F-4209-A4F0-F63656860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25B9E3A-BE86-4FEA-B0B2-B020772CA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6BAEDEA-B675-4807-8991-CF661438B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9CE898C-66B1-46D0-B8BF-50C8E105B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528DCB9-CF8E-4665-A2F6-E2FA2F720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3B49BA6-31BD-42F3-9E77-3F211472B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2B17D9D-D14A-4680-8329-78FB95D6B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4DD9880-70DD-491C-B0CD-C234336A0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F22887A-3A9E-4EBE-AB7A-FBD61AC9E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771B-0722-4149-B060-07A8A3A0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0A8-8527-4C83-A45D-4A91E84A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815D-1597-45CB-8564-7908C6C1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740-4199-4371-8FC7-55068F2D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C62B-4C67-464D-862A-182D2233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435D-B52D-41D5-94B9-EBE3D974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A35-60F4-4718-83EE-35F5305C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772-C5C0-4CFD-A882-CFD7F280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2BD-2F60-4665-9A05-66E41B9C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2E67-3B7C-4823-9021-B92813D1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66CA-2E95-42FA-9338-0D848E4F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971E-F25B-44FA-9AEB-D257BCF7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4B3C-301E-415D-9170-042F17A45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Copy of Ercot Logo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WordArt 12"/>
          <p:cNvSpPr txBox="1"/>
          <p:nvPr/>
        </p:nvSpPr>
        <p:spPr>
          <a:xfrm>
            <a:off x="228600" y="3808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5E86-C873-4858-AAE3-CD0F10BC3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105520" y="5789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 09, 200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250C-10D5-41B4-BA6E-B4623744B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ERCOT System Outages and fail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Retail Service Level  up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SLA exception request for system up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transaction Quarterly Market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AMS LSE project,  deploy 11/14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35D7-3B43-4733-AF49-074EBFADC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d working with the ERCOT Manager of Operations to address each system incid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y Katskee presented the summary and detail pages of the incident log, and responded to questions related to the detail outages on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Discussed Retail Service Level up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provided details related to specific metrics where outage impacted the S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of 2010 SLA to be reviewed at TDTWG face to face meeting in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with MarkeTrak leadership in reviewing SL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E7B9-FCCC-4067-B3D1-837C2A6DF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is requesting two SLA exce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release to start 6 hours early for the current 36 hour maintenance window. Sept 26-2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mber release to for (Nov 14-15) for Advanced Metering Solution (AMS), 8:00AM – 8:00PM both days, with minimal impact to retai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6A36-91C5-4993-BBC4-F4827CF09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ed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Quarter Market Metr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67_02 duplicate transactions caused some protocol calculations to show transactions to be out of protocol but were actually forwarded within protoc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nsaction processing was excellent considering the duplicate transactions from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e McCarty will present details to 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45D4-BA7B-4DF3-BD6B-7A842AC08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MS LSE project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for deployment is 11/14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Currently in Integrat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MP to get involved in Ad Hoc Dev testing to insure no issues or concerns exis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9338-F92B-4C72-A225-C9CA9BF8E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457200" y="129528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DTWG Follow-up item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minder Note from TDTWG December mtg: A full test of the Disaster Recovery system is scheduled to be tested in 2009 (related to incident of 10/30/08).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2742-863F-4C90-A191-2508EDC7A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Registered User</cp:lastModifiedBy>
  <cp:lastPrinted>2002-09-24T18:27:58Z</cp:lastPrinted>
  <dcterms:modified xsi:type="dcterms:W3CDTF">2009-09-03T20:12:45Z</dcterms:modified>
  <cp:revision>576</cp:revision>
  <dc:subject/>
  <dc:title>PowerPoint Presentation</dc:title>
</cp:coreProperties>
</file>