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C871-18EF-45BF-96A1-4F50CBA1B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0721-0C9D-4AEA-942F-B9A3C243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C93-31B2-4EC5-B0EE-F0C37AE1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513A-3122-4B07-B691-27FCCFF7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AA1C-476E-420B-8FAB-89A4F40E774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8B81-EB19-43C2-9C06-8609D33532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0F00-C1B2-40AD-AB81-0288D1E0D1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D225-880D-4C6A-96A0-2E763E422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D231-B9B1-411E-B35D-45162CA0244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CF23-22FE-4903-A38F-38828CD13CE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B21E-1AF9-4BD8-9068-B291B90A9E6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33B1-91AB-4036-942B-BC0E3451935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FF9F-530E-4ABA-B4E5-693740AA2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BFCA-E6D7-4217-BDCB-DEBCD7012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67E9-15BA-4DD6-9C21-ED3B3C931E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34A4-65E6-4284-99AE-477D4315D5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0CE2-05A1-49AB-8DC8-8F14BD4CB4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60DC-FDC9-42F2-87F0-D361A0E559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DFCA-7A3B-4453-9BA3-89B41A991E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6233-D2E3-4681-99CA-EA92C021CB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A3AB-2539-4BA9-997C-AC27B581CE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62D1-2012-4C60-A95D-371CDE12C8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BF33-F986-4BB8-A904-F5C80BFC7E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BD71-932F-404F-8F0A-57F785C49D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AF8-ED2B-467E-9944-4048A856A8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3DFA-FD58-4CAF-8FBB-DF4DC48A95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72B5-9C07-4031-B10D-E507C03C19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2E1C-2D6C-4A40-846F-B705D4A1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6C47B8-ED51-4B49-8900-B4F4A0BD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E45418-F7B6-4066-B62E-C4B733971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124705-EC6F-4463-9717-79731FA7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D039A1-F826-44E6-9741-D6B637BA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7BDD8F-7A00-43A1-AFD6-571A614F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BC3F3F-C8F0-4FDA-BAE6-DA229188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17B547-4F3C-413A-AE33-D4661F21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20541B-6602-4653-A5F6-8F69BA0B1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9C9728-603B-4D78-AF20-5D737940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61414B-A1C1-4F93-B9A9-7EFB6CE1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27E935-C4CD-4C94-AC12-D6472A9B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03724-C8D3-4975-9162-64CA9499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2599C0-1E05-4A4C-AA47-6B8693FE3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244141-95B7-453C-98C4-9F68DD8B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0C5C8B-5298-4901-8323-F4ADFD29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92CA38-D021-48FE-B0C4-4AC51B18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EA84-8EC5-46B6-9E23-01F332C4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4112E6-62ED-4025-B021-22D4DE71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01BB8F-47B7-40F0-B907-D149B72A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7210A1-550E-40CC-9471-FF2BBE419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CA8FA1-F3F5-447D-A845-F24FF202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677313-C83A-4AFE-8029-E038A6F5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B71F3C-C38F-4347-A0CB-2D05AD2C5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September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September 9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541440" y="782640"/>
          <a:ext cx="828828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3188"/>
          <p:cNvGraphicFramePr/>
          <p:nvPr/>
        </p:nvGraphicFramePr>
        <p:xfrm>
          <a:off x="541440" y="782640"/>
          <a:ext cx="828828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9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TextBox 6"/>
          <p:cNvSpPr/>
          <p:nvPr/>
        </p:nvSpPr>
        <p:spPr>
          <a:xfrm>
            <a:off x="627120" y="3505320"/>
            <a:ext cx="53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088_01 Data Research and Reporting gated to Execution on 08/14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Object 3188"/>
          <p:cNvGraphicFramePr/>
          <p:nvPr/>
        </p:nvGraphicFramePr>
        <p:xfrm>
          <a:off x="541440" y="782640"/>
          <a:ext cx="8288280" cy="8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4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Object 3188"/>
          <p:cNvGraphicFramePr/>
          <p:nvPr/>
        </p:nvGraphicFramePr>
        <p:xfrm>
          <a:off x="541440" y="782640"/>
          <a:ext cx="8288280" cy="139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7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9" name="Object 3188"/>
          <p:cNvGraphicFramePr/>
          <p:nvPr/>
        </p:nvGraphicFramePr>
        <p:xfrm>
          <a:off x="541440" y="782640"/>
          <a:ext cx="828828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0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2640"/>
                    <a:ext cx="828828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1" name="TextBox 4"/>
          <p:cNvSpPr/>
          <p:nvPr/>
        </p:nvSpPr>
        <p:spPr>
          <a:xfrm>
            <a:off x="528120" y="3581280"/>
            <a:ext cx="52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28_01 Small Renewables/Distributed Generation closed on 8/28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9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09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0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56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9-02T18:14:37Z</dcterms:modified>
  <cp:revision>574</cp:revision>
  <dc:subject/>
  <dc:title>Role of Account Management at ERCOT</dc:title>
</cp:coreProperties>
</file>