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DE5E-6C86-4E8E-8988-FA019C501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265A-EF90-4245-9EAB-0BD784CC0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1F6A-8E3B-4103-BB42-EA419C135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DD21-4118-41AB-94FA-392F021BE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48D8-F02A-467A-A74E-97E5CCB89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993C5-C6A7-45A7-8436-5E1E3E534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5BBAB-0164-4838-9B0E-5DDE65249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2C80-F93F-4B99-838A-CCC340442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1768-5ABF-4DEA-8AE9-313C1343B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526F0-3A2A-4E4C-B4C6-DC162BA18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43C2-E8AE-4B4A-BEE3-F075B2705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99B5-7B6E-46E1-A176-D84381540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E3F5-F00C-4A6A-A345-248CC3122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ED59-99E8-4573-BED2-3D2D33BF0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8D6C-5EB4-4BDE-A28F-FB28563E2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3018-B7DD-4AAE-8B41-9CE2C4BFD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888C-9AB5-4DE1-A1B7-347B8C552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657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AC9F-616C-4C62-807A-34EA657E85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5049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ey Fel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T Account Mana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2438280" y="4876920"/>
            <a:ext cx="6477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PS/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pt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API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249200" y="838080"/>
            <a:ext cx="659952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and Wholesale Systems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 Transaction Process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August performance was 98.68%. This was below the service level target of 99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M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August performance was 98.29%. This was below the  service level target of 9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ML Report Explor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August performance was 99.20%. This was above the  service level target of 9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 AP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August performance was 98%. This was below the  service level target of 9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ra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August performance was 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Systems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/16/09 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iss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Server that hosted the databases became unresponsive resulting in outage. Root cause analysis is in progress. Server was shutdown and all systems were restarted to restore the service  – 213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/10 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base iss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Database performance degraded following an update of query optimization statistical model, resulting in connection timeout and / or slow response. Previous version of the model was restored to recover the performance. Subsequent models worked without issues  – 435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/9 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issu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 hardware failure caused by a configuration issue following a scheduled maintenance impacted the network, resulting in an unplanned outage. Configuration was updated to restore the service – 271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/2 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ned maintenance outage overru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Due to a batch overrun prior to the start of a planned maintenance outage, the maintenance outage started late and resulted in an overrun of the prescribed window – 72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647640" y="762120"/>
            <a:ext cx="7967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ugust 2009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600120" y="838080"/>
            <a:ext cx="7967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143000" y="727200"/>
            <a:ext cx="70866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432080" y="762120"/>
            <a:ext cx="641664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Report Explorer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15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225440" y="762120"/>
            <a:ext cx="669924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felton</cp:lastModifiedBy>
  <dcterms:modified xsi:type="dcterms:W3CDTF">2009-09-02T20:45:03Z</dcterms:modified>
  <cp:revision>433</cp:revision>
  <dc:subject/>
  <dc:title>Instructions</dc:title>
</cp:coreProperties>
</file>