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444AB-2A34-486C-B9D6-E6A6C798B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3FAD-1D69-4B21-B4F9-72413E9F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DF923-7C04-4E27-A33B-67A207523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79AB6-0921-4949-A601-C9C63EE4A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36338-E6BD-4568-BE46-16F8082DC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42A91-4228-4BAE-A4EF-F31468DA0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51749-7923-46E1-8AFE-1AAD005AB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BB373-51B2-4A0F-9A42-00394894D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48E18-DB21-4629-ADC4-626B08696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2C9B6-A31F-4AD1-BB36-F7CFF4832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30565-DD3B-4DC1-B20F-2EABCF68C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67148-99B2-4C53-8CA2-8DB1AFE5A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57734-6DA7-46A6-9DAE-E709A5619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9F55C-8263-4527-A34B-943DB0344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EF12E-3DF6-435B-B92B-90BB81E33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C09B3-D110-4EBD-B867-957E8694C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125D3-68D4-4C48-B495-8C509BC93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55A34-89EA-4F88-953D-6BD589C1A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F77F-CE5A-458A-BD04-72ECF63E6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D5CE1-F150-48DE-A7BF-EB8B2F673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B187-3BFB-47CF-B516-46EC8FEDD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9A71-17BB-4BE7-9BA8-777E60654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57F2-7294-4292-918D-0F08A342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7DA5-3E56-49A5-A925-2B44FA7C2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0FF8-146F-46A0-8A1F-F1070BAB18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AD71-38B7-43F8-9CDF-393486A1A62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762120" y="914400"/>
            <a:ext cx="784836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AC</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eptember 3, 2009</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eeting Update </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3451-3E30-4BAA-8874-44C237C7E1C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September 3rd TAC Meeting</a:t>
            </a:r>
            <a:endParaRPr b="0" lang="en-US" sz="4000" spc="-1" strike="noStrike">
              <a:solidFill>
                <a:srgbClr val="ffffff"/>
              </a:solidFill>
              <a:latin typeface="Arial"/>
            </a:endParaRPr>
          </a:p>
        </p:txBody>
      </p:sp>
      <p:sp>
        <p:nvSpPr>
          <p:cNvPr id="165" name="PlaceHolder 2"/>
          <p:cNvSpPr>
            <a:spLocks noGrp="1"/>
          </p:cNvSpPr>
          <p:nvPr>
            <p:ph/>
          </p:nvPr>
        </p:nvSpPr>
        <p:spPr>
          <a:xfrm>
            <a:off x="380880" y="990720"/>
            <a:ext cx="8229600" cy="54100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COT Board Update (August 18, 2009)</a:t>
            </a:r>
            <a:endParaRPr b="0" lang="en-US" sz="2800" spc="-1" strike="noStrike">
              <a:solidFill>
                <a:srgbClr val="ffffff"/>
              </a:solidFill>
              <a:latin typeface="Arial"/>
            </a:endParaRPr>
          </a:p>
          <a:p>
            <a:pPr lvl="1" marL="735480" indent="-28296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PRRs 787, 801, 805, 810, 814, 816, 819 and 820</a:t>
            </a:r>
            <a:endParaRPr b="0" lang="en-US" sz="2000" spc="-1" strike="noStrike">
              <a:solidFill>
                <a:srgbClr val="ffffff"/>
              </a:solidFill>
              <a:latin typeface="Arial"/>
            </a:endParaRPr>
          </a:p>
          <a:p>
            <a:pPr lvl="1" marL="735480" indent="-28296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NPRRs 171, 175, 176, 177, 180, 182, and 187</a:t>
            </a:r>
            <a:endParaRPr b="0" lang="en-US" sz="2000" spc="-1" strike="noStrike">
              <a:solidFill>
                <a:srgbClr val="ffffff"/>
              </a:solidFill>
              <a:latin typeface="Arial"/>
            </a:endParaRPr>
          </a:p>
          <a:p>
            <a:pPr lvl="1" marL="735480" indent="-28296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RMGRR079</a:t>
            </a:r>
            <a:endParaRPr b="0" lang="en-US" sz="2000" spc="-1" strike="noStrike">
              <a:solidFill>
                <a:srgbClr val="ffffff"/>
              </a:solidFill>
              <a:latin typeface="Arial"/>
            </a:endParaRPr>
          </a:p>
          <a:p>
            <a:pPr lvl="1" marL="735480" indent="-28296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RCOT Board approved the Single Entry Model Go-Live date of 8/31/2009 as recommended by the Technical Advisory Committee (TAC).</a:t>
            </a:r>
            <a:endParaRPr b="0" lang="en-US" sz="2000" spc="-1" strike="noStrike">
              <a:solidFill>
                <a:srgbClr val="ffffff"/>
              </a:solidFill>
              <a:latin typeface="Arial"/>
            </a:endParaRPr>
          </a:p>
          <a:p>
            <a:pPr lvl="1" marL="735480" indent="-28296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RCOT Board also approved the NPRR Parking Deck process as proposed by TAC.  TAC asked that not all items rush to the Board, but that we queue items up and present in an orderly manner.</a:t>
            </a:r>
            <a:endParaRPr b="0" lang="en-US" sz="2000" spc="-1" strike="noStrike">
              <a:solidFill>
                <a:srgbClr val="ffffff"/>
              </a:solidFill>
              <a:latin typeface="Arial"/>
            </a:endParaRPr>
          </a:p>
          <a:p>
            <a:pPr lvl="1" marL="7354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3E58-8E66-4C0A-9E58-29B80F39EE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September 3</a:t>
            </a:r>
            <a:r>
              <a:rPr b="0" lang="en-US" sz="4000" spc="-1" strike="noStrike" u="sng" baseline="30000">
                <a:solidFill>
                  <a:srgbClr val="ffff00"/>
                </a:solidFill>
                <a:uFillTx/>
                <a:latin typeface="Arial"/>
              </a:rPr>
              <a:t>rd</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8" name="PlaceHolder 2"/>
          <p:cNvSpPr>
            <a:spLocks noGrp="1"/>
          </p:cNvSpPr>
          <p:nvPr>
            <p:ph/>
          </p:nvPr>
        </p:nvSpPr>
        <p:spPr>
          <a:xfrm>
            <a:off x="380880" y="990360"/>
            <a:ext cx="8229600" cy="56386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Rs and NPRRs Approved by TAC:</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817, Cease Late Payment Charges for Defaulted Entiti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818, OOMC for Quick Start Units (URGEN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65, Synchronizing Section 1 with PRR697</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68, Change the Definition of “Start-up” and Include the Fuel from Breaker Close to LSL in Startup Costs (formerly titled “Verifiable Costs General Correc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83, Synchronization of PRR790, Load Profile ID Annual validation Change Reques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84, Section 2, Addition of Definitions and Acronyms from Zonal Protocols and Clarificat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85, Cancellations of RUC-Committed Resourc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86, Naming Convention Clarific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88, MVA for SCED Inpu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92, QSE Energy and Ancillary Service Compliance Criteria</a:t>
            </a:r>
            <a:endParaRPr b="0" lang="en-US" sz="2000" spc="-1" strike="noStrike">
              <a:solidFill>
                <a:srgbClr val="ffffff"/>
              </a:solidFill>
              <a:latin typeface="Arial"/>
            </a:endParaRPr>
          </a:p>
        </p:txBody>
      </p:sp>
      <p:sp>
        <p:nvSpPr>
          <p:cNvPr id="1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4C4F-6EFC-4E31-A21D-CF6A0A618CA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September 3</a:t>
            </a:r>
            <a:r>
              <a:rPr b="0" lang="en-US" sz="4000" spc="-1" strike="noStrike" u="sng" baseline="30000">
                <a:solidFill>
                  <a:srgbClr val="ffff00"/>
                </a:solidFill>
                <a:uFillTx/>
                <a:latin typeface="Arial"/>
              </a:rPr>
              <a:t>rd</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1" name="PlaceHolder 2"/>
          <p:cNvSpPr>
            <a:spLocks noGrp="1"/>
          </p:cNvSpPr>
          <p:nvPr>
            <p:ph/>
          </p:nvPr>
        </p:nvSpPr>
        <p:spPr>
          <a:xfrm>
            <a:off x="380880" y="1143000"/>
            <a:ext cx="8229600" cy="51055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Vot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GRR025, Monitoring Programs for QSEs, TSPs, and ERCOT – URGENT (Vote) - Appr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174, FIP Modification in Verifiable Startup and Minimum Energy Cost and Recover of Exceptional Fuel Costs During RUC Intervals – Tabl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ly Related Element Request – Waco West to Waco Woodway – Appr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GRR217, Relay Misoperation Report Format – Appr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GRR224, Special Protection System Operations Under No Contingency – Appr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GRR009, Clarification of the Standards for Competitive Meters – Appr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10 CSC Recommendation – Scenario WN2-4Z – 4 Zones - Approved</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4CB1-9971-4561-B63B-B9C0566F26A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September 3</a:t>
            </a:r>
            <a:r>
              <a:rPr b="0" lang="en-US" sz="4000" spc="-1" strike="noStrike" u="sng" baseline="30000">
                <a:solidFill>
                  <a:srgbClr val="ffff00"/>
                </a:solidFill>
                <a:uFillTx/>
                <a:latin typeface="Arial"/>
              </a:rPr>
              <a:t>rd</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4" name="PlaceHolder 2"/>
          <p:cNvSpPr>
            <a:spLocks noGrp="1"/>
          </p:cNvSpPr>
          <p:nvPr>
            <p:ph/>
          </p:nvPr>
        </p:nvSpPr>
        <p:spPr>
          <a:xfrm>
            <a:off x="380880" y="1142640"/>
            <a:ext cx="8229600" cy="57150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 Vot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GRR007, Synchronization of Settlement Metering Operating Guide and PRR804, Revisions to Section 21 Appeal Process – Approved</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GRR229, Synchronization of Operating Guides with PRR804, Revisions to Section 21 Appeal Process – Approved</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014, Synchronization of Commercial Operations Market Guide with PRR804, Revisions to Section 21 Appeal Process – Approved</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GRR033, Synchronization of Load Profiling Guide with PRR804, Revisions to Section 21 Appeal Process - Approve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F6E4-31CF-40C8-BF7A-DF50E5F372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1143000" y="1676520"/>
            <a:ext cx="7696080" cy="266688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1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3DB1-BF3F-4108-8ABC-C326DFE444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trenarym</cp:lastModifiedBy>
  <dcterms:modified xsi:type="dcterms:W3CDTF">2009-09-08T02:07:49Z</dcterms:modified>
  <cp:revision>129</cp:revision>
  <dc:subject/>
  <dc:title>Slide 1</dc:title>
</cp:coreProperties>
</file>