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E00-9333-46C8-8ACF-05403ED8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963-1848-4496-8CA1-E3E49F4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3F6-E790-473F-852C-506E748E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265-8F65-47BC-BC04-F64BA718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752-A042-4AD7-AEA7-6102F3F5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ECB-E726-4F2E-ABC7-456AC26F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9AD-B62B-431A-8057-F70346B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6F7-4D11-4138-BD01-48C904E9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A8B-1220-430C-B00C-A631FCA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168-773D-42B5-8244-C1AFB86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46D-94BE-47DC-95C5-EA8720D5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8EC-7E88-47CF-BD52-9F964B0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2CDD-9FA0-42C9-9300-DB06A6C66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ptember 09, 2009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nd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9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9BDE-5D51-40E5-BBDC-75B7D1258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ical Usage Sent transactions (867_02) fell below the 98% within protocol for Standard Move-In and Priority Move-Ins.  This is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  a protocol calculation error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:  duplicate 867_02 transactions sent to ERCO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67_02 transactions were forwarded within the 4 hour protocol.  Only the calculation is in erro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DSP sent 1,198 transactions multiple times resulting in 13,705 transactions out of protoco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Move In Received transaction (814_07) fell below the target 98% within protoc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Move-In Received transactions (814_07) fell below the target 98% within protoc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due to one CR submitting the transactions outside protoco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0937-8810-413D-9E4E-3D0D7A07B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447920"/>
          <a:ext cx="8686800" cy="4689360"/>
        </p:xfrm>
        <a:graphic>
          <a:graphicData uri="http://schemas.openxmlformats.org/drawingml/2006/table">
            <a:tbl>
              <a:tblPr/>
              <a:tblGrid>
                <a:gridCol w="2776680"/>
                <a:gridCol w="1801800"/>
                <a:gridCol w="1288800"/>
                <a:gridCol w="1716120"/>
                <a:gridCol w="110340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3,6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9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3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5,8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0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5,8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0,5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5,37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9,1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5,7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7,4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4,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5,9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5,0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,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4,7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1,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4,8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3F2D-073E-4F5C-BE0A-9295C371F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447920"/>
          <a:ext cx="8610480" cy="4706640"/>
        </p:xfrm>
        <a:graphic>
          <a:graphicData uri="http://schemas.openxmlformats.org/drawingml/2006/table">
            <a:tbl>
              <a:tblPr/>
              <a:tblGrid>
                <a:gridCol w="2805120"/>
                <a:gridCol w="1690560"/>
                <a:gridCol w="1219320"/>
                <a:gridCol w="1776240"/>
                <a:gridCol w="111924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10,3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9,6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9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1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00,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2,4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2,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5,3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1,4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81,5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1,64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7,3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3,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6,0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6,8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3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6,47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0,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3,5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B623-851E-4E3D-85E2-CD92667EF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1447920"/>
          <a:ext cx="8686800" cy="4771800"/>
        </p:xfrm>
        <a:graphic>
          <a:graphicData uri="http://schemas.openxmlformats.org/drawingml/2006/table">
            <a:tbl>
              <a:tblPr/>
              <a:tblGrid>
                <a:gridCol w="2717640"/>
                <a:gridCol w="1944720"/>
                <a:gridCol w="1081080"/>
                <a:gridCol w="1860840"/>
                <a:gridCol w="1082520"/>
              </a:tblGrid>
              <a:tr h="386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5,6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1,8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12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8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1,55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6,9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,3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6,3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,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5,6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5,2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0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,1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,87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,68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8,55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,6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8,45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1,8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7,76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3CC6-DCA6-4129-9E40-BFBD6BFB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447920"/>
          <a:ext cx="8458200" cy="4541760"/>
        </p:xfrm>
        <a:graphic>
          <a:graphicData uri="http://schemas.openxmlformats.org/drawingml/2006/table">
            <a:tbl>
              <a:tblPr/>
              <a:tblGrid>
                <a:gridCol w="2675160"/>
                <a:gridCol w="1825560"/>
                <a:gridCol w="1065240"/>
                <a:gridCol w="1825560"/>
                <a:gridCol w="1066680"/>
              </a:tblGrid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76,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4,1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4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4,48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3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4,55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9,5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5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75,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0,8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3,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5,25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3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32,58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2,0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47F-4D1D-4792-8A84-32517655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 ID Create/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523880"/>
          <a:ext cx="8458200" cy="4227480"/>
        </p:xfrm>
        <a:graphic>
          <a:graphicData uri="http://schemas.openxmlformats.org/drawingml/2006/table">
            <a:tbl>
              <a:tblPr/>
              <a:tblGrid>
                <a:gridCol w="2614680"/>
                <a:gridCol w="1962360"/>
                <a:gridCol w="917280"/>
                <a:gridCol w="1873440"/>
                <a:gridCol w="1090440"/>
              </a:tblGrid>
              <a:tr h="4604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36141 Performance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tail Market Subcommit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1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6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,87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Cre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4,5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,6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0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42,64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6,6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21 Maint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51,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75,8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ccarty</cp:lastModifiedBy>
  <cp:lastPrinted>2002-09-24T18:27:58Z</cp:lastPrinted>
  <dcterms:modified xsi:type="dcterms:W3CDTF">2009-09-02T18:28:13Z</dcterms:modified>
  <cp:revision>463</cp:revision>
  <dc:subject/>
  <dc:title>PowerPoint Presentation</dc:title>
</cp:coreProperties>
</file>