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98D-44F4-45BD-A48A-BA359740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E1A-A622-4AD6-8C5F-1A81EAE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D10-DED4-4EBF-8AA8-7A747202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6D3-0C9A-4A90-8747-DA4FEE05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7602-F747-4E97-AF2C-E1CAA5F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4C1E-2B2D-4DBF-BB70-6014BD09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25E-4FD7-4E25-B585-C114276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1E5-140B-4604-9B23-F17D694F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2C99-8051-4592-81F9-0EBA9C6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D935-5EB3-4F9A-B728-8BB2D8C7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1D80-E9C5-493A-B496-C9CBFD7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228-CB8A-4EB6-9821-81C4160D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56A8-B106-41DD-87DD-6DA8D37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D1C-BBB8-42DA-8D18-1024D10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81E5-2581-4414-B7C0-A2E10350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682E-5374-4A26-8E61-D651271F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D02-346F-41B0-9CF2-0F7AB215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D7A-B9E9-481F-A3A9-08A8CE38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ABC-30CF-4B60-A5F4-9ADF8C4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64A-76A3-4533-A8E7-77EB6C2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F4D-87DF-4198-9DD6-599C109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12E-EBDE-4E22-9B71-C9EF39EC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AF4-3AB7-4FAD-97FF-99ABA73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6B6-7B86-47A1-AAD9-1EC032A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6E79-F1CE-4DA9-B143-10CA6A8A3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723-6EC8-440E-AB85-2C049997BA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Update to 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eptember 9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Sep 8</a:t>
            </a:r>
            <a:r>
              <a:rPr b="0" lang="en-US" sz="4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C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MGRR012, Creating Section 11, Disputes and Data Extract Vari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CWG removed ‘how to’ screenshots and moved to a separated user’s guide per TAC’s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Recommended approval to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PGRR034, Profile Model Spreadsheets - Calendar Extension and Delete Unus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Recommended approval to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VC elections Sep 23 due to Kyle Miller resig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of Sep 8</a:t>
            </a:r>
            <a:r>
              <a:rPr b="0" lang="en-US" sz="4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 COPS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 Exception Request: September 26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ppro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 DRG 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ion Requirements for Distributed Generation Resources Less Than 1M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se registration requirement to 1MW for both NOIE and Competitive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G (and DRG) entering ERCOT grid would resemble load reduction (negative 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would like to capture distributed generation not for registration purposes, but for informational purposes; possibly in an annua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hing will preclude generators from registering their generation at any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S directive is for TF to draft PRR/NPR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cmoore</cp:lastModifiedBy>
  <dcterms:modified xsi:type="dcterms:W3CDTF">2009-09-08T18:44:26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248273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Sep COPS update to RMS</vt:lpwstr>
  </property>
  <property fmtid="{D5CDD505-2E9C-101B-9397-08002B2CF9AE}" pid="6" name="_NewReviewCycle">
    <vt:lpwstr/>
  </property>
</Properties>
</file>