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0B57-34E8-415A-BD09-37BB90435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0ADD-53EB-4B9D-BE09-73547D313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4F2E-7EA0-464A-ADD1-7B37CF057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08CB-81E5-4DF0-8E61-0DC26E516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A066-794C-4EF9-B5E4-2FC5AE3D7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39A1-7177-4E70-AABD-62F18CFA4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39B3-6BAE-418D-B13C-E6744FCBE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753B-E60E-4DC8-90A8-144BAB9D0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8C15-3AAA-422A-ACDE-E18DC5C73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96F1-F6EF-4893-B9E7-E570A7891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1A2F-5BA0-4809-880D-1B7A85455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A3D9-90BA-4D98-A459-8D99CB360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06BC-AF4C-42E3-98AE-3264578E9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2F23-7289-4098-8671-C365AD85D0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LA Exception Reque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eptember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438280" y="48769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31 Retail Application Upgrade SLA Exception Reque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deployment of PR80031 was postponed – testing was not comple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 Exception was previously amended/approved by COPS/RMS to                                                                           begin/finish 6 hours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requests an SLA Exception to deploy this Release during the                                                                              on-cycle September Release Window, shifted to begin 6 hours earli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Participants utilizing NAESB to send/receive transactions to/from                                                                            ERCOT will NOT be able to send/receive transactions to/from ERCOT                                                                         during the outage.  This includes all retail transac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7 transactions will NOT be forwarded during the outag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7 Functional Acknowledgements will NOT be sent during the outag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 of the TML and Commercial API will NOT be available including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 ESI ID / Find Transac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bmit Transac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A Functionalit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ort Explorer, including , Reports, Extracts, Invoices, Settlement Statement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ract Schedul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b Services Data Request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Internet Services will NOT be available, including but not limited to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.com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erco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MarkeTrak - </a:t>
            </a:r>
            <a:r>
              <a:rPr b="0" lang="da-DK" sz="1200" spc="-1" strike="noStrike" u="sng">
                <a:solidFill>
                  <a:srgbClr val="000000"/>
                </a:solidFill>
                <a:uFillTx/>
                <a:latin typeface="Arial"/>
              </a:rPr>
              <a:t>https://marketrak.ercot.com:8443/tmtrac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R 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s://tcr.erco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2840" indent="-856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newables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texasrenewables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, Scheduling API, MOSTML, MOSPUBLIC, and Outage Scheduler will not be affected as there will be a DNS failover from Taylor to Aust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5124600" y="609480"/>
          <a:ext cx="45622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4600" y="609480"/>
                    <a:ext cx="45622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858000" y="3103560"/>
            <a:ext cx="1981080" cy="2486160"/>
          </a:xfrm>
          <a:prstGeom prst="rect">
            <a:avLst/>
          </a:prstGeom>
          <a:ln w="0">
            <a:noFill/>
          </a:ln>
        </p:spPr>
      </p:pic>
      <p:sp>
        <p:nvSpPr>
          <p:cNvPr id="95" name="Oval 7"/>
          <p:cNvSpPr/>
          <p:nvPr/>
        </p:nvSpPr>
        <p:spPr>
          <a:xfrm>
            <a:off x="6615000" y="4786200"/>
            <a:ext cx="2362320" cy="255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27_01 Advanced Metering Sol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has mandated Advanced Metering Solution (AMS) be in place by January 201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lans to migrate PR80027 Advanced Metering – Interim Settlement Solution to production on 11/14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mber Release Window (12/12) is our contingency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currently no scheduled Release Window for November due to Thanksgiving Holi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requests an SLA Exception on Saturday, November 1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from 8am through 8p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acts to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360" indent="-93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nd ESI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 un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360" indent="-93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14_20s (ESIID Create/Maintain) will be 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55920" indent="-93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ther impacts to transaction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360" indent="-93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other services will b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68360" indent="-93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Verification will occur Sunday, November 1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uring the normal 8am to 8pm planned maintenance window, although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 do not anticipate any impa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mar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8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9-08T21:14:15Z</dcterms:modified>
  <cp:revision>308</cp:revision>
  <dc:subject/>
  <dc:title>Instructions</dc:title>
</cp:coreProperties>
</file>