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B0D-9B36-426A-9BB0-649DB017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D77-A4A7-4362-8385-6073C72E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98F-9407-48BB-9D39-CAC7B830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DD0-E078-4372-95FA-E8F23892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26A2-B081-4511-9E97-F58BD227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1D24-EB10-47D3-A0E7-3C9C733E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12A9-68BA-41AE-BF18-476DE8E8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1DB0-34F8-4354-87BA-46BFA1E7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C08B-CE66-4322-A790-157A6BD2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6A40-716E-4633-A4B8-53E7BD4C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53A9-9E73-47F2-B066-D93AC6E2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66F-47E7-4B64-B7D8-9CE74BFF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D614-6CC9-4103-B714-F66C31A0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F144-E1D4-44F2-8632-405372A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8DCF-A170-42D7-85CB-E1E4549B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F52B-41B8-4908-9506-E25AC76E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FC86-6583-4452-9EAF-567AE9D1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97B-46F8-4A93-84BA-992DDC2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54B-FB07-41E6-8A71-D4EB91AA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B15-746E-4F77-86AA-EA2D9836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389-08BA-4301-88E3-4439849E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5A9-7B91-4850-AAB2-1408CF23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0CC-84CA-46F3-9063-47AC03C2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327-E345-4972-9567-C5EE6475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93EB-23DE-4779-BBF6-77310DC3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F7CE-9004-41B3-9D97-0EF704456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eptember 3, 200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August 11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AC Voting It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PMGRR01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Synchronization of Commercial Operations Market Guide with PRR804, Revisions to Section 21 Appeal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LPGRR03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Synchronization of Load Profiling Guide with PRR804, Revisions to Section 21 Appeal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PMGRR0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PGRR03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re submitted by ERCOT and deal with possible actions following the failure of a motion to approve a revision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COPS Update Questions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August 11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C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PMGRR01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Synchronization of Commercial Operations Market Guide with PRR804, Revisions to Section 21 Appeal Process – Approved by C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PMGRR01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Creating Section 11, Disputes and Data Extract Vari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SzPct val="10106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anded to COPS and CCWG to remove the dispute portion until a User Guide can be crea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SzPct val="10106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abled until comments are received from ERCOT Subject Matter Exp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August 11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E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FE Annual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WG will pursue further the implications regarding the UFE during Hurricane Ike period as costs were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will do additional analysis on the hurricane period and report back in the September timefr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S approved ERCOT’s SLA Exception request for August 22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six hours early, but keep the 36 hour  timeframe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August 11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524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PGRR033, Synchronization of Load Profiling Guide with PRR804, Revisions to Section 21 Appeal Process – Approved by COP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524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009 Residential Profile ID Annual Validation is on Schedule (Ends October 2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524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ith the rollout of AMS meters, PWG will discuss whether there will be a need for a 2010 Annual Validation of profile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524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WG looked at the shift in proportion of UFE to NIDR metered premises as AMS matur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hift in UFE is equally proportional to each group which implies no iss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524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WG evaluated the methodology for profile scaling factors (Per UTEF Nov. 16, 2007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methodology determined to be statistically better than proposed alternativ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August 11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E DRG T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PRR, Registration Requirements for DG Resource less than One M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the requirement to register Generation Resources, making the zonal Protocols consistent with the Nodal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more discussion at COPS, a second option was discussed and further review requ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RCOT systems DRG below 50kW is handled as negative load (Using an ESI ID as opposed to a RID); infrastructure is already in place if the kW threshold were to be 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August 11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ering of Block Load Transfers for NO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NOIEs required to register BLT points?,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 Sections 5.7, Block Load Transfers between ERCOT and Non-ERCOT Control Areas, and 5.7.2, Registration of BLT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dal Protocol Sections 6.5.9.5, Block Load Transfer between ERCOT and Non-ERCOT Control Areas, and 6.5.9.5.1, Registration and Posting of BLT Poi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trenarym</cp:lastModifiedBy>
  <dcterms:modified xsi:type="dcterms:W3CDTF">2009-08-21T16:54:43Z</dcterms:modified>
  <cp:revision>108</cp:revision>
  <dc:subject/>
  <dc:title>Slide 1</dc:title>
</cp:coreProperties>
</file>