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C962-3B31-43AD-BB0C-BEDA6E68326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E002-DA5C-40CE-BFAA-6BC4677C7E9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60BB-EAA7-45CC-A172-F3F35233DF0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F812-CEF0-4695-ACB0-8F365D8E949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7C21-318B-40E5-9C49-C719842A191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1DF4-CE02-4161-BAA7-A3FBFDCB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56E-6B08-4878-A1CB-D7B7BB3A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603E-C9BF-4156-8EEC-E2405BB5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85BA-88F3-4A3B-AE87-CDE1EAD5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A8AF-7D6E-4D20-AFE3-6CC0C02F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2FA9-69DB-4398-B92F-B9C02474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2BAB-8CCB-44D9-A873-FFE0C088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EB6D-9033-4B97-A8E2-32E8156E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806C-BACC-48AC-8971-A64D98A4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55FB-242B-448E-8EC4-A3654D0D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C2D8-425C-45BF-AE98-671359AB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E005-6E16-4E1B-B7EA-D0CE001D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BAF5-B9C5-4B5C-8FAE-282107AE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0A5E-4250-489B-A84B-66CAF113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DFFB-500D-4BBD-9565-3FBA1144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2269-780D-401A-ADD8-3C1598A7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D361-DA1A-4962-BED5-D6CD3F8C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76BD-5FFD-4025-B899-CCC81C0F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9414-02B4-410D-8770-5E0A4272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49DE-CB0F-4D11-B12F-7C0762EA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0660-06CF-4989-984C-13487ED6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7901-F399-435B-89BB-73DA3D9A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E84A-80F1-40BB-9DDD-F4D5440A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BF71-60FD-4B25-86FB-9D86AEB8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721e1e"/>
                </a:gs>
                <a:gs pos="100000">
                  <a:srgbClr val="bd373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721e1e"/>
                </a:gs>
                <a:gs pos="100000">
                  <a:srgbClr val="bd37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EE49-AEF1-47B7-8780-939044DB815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8eac66"/>
                </a:gs>
                <a:gs pos="50000">
                  <a:srgbClr val="b4ef7f"/>
                </a:gs>
                <a:gs pos="100000">
                  <a:srgbClr val="8ea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8eac66"/>
                </a:gs>
                <a:gs pos="100000">
                  <a:srgbClr val="5586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55863c"/>
                </a:gs>
                <a:gs pos="100000">
                  <a:srgbClr val="8ea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B84D-C92D-43D8-B2D7-1B27BD2B930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WordArt 13"/>
          <p:cNvSpPr txBox="1"/>
          <p:nvPr/>
        </p:nvSpPr>
        <p:spPr>
          <a:xfrm>
            <a:off x="1143000" y="205740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f7cc2f"/>
                  </a:outerShdw>
                </a:effectLst>
                <a:latin typeface="Cambria"/>
              </a:rPr>
              <a:t>TAC UPDA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f7cc2f"/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126" name="WordArt 15"/>
          <p:cNvSpPr txBox="1"/>
          <p:nvPr/>
        </p:nvSpPr>
        <p:spPr>
          <a:xfrm>
            <a:off x="1143000" y="3429000"/>
            <a:ext cx="3505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7cc2f"/>
                  </a:outerShdw>
                </a:effectLst>
                <a:latin typeface="Cambria"/>
              </a:rPr>
              <a:t>September 2009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7cc2f"/>
                </a:outerShdw>
              </a:effectLst>
              <a:latin typeface="Cambria"/>
              <a:ea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4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14400" y="1874880"/>
            <a:ext cx="8229600" cy="5059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721e1e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CMGRR009, Clarification of the Standards for Competitive Meters (Vot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7cc2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Synchs up standards in the Competitive Metering Guide with market stand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WordArt 8"/>
          <p:cNvSpPr txBox="1"/>
          <p:nvPr/>
        </p:nvSpPr>
        <p:spPr>
          <a:xfrm>
            <a:off x="1066680" y="38088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f7cc2f"/>
                  </a:outerShdw>
                </a:effectLst>
                <a:latin typeface="Cambria"/>
              </a:rPr>
              <a:t>Voting Item          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f7cc2f"/>
                </a:outerShdw>
              </a:effectLst>
              <a:latin typeface="Cambria"/>
              <a:ea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4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AutoShape 9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AutoShape 12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14400" y="1874880"/>
            <a:ext cx="8229600" cy="5059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d3737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MarkeTrak Task Fo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Has additional enhancements for MarkeTrak tool lined up.  Awaiting parking deck to move forw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TEXAS S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Addressing market needs for PRRs and RMGRRs.  Plans are being discussed for a TX SET Implementation Guide version 3.0A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update in 201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WordArt 8"/>
          <p:cNvSpPr txBox="1"/>
          <p:nvPr/>
        </p:nvSpPr>
        <p:spPr>
          <a:xfrm>
            <a:off x="1066680" y="38088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f7cc2f"/>
                  </a:outerShdw>
                </a:effectLst>
                <a:latin typeface="Cambria"/>
              </a:rPr>
              <a:t>Subcommittee Updat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f7cc2f"/>
                </a:outerShdw>
              </a:effectLst>
              <a:latin typeface="Cambria"/>
              <a:ea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4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14400" y="1874880"/>
            <a:ext cx="8229600" cy="5059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d3737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M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Plans to go live with the interim solution for 15 minute settlement in November 2009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Texas Data Transport Working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Reviewing market outages and updating the service level agreement for retail interfa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Retail Metering Working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Updating market guides to accurately reflect market standa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WordArt 8"/>
          <p:cNvSpPr txBox="1"/>
          <p:nvPr/>
        </p:nvSpPr>
        <p:spPr>
          <a:xfrm>
            <a:off x="1066680" y="38088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f7cc2f"/>
                  </a:outerShdw>
                </a:effectLst>
                <a:latin typeface="Cambria"/>
              </a:rPr>
              <a:t>Subcommittee Updat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f7cc2f"/>
                </a:outerShdw>
              </a:effectLst>
              <a:latin typeface="Cambria"/>
              <a:ea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6:19:53Z</dcterms:created>
  <dc:creator>Windows XP ver. 2.2</dc:creator>
  <dc:description/>
  <dc:language>en-US</dc:language>
  <cp:lastModifiedBy>kpatrick</cp:lastModifiedBy>
  <dcterms:modified xsi:type="dcterms:W3CDTF">2009-09-02T18:00:29Z</dcterms:modified>
  <cp:revision>38</cp:revision>
  <dc:subject/>
  <dc:title>R.M.S UPDATE</dc:title>
</cp:coreProperties>
</file>