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CDBD-2DBA-44A0-837E-F3980DD8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9A2C-E67C-488D-BF99-7A971985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82EF-80C3-4BF6-AB66-37DA41EE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708D-B94A-4E71-A74F-71192759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3941-9798-4E81-B0F9-339E9761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5781-3F55-4F9C-928B-7FBA41BE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1552-B51C-44B6-84B7-77BDF195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A515-14DA-45C3-9544-8CBD3C15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B1A7-3AAD-4C79-875C-564904F9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6C3C-DC23-49D5-A22B-7E366E01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6CDF-AD34-4295-A3C4-CC4E6CA7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FCA3-EFEF-4A18-8721-F4130DE8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4125-ACBC-40AA-92FD-03BD8DEC2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27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TWG Report to T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ptember 3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nry Durrwac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D605-ED3A-4409-BD72-40DD91B808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ort from August RTWG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d whitepaper on Wind Ramping Events (possible ways to deal with both low and high ramp rates of wind gener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Operations (John Dumas) reported on development of wind ramping tool, which is scheduled for deployment later this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d and updated Issues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25FB-B1FA-4B69-8DC8-6715418DDE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input from ERCOT Board on draft TRIP with the intent to finalize that document during the fall of 2009 (September 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review of solar technologies and their impact on grid planning and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on solar technology (Septemb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on flywheel storage technology (Septemb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818F-831B-47AA-A005-4A8E848398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64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E46-CA61-44CE-B99D-B3EAC37219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3:49:35Z</dcterms:created>
  <dc:creator>Henry Durrwachter</dc:creator>
  <dc:description/>
  <dc:language>en-US</dc:language>
  <cp:lastModifiedBy>Henry Durrwachter</cp:lastModifiedBy>
  <dcterms:modified xsi:type="dcterms:W3CDTF">2009-08-28T13:18:39Z</dcterms:modified>
  <cp:revision>23</cp:revision>
  <dc:subject/>
  <dc:title>Slide 1</dc:title>
</cp:coreProperties>
</file>