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D508-1FFB-4B5D-9102-0803D087D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541F-AC84-45C0-9788-6522B145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20D-A6E4-475F-AD4F-47D672B4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379-17C9-4E34-B91E-E3F631F0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86D-3810-4EED-8E83-6E9656D3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AC6-4770-4810-AC28-A171A0E9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C72-0F58-4064-91D3-7F5E8948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227D-4122-4C5F-B30B-BB378385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F449-C53B-46D9-A097-6BE374C6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A3E4-5E20-41E4-80EF-56F3830C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8B8B-8D56-4224-A5C9-BCE03938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241A-4E84-44DB-BC3E-BDFCB803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30D8-851B-4D65-BEAA-0907355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899-0A73-45C2-97E7-3F2FFE26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E7F4-1B4B-482C-9D51-C7D7B1C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74E3-27DD-4A9F-9F4B-EF13F63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55B9-78EB-4F45-B719-1BA0282C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5CA8-7A65-40B5-AA9F-24590104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8722-9DA6-4684-928C-BD57803D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B2C-18BA-4FA3-8699-21CFECFA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8CA-B4F9-4F28-A58B-CC5B5039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2F6-6EB0-49AA-AF09-70F58B75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B2F-1F8C-4EBE-966B-FDA47979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93F-488A-46E0-B467-D31343DB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892-B8A8-4FDF-BBD0-F66D4CE8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8F2-80DC-4983-98A0-A06D877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9A36-9C0B-4144-8BAD-23ABA736E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4670-784E-46A9-A166-93E398A8D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ugust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 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0D26-50E7-4A7E-98DE-E07CC072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ugust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ing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MGRR012, Section 11, Disputes and Data Extract Vari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nded from TAC to COPS and COPS to CCW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’s concern was that the Dispute section included ‘how to’ screenshots that should be in a separate user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WG removed the ‘how to’ screen sh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est COPS approval for COPMGRR012 to proceed to T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D82F-0008-4D32-B004-14D27664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ugust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COPMGRR, Update to Section 12, Renewable Energy Credits, due to PRR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under review by Marke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COPMGRR, Section 8.1, ERCOT Settlement and Invoic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under review by Market Rul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8E9A-16AB-4E73-8E3F-2FFA3264D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ugust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mmercial Operations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updated and will be brought back to COPS for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8.2, Settlement and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being work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4DE4-A433-4986-97DA-5C2AC0D0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August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9:30am – 1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COPMGRR, Section 12 – Review comments by Marke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COPMGRR, Section 8.1 – Review comments by Marke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COPMG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AC5E-0D1E-4959-A46D-F73C2187C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9-08-31T19:05:53Z</dcterms:modified>
  <cp:revision>165</cp:revision>
  <dc:subject/>
  <dc:title>CCWG 2006 Accomplishments</dc:title>
</cp:coreProperties>
</file>