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82E-CC5B-45B1-B7E3-1C0CC64DF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368-D19C-4CF2-93F4-FC386A02B0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F4B8-6A5F-497B-950C-7B1387EE8E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EA69-9374-46DD-A7E6-8B8A6C2955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268-FE06-4534-841E-9D0FDCBAC2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85D-C4A4-42F6-B716-EAE56E663C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6886-F731-4ABE-98A8-4960D59B10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E5F-FD4B-44D3-AEC7-A012E13142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BA6-5D0A-4FF3-802F-6C7FB2BF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9F0-E849-4903-9BEF-D30E8B8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496-42FF-49A7-A4C2-0BF6BD79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BA2-0181-456E-A53A-01F4F6B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DC34-9688-4075-A253-EFC5AA0E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CBF1-0F95-4EC2-96E7-72898572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44A3-CDF8-48E5-9ECA-3459B74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B49D-D0EE-439D-9CE8-5A8093DD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E5A4-24B8-4470-A5F7-FC9D7FA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B5C0-BC22-491C-8A12-4729A0F4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356-2760-4D71-9367-65075DB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4FA-F4B1-4C91-8BC9-DFC171C2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4F2-CEAD-4427-8353-7BBB3ADD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783-56B7-4CDD-8F32-058E8A0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457-3486-4E1C-885C-89DC17A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7115-6A58-4162-B86A-61FC6C21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4DA-461B-4943-A82D-3F31DE4C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67D-D2F1-4BCB-8B56-DF7C5E9C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C68-F92D-4286-A80D-70F76A9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FEA-07FA-44FD-AE4C-39CB419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7A7-4982-4C80-A14E-8E32171E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003-0F04-4A26-A7F9-6410A5E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46D-F61C-4F9E-8AB1-4006762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848-12EF-4534-ACEF-8FF0354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606-CF12-4F7F-8A94-81E735193E1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C5D-E760-4373-9D1C-94406C8CB0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4875-3A93-41D9-AF91-EA5311C1D7DD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DEAB-5228-47F4-AB5E-B1A55C13E70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September 8, 200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ugust 11, 2009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Meeting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600200"/>
            <a:ext cx="784872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scussed changes needed to ERCOT’s process to support 15-minute AMS load and DRG, such a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New DDL(s)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Reports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xtracts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b Services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User Guides 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provided updated Power Point document outlining the numerous  chang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raft documents will be posted to MARS web page 9/2009       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on Item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RCOT (Jackie Ashbaugh) will provide the Settlement and Extract Working Group (SEWG) with an update on the changes being created to support  15 minute Settlement for AMS meters. 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scussed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RAF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814_20 Transaction Schedule to support high volumes of AMS Load Profile and Meter changes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on Item: CenterPoint Energy will add their numbers to the AMS 814_20 transaction sched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FB2-8FAB-49F4-9EB2-4C5DC55FA35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3657600" y="228600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86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04920" y="1523880"/>
          <a:ext cx="8839080" cy="5262840"/>
        </p:xfrm>
        <a:graphic>
          <a:graphicData uri="http://schemas.openxmlformats.org/drawingml/2006/table">
            <a:tbl>
              <a:tblPr/>
              <a:tblGrid>
                <a:gridCol w="3603600"/>
                <a:gridCol w="2266920"/>
                <a:gridCol w="2968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15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24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Designs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14/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ff-cyc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 (Contingency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2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RCOT’s AMS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8/11/09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6400800" y="502920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8B9D-5CA1-4A6A-96CD-F6FDB83F081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067000"/>
          </a:xfrm>
          <a:prstGeom prst="rect">
            <a:avLst/>
          </a:prstGeom>
          <a:ln w="0">
            <a:noFill/>
          </a:ln>
        </p:spPr>
      </p:pic>
      <p:sp>
        <p:nvSpPr>
          <p:cNvPr id="102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imeline of Even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15-Min. Sett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ugust 11, 2009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Meeting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447920"/>
            <a:ext cx="861048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ussed with the high volume of 814_20s expected by end of year there isn’t enough time to have all or a majority of the Load Profile changes successfully posted at ERCOT and for TDSPs to follow-up with the usage and DRG data in the LSE files for those ESI IDs to be loaded at ERCOT for initial settlement, therefore our goal as a Marke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ul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e to have the backlogged 814_20s along with usage/ DRG LSE files posted at ERCOT no later than final settlement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would mea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the TDSPs waited to change the Load Profiles for AMS meter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fter initial settleme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TDSPs would hav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ays to complete all 814_20 Load Profile backlogs for AMS meters and  provide LSE files with usage/DRG to ERCOT for loading before final settlement o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the Load Profile was changed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ior to initial settleme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LSE file with usage/DRG had not loaded at ERCOT, then the premise would be settled according to 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aled defaul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ofil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initial settlement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Load Profile change required for AMS Provision Meters “Meter Data Type Code changes to </a:t>
            </a:r>
            <a:r>
              <a:rPr b="1" lang="en-US" sz="1500" spc="-1" strike="noStrike">
                <a:solidFill>
                  <a:srgbClr val="ffff00"/>
                </a:solidFill>
                <a:latin typeface="Tahoma"/>
              </a:rPr>
              <a:t>IDR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he Weather Sensitivity Code changes to </a:t>
            </a:r>
            <a:r>
              <a:rPr b="1" lang="en-US" sz="1500" spc="-1" strike="noStrike">
                <a:solidFill>
                  <a:srgbClr val="ffff00"/>
                </a:solidFill>
                <a:latin typeface="Tahoma"/>
              </a:rPr>
              <a:t>WS, 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1500" spc="-1" strike="noStrike">
                <a:solidFill>
                  <a:srgbClr val="ffff00"/>
                </a:solidFill>
                <a:latin typeface="Tahoma"/>
              </a:rPr>
              <a:t>TOU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, since </a:t>
            </a:r>
            <a:r>
              <a:rPr b="1" lang="en-US" sz="1500" spc="-1" strike="noStrike">
                <a:solidFill>
                  <a:srgbClr val="ffff00"/>
                </a:solidFill>
                <a:latin typeface="Tahoma"/>
              </a:rPr>
              <a:t>TOU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 is no longer applicable”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Note Load Profile contains the following: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rofile Group and Segment Code, Weather Zone Code, </a:t>
            </a:r>
            <a:r>
              <a:rPr b="1" lang="en-US" sz="1300" spc="-1" strike="noStrike">
                <a:solidFill>
                  <a:srgbClr val="ffff00"/>
                </a:solidFill>
                <a:latin typeface="Tahoma"/>
              </a:rPr>
              <a:t>Meter Data Type Code, Weather Sensitivity Code, TOU Schedule Code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FDB-F1A9-4B35-BEB3-D11D32AB06A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MA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752480"/>
            <a:ext cx="82296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ext meeting is scheduled on September 30, 2009 at ERCOT Met Center Conference RM 168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tinue to refine and finalize 814_20 high volume transaction plan to change Load Profile assignment for AMS meters and still manage then 814_20 routine business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urrently draft plan will include Oncor and CenterPoint Energy’s AMS deployment schedules.  Additional TDSPs will be added as their settlement plans are approved by the PUCT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vide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raf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detailed document of the changes required to SCR740 Web Services, DDLs, Data Extracts, User Guides,  and Reports to support 15-minute Settlement of AMS meters to the MARS Taskforce listserv and post to MARS Taskforce Website no later than September 200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eet with SEWG to keep them updated on these changes and of the final state of web services, extracts, reports, user guides, and DDLs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tinue to update RMS and COPS on the progress of Project 80027 Market Interim Settlement Solution for AMS meter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A38-441B-4DA7-963F-3DE40BB26C7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10" name="Content Placeholder 3" descr="j0083153.wmf"/>
          <p:cNvPicPr/>
          <p:nvPr/>
        </p:nvPicPr>
        <p:blipFill>
          <a:blip r:embed="rId1"/>
          <a:stretch/>
        </p:blipFill>
        <p:spPr>
          <a:xfrm>
            <a:off x="2968560" y="3651120"/>
            <a:ext cx="3133800" cy="30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1" name="Picture 4" descr="j0385990.jpg"/>
          <p:cNvPicPr/>
          <p:nvPr/>
        </p:nvPicPr>
        <p:blipFill>
          <a:blip r:embed="rId2"/>
          <a:stretch/>
        </p:blipFill>
        <p:spPr>
          <a:xfrm>
            <a:off x="-6480" y="1670040"/>
            <a:ext cx="3292560" cy="3444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320142.wmf"/>
          <p:cNvPicPr/>
          <p:nvPr/>
        </p:nvPicPr>
        <p:blipFill>
          <a:blip r:embed="rId3"/>
          <a:stretch/>
        </p:blipFill>
        <p:spPr>
          <a:xfrm>
            <a:off x="5877000" y="1695600"/>
            <a:ext cx="3029040" cy="6912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71E-4662-4825-9AC3-B93E4BFE3C2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09-08-26T23:49:13Z</dcterms:modified>
  <cp:revision>137</cp:revision>
  <dc:subject/>
  <dc:title>MARS Taskforce </dc:title>
</cp:coreProperties>
</file>