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47D5-09CA-4018-B0ED-1227E0DCC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A750-EA14-40AF-8E92-ECB8EB4C1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B84F-5D61-4005-B94F-C4B4BB460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007A-390B-48CD-AAD1-4295078B4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2B26-D918-4F87-9340-907BC611D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0F02-6EB0-46B4-9003-2E87DB806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B897-2DB1-4BEC-929B-C53BA276C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4C89-6C46-457A-B418-46132079D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0637-03AF-421C-8910-9F2052CE5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5FB3-1AB6-4488-BDB6-DC6666BCE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95B4-1A82-4259-9907-99EA111F8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4F27-026A-4B5E-AFBA-7DA3FA508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0DA9-527B-4CEF-9DCC-328CA40E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2A4-179E-4BBF-9EAC-FA8B741E80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I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O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ul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31 Retail Application Upgrade SLA Exception Reque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release includes several SIRs and Application patches, as well as DB Upgrades for PaperFree, NAESB and Sieb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is asking to begin the release at 6am on Saturday (6 hrs earl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affect Retail, MarkeTrak, TML, Repor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685800" y="2895480"/>
          <a:ext cx="495288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49528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943600" y="2819520"/>
            <a:ext cx="254952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Oval 7"/>
          <p:cNvSpPr/>
          <p:nvPr/>
        </p:nvSpPr>
        <p:spPr>
          <a:xfrm>
            <a:off x="5543640" y="4724280"/>
            <a:ext cx="32004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9-04T20:08:01Z</dcterms:modified>
  <cp:revision>293</cp:revision>
  <dc:subject/>
  <dc:title>Instructions</dc:title>
</cp:coreProperties>
</file>