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DC56-E659-4931-9592-D35486D740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CBAB-D55D-4A9B-9B2A-484E1A7B52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53BB-2A23-40BD-A673-3058E814D1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C81B-E7A4-4E45-9BC5-A0064E8680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1EA9-FDBF-4D08-9C35-D873C307B7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863-3BE0-44F3-873F-803A4F42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65B-F936-4A01-95AE-3F2EBFDE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A07-D54E-42AB-82CB-B5421B1C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82C-D108-4AA7-8D34-713211DD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0898-ED7D-468E-8F4B-8BF9C331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47B0-5428-479D-959E-BB87A1E2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7F5-0E8F-4387-B1CF-832CD571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490C-D847-4F81-895C-4F802F62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9CF4-B8FD-4D53-9BFE-EF2CACA0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2978-C985-4F8D-B984-05260B10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6989-C91D-49EF-8F58-79EB3B4B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2E1-122B-43F0-874E-6469F58D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6C6E-D715-41F2-87B1-876A16DE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8B5F-152E-4703-B7CC-A5FA809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3FA4-B955-4BCC-9204-4B07018C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BDB7-4DE9-4A9B-A7C5-F19931BE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57FD-6E5E-44BF-A556-5DE5C07F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C0A-BD92-4E41-9696-14C4CFDE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336-5135-46FE-A363-439374BA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B50-6F12-4740-9ED9-AF9BBA22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28E-7A38-4D64-B2E1-481253E8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0E3-52CD-4039-A0FE-7E23E4A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D2D-A344-4169-8A3C-84843896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9D5-0AAD-4B09-A34C-ACB94F2F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68ED-FB6D-4A4C-AF94-706C34B9904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56F8-A8EF-4A4C-ABA3-C573491F5B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1143000" y="205740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7cc2f"/>
                  </a:outerShdw>
                </a:effectLst>
                <a:latin typeface="Cambria"/>
              </a:rPr>
              <a:t>TAC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7cc2f"/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26" name="WordArt 15"/>
          <p:cNvSpPr txBox="1"/>
          <p:nvPr/>
        </p:nvSpPr>
        <p:spPr>
          <a:xfrm>
            <a:off x="1143000" y="3429000"/>
            <a:ext cx="3505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7cc2f"/>
                  </a:outerShdw>
                </a:effectLst>
                <a:latin typeface="Cambria"/>
              </a:rPr>
              <a:t>September 2009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7cc2f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400" y="1874880"/>
            <a:ext cx="8229600" cy="505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21e1e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CMGRR009, Clarification of the Standards for Competitive Meters (Vo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Synchs up standards in the Competitive Metering Guide with market stand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106668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7cc2f"/>
                  </a:outerShdw>
                </a:effectLst>
                <a:latin typeface="Cambria"/>
              </a:rPr>
              <a:t>Voting Item        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7cc2f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4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874880"/>
            <a:ext cx="8229600" cy="505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d3737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MarkeTrak Task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Has additional enhancements for MarkeTrak tool lined up.  Awaiting parking deck to move forw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TEXAS S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Addressing market needs for PRRs and RMGRRs.  Plans are being discussed for a TX SET Implementation Guide version 3.0A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update in 20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WordArt 8"/>
          <p:cNvSpPr txBox="1"/>
          <p:nvPr/>
        </p:nvSpPr>
        <p:spPr>
          <a:xfrm>
            <a:off x="106668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7cc2f"/>
                  </a:outerShdw>
                </a:effectLst>
                <a:latin typeface="Cambria"/>
              </a:rPr>
              <a:t>Subcommittee Upda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7cc2f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4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14400" y="1874880"/>
            <a:ext cx="8229600" cy="505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d3737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M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Plans to go live with the interim solution for 15 minute settlement in November 2009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Texas Data Transport Working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Reviewing market outages and updating the service level agreement for retail interfa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Retail Metering Working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Updating market guides to accurately reflect market stand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106668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7cc2f"/>
                  </a:outerShdw>
                </a:effectLst>
                <a:latin typeface="Cambria"/>
              </a:rPr>
              <a:t>Subcommittee Upda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7cc2f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09-09-02T18:00:29Z</dcterms:modified>
  <cp:revision>38</cp:revision>
  <dc:subject/>
  <dc:title>R.M.S UPDATE</dc:title>
</cp:coreProperties>
</file>