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007C-CA53-4758-90E6-4E376C5D6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0A34-47D2-4873-B6D6-6A11468F7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B199-3224-4887-818B-3983110A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C84E-2583-4779-B266-9AF9D820E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C93B-0E90-44CE-A286-14E27FA1C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C1AA-4B89-470D-9836-616AC9412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732A-2101-4931-81E3-BC992A15E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8106-EBAE-4ED8-A5C1-EA51B2A2A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3726-255F-46F6-A235-6677A6937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CF7A-5167-4BFF-BAD3-F78F827E9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E178-43DC-42DD-B704-46BFD6366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D4FC-1936-4B57-BE53-46A5776DF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B5B0-5B44-475D-90AA-0DE4EE960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2F3D-9688-4F9B-8ECA-1CFD6445B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1312-DDEA-4B9D-AA38-ABB1537B5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0BBA-FE9E-4241-8510-D263B3CC7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F91F-A12F-4FDC-A5B1-92D636FA7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89F-A1E6-434A-9F91-90BC6730F5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504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T Account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249200" y="838080"/>
            <a:ext cx="659952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98.68%. This was below the service level target of 99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98.29%. This was below the 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Report Explor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99.20%. This was above the 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AP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98%. This was below the 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r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Systems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/16/09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iss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erver that hosted the databases became unresponsive resulting in outage. Root cause analysis is in progress. Server was shutdown and all systems were restarted to restore the service  – 213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/10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 iss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atabase performance degraded following an update of query optimization statistical model, resulting in connection timeout and / or slow response. Previous version of the model was restored to recover the performance. Subsequent models worked without issues  – 43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/9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iss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 hardware failure caused by a configuration issue following a scheduled maintenance impacted the network, resulting in an unplanned outage. Configuration was updated to restore the service – 271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/2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d maintenance outage overru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ue to a batch overrun prior to the start of a planned maintenance outage, the maintenance outage started late and resulted in an overrun of the prescribed window – 72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47640" y="762120"/>
            <a:ext cx="7967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600120" y="838080"/>
            <a:ext cx="7967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143000" y="727200"/>
            <a:ext cx="7086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432080" y="762120"/>
            <a:ext cx="64166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225440" y="762120"/>
            <a:ext cx="66992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9-02T20:45:03Z</dcterms:modified>
  <cp:revision>433</cp:revision>
  <dc:subject/>
  <dc:title>Instructions</dc:title>
</cp:coreProperties>
</file>