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9CFC-AC72-4A8B-894F-7D24937A1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CD0A-D684-46D7-9867-5596CD36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38D8-D4E4-4C6C-A81B-CA8E67B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9849-9EAE-4E91-97B1-7B7F3D703D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1F75-E541-4B91-98BF-94D19BC3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5A9E-5A05-4E54-BC82-1CA1BB9B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C300-CB46-40B2-8861-9065CED6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FD19-F614-4EAA-A12F-5C3AF6FB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6745-EEFD-432C-A1A9-08FF1E14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5468-FF74-43F0-9091-8EBD207E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D1F4-3B14-40AB-A9EF-F91D9D6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0615-2D89-48FC-B5E7-7F59B7B4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F02-A3F6-433D-85C3-42BDC48E0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9577-B7AF-45A8-8295-65BA64E3B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finance_audit/keydocs/2009/0217/20090217_FA_Meeting_Materials.pdf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gust 25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219320"/>
            <a:ext cx="86868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 PR-70034_01 Vendor Contract Information Database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2 of an effort to allow better management and reporting of vendor contracts by ERCOT’s Legal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 PR-80042_01 Cyber-Securit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and enhance ERCOT cyber-security 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 PR-90023_01 Single Tim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 dual entry of project time reporting into project management system and time repor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C868-623C-4F9B-984F-9CEECC538A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Project 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Project Spending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8/18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D765-D2A6-4339-8AB5-60ECF6836A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5235480"/>
            <a:ext cx="2362320" cy="29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vised 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ly 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gust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ptember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6A08-F180-44DE-9E68-8CE8B8289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4676760"/>
            <a:ext cx="83055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Prioritization – Introductory 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delivery is the focus of the organization next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projects are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projects already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s managemen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May 1, 2010, production and testing environments will be locked down to reduce risk during the months preceding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straints between other efforts and Nodal must be limited as much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“Capability” line projected in 2010 due to multipl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ject added by TAC on 8/6/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805 – Add AMS Meter Flag to Database Query Function on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0k Retail Operation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“2-High”, Rank 23.5 (immediately above the cut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963D-DC19-41A9-AF5D-54E9A4BCBE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Budgets and Project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447920"/>
          <a:ext cx="8077320" cy="441936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0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Refresh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363840" y="599112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300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highlighted in yel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B47A-7316-4FC2-8D88-962D0AFB7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914400"/>
          <a:ext cx="8381880" cy="5257800"/>
        </p:xfrm>
        <a:graphic>
          <a:graphicData uri="http://schemas.openxmlformats.org/drawingml/2006/table">
            <a:tbl>
              <a:tblPr/>
              <a:tblGrid>
                <a:gridCol w="1108080"/>
                <a:gridCol w="1639800"/>
                <a:gridCol w="1481400"/>
                <a:gridCol w="1384200"/>
                <a:gridCol w="1384200"/>
                <a:gridCol w="13842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8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5,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3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9,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3,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 Refr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Inter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0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1,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9,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7,3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2,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2,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4,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276720" y="932040"/>
            <a:ext cx="5486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evious Year Forecast (F) / Actuals (A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in 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63840" y="620568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300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highlighted in yel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3515-DD8B-4DAE-A2BD-8177808504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Spending Update – 8/19/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762120"/>
          <a:ext cx="8305560" cy="495612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092,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675,9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9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9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761,6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489,8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092,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895,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833,9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al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3,8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0,656,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15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480,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Expa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98,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7,2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7,334,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535400" y="5961240"/>
            <a:ext cx="680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8672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8928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1920" y="5943600"/>
            <a:ext cx="280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ments in project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867280"/>
            <a:ext cx="2590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8280" y="5943600"/>
            <a:ext cx="680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867280"/>
            <a:ext cx="2895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5334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20574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438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28954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38862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6095880"/>
            <a:ext cx="228600" cy="12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514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1219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8862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9528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9436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5943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960" y="5943600"/>
            <a:ext cx="289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. to Reduce Total 2009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0080" y="5943600"/>
            <a:ext cx="3274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for POLR &amp; Expedited Sw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1219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49528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9D62-411F-4FB5-B6EE-0F55E5549D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89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07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Enhancements (SCR7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03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38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L Audit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80036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COT / TRE Accoun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meetings/finance_audit/keydocs/2009/0217/20090217_FA_Meeting_Materials.pd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(p. 8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58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roject Server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317/20090317_FA_Meeting_Materials.pdf  (p. 4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46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26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422/20090422_FA_Meeting_Materials.pdf  (p. 69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51F7-B44B-4923-A15E-12A067DD1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PR-80016_01 Security Configu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PR-80040_01 TIBCO Siebel Integration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ttp://www.ercot.com/content/meetings/finance_audit/keydocs/2009/0616/20090616_FA_Meeting_Materials.pdf  (p. 2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  PR-80044_01 Tape Hardware Backup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ment of aging tape backup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speed and capacity; power and space reduction in data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PR-90022_01 Zonal AWS Wind Gen Forecast for Q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CR754 / PRR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place ERCOT email delivery of AWS forecast to QSEs with a more secure and programmatic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8F3A-DE8F-42FF-81D5-128DE53DF6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8-20T15:34:30Z</dcterms:modified>
  <cp:revision>400</cp:revision>
  <dc:subject/>
  <dc:title>Instructions</dc:title>
</cp:coreProperties>
</file>