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94A3-21B2-4173-979F-F8C93643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CE81-3872-4ECE-A803-DA65DDF8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C8C5-59A5-4DF3-A4CE-8C2D6F31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DF67-5907-42DD-A206-F34C6727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2F3B-7FBB-49AD-8224-3E3688CF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1531-A1D6-4D3A-A668-5F594C30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F1B-DD86-4EC2-8B30-A9779793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810E-181F-4D5A-867F-7439F635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EACF-EAED-4A6A-B564-B178C370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FC8D-EE63-49E0-8784-72D91D2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022A-29C0-4466-A0E3-69F0F4F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D36A-CFD8-4D9F-88AF-9840D06F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B488-A5D6-41DA-BD5F-05FAF84C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78D6-B317-42E5-9811-541BA3CE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B528-E04E-4363-A2DE-03C0DF97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8F09-5987-4310-9CB5-EFADEF36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B80C-77E6-4706-A71B-37998201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3EC1-E52F-4A9B-B8FC-D0F60C08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AEBB-CC03-4DD8-B5BC-B46675D9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ADD7-BE44-4891-A7A3-FCC5393F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F8A7-B451-411A-B9BD-53A6C69E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3B06-30B2-4B4C-9E51-AD96D37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21C5-732A-42F4-8F65-5F6C913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4D1B-1EF9-4905-B169-A9DBB5B3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988C-4F41-4247-A076-433E6BEF12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B4C-8918-4699-B75E-2EC5346174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Working Group (VCWG)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gust 19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D263-2388-44D8-B8FE-B73F56C4E05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CWG Meeting August  12, 200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hite Paper   Units with no Maintenance History (Vot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imited to Previously Commissioned units that are sold to another Entity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nits must have been purchased within the last two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nit will be capped by a Proxy Resource as defined in the White Pape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f no Proxy Resource exists ERCOT will use Resource Actual Fuel Volumes and Generic Startup for O &amp; M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nit will be uncapped after 2 year and 2 months after ownership chan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A1C4-8702-49C6-8BFE-D04FF6C7916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hite Paper  – Treatment of Maintenance Labor Costs. (Vot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03680" indent="-560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source Entity must demonstrate it employs permanent maintenance staff in support of power plant operat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03680" indent="-560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sts exclude taxes and benefi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03680" indent="-560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bor costs are limited to costs associated with labor for maintenance of the un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03680" indent="-560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duction of maintenance staff must be conveyed to ERCO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03680" indent="-560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avel expenses to plants are exclud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40080" indent="-64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raft Affidavit for Resources filing Verifiable Costs. (vot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4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17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33FE-3F63-41C8-BBD1-A54C4F2B47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going Discussions: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emand Char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eatment of cost for new technolog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eatment of cost for new resources without cost histor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xt meeting September 16,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A7D0-ACF1-4C8E-B48D-A020A0F46B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hlookado</cp:lastModifiedBy>
  <dcterms:modified xsi:type="dcterms:W3CDTF">2009-08-14T17:50:32Z</dcterms:modified>
  <cp:revision>279</cp:revision>
  <dc:subject/>
  <dc:title>Protocol Revision Subcommittee</dc:title>
</cp:coreProperties>
</file>