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D8AF199-CCAC-41F0-AA17-B8B68048CE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ED00852-78A4-4521-93C1-2B0DDC3E2F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DAFF8-0EEA-4593-A3EE-E8DF88322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170C-8D2F-4C9E-AD12-49DD6E08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221A1-7692-4F2C-B889-717DA7864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A84BF-27A0-4BCC-8381-1F82CF87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B3CFA-4935-4616-AF22-75937A1C6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C037F-8FFE-4B85-8664-D4B7F245C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90246-7460-407C-9413-6DC52A6E8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72FDA-DE76-4BEE-93E1-D1EA638A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196D9-8C95-4B7B-AD28-F71B98DF0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91112-CF7C-473F-B59A-5F7A9EB46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92065-2AF3-4EB6-8AC6-B1F9A9B51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C1D1B-D21B-4ACA-955E-1026B155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12A57-874C-45AF-8987-8DA23D666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313A5-4A1C-4BBD-A996-AFE279E56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2078F-9CDF-4BCC-BB2C-7112FED85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0028D-5EAE-40CA-847F-9EC0FDE4B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F1C82-27CA-45C2-AA33-720B05E72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1730-0C19-4C95-96F7-360F77FE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B0DD-27D1-4C5D-A90F-7241FD915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AD7B-15C1-4FCB-9B1F-56091826A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95C7-AA96-4B9A-9DA7-7737B2930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EB92-433A-4BD6-B964-BE25CD6A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C765-E4C9-41A6-828D-42A6F54B9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588D-D358-4712-8721-876C5B7B7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gust 19, 2009</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7A06-BAF4-4FEC-96A2-5698342C8B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gust 19, 2009</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998B-14D7-490A-ABF1-7866FC7DE7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2010 CSC &amp; Zone Selection:</a:t>
            </a:r>
            <a:br>
              <a:rPr sz="4800"/>
            </a:br>
            <a:r>
              <a:rPr b="0" lang="en-US" sz="4800" spc="-1" strike="noStrike">
                <a:solidFill>
                  <a:srgbClr val="999900"/>
                </a:solidFill>
                <a:latin typeface="Garamond"/>
              </a:rPr>
              <a:t>6 Lines W-N &amp; 4 Zones (WN2_SN0-4Z)</a:t>
            </a:r>
            <a:endParaRPr b="0" lang="en-US" sz="4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scent Power,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263-0653</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gust 19, 200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FB4C-D697-4EB9-83AE-FF72F94BD3C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6"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4 Zones under WN2_SN0-4Z</a:t>
            </a:r>
            <a:endParaRPr b="0" lang="en-US" sz="4400" spc="-1" strike="noStrike">
              <a:solidFill>
                <a:srgbClr val="999900"/>
              </a:solidFill>
              <a:latin typeface="Garamond"/>
            </a:endParaRPr>
          </a:p>
        </p:txBody>
      </p:sp>
      <p:pic>
        <p:nvPicPr>
          <p:cNvPr id="167" name="Picture 2" descr=""/>
          <p:cNvPicPr/>
          <p:nvPr/>
        </p:nvPicPr>
        <p:blipFill>
          <a:blip r:embed="rId1"/>
          <a:stretch/>
        </p:blipFill>
        <p:spPr>
          <a:xfrm>
            <a:off x="1981080" y="1523880"/>
            <a:ext cx="54943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8CB2-AB5C-4EA6-97C4-4C84BF76857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1"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enefits of Proposed CSCs &amp; Zones</a:t>
            </a:r>
            <a:endParaRPr b="0" lang="en-US" sz="4400" spc="-1" strike="noStrike">
              <a:solidFill>
                <a:srgbClr val="999900"/>
              </a:solidFill>
              <a:latin typeface="Garamond"/>
            </a:endParaRPr>
          </a:p>
        </p:txBody>
      </p:sp>
      <p:sp>
        <p:nvSpPr>
          <p:cNvPr id="172"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all information currently available, the CSCs of </a:t>
            </a:r>
            <a:r>
              <a:rPr b="0" lang="en-US" sz="2400" spc="-1" strike="noStrike">
                <a:solidFill>
                  <a:srgbClr val="ff0000"/>
                </a:solidFill>
                <a:latin typeface="Verdana"/>
              </a:rPr>
              <a:t>WN2_SN0-4Z</a:t>
            </a:r>
            <a:r>
              <a:rPr b="0" lang="en-US" sz="2400" spc="-1" strike="noStrike">
                <a:solidFill>
                  <a:srgbClr val="000000"/>
                </a:solidFill>
                <a:latin typeface="Verdana"/>
              </a:rPr>
              <a:t> are the most efficient to manage known and expected commercially significant inter-zonal congestion in 201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other choice of W-N CSC will introduce some amount of inefficiency whenever the Stability Limit is binding (which is the vast majority of the time) as well as send the wrong price signals to some Resources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4 Congestion Zones represent a continuity of the current zonal market in what is likely to be the final year of the zonal market with minimal load and resources switching zones</a:t>
            </a:r>
            <a:endParaRPr b="0" lang="en-US" sz="24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BCD6-71A9-4E43-814B-61F2A98BA44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2"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commendation: WN2_SN0-4Z</a:t>
            </a:r>
            <a:endParaRPr b="0" lang="en-US" sz="4400" spc="-1" strike="noStrike">
              <a:solidFill>
                <a:srgbClr val="999900"/>
              </a:solidFill>
              <a:latin typeface="Garamond"/>
            </a:endParaRPr>
          </a:p>
        </p:txBody>
      </p:sp>
      <p:sp>
        <p:nvSpPr>
          <p:cNvPr id="103"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N2_SN0-4Z has following CSCs &amp; 4 Congestion Zones:</a:t>
            </a:r>
            <a:endParaRPr b="0" lang="en-US" sz="20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 Lake Creek-Temple/Tradinghouse-Temple Pecan Creek 345-kV (same as 2009)</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H: Singleton-Obrien/Singleton-TH Wharton 345-kV (same as 2009)</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N and N-W: Graham–Cook Field, Jacksboro–Bowman, Graham–Tonkawa, Bowman–Graham, Comanche Switch–Red Creek, Graham–Long Creek (6 lines used to monitor W-N Stability Limit)</a:t>
            </a:r>
            <a:endParaRPr b="0" lang="en-US" sz="16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 all information currently available, these CSCs are the most efficient to manage known and expected commercially significant inter-zonal congestion in 2010</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other choice of W-N CSC will introduce some amount of inefficiency whenever the Stability Limit is binding (which is the vast majority of the time) as well as send the wrong price signals to some Resource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4 Congestion Zones represent a continuity of the current zonal market with minimal load and resources switching zones</a:t>
            </a:r>
            <a:endParaRPr b="0" lang="en-US" sz="20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8D74-0D31-4D57-9F41-6DB8B1E01C6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siderations for CSC Selection</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didate CSCs are determined:</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ransfer analysis between Study Zone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 an evaluation of the actual annual Congestion costs from the prior year</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ERCOT’s operational experience</a:t>
            </a:r>
            <a:endParaRPr b="0" lang="en-US" sz="20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Cs should be selected such that:</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sufficiently competitive market to resolve Congestion on the transmission path to be considered for CSC designation</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didate CSC is an adequate indicator to be used to operationally manage and measure inter-zonal transfers; and</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of zonal balancing will be effective for managing the post-contingency flow on the limiting ele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D693-7501-4103-AB74-7086F5B2954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valuation of Congestion Costs</a:t>
            </a: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ERCOT evaluation: Current N-S &amp; N-H CSCs are appropriate (so, no change proposed)</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W-N congestion:</a:t>
            </a: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00"/>
                </a:solidFill>
                <a:uFillTx/>
                <a:latin typeface="Verdana"/>
              </a:rPr>
              <a:t>Note</a:t>
            </a:r>
            <a:r>
              <a:rPr b="0" lang="en-US" sz="2000" spc="-1" strike="noStrike">
                <a:solidFill>
                  <a:srgbClr val="000000"/>
                </a:solidFill>
                <a:latin typeface="Verdana"/>
              </a:rPr>
              <a:t>: Out of 2,403 binding intervals for the West to North CSC, </a:t>
            </a:r>
            <a:r>
              <a:rPr b="0" lang="en-US" sz="2000" spc="-1" strike="noStrike" u="sng">
                <a:solidFill>
                  <a:srgbClr val="ff0000"/>
                </a:solidFill>
                <a:uFillTx/>
                <a:latin typeface="Verdana"/>
              </a:rPr>
              <a:t>2,032 have been due to the Stability Limit</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S-N conges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14" name=""/>
          <p:cNvGraphicFramePr/>
          <p:nvPr/>
        </p:nvGraphicFramePr>
        <p:xfrm>
          <a:off x="914400" y="2438280"/>
          <a:ext cx="7696080" cy="1381320"/>
        </p:xfrm>
        <a:graphic>
          <a:graphicData uri="http://schemas.openxmlformats.org/drawingml/2006/table">
            <a:tbl>
              <a:tblPr/>
              <a:tblGrid>
                <a:gridCol w="2886120"/>
                <a:gridCol w="2981160"/>
                <a:gridCol w="1828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ingenc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verloaded Elemen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True” Co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bility Limi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035,42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ham-Long Cre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rray-Paint Creek 138kV</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59,87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e7"/>
                    </a:solidFill>
                  </a:tcPr>
                </a:tc>
              </a:tr>
            </a:tbl>
          </a:graphicData>
        </a:graphic>
      </p:graphicFrame>
      <p:graphicFrame>
        <p:nvGraphicFramePr>
          <p:cNvPr id="115" name=""/>
          <p:cNvGraphicFramePr/>
          <p:nvPr/>
        </p:nvGraphicFramePr>
        <p:xfrm>
          <a:off x="914400" y="5008680"/>
          <a:ext cx="7696080" cy="1011240"/>
        </p:xfrm>
        <a:graphic>
          <a:graphicData uri="http://schemas.openxmlformats.org/drawingml/2006/table">
            <a:tbl>
              <a:tblPr/>
              <a:tblGrid>
                <a:gridCol w="2886120"/>
                <a:gridCol w="2981160"/>
                <a:gridCol w="18288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ingenc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verloaded Elemen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True” Co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le Switch-Sandow Switch 345kV</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strop-Sandow Switch 345kV</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88,928</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654A-927F-468D-AD7A-EAD3C5E383E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mplications of W-N Congestion</a:t>
            </a:r>
            <a:endParaRPr b="0" lang="en-US" sz="4400" spc="-1" strike="noStrike">
              <a:solidFill>
                <a:srgbClr val="999900"/>
              </a:solidFill>
              <a:latin typeface="Garamond"/>
            </a:endParaRPr>
          </a:p>
        </p:txBody>
      </p:sp>
      <p:sp>
        <p:nvSpPr>
          <p:cNvPr id="120"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est to North Stability Limit is by far the most important and most often binding constraint</a:t>
            </a:r>
            <a:endParaRPr b="0" lang="en-US" sz="20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llowing lines that ERCOT monitors for the Stability Limit are the obvious choice to define the W-N CSC: </a:t>
            </a:r>
            <a:r>
              <a:rPr b="0" lang="en-US" sz="1800" spc="-1" strike="noStrike">
                <a:solidFill>
                  <a:srgbClr val="000000"/>
                </a:solidFill>
                <a:latin typeface="Verdana"/>
              </a:rPr>
              <a:t>Graham–Cook Field, Jacksboro–Bowman, Graham–Tonkawa, Bowman–Graham, Comanche Switch–Red Creek, Graham–Long Creek</a:t>
            </a:r>
            <a:endParaRPr b="0" lang="en-US" sz="18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Graham-Parker or pre-contingency Sweetwater-Long Creek/Abilene Mulberry Creek-Long Creek as the W-N CSC would result in inefficiencies in managing the Stability Limit and send the wrong price signals to certain Resource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ther constraints in the West (apart from candidate CREs to this CSC) are scattered throughout the West and are on lower voltage line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us, given the lack of significant congestion on any element further West in ERCOT’s evaluation results, there is no clear justification for another CSC further West of this W-N CSC</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2CED-73C5-4206-9E5C-E58C254B646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ap of W-N Congestion</a:t>
            </a:r>
            <a:endParaRPr b="0" lang="en-US" sz="4400" spc="-1" strike="noStrike">
              <a:solidFill>
                <a:srgbClr val="999900"/>
              </a:solidFill>
              <a:latin typeface="Garamond"/>
            </a:endParaRPr>
          </a:p>
        </p:txBody>
      </p:sp>
      <p:grpSp>
        <p:nvGrpSpPr>
          <p:cNvPr id="125" name="Group 7"/>
          <p:cNvGrpSpPr/>
          <p:nvPr/>
        </p:nvGrpSpPr>
        <p:grpSpPr>
          <a:xfrm>
            <a:off x="533520" y="1600200"/>
            <a:ext cx="8229600" cy="5008680"/>
            <a:chOff x="533520" y="1600200"/>
            <a:chExt cx="8229600" cy="5008680"/>
          </a:xfrm>
        </p:grpSpPr>
        <p:pic>
          <p:nvPicPr>
            <p:cNvPr id="126" name="Picture 2" descr=""/>
            <p:cNvPicPr/>
            <p:nvPr/>
          </p:nvPicPr>
          <p:blipFill>
            <a:blip r:embed="rId1"/>
            <a:srcRect l="15385" t="0" r="12087" b="0"/>
            <a:stretch/>
          </p:blipFill>
          <p:spPr>
            <a:xfrm>
              <a:off x="2643480" y="1600200"/>
              <a:ext cx="6119640" cy="5008680"/>
            </a:xfrm>
            <a:prstGeom prst="rect">
              <a:avLst/>
            </a:prstGeom>
            <a:ln w="0">
              <a:noFill/>
            </a:ln>
          </p:spPr>
        </p:pic>
        <p:grpSp>
          <p:nvGrpSpPr>
            <p:cNvPr id="127" name="Group 26"/>
            <p:cNvGrpSpPr/>
            <p:nvPr/>
          </p:nvGrpSpPr>
          <p:grpSpPr>
            <a:xfrm>
              <a:off x="533520" y="2197800"/>
              <a:ext cx="6330960" cy="3469680"/>
              <a:chOff x="533520" y="2197800"/>
              <a:chExt cx="6330960" cy="3469680"/>
            </a:xfrm>
          </p:grpSpPr>
          <p:sp>
            <p:nvSpPr>
              <p:cNvPr id="128" name="TextBox 10"/>
              <p:cNvSpPr/>
              <p:nvPr/>
            </p:nvSpPr>
            <p:spPr>
              <a:xfrm>
                <a:off x="533520" y="2736360"/>
                <a:ext cx="3097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est – North Stability Interfac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wman – Jacksboro</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wman – Grah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nkawa – Grah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Creek – Grah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ok Field – Grah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d Creek - Comanche </a:t>
                </a:r>
                <a:endParaRPr b="0" lang="en-US" sz="1400" spc="-1" strike="noStrike">
                  <a:solidFill>
                    <a:srgbClr val="000000"/>
                  </a:solidFill>
                  <a:latin typeface="Verdana"/>
                </a:endParaRPr>
              </a:p>
            </p:txBody>
          </p:sp>
          <p:grpSp>
            <p:nvGrpSpPr>
              <p:cNvPr id="129" name="Group 25"/>
              <p:cNvGrpSpPr/>
              <p:nvPr/>
            </p:nvGrpSpPr>
            <p:grpSpPr>
              <a:xfrm>
                <a:off x="2362320" y="2197800"/>
                <a:ext cx="4502160" cy="3469680"/>
                <a:chOff x="2362320" y="2197800"/>
                <a:chExt cx="4502160" cy="3469680"/>
              </a:xfrm>
            </p:grpSpPr>
            <p:cxnSp>
              <p:nvCxnSpPr>
                <p:cNvPr id="130" name="Straight Arrow Connector 12"/>
                <p:cNvCxnSpPr/>
                <p:nvPr/>
              </p:nvCxnSpPr>
              <p:spPr>
                <a:xfrm flipV="1">
                  <a:off x="2514600" y="2197800"/>
                  <a:ext cx="4350240" cy="1154880"/>
                </a:xfrm>
                <a:prstGeom prst="straightConnector1">
                  <a:avLst/>
                </a:prstGeom>
                <a:ln w="9360">
                  <a:solidFill>
                    <a:srgbClr val="98cc00"/>
                  </a:solidFill>
                  <a:miter/>
                  <a:tailEnd len="med" type="arrow" w="med"/>
                </a:ln>
              </p:spPr>
            </p:cxnSp>
            <p:cxnSp>
              <p:nvCxnSpPr>
                <p:cNvPr id="131" name="Straight Arrow Connector 13"/>
                <p:cNvCxnSpPr/>
                <p:nvPr/>
              </p:nvCxnSpPr>
              <p:spPr>
                <a:xfrm flipV="1">
                  <a:off x="2362320" y="2437200"/>
                  <a:ext cx="3940560" cy="1143720"/>
                </a:xfrm>
                <a:prstGeom prst="straightConnector1">
                  <a:avLst/>
                </a:prstGeom>
                <a:ln w="9360">
                  <a:solidFill>
                    <a:srgbClr val="98cc00"/>
                  </a:solidFill>
                  <a:miter/>
                  <a:tailEnd len="med" type="arrow" w="med"/>
                </a:ln>
              </p:spPr>
            </p:cxnSp>
            <p:cxnSp>
              <p:nvCxnSpPr>
                <p:cNvPr id="132" name="Straight Arrow Connector 14"/>
                <p:cNvCxnSpPr/>
                <p:nvPr/>
              </p:nvCxnSpPr>
              <p:spPr>
                <a:xfrm flipV="1">
                  <a:off x="2362320" y="3394440"/>
                  <a:ext cx="1899360" cy="338760"/>
                </a:xfrm>
                <a:prstGeom prst="straightConnector1">
                  <a:avLst/>
                </a:prstGeom>
                <a:ln w="9360">
                  <a:solidFill>
                    <a:srgbClr val="98cc00"/>
                  </a:solidFill>
                  <a:miter/>
                  <a:tailEnd len="med" type="arrow" w="med"/>
                </a:ln>
              </p:spPr>
            </p:cxnSp>
            <p:cxnSp>
              <p:nvCxnSpPr>
                <p:cNvPr id="133" name="Straight Arrow Connector 15"/>
                <p:cNvCxnSpPr/>
                <p:nvPr/>
              </p:nvCxnSpPr>
              <p:spPr>
                <a:xfrm flipV="1">
                  <a:off x="2590920" y="3453480"/>
                  <a:ext cx="3007440" cy="508680"/>
                </a:xfrm>
                <a:prstGeom prst="straightConnector1">
                  <a:avLst/>
                </a:prstGeom>
                <a:ln w="9360">
                  <a:solidFill>
                    <a:srgbClr val="98cc00"/>
                  </a:solidFill>
                  <a:miter/>
                  <a:tailEnd len="med" type="arrow" w="med"/>
                </a:ln>
              </p:spPr>
            </p:cxnSp>
            <p:cxnSp>
              <p:nvCxnSpPr>
                <p:cNvPr id="134" name="Straight Arrow Connector 16"/>
                <p:cNvCxnSpPr/>
                <p:nvPr/>
              </p:nvCxnSpPr>
              <p:spPr>
                <a:xfrm flipV="1">
                  <a:off x="2437920" y="3513600"/>
                  <a:ext cx="3020040" cy="677160"/>
                </a:xfrm>
                <a:prstGeom prst="straightConnector1">
                  <a:avLst/>
                </a:prstGeom>
                <a:ln w="9360">
                  <a:solidFill>
                    <a:srgbClr val="98cc00"/>
                  </a:solidFill>
                  <a:miter/>
                  <a:tailEnd len="med" type="arrow" w="med"/>
                </a:ln>
              </p:spPr>
            </p:cxnSp>
            <p:cxnSp>
              <p:nvCxnSpPr>
                <p:cNvPr id="135" name="Straight Arrow Connector 17"/>
                <p:cNvCxnSpPr/>
                <p:nvPr/>
              </p:nvCxnSpPr>
              <p:spPr>
                <a:xfrm>
                  <a:off x="2590920" y="4419000"/>
                  <a:ext cx="3921840" cy="1248840"/>
                </a:xfrm>
                <a:prstGeom prst="straightConnector1">
                  <a:avLst/>
                </a:prstGeom>
                <a:ln w="9360">
                  <a:solidFill>
                    <a:srgbClr val="98cc00"/>
                  </a:solidFill>
                  <a:miter/>
                  <a:tailEnd len="med" type="arrow" w="med"/>
                </a:ln>
              </p:spPr>
            </p:cxnSp>
          </p:grpSp>
        </p:grpSp>
      </p:grpSp>
      <p:grpSp>
        <p:nvGrpSpPr>
          <p:cNvPr id="136" name="Group 18"/>
          <p:cNvGrpSpPr/>
          <p:nvPr/>
        </p:nvGrpSpPr>
        <p:grpSpPr>
          <a:xfrm>
            <a:off x="3885840" y="2514600"/>
            <a:ext cx="4457880" cy="2145600"/>
            <a:chOff x="3885840" y="2514600"/>
            <a:chExt cx="4457880" cy="2145600"/>
          </a:xfrm>
        </p:grpSpPr>
        <p:sp>
          <p:nvSpPr>
            <p:cNvPr id="137" name="TextBox 19"/>
            <p:cNvSpPr/>
            <p:nvPr/>
          </p:nvSpPr>
          <p:spPr>
            <a:xfrm>
              <a:off x="4267080" y="4353120"/>
              <a:ext cx="2117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09 W-N CSC</a:t>
              </a:r>
              <a:endParaRPr b="0" lang="en-US" sz="1400" spc="-1" strike="noStrike">
                <a:solidFill>
                  <a:srgbClr val="000000"/>
                </a:solidFill>
                <a:latin typeface="Verdana"/>
              </a:endParaRPr>
            </a:p>
          </p:txBody>
        </p:sp>
        <p:cxnSp>
          <p:nvCxnSpPr>
            <p:cNvPr id="138" name="Straight Arrow Connector 20"/>
            <p:cNvCxnSpPr>
              <a:stCxn id="137" idx="1"/>
            </p:cNvCxnSpPr>
            <p:nvPr/>
          </p:nvCxnSpPr>
          <p:spPr>
            <a:xfrm flipH="1" flipV="1">
              <a:off x="3885840" y="4352400"/>
              <a:ext cx="381600" cy="154440"/>
            </a:xfrm>
            <a:prstGeom prst="straightConnector1">
              <a:avLst/>
            </a:prstGeom>
            <a:ln w="9360">
              <a:solidFill>
                <a:srgbClr val="98cc00"/>
              </a:solidFill>
              <a:miter/>
              <a:tailEnd len="med" type="arrow" w="med"/>
            </a:ln>
          </p:spPr>
        </p:cxnSp>
        <p:sp>
          <p:nvSpPr>
            <p:cNvPr id="139" name="TextBox 21"/>
            <p:cNvSpPr/>
            <p:nvPr/>
          </p:nvSpPr>
          <p:spPr>
            <a:xfrm>
              <a:off x="5088960" y="3984480"/>
              <a:ext cx="209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0 MW Wind Capacity</a:t>
              </a:r>
              <a:endParaRPr b="0" lang="en-US" sz="1400" spc="-1" strike="noStrike">
                <a:solidFill>
                  <a:srgbClr val="000000"/>
                </a:solidFill>
                <a:latin typeface="Verdana"/>
              </a:endParaRPr>
            </a:p>
          </p:txBody>
        </p:sp>
        <p:cxnSp>
          <p:nvCxnSpPr>
            <p:cNvPr id="140" name="Straight Arrow Connector 22"/>
            <p:cNvCxnSpPr/>
            <p:nvPr/>
          </p:nvCxnSpPr>
          <p:spPr>
            <a:xfrm flipH="1" flipV="1">
              <a:off x="5028480" y="3984480"/>
              <a:ext cx="229320" cy="73440"/>
            </a:xfrm>
            <a:prstGeom prst="straightConnector1">
              <a:avLst/>
            </a:prstGeom>
            <a:ln w="9360">
              <a:solidFill>
                <a:srgbClr val="98cc00"/>
              </a:solidFill>
              <a:miter/>
              <a:tailEnd len="med" type="arrow" w="med"/>
            </a:ln>
          </p:spPr>
        </p:cxnSp>
        <p:sp>
          <p:nvSpPr>
            <p:cNvPr id="141" name="TextBox 23"/>
            <p:cNvSpPr/>
            <p:nvPr/>
          </p:nvSpPr>
          <p:spPr>
            <a:xfrm>
              <a:off x="6552000" y="2514600"/>
              <a:ext cx="179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08 MW @ Graham</a:t>
              </a:r>
              <a:endParaRPr b="0" lang="en-US" sz="1400" spc="-1" strike="noStrike">
                <a:solidFill>
                  <a:srgbClr val="000000"/>
                </a:solidFill>
                <a:latin typeface="Verdana"/>
              </a:endParaRPr>
            </a:p>
          </p:txBody>
        </p:sp>
        <p:sp>
          <p:nvSpPr>
            <p:cNvPr id="142" name="TextBox 24"/>
            <p:cNvSpPr/>
            <p:nvPr/>
          </p:nvSpPr>
          <p:spPr>
            <a:xfrm>
              <a:off x="5791320" y="34290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ham-Parker</a:t>
              </a:r>
              <a:endParaRPr b="0" lang="en-US" sz="1400" spc="-1" strike="noStrike">
                <a:solidFill>
                  <a:srgbClr val="000000"/>
                </a:solidFill>
                <a:latin typeface="Verdana"/>
              </a:endParaRPr>
            </a:p>
          </p:txBody>
        </p:sp>
        <p:cxnSp>
          <p:nvCxnSpPr>
            <p:cNvPr id="143" name="Straight Arrow Connector 25"/>
            <p:cNvCxnSpPr/>
            <p:nvPr/>
          </p:nvCxnSpPr>
          <p:spPr>
            <a:xfrm flipV="1">
              <a:off x="6705720" y="3352320"/>
              <a:ext cx="381600" cy="148320"/>
            </a:xfrm>
            <a:prstGeom prst="straightConnector1">
              <a:avLst/>
            </a:prstGeom>
            <a:ln w="9360">
              <a:solidFill>
                <a:srgbClr val="98cc00"/>
              </a:solidFill>
              <a:miter/>
              <a:tailEnd len="med" type="arrow" w="med"/>
            </a:ln>
          </p:spPr>
        </p:cxnSp>
      </p:grpSp>
      <p:sp>
        <p:nvSpPr>
          <p:cNvPr id="144" name="Oval 26"/>
          <p:cNvSpPr/>
          <p:nvPr/>
        </p:nvSpPr>
        <p:spPr>
          <a:xfrm>
            <a:off x="3505320" y="4267080"/>
            <a:ext cx="380880" cy="152640"/>
          </a:xfrm>
          <a:prstGeom prst="ellipse">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Oval 27"/>
          <p:cNvSpPr/>
          <p:nvPr/>
        </p:nvSpPr>
        <p:spPr>
          <a:xfrm>
            <a:off x="7086600" y="3200400"/>
            <a:ext cx="380880" cy="152280"/>
          </a:xfrm>
          <a:prstGeom prst="ellipse">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46" name="Straight Arrow Connector 28"/>
          <p:cNvCxnSpPr/>
          <p:nvPr/>
        </p:nvCxnSpPr>
        <p:spPr>
          <a:xfrm flipH="1">
            <a:off x="6400080" y="2742120"/>
            <a:ext cx="229320" cy="227880"/>
          </a:xfrm>
          <a:prstGeom prst="straightConnector1">
            <a:avLst/>
          </a:prstGeom>
          <a:ln w="9360">
            <a:solidFill>
              <a:srgbClr val="98cc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F3B2-5EE6-476F-88E9-23581E23C46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erns with 2009 W-N CSC</a:t>
            </a:r>
            <a:endParaRPr b="0" lang="en-US" sz="4400" spc="-1" strike="noStrike">
              <a:solidFill>
                <a:srgbClr val="999900"/>
              </a:solidFill>
              <a:latin typeface="Garamond"/>
            </a:endParaRPr>
          </a:p>
        </p:txBody>
      </p:sp>
      <p:sp>
        <p:nvSpPr>
          <p:cNvPr id="151"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the table below, Generation at Mesquite and Cook Field increase flows on the West–North Stability Interface (i.e. large positive Shift Factors relative to Norwood bu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 2009 W-N CSC definition, these generators would get the wrong price signal and not be backed down whenever the Stability Limit is binding</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ly indicates the need to change the current West – North CSC defini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 name="Picture 4" descr=""/>
          <p:cNvPicPr/>
          <p:nvPr/>
        </p:nvPicPr>
        <p:blipFill>
          <a:blip r:embed="rId1"/>
          <a:stretch/>
        </p:blipFill>
        <p:spPr>
          <a:xfrm>
            <a:off x="1143000" y="4059360"/>
            <a:ext cx="6400800" cy="19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EE8F-7584-430E-80E9-EACB141009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mplications of S-N Congestion</a:t>
            </a:r>
            <a:endParaRPr b="0" lang="en-US" sz="4400" spc="-1" strike="noStrike">
              <a:solidFill>
                <a:srgbClr val="999900"/>
              </a:solidFill>
              <a:latin typeface="Garamond"/>
            </a:endParaRPr>
          </a:p>
        </p:txBody>
      </p:sp>
      <p:sp>
        <p:nvSpPr>
          <p:cNvPr id="157"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nly significant congestion South to North occurred as the contingency of the Sandow-Temple Switch 345kV overloading the Austrop-Sandow Switch 345kV</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S-N CSC defined as the N-S CSC in reverse and with both elements above as CREs, there was a lack of TCRs to hedge congestion risk S-N and there was significant boundary generation</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WG also examined Austrop-Sandow as a CSC but rejected it due to insufficient competition when both N-S and Austrop-Sandow constraints bind</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gestion cost related to Austrop-Sandow was relatively small and there was no other significant congestion from South to North</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such, ERCOT recommended the elimination of the S-N CSC and we agree with that recommendatio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19, 2009</a:t>
            </a:r>
            <a:endParaRPr b="0" lang="en-US" sz="1000" spc="-1" strike="noStrike">
              <a:solidFill>
                <a:srgbClr val="000000"/>
              </a:solidFill>
              <a:latin typeface="Verdana"/>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E438-6C17-4E41-A5EC-7D9D0E7AB13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1" name="PlaceHolder 1"/>
          <p:cNvSpPr>
            <a:spLocks noGrp="1"/>
          </p:cNvSpPr>
          <p:nvPr>
            <p:ph type="title"/>
          </p:nvPr>
        </p:nvSpPr>
        <p:spPr>
          <a:xfrm>
            <a:off x="456840" y="277920"/>
            <a:ext cx="853452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oposed 6-line W-N CSC &amp; 4 Zones</a:t>
            </a:r>
            <a:endParaRPr b="0" lang="en-US" sz="4400" spc="-1" strike="noStrike">
              <a:solidFill>
                <a:srgbClr val="999900"/>
              </a:solidFill>
              <a:latin typeface="Garamond"/>
            </a:endParaRPr>
          </a:p>
        </p:txBody>
      </p:sp>
      <p:sp>
        <p:nvSpPr>
          <p:cNvPr id="162"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WN2_SN0-4Z, the CSCs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 Lake Creek-Temple/Tradinghouse-Temple Pecan Creek 345-kV (same as 2009)</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H: Singleton-Obrien/Singleton-TH Wharton 345-kV (same as 2009)</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N and N-W: Graham–Cook Field, Jacksboro–Bowman, Graham–Tonkawa, Bowman–Graham, Comanche Switch–Red Creek, Graham–Long Creek</a:t>
            </a:r>
            <a:endParaRPr b="0" lang="en-US" sz="20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also no compelling reason to increase the number of Congestion Zones from the current four – thus, consistent with ERCOT’s recommendation, the proposal is to have 4 Congestion Zones in 201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w Resources switch zones except some Resources currently in the North that appropriatelymove to the West</a:t>
            </a:r>
            <a:endParaRPr b="0" lang="en-US" sz="24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09-08-12T19:38:24Z</dcterms:modified>
  <cp:revision>60</cp:revision>
  <dc:subject/>
  <dc:title>Locational Marginal Pricing: The Texas Nodal Market</dc:title>
</cp:coreProperties>
</file>