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46C71-55D5-4BF1-915E-8E0A2B820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AA063-EF2B-4402-8BDA-B90AB9506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9C7E7-557E-4843-9AD4-CAC15A7A8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A9559-440C-44FE-87D4-7C4C6745E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DEF1E-FFA4-4C95-8068-57D3B1658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60A48-F248-4ECC-8469-2586B8DC5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B7D4F-69EA-4786-8340-E58224546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5BE97-9C4A-4D88-9276-7D910C396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1C5D2-423B-485A-A165-B5177369F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22F99-1774-48D2-8E15-54FED0BEB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CC474-4353-43E3-AA7A-E0F58E699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58811-183B-420F-91E2-2FC8BBC3E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68433-1774-4397-8497-D47551890E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837720"/>
            <a:ext cx="7772400" cy="207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010 CSC &amp; Zone Selection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N2-4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MS Mee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gust 19, 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mmendation of WN2-4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N2-4Z has the following CSCs &amp; 4 Congestion Zon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-S and S-N: Lake Creek-Temple/Tradinghouse-Temple Pecan Creek 345-kV (same as 2009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-H: Singleton-Obrien/Singleton-TH Wharton 345-kV (same as 2009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-N and N-W: Graham–Cook Field, Jacksboro–Bowman, Graham–Tonkawa, Bowman–Graham, Comanche Switch–Red Creek, Graham–Long Creek (6 lines used to monitor W-N Stability Limi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SCs for N to S, S to N, and N to H are all the same as in 2009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ecommendation differs from WN2_S0-4Z in that it retains a S to N CSC.  WN2_S0-4Z proposes to eliminate the S to N CS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out designating a 2010 S-N CSC, Luminant is concerned that there may be a material amount of unintended uplift of Local Congestion to resolve Sandow – Temple area constraints that could be competitively resolved with Zonal Balancing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tilizing a S-N CSC made up of the same lines as the N-S CSC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wil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llow a set of relevant S-N CREs for 201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153280" cy="7160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ge in Most Prevalent C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2009 there were 15 S to N CREs and the prevalent constraint of those CREs wa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533520" y="2057400"/>
          <a:ext cx="8001000" cy="1400040"/>
        </p:xfrm>
        <a:graphic>
          <a:graphicData uri="http://schemas.openxmlformats.org/drawingml/2006/table">
            <a:tbl>
              <a:tblPr/>
              <a:tblGrid>
                <a:gridCol w="3000240"/>
                <a:gridCol w="3098880"/>
                <a:gridCol w="19018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ingenc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verloaded Ele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“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ue” Co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strop-Sandow Switch 345kV and Sandow Auto #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strop-Sandow Switch 345k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,488,9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cb"/>
                    </a:solidFill>
                  </a:tcPr>
                </a:tc>
              </a:tr>
            </a:tbl>
          </a:graphicData>
        </a:graphic>
      </p:graphicFrame>
      <p:sp>
        <p:nvSpPr>
          <p:cNvPr id="48" name=""/>
          <p:cNvSpPr/>
          <p:nvPr/>
        </p:nvSpPr>
        <p:spPr>
          <a:xfrm>
            <a:off x="533520" y="3581280"/>
            <a:ext cx="80010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next most prevalent constraint was a contingency on Sandow – Temple 345 kV overloading the second Sandow – Temple 345 kV circui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ever, power flow studies reveal that the operation of the new Sandow 5 unit at Sandow plant will change this going forward and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will likely make the Sandow-Temple 345 kV the most prevalent CR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dow-Temple Becomes Most Binding in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1143000"/>
            <a:ext cx="815328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uminant Energy performed PowerWorld S-N transfer studies to better understand the evolution of constraints from 2009 to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uring some cases when the S-N CSC bound during the past 12 months, Sandow 4 was on out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studies above show that in this situation, the Austrop – Sandow constraint is more limiting, consistent with historically observed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2010, with one or both units at Sandow onlin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Sandow – Temple constraint is the most binding as shown in the ERCOT studies on the prior page &amp; and in Luminant’s studies bel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609480" y="3889440"/>
            <a:ext cx="7925040" cy="26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228600" y="914400"/>
            <a:ext cx="8152920" cy="5562720"/>
            <a:chOff x="228600" y="914400"/>
            <a:chExt cx="8152920" cy="5562720"/>
          </a:xfrm>
        </p:grpSpPr>
        <p:pic>
          <p:nvPicPr>
            <p:cNvPr id="53" name="" descr=""/>
            <p:cNvPicPr/>
            <p:nvPr/>
          </p:nvPicPr>
          <p:blipFill>
            <a:blip r:embed="rId1"/>
            <a:stretch/>
          </p:blipFill>
          <p:spPr>
            <a:xfrm>
              <a:off x="369360" y="914400"/>
              <a:ext cx="8012160" cy="556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228600" y="2884680"/>
              <a:ext cx="562320" cy="377280"/>
            </a:xfrm>
            <a:prstGeom prst="rightArrow">
              <a:avLst>
                <a:gd name="adj1" fmla="val 50000"/>
                <a:gd name="adj2" fmla="val 37261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547720" y="2759040"/>
              <a:ext cx="2670840" cy="44028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078160" y="2884680"/>
              <a:ext cx="2881800" cy="50328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547720" y="4017600"/>
              <a:ext cx="2670840" cy="44028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078160" y="4206240"/>
              <a:ext cx="2881800" cy="50328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" y="4206240"/>
              <a:ext cx="562320" cy="377280"/>
            </a:xfrm>
            <a:prstGeom prst="rightArrow">
              <a:avLst>
                <a:gd name="adj1" fmla="val 50000"/>
                <a:gd name="adj2" fmla="val 37261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304920" y="6477120"/>
            <a:ext cx="845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e: The above table is a summary of ERCOT’s S-N transfer study results, that has been summarized to only show the constraints consisting of both the contingency &amp; limiting element pair that are from the list of 11 S-N CREs from slide 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28600" y="277920"/>
            <a:ext cx="8381880" cy="5205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COT’s Study Also Shows the Shi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Importance of a S to N CS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28120" indent="-52812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 to N CSC allows congestion to be effectively managed using zonal balancing techniqu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ying the new CRE test, 13 of the CREs used in 2009 can be used again in 2010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Austrop – Sandow 345 kV lines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would no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qualify as CREs under the new te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at only makes sense.  Austrop-Sandow 345 kV lines should be managed using local congestion techniques since it is not a good CRE because of fails due to boundary generation limi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, the other CREs are all relevant and should be used for zonal congestion manage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particular, the Sandow-Temple 345 kV lines will likely become more prevalent due to the addition of Sandow Unit 5 and should be managed using competitive rather than command and control techniqu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ck of a S to N CSC would prevent ERCOT from managing congestion on the Sandow-Temple 345 kV with zonal balancing techniqu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wer flow analysis reveals that Sandow-Temple 345 kV will become the more prevalent S to N constraint in 201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endix: 2010 Relevant C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 out of 11 of the active constraint pairs during the past 12 months will meet the new CRE requirements of PRR815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 out of the 15 2009 S-N CREs will still meet the PRR815 crite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 indicates 2009 S-N CREs not usable in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amsville – Evant 138 kV 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00"/>
              </a:spcBef>
              <a:buClr>
                <a:srgbClr val="ff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Austrop – Sandow 345 kV line #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00"/>
              </a:spcBef>
              <a:buClr>
                <a:srgbClr val="ff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Austrop – Sandow 345 kV line #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ttonwood – Waco Atco 138 kV 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vant – Goldthwaite 138 kV 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oldthwaite – Brownwood Sw. 138 kV 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ke Creek – Tradinghouse 345 kV line #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ke Creek – Tradinghouse 345 kV line #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gers – Temple Sw. 138 kV 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andow – Temple 345 kV line #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andow – Temple 345 kV line #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mple Pecan Creek – Lake Creek 138 kV 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mple Sw. – Temple Pecan Creek 138 kV 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mple Sw. – Temple Pecan Creek 345 kV 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co Atco – Waco Woodw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endix: 2010 Relevant C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752400" y="2187720"/>
            <a:ext cx="7620120" cy="299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3T15:06:14Z</dcterms:created>
  <dc:creator>Registered User</dc:creator>
  <dc:description/>
  <dc:language>en-US</dc:language>
  <cp:lastModifiedBy>Brad Jones</cp:lastModifiedBy>
  <dcterms:modified xsi:type="dcterms:W3CDTF">2009-08-14T20:03:00Z</dcterms:modified>
  <cp:revision>9</cp:revision>
  <dc:subject/>
  <dc:title>Slide 1</dc:title>
</cp:coreProperties>
</file>