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167-08EB-43F9-B556-9ABA2302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873-5258-4DE4-AAE0-5F392011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4D3-F926-4C56-B586-77E2865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FAD-172E-44E9-BE17-587622F2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485-05D6-4E62-A30B-5EA2600D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230-C6E6-438F-BA33-BC0D0B6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F8F-EDC9-4716-AD22-0788C7CD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604-9A02-46FC-BF19-2C4DDAA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B68-61FB-49DB-A478-8F54DCB5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C56-2E10-4366-9443-7CD961E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A38-2C30-42F5-B5FA-0F07F49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4F2-ED5F-4073-805F-EA4E029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767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DF77-2BBD-4595-AA51-C71E9CA2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0 CSC &amp; Zone Se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cenario -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enario 1a: 2009 CS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 CSC has the following CSCs with 4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_N &amp; N_W : Sweetwater – Long Creek / Abilene Mulberry Creek – Long Creek 345 kV DC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_S &amp; S_N : Lake Creek – Temple / Trading house – Temple Pecan Creek 345kV DC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_H : Singleton – Obrien / Singleton – TH Wharton 345kV DC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experience demonstrates that the stability limit can be controlled effectively as a 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Benefits of Scenario 1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_N congestion experienced in 2009 was dominated by stability; the same expected fo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effective in terms of managing congestion if stability interface is a 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generation shift-factors from ERCOT Opera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_N SF = 41.15%, N_W SF =40.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cenarios have lower generation shif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tional Consider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West to North CSC Shift Factors for West to North power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-N S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ed C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3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W-N C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2-4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 Limit line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3-SN0-4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the stability limit lines for the W-N CSC has a PTDF double that of the other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N2-4Z (Stability Limit lines) appears to require twice as many TCRs for hed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ditional Considerations (Cont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TCRs auctioned (avg. for Jan – S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 (same as scenario 1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-N TC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-W TC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3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7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8 (similar to ERCOT 2010 Recommen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-N TC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-W TC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7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difference in the number of TCRs offered in the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N3-SN0-4Z (ERCOT) could have a much lower number of TCRs offered for auction than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a can control the stability limit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a has enough Operation History to manage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a provides sufficient opportunity to H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cenarios create more uncertainty fo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cenarios may reduce the TCRs available for Hed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Austin Energy</dc:creator>
  <dc:description/>
  <dc:language>en-US</dc:language>
  <cp:lastModifiedBy>havemanns</cp:lastModifiedBy>
  <dcterms:modified xsi:type="dcterms:W3CDTF">2009-08-17T21:48:32Z</dcterms:modified>
  <cp:revision>86</cp:revision>
  <dc:subject/>
  <dc:title>CMWG_Scenario_1a</dc:title>
</cp:coreProperties>
</file>