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255B-EBD3-4DDB-AA26-F8DF3BC5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53C5-2C79-475C-B9FE-369A1C05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65FD-6E8C-4CEF-82FC-36391DD27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690A-E83C-44A3-992C-5260ACEE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15AB-8815-46CD-8F44-6AEB8969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8734-1FE6-4757-9651-C436CDA6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0376-2CC2-4C90-A5D2-9B815823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A1E7-8DEE-4486-8023-BBABA907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38188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CC12-A4FD-4EFD-81A6-B9434D76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A2CA-2B6C-427B-8DD1-C29A10F6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A4B9-EDD4-47BA-8000-3368F5D4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CB5D-ABFA-4C5E-9B7F-E8AA9FB8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720" y="6476760"/>
            <a:ext cx="9144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1276-23F6-464D-9E34-6628C5DED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52280"/>
            <a:ext cx="9144000" cy="0"/>
          </a:xfrm>
          <a:prstGeom prst="line">
            <a:avLst/>
          </a:prstGeom>
          <a:ln w="317520">
            <a:solidFill>
              <a:srgbClr val="d851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estion Management Work Group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WMS 8-19-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uerite Wag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EG 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9913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2010 Zone Discuss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341000"/>
            <a:ext cx="876312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provided numerous detailed analyses for CMWG consideration in late July and early Aug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WG met 7/24, 8/4, 8/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WG Discussed/Refined/Eliminated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R 816 CRE analysis too time consuming to do in parallel for all scenarios—no CRE recommendations at 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Zone/CSC Scenarios Moving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line for 2010 Zone Determ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MS Vote 8/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M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pt 3 TAC—Sept or Oct B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 Deadline is 11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jor Changes for WMS Consid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, 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Elimination of 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Con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, 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Existing CSC or Move CSC Eastward to ei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ility Limit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CSC Definition (Graham-Park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Creek-Graham/Cook Field-Graham 345kV dc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2009 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Single West Zone vs. Additional West Z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 (n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ina-Radium &amp; Bitter Creek-Mulberry Cr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ge—retain Singleton-Obrien/ Singleton-TH Wharton 345-kV dck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enarios Moving to W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2280" y="1143000"/>
          <a:ext cx="8839080" cy="5045040"/>
        </p:xfrm>
        <a:graphic>
          <a:graphicData uri="http://schemas.openxmlformats.org/drawingml/2006/table">
            <a:tbl>
              <a:tblPr/>
              <a:tblGrid>
                <a:gridCol w="938520"/>
                <a:gridCol w="2218320"/>
                <a:gridCol w="1692720"/>
                <a:gridCol w="1330200"/>
                <a:gridCol w="625680"/>
                <a:gridCol w="2033640"/>
              </a:tblGrid>
              <a:tr h="357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_N &amp; N_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_S &amp; S_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_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weetwater-Long Creek/ Abilene Mulberry Creek-Long Creek 345-kV dck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ke Creek-Temple/ Tradinghouse-Temple Pecan Creek 345-kV dck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ton-Obrien/ Singleton-TH Wharton 345-kV dck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-contingenc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EP: Richard Ros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e as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e as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e as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-contingenc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Aron: Bill Bar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N1-4Z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ham-Long Creek/ Graham-Cook Field Road 345-kV double circu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e as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e as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EP: Richard Ros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N2-4Z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-N &amp; N_W: stability limit interfa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e as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e as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ez: Cesar Seymo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W1-5Z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e as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e as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e as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-FW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China-Radium &amp; Bitter Creek-Mulberry Cre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rect: Mark Garret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W1_WN1-5Z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ham-Long Creek/ Graham-Cook Field Road 345-kV double circu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e as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e as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-FW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China-Radium &amp; Bitter Creek-Mulberry Cre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rect: Mark Garret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enarios Moving to W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0720" y="1158840"/>
            <a:ext cx="8242560" cy="453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152280" y="1219320"/>
          <a:ext cx="8686440" cy="5087880"/>
        </p:xfrm>
        <a:graphic>
          <a:graphicData uri="http://schemas.openxmlformats.org/drawingml/2006/table">
            <a:tbl>
              <a:tblPr/>
              <a:tblGrid>
                <a:gridCol w="1242360"/>
                <a:gridCol w="2092320"/>
                <a:gridCol w="1396080"/>
                <a:gridCol w="1163520"/>
                <a:gridCol w="585360"/>
                <a:gridCol w="2206800"/>
              </a:tblGrid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_N &amp; N_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_S &amp; S_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_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W1_WN2-5Z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_N &amp; N_W: Stability Interfa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e as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e as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-FW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China-Radium &amp; Bitter Creek-Mulberry Cre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rect: Mark Garret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N3_SN0-4Z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ham-Parker 345Kv dck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_S: sam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_N: remov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CO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N2_SN0-4Z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-N &amp; N_W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ham-Long Creek/ Graham-Cook Field Road 345-kV double circuit; Jacksboro-Bowman; Graham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nkawa; Bowman-Graham; Comanche Switch-Red Cre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_S: sam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_N: remov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e as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CRA: Shams Siddiq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W1_WN4_SN0-5Z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_N &amp; N_W: Graham-Long Creek/ Graham-Cook Field Road 345-kV double circuit; Bowman-Jacksbo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_S: sam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_N: remov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-FW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China-Radium &amp; Bitter Creek-Mulberry Cre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rect: Mark Garret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coming Work Items for CMW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al C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WG Meeting for 8/20 Cance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4:19:45Z</dcterms:created>
  <dc:creator>PSEG TX </dc:creator>
  <dc:description/>
  <dc:language>en-US</dc:language>
  <cp:lastModifiedBy>PSEG-TX</cp:lastModifiedBy>
  <dcterms:modified xsi:type="dcterms:W3CDTF">2009-08-11T17:43:52Z</dcterms:modified>
  <cp:revision>62</cp:revision>
  <dc:subject/>
  <dc:title>Congestion Management Work Group Update</dc:title>
</cp:coreProperties>
</file>