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3B2-183A-4C52-8B95-9B99B575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3CB-17C7-41DA-8155-8CA3A65D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D0B-A2AF-40ED-BDD2-0EEB30E4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F95-C8EB-4C45-8AA4-8D4D1B89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28E-4AA4-4634-B051-B5DD96D8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BF7-87EC-48EF-AD7D-9B997B21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F33-0FB9-4F6E-91EE-E6944F57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FFF-F709-45EB-B828-E6C485C9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168-937C-4669-BAB3-76340282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DE8-2019-4E3B-AEF6-3CA3B680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541-D6AC-4E07-9711-B52C20ED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60D-02D9-4FEC-85FE-A9BF56B6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6F0D-FE57-40C6-8F5B-FB4B444B9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3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 (vice-ch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60240"/>
            <a:ext cx="9144000" cy="55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663480"/>
            <a:ext cx="914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561960"/>
            <a:ext cx="86108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9 Frequency Event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events during “On-Peak”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events during “Off-Peak”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W Size of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561.10 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588.05 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Frequenc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-582,62 MW/0.1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-624.59 MW/0.1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DCWG Meeting August 12,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ERCOT Interconnection frequency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June and July 2009 Frequency Events and evaluated Resource and QSE performance during these ev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Interconnection Primary Frequency Response average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52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53080" y="838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= 141.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240" y="457200"/>
            <a:ext cx="9029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560" y="452520"/>
            <a:ext cx="903888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50920"/>
            <a:ext cx="9144000" cy="6356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62720" y="1143000"/>
            <a:ext cx="2895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gh Frequency Event @ 04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16002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24080" y="380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PS1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143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12 Month Rolling Average = 136.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17524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915240" y="123840"/>
            <a:ext cx="16192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RCOT as a single control area is exempt from CPS2.  These scores are For Informa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7:13:32Z</dcterms:created>
  <dc:creator>Sydney L. Niemeyer</dc:creator>
  <dc:description/>
  <dc:language>en-US</dc:language>
  <cp:lastModifiedBy>Sydney L. Niemeyer</cp:lastModifiedBy>
  <dcterms:modified xsi:type="dcterms:W3CDTF">2009-08-06T15:15:45Z</dcterms:modified>
  <cp:revision>29</cp:revision>
  <dc:subject/>
  <dc:title>Slide 1</dc:title>
</cp:coreProperties>
</file>