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552FD8-5FE5-4867-958B-FBD01BE59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83A641-75DD-4F1C-A458-C2AC3BF26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664044-677D-4E83-A63D-9A67DE0B5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360250-9252-4F91-A0B6-6F34A5712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D7FA95-0257-417E-B0CE-17866029C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6331E5-607A-4CB1-9AAF-A4A8F209F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7DBA35-F9B7-44E2-881E-6AA4819CD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C3516B8-FBFD-4FB0-814C-ABDDA0BBB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nomcrhelp@ercot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rcot.com/gridinfo/transmission/opsys-change-schedul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odal.ercot.com/readiness/golive/index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F6AC36A1-55A1-4A09-B25A-03039E1AC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ngle Entry Model (SEM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-Live Upda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002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3,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826D1BF-FBEF-4A28-BEE1-CBA90543D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948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END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SEM Go-Li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summary during June – August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9C7872E-F51C-4F9E-AFF4-14CC1FD23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Overview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547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Entry Model (SEM) Go-Live is the switchover on Aug 31, 2009 for TSP submissions of network operations model change requ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Service Request” submissions via 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“NOMCR” submissions via the NM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System of record for model changes becomes NOMCRs on 8/31/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System of record for Network operations Model for reliability and dispatch remains Zonal/Genesys system until Dec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219320" y="2895480"/>
            <a:ext cx="15238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609480" y="3733920"/>
            <a:ext cx="26672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 via Service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6320" y="4648320"/>
            <a:ext cx="18288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Up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c Requ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Z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sy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362320" y="4648320"/>
            <a:ext cx="198108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pies/Conv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al Model “se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No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MM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5943600" y="2895480"/>
            <a:ext cx="15238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 3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5334120" y="3733920"/>
            <a:ext cx="26668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Modeling Change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/NMMS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cludes ICC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4800600" y="4648320"/>
            <a:ext cx="18288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Increment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s  NOM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Svc Req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loads into Z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sy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7162920" y="4648320"/>
            <a:ext cx="175248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uploa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No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MMS Model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 nodal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20574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99072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1905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6705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76960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 flipH="1">
            <a:off x="66294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76320" y="5715000"/>
            <a:ext cx="42670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Consistency Checks are ru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model synchronization/fide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4800600" y="5715000"/>
            <a:ext cx="41148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 checks are ru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model synchronization/fide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4572000" y="2819520"/>
            <a:ext cx="0" cy="34290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1828800" y="5087880"/>
            <a:ext cx="53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6553080" y="5087880"/>
            <a:ext cx="76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ABA0-D09C-4EAA-8AC6-B5937458F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Network Operations Model Maintenance for TSP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590920" y="1371600"/>
            <a:ext cx="52578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Zonal E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ystem of record through 12/1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ight Arrow 5"/>
          <p:cNvSpPr/>
          <p:nvPr/>
        </p:nvSpPr>
        <p:spPr>
          <a:xfrm>
            <a:off x="914400" y="1295280"/>
            <a:ext cx="1676520" cy="129564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mits Service Request to Chang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7"/>
          <p:cNvGrpSpPr/>
          <p:nvPr/>
        </p:nvGrpSpPr>
        <p:grpSpPr>
          <a:xfrm>
            <a:off x="2590920" y="2514600"/>
            <a:ext cx="5181480" cy="2133720"/>
            <a:chOff x="2590920" y="2514600"/>
            <a:chExt cx="5181480" cy="2133720"/>
          </a:xfrm>
        </p:grpSpPr>
        <p:sp>
          <p:nvSpPr>
            <p:cNvPr id="115" name="Rectangle 11"/>
            <p:cNvSpPr/>
            <p:nvPr/>
          </p:nvSpPr>
          <p:spPr>
            <a:xfrm>
              <a:off x="2590920" y="3505320"/>
              <a:ext cx="5181480" cy="114300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RCOT Nodal NMMS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nodal testing model- CIM file for EMS/MMS/et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Down Arrow 13"/>
            <p:cNvSpPr/>
            <p:nvPr/>
          </p:nvSpPr>
          <p:spPr>
            <a:xfrm>
              <a:off x="6019920" y="2514600"/>
              <a:ext cx="838080" cy="1295280"/>
            </a:xfrm>
            <a:prstGeom prst="downArrow">
              <a:avLst>
                <a:gd name="adj1" fmla="val 50000"/>
                <a:gd name="adj2" fmla="val 50001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Down Arrow 8"/>
            <p:cNvSpPr/>
            <p:nvPr/>
          </p:nvSpPr>
          <p:spPr>
            <a:xfrm>
              <a:off x="2971800" y="2514600"/>
              <a:ext cx="838080" cy="1295280"/>
            </a:xfrm>
            <a:prstGeom prst="downArrow">
              <a:avLst>
                <a:gd name="adj1" fmla="val 50000"/>
                <a:gd name="adj2" fmla="val 50001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Down Arrow 9"/>
            <p:cNvSpPr/>
            <p:nvPr/>
          </p:nvSpPr>
          <p:spPr>
            <a:xfrm>
              <a:off x="4495680" y="2514600"/>
              <a:ext cx="838440" cy="12952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0"/>
            <p:cNvSpPr/>
            <p:nvPr/>
          </p:nvSpPr>
          <p:spPr>
            <a:xfrm>
              <a:off x="2666880" y="2666880"/>
              <a:ext cx="50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odic full copy and conversion of mod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zonal seed used for nodal system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4"/>
          <p:cNvSpPr/>
          <p:nvPr/>
        </p:nvSpPr>
        <p:spPr>
          <a:xfrm>
            <a:off x="152280" y="1371600"/>
            <a:ext cx="762120" cy="1143000"/>
          </a:xfrm>
          <a:prstGeom prst="rect">
            <a:avLst/>
          </a:prstGeom>
          <a:solidFill>
            <a:srgbClr val="6699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CAD7-D3F9-4AE7-B49B-9864AEB19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fter 8/31/2009</a:t>
            </a:r>
            <a:r>
              <a:rPr b="1" lang="en-US" sz="18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twork Operations Model Maintenance for TSP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590920" y="1371600"/>
            <a:ext cx="52578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Zonal E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ystem of record through 12/1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2590920" y="3429000"/>
            <a:ext cx="51814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Nodal N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nodal testing model- CIM file for EMS/MMS/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2"/>
          <p:cNvGrpSpPr/>
          <p:nvPr/>
        </p:nvGrpSpPr>
        <p:grpSpPr>
          <a:xfrm>
            <a:off x="2894040" y="2514240"/>
            <a:ext cx="4802400" cy="914760"/>
            <a:chOff x="2894040" y="2514240"/>
            <a:chExt cx="4802400" cy="914760"/>
          </a:xfrm>
        </p:grpSpPr>
        <p:grpSp>
          <p:nvGrpSpPr>
            <p:cNvPr id="126" name="Group 40"/>
            <p:cNvGrpSpPr/>
            <p:nvPr/>
          </p:nvGrpSpPr>
          <p:grpSpPr>
            <a:xfrm>
              <a:off x="2894040" y="2514240"/>
              <a:ext cx="4802400" cy="914760"/>
              <a:chOff x="2894040" y="2514240"/>
              <a:chExt cx="4802400" cy="914760"/>
            </a:xfrm>
          </p:grpSpPr>
          <p:cxnSp>
            <p:nvCxnSpPr>
              <p:cNvPr id="127" name="Straight Arrow Connector 14"/>
              <p:cNvCxnSpPr/>
              <p:nvPr/>
            </p:nvCxnSpPr>
            <p:spPr>
              <a:xfrm flipV="1">
                <a:off x="2894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28" name="Straight Arrow Connector 15"/>
              <p:cNvCxnSpPr/>
              <p:nvPr/>
            </p:nvCxnSpPr>
            <p:spPr>
              <a:xfrm flipV="1">
                <a:off x="3122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29" name="Straight Arrow Connector 16"/>
              <p:cNvCxnSpPr/>
              <p:nvPr/>
            </p:nvCxnSpPr>
            <p:spPr>
              <a:xfrm flipV="1">
                <a:off x="33512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0" name="Straight Arrow Connector 17"/>
              <p:cNvCxnSpPr/>
              <p:nvPr/>
            </p:nvCxnSpPr>
            <p:spPr>
              <a:xfrm flipV="1">
                <a:off x="35812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1" name="Straight Arrow Connector 18"/>
              <p:cNvCxnSpPr/>
              <p:nvPr/>
            </p:nvCxnSpPr>
            <p:spPr>
              <a:xfrm flipV="1">
                <a:off x="38098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2" name="Straight Arrow Connector 20"/>
              <p:cNvCxnSpPr/>
              <p:nvPr/>
            </p:nvCxnSpPr>
            <p:spPr>
              <a:xfrm flipV="1">
                <a:off x="4038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3" name="Straight Arrow Connector 22"/>
              <p:cNvCxnSpPr/>
              <p:nvPr/>
            </p:nvCxnSpPr>
            <p:spPr>
              <a:xfrm flipV="1">
                <a:off x="4263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4" name="Straight Arrow Connector 23"/>
              <p:cNvCxnSpPr/>
              <p:nvPr/>
            </p:nvCxnSpPr>
            <p:spPr>
              <a:xfrm flipV="1">
                <a:off x="4492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5" name="Straight Arrow Connector 24"/>
              <p:cNvCxnSpPr/>
              <p:nvPr/>
            </p:nvCxnSpPr>
            <p:spPr>
              <a:xfrm flipV="1">
                <a:off x="4721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6" name="Straight Arrow Connector 25"/>
              <p:cNvCxnSpPr/>
              <p:nvPr/>
            </p:nvCxnSpPr>
            <p:spPr>
              <a:xfrm flipV="1">
                <a:off x="4951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7" name="Straight Arrow Connector 26"/>
              <p:cNvCxnSpPr/>
              <p:nvPr/>
            </p:nvCxnSpPr>
            <p:spPr>
              <a:xfrm flipV="1">
                <a:off x="5180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8" name="Straight Arrow Connector 27"/>
              <p:cNvCxnSpPr/>
              <p:nvPr/>
            </p:nvCxnSpPr>
            <p:spPr>
              <a:xfrm flipV="1">
                <a:off x="5408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9" name="Straight Arrow Connector 28"/>
              <p:cNvCxnSpPr/>
              <p:nvPr/>
            </p:nvCxnSpPr>
            <p:spPr>
              <a:xfrm flipV="1">
                <a:off x="5638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0" name="Straight Arrow Connector 29"/>
              <p:cNvCxnSpPr/>
              <p:nvPr/>
            </p:nvCxnSpPr>
            <p:spPr>
              <a:xfrm flipV="1">
                <a:off x="5865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1" name="Straight Arrow Connector 30"/>
              <p:cNvCxnSpPr/>
              <p:nvPr/>
            </p:nvCxnSpPr>
            <p:spPr>
              <a:xfrm flipV="1">
                <a:off x="6094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2" name="Straight Arrow Connector 31"/>
              <p:cNvCxnSpPr/>
              <p:nvPr/>
            </p:nvCxnSpPr>
            <p:spPr>
              <a:xfrm flipV="1">
                <a:off x="6324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3" name="Straight Arrow Connector 32"/>
              <p:cNvCxnSpPr/>
              <p:nvPr/>
            </p:nvCxnSpPr>
            <p:spPr>
              <a:xfrm flipV="1">
                <a:off x="65530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4" name="Straight Arrow Connector 33"/>
              <p:cNvCxnSpPr/>
              <p:nvPr/>
            </p:nvCxnSpPr>
            <p:spPr>
              <a:xfrm flipV="1">
                <a:off x="6781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5" name="Straight Arrow Connector 34"/>
              <p:cNvCxnSpPr/>
              <p:nvPr/>
            </p:nvCxnSpPr>
            <p:spPr>
              <a:xfrm flipV="1">
                <a:off x="70074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6" name="Straight Arrow Connector 35"/>
              <p:cNvCxnSpPr/>
              <p:nvPr/>
            </p:nvCxnSpPr>
            <p:spPr>
              <a:xfrm flipV="1">
                <a:off x="72360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7" name="Straight Arrow Connector 36"/>
              <p:cNvCxnSpPr/>
              <p:nvPr/>
            </p:nvCxnSpPr>
            <p:spPr>
              <a:xfrm flipV="1">
                <a:off x="74646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8" name="Straight Arrow Connector 37"/>
              <p:cNvCxnSpPr/>
              <p:nvPr/>
            </p:nvCxnSpPr>
            <p:spPr>
              <a:xfrm flipV="1">
                <a:off x="7694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</p:grpSp>
        <p:sp>
          <p:nvSpPr>
            <p:cNvPr id="149" name="TextBox 41"/>
            <p:cNvSpPr/>
            <p:nvPr/>
          </p:nvSpPr>
          <p:spPr>
            <a:xfrm>
              <a:off x="2895480" y="2833560"/>
              <a:ext cx="480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RCOT enters NOMCRs into zonal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Striped Right Arrow 42"/>
          <p:cNvSpPr/>
          <p:nvPr/>
        </p:nvSpPr>
        <p:spPr>
          <a:xfrm>
            <a:off x="2743200" y="4724280"/>
            <a:ext cx="5029200" cy="1067040"/>
          </a:xfrm>
          <a:prstGeom prst="pi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COT runs consistency checks to ensure models are aligned and mainta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1"/>
          <p:cNvGrpSpPr/>
          <p:nvPr/>
        </p:nvGrpSpPr>
        <p:grpSpPr>
          <a:xfrm>
            <a:off x="152280" y="3390840"/>
            <a:ext cx="2438640" cy="1295640"/>
            <a:chOff x="152280" y="3390840"/>
            <a:chExt cx="2438640" cy="1295640"/>
          </a:xfrm>
        </p:grpSpPr>
        <p:sp>
          <p:nvSpPr>
            <p:cNvPr id="152" name="Right Arrow 5"/>
            <p:cNvSpPr/>
            <p:nvPr/>
          </p:nvSpPr>
          <p:spPr>
            <a:xfrm>
              <a:off x="914400" y="3390840"/>
              <a:ext cx="1676520" cy="1295640"/>
            </a:xfrm>
            <a:prstGeom prst="rightArrow">
              <a:avLst>
                <a:gd name="adj1" fmla="val 50000"/>
                <a:gd name="adj2" fmla="val 49992"/>
              </a:avLst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ubmits Model Change Request (NOMC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"/>
            <p:cNvSpPr/>
            <p:nvPr/>
          </p:nvSpPr>
          <p:spPr>
            <a:xfrm>
              <a:off x="152280" y="3467160"/>
              <a:ext cx="762120" cy="1143000"/>
            </a:xfrm>
            <a:prstGeom prst="rect">
              <a:avLst/>
            </a:prstGeom>
            <a:solidFill>
              <a:srgbClr val="6699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45"/>
          <p:cNvSpPr/>
          <p:nvPr/>
        </p:nvSpPr>
        <p:spPr>
          <a:xfrm>
            <a:off x="7848720" y="3429000"/>
            <a:ext cx="12952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MM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of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6"/>
          <p:cNvSpPr/>
          <p:nvPr/>
        </p:nvSpPr>
        <p:spPr>
          <a:xfrm>
            <a:off x="7010280" y="83808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Nodal Go-Live 12/1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2"/>
          <p:cNvSpPr/>
          <p:nvPr/>
        </p:nvSpPr>
        <p:spPr>
          <a:xfrm>
            <a:off x="7810560" y="1295280"/>
            <a:ext cx="0" cy="441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FE01-99A0-4417-9B5A-321ACDEFE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twork Operations Model Maintenance for Resource &amp; Q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today and post 8/31/09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90920" y="1371600"/>
            <a:ext cx="52578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Zonal E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ystem of record through 12/1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590920" y="3429000"/>
            <a:ext cx="51814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Nodal N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nodal testing model- CIM file for EMS/MMS/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43"/>
          <p:cNvGrpSpPr/>
          <p:nvPr/>
        </p:nvGrpSpPr>
        <p:grpSpPr>
          <a:xfrm>
            <a:off x="2894040" y="2514240"/>
            <a:ext cx="4802400" cy="914760"/>
            <a:chOff x="2894040" y="2514240"/>
            <a:chExt cx="4802400" cy="914760"/>
          </a:xfrm>
        </p:grpSpPr>
        <p:grpSp>
          <p:nvGrpSpPr>
            <p:cNvPr id="162" name="Group 40"/>
            <p:cNvGrpSpPr/>
            <p:nvPr/>
          </p:nvGrpSpPr>
          <p:grpSpPr>
            <a:xfrm>
              <a:off x="2894040" y="2514240"/>
              <a:ext cx="4802400" cy="914760"/>
              <a:chOff x="2894040" y="2514240"/>
              <a:chExt cx="4802400" cy="914760"/>
            </a:xfrm>
          </p:grpSpPr>
          <p:cxnSp>
            <p:nvCxnSpPr>
              <p:cNvPr id="163" name="Straight Arrow Connector 14"/>
              <p:cNvCxnSpPr/>
              <p:nvPr/>
            </p:nvCxnSpPr>
            <p:spPr>
              <a:xfrm flipV="1">
                <a:off x="2894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4" name="Straight Arrow Connector 15"/>
              <p:cNvCxnSpPr/>
              <p:nvPr/>
            </p:nvCxnSpPr>
            <p:spPr>
              <a:xfrm flipV="1">
                <a:off x="3122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5" name="Straight Arrow Connector 16"/>
              <p:cNvCxnSpPr/>
              <p:nvPr/>
            </p:nvCxnSpPr>
            <p:spPr>
              <a:xfrm flipV="1">
                <a:off x="33512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6" name="Straight Arrow Connector 17"/>
              <p:cNvCxnSpPr/>
              <p:nvPr/>
            </p:nvCxnSpPr>
            <p:spPr>
              <a:xfrm flipV="1">
                <a:off x="35812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7" name="Straight Arrow Connector 18"/>
              <p:cNvCxnSpPr/>
              <p:nvPr/>
            </p:nvCxnSpPr>
            <p:spPr>
              <a:xfrm flipV="1">
                <a:off x="38098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8" name="Straight Arrow Connector 20"/>
              <p:cNvCxnSpPr/>
              <p:nvPr/>
            </p:nvCxnSpPr>
            <p:spPr>
              <a:xfrm flipV="1">
                <a:off x="4038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9" name="Straight Arrow Connector 22"/>
              <p:cNvCxnSpPr/>
              <p:nvPr/>
            </p:nvCxnSpPr>
            <p:spPr>
              <a:xfrm flipV="1">
                <a:off x="4263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0" name="Straight Arrow Connector 23"/>
              <p:cNvCxnSpPr/>
              <p:nvPr/>
            </p:nvCxnSpPr>
            <p:spPr>
              <a:xfrm flipV="1">
                <a:off x="4492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1" name="Straight Arrow Connector 24"/>
              <p:cNvCxnSpPr/>
              <p:nvPr/>
            </p:nvCxnSpPr>
            <p:spPr>
              <a:xfrm flipV="1">
                <a:off x="4721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2" name="Straight Arrow Connector 25"/>
              <p:cNvCxnSpPr/>
              <p:nvPr/>
            </p:nvCxnSpPr>
            <p:spPr>
              <a:xfrm flipV="1">
                <a:off x="4951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3" name="Straight Arrow Connector 26"/>
              <p:cNvCxnSpPr/>
              <p:nvPr/>
            </p:nvCxnSpPr>
            <p:spPr>
              <a:xfrm flipV="1">
                <a:off x="5180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4" name="Straight Arrow Connector 27"/>
              <p:cNvCxnSpPr/>
              <p:nvPr/>
            </p:nvCxnSpPr>
            <p:spPr>
              <a:xfrm flipV="1">
                <a:off x="5408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5" name="Straight Arrow Connector 28"/>
              <p:cNvCxnSpPr/>
              <p:nvPr/>
            </p:nvCxnSpPr>
            <p:spPr>
              <a:xfrm flipV="1">
                <a:off x="5638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6" name="Straight Arrow Connector 29"/>
              <p:cNvCxnSpPr/>
              <p:nvPr/>
            </p:nvCxnSpPr>
            <p:spPr>
              <a:xfrm flipV="1">
                <a:off x="5865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7" name="Straight Arrow Connector 30"/>
              <p:cNvCxnSpPr/>
              <p:nvPr/>
            </p:nvCxnSpPr>
            <p:spPr>
              <a:xfrm flipV="1">
                <a:off x="6094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8" name="Straight Arrow Connector 31"/>
              <p:cNvCxnSpPr/>
              <p:nvPr/>
            </p:nvCxnSpPr>
            <p:spPr>
              <a:xfrm flipV="1">
                <a:off x="6324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9" name="Straight Arrow Connector 32"/>
              <p:cNvCxnSpPr/>
              <p:nvPr/>
            </p:nvCxnSpPr>
            <p:spPr>
              <a:xfrm flipV="1">
                <a:off x="65530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0" name="Straight Arrow Connector 33"/>
              <p:cNvCxnSpPr/>
              <p:nvPr/>
            </p:nvCxnSpPr>
            <p:spPr>
              <a:xfrm flipV="1">
                <a:off x="6781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1" name="Straight Arrow Connector 34"/>
              <p:cNvCxnSpPr/>
              <p:nvPr/>
            </p:nvCxnSpPr>
            <p:spPr>
              <a:xfrm flipV="1">
                <a:off x="70074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2" name="Straight Arrow Connector 35"/>
              <p:cNvCxnSpPr/>
              <p:nvPr/>
            </p:nvCxnSpPr>
            <p:spPr>
              <a:xfrm flipV="1">
                <a:off x="72360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3" name="Straight Arrow Connector 36"/>
              <p:cNvCxnSpPr/>
              <p:nvPr/>
            </p:nvCxnSpPr>
            <p:spPr>
              <a:xfrm flipV="1">
                <a:off x="74646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4" name="Straight Arrow Connector 37"/>
              <p:cNvCxnSpPr/>
              <p:nvPr/>
            </p:nvCxnSpPr>
            <p:spPr>
              <a:xfrm flipV="1">
                <a:off x="7694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</p:grpSp>
        <p:sp>
          <p:nvSpPr>
            <p:cNvPr id="185" name="TextBox 41"/>
            <p:cNvSpPr/>
            <p:nvPr/>
          </p:nvSpPr>
          <p:spPr>
            <a:xfrm>
              <a:off x="3276720" y="2833560"/>
              <a:ext cx="4190760" cy="368280"/>
            </a:xfrm>
            <a:prstGeom prst="rect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RCOT enters into zonal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45"/>
          <p:cNvSpPr/>
          <p:nvPr/>
        </p:nvSpPr>
        <p:spPr>
          <a:xfrm>
            <a:off x="7848720" y="3429000"/>
            <a:ext cx="12952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MM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of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6"/>
          <p:cNvSpPr/>
          <p:nvPr/>
        </p:nvSpPr>
        <p:spPr>
          <a:xfrm>
            <a:off x="7010280" y="83808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Nodal Go-Live 12/1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45"/>
          <p:cNvGrpSpPr/>
          <p:nvPr/>
        </p:nvGrpSpPr>
        <p:grpSpPr>
          <a:xfrm>
            <a:off x="152280" y="4419720"/>
            <a:ext cx="8991720" cy="1800000"/>
            <a:chOff x="152280" y="4419720"/>
            <a:chExt cx="8991720" cy="1800000"/>
          </a:xfrm>
        </p:grpSpPr>
        <p:sp>
          <p:nvSpPr>
            <p:cNvPr id="189" name="Up Arrow 42"/>
            <p:cNvSpPr/>
            <p:nvPr/>
          </p:nvSpPr>
          <p:spPr>
            <a:xfrm>
              <a:off x="8229600" y="4495680"/>
              <a:ext cx="609480" cy="53352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44"/>
            <p:cNvGrpSpPr/>
            <p:nvPr/>
          </p:nvGrpSpPr>
          <p:grpSpPr>
            <a:xfrm>
              <a:off x="152280" y="4419720"/>
              <a:ext cx="8991720" cy="1800000"/>
              <a:chOff x="152280" y="4419720"/>
              <a:chExt cx="8991720" cy="1800000"/>
            </a:xfrm>
          </p:grpSpPr>
          <p:sp>
            <p:nvSpPr>
              <p:cNvPr id="191" name="Right Arrow 39"/>
              <p:cNvSpPr/>
              <p:nvPr/>
            </p:nvSpPr>
            <p:spPr>
              <a:xfrm>
                <a:off x="914400" y="5153040"/>
                <a:ext cx="2514600" cy="1066680"/>
              </a:xfrm>
              <a:prstGeom prst="rightArrow">
                <a:avLst>
                  <a:gd name="adj1" fmla="val 50000"/>
                  <a:gd name="adj2" fmla="val 5000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ubmits RARF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(Resource Asset Reg Form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via Service Reque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ight Arrow 5"/>
              <p:cNvSpPr/>
              <p:nvPr/>
            </p:nvSpPr>
            <p:spPr>
              <a:xfrm>
                <a:off x="914400" y="4419720"/>
                <a:ext cx="2514600" cy="1066680"/>
              </a:xfrm>
              <a:prstGeom prst="rightArrow">
                <a:avLst>
                  <a:gd name="adj1" fmla="val 50000"/>
                  <a:gd name="adj2" fmla="val 5000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ubmits ICCP Chan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via Service Reque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ight Arrow Callout 40"/>
              <p:cNvSpPr/>
              <p:nvPr/>
            </p:nvSpPr>
            <p:spPr>
              <a:xfrm rot="16200000">
                <a:off x="5657760" y="2228760"/>
                <a:ext cx="1257120" cy="5715000"/>
              </a:xfrm>
              <a:prstGeom prst="rightArrowCallout">
                <a:avLst>
                  <a:gd name="adj1" fmla="val 25006"/>
                  <a:gd name="adj2" fmla="val 25004"/>
                  <a:gd name="adj3" fmla="val 25000"/>
                  <a:gd name="adj4" fmla="val 6497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RCOT pro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4"/>
              <p:cNvSpPr/>
              <p:nvPr/>
            </p:nvSpPr>
            <p:spPr>
              <a:xfrm>
                <a:off x="152280" y="4572000"/>
                <a:ext cx="762120" cy="685800"/>
              </a:xfrm>
              <a:prstGeom prst="rect">
                <a:avLst/>
              </a:prstGeom>
              <a:solidFill>
                <a:srgbClr val="6699ff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Q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38"/>
              <p:cNvSpPr/>
              <p:nvPr/>
            </p:nvSpPr>
            <p:spPr>
              <a:xfrm>
                <a:off x="152280" y="5334120"/>
                <a:ext cx="762120" cy="685800"/>
              </a:xfrm>
              <a:prstGeom prst="rect">
                <a:avLst/>
              </a:prstGeom>
              <a:solidFill>
                <a:srgbClr val="6699ff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42"/>
          <p:cNvSpPr/>
          <p:nvPr/>
        </p:nvSpPr>
        <p:spPr>
          <a:xfrm>
            <a:off x="7810560" y="1295280"/>
            <a:ext cx="0" cy="441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EAE55C3-17C6-4409-8EF1-FB687E071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ining Up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228600" y="914400"/>
            <a:ext cx="8610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P Testing and Training environments will b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sting system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June 8 – Aug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CR testing system will be on-line and available to all T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established dedicated email and have staff available to support question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mcrhelp@ercot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ructor Led Train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hosted in Tay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SEM classes June 22 – Aug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plans for at least six 3-day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for 12-18 seats for each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dedicated training 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SEM classes Sept 23- Oct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er sessions and smaller classes (tb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-up classes, not just-in-time training for all staff after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3AADF949-B143-464E-8099-C579ED8D3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ition summary during June-Aug’09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723600"/>
            <a:ext cx="854712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60948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320" y="457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no limits on submissions (Market Notice sent March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larify that there are no restrictions or “freezes” currently in place limiting network model change submissions via the service request proces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peri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une 1- Aug 30, 2009 (objective to minimize SvcReq during this peri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equipment name changes (defer until after SEM Go-Live 8/31/0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bmit changes as far in advance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15-30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weeks no submissions, except for emergency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31, 2009 - Feb 2010 (NOMCRs for any/all network chan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 the NOMCR timeline will align with zona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CRs received and translated to zonal model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-day lead-time, compliant with curren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onal databas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is tracked and communicated via system em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s that did not go into zonal production will be converted to NOMCRs for verification and submission by TSPs in S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 gradually transitions to NodalProtocols(3.10) 90-day req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990720" y="1905120"/>
            <a:ext cx="7924680" cy="99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990720" y="2895480"/>
            <a:ext cx="792468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990720" y="3581280"/>
            <a:ext cx="7924680" cy="2590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6E29FD0-576C-4CDA-97F5-334BC8386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of current SEM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engagement 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and Market Criteria Status for Go-Live Aug 31,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Readiness Criteria approval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SEM Go-Li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ngagement/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summary during June – Augus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D5F489BF-77B1-41FF-8553-507CB445C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ummary of current SEM Activiti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/TSP engagement calendar for Single Entry Model Implement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8- SEM Market Kick-off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4-  Began weekly ERCOT/TSP market calls for 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8-  ERCOT deployed test system for TSP testing on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23- Training commenced on schedule 6-weeks of 3-day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30- Training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e are 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  August stakeholder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31- SEM Go-Live mile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keholder commun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as reported detailed progress on testing and training to market on SEM Weekly calls, NDSWG/ROS, NATF, and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activity highligh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going support of testing/questions/weekly-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ed final copy of 6/1/2009 of zonal operations model into nod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ed consumption of model into NMMS/EMS/MMS tes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integration testing aligned to use post-SEM Go-L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DD2E01F-F051-45F2-8FC4-0D9870DAF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5228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Market Engagement Dashboard (as of 8/11/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52280" y="839880"/>
            <a:ext cx="876312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4E962AE-A255-461F-958D-3470307CA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rket engagement summary (continue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llent TSP engagement over the sum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weeks of market calls (calls to continue through go-l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weeks of ad-hoc system testing by 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weeks of instructor led training for 19 different TSPs is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everity 1 or 2 defects identified by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20 TSPs engaged that will be responsible for ERCOT network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with one TSP to catch-up on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 has signed up for Sept 2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aining make-up class after SEM Go-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will support this TSP (and any other TSP) with coordinating submission of NOMC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verall SEM Go-Live ERCOT/Market Criteria Dashboar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52280" y="7621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 of Criteria from TAC-approved SEM Go-Live Proced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odal.ercot.com/readiness/golive/index.htm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133200" y="1133640"/>
            <a:ext cx="88776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526BBE8-0961-4960-BF8B-931571307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ugust implementation activity summar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agement has shifted gears from training to cut-over activiti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SP coordination for access to production systems with digital certific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RCOT sent instructions &amp; “potential user” list sent to TSP USA administ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completing analysis and posting of key artifacts/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ing Guidelines final review at NDSWG last week, blackline to post Aug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through 500+ comments to 3 issues (discussed at last ROS meet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DSWG had special meeting for discussion of workarounds related to MVA measurement, Limits, Owner/Operator for SEM Go-L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apping up analysis of CIM Audit, Consistency Check, Rules Valid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ology provided to NDSWG July 1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nalysis/sign-off  to be delivered July 1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ing of CIM schema and data dictionary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to continue to test systems and ensure Service Level Agreements m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.9% availability of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hour recovery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25 concurrent modeling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ss testing to continue focus on system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31 Market Notice sent reminding TSPs that no modeling Service Requests should be submitted after Aug 15 to allow synchronization of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ergency modeling changes will be accepted with approval from Director of Grid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143000" y="719280"/>
            <a:ext cx="6781680" cy="5481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152280" y="152280"/>
            <a:ext cx="8991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Approval of Market Readiness Criteria (TAC and Bo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1E12272-4683-4423-9801-CA33F0647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A4A357A6-2A99-481A-8E6A-C7FE2AB17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 and Approval (TAC and Boar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76320" y="83808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remaining Stakeholder meeting dates for SEM discussion/approval of 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0-day Market Not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t July 3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DSW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pecial meeting Aug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t Aug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deferred approval consideration to special TAC on Aug 1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eting Aug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ublishes results and sign-off from Directors on Aug 1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pecial meeting- Aug 1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7:30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Aug 1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-day Market Not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Aug 2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EM Go-L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Aug 3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ation of whether “Certification that all Market Readiness Criteria have been m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ining complete, and plans in place to support one T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activities are for ERCOT to complete/sign-off  mode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no protocol changes go into effect Aug 31 (system change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37:36Z</dcterms:created>
  <dc:creator/>
  <dc:description/>
  <dc:language>en-US</dc:language>
  <cp:lastModifiedBy>mmereness</cp:lastModifiedBy>
  <dcterms:modified xsi:type="dcterms:W3CDTF">2009-08-13T03:56:34Z</dcterms:modified>
  <cp:revision>847</cp:revision>
  <dc:subject/>
  <dc:title>Texas Nodal Detailled Market Trials Planning Process 30 January 2007</dc:title>
</cp:coreProperties>
</file>