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5"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8"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9"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C594-590A-4F35-8EF1-47F0F9B9D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3560-3B34-4264-B3E1-B28BDB4482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B18A-26E6-456A-B55B-CDC5788D7E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59CC-EA9E-4781-B0A3-5EC332FFDB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B284-B2C2-4355-A662-D897D0587D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FF41-5CDF-46CE-A8B8-A79FE23C52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C200-7084-4DE6-8087-E64E82A639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BB6499F-D932-496B-B0FD-186284C2C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0D1D0D-FFE1-408F-B4EA-9BD2BB356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94F7302-800D-4403-B294-0CCA1F75E9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CEE4D41-7096-4742-8552-D191DD8A35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3A36D5D-0DD5-463F-B12C-345DBF39C7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F908313-C2D7-4D5E-882E-44867509DC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C674CCA-A06F-427F-BF84-6FFEF019C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1DCA0E1-295B-46A8-A484-BC54D661A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A90FBF0-9F26-4876-A22A-84D658C13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6D32CAB-777D-4AFD-AA31-8A72A03950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731F61D-C93D-4EB2-BC5F-D3DEC48745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9167C65-C7EF-416E-BC72-AFAED3A05D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92EB80D-D372-4FA8-843F-9C4AFD1B4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BA38A2F-BD57-41C8-ABD8-8394875412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498B210-AA4E-4F5B-83D9-E760C6DC6A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BF52545-1ED4-44CB-9587-965C916F53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A6E2589-3945-4E77-93B7-832CFB2B2B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852A3C7-79C4-48F6-B89A-24819F7CCF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4BED3D5-814A-4AF7-9996-BF91AB36D3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070014C-CBCE-4C0F-A6C9-DA05AE08B7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A0FCF26-AABB-4854-A627-570C11091C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5FDB46B-EB90-4A73-9899-1652307AB0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1B5E8D5-E3FD-4B58-8036-204957B9E5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715658-7260-42D7-AC9D-5DFD2D478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EC9BF29-F056-405B-9D7E-C12606A048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1BD59468-8D01-491B-9744-BD76A61ED1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7550E29-72D4-49B0-B9CF-FEC9F5B2A1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C10898D-C77D-435A-9153-6B45336FAF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4433CFE-A245-4EE4-9D5B-BFE5426C96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8865A71-9017-4BB1-87B3-1BB52835D4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761E041-672F-4AB9-B7B9-32AA3F638F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8A5343E-80D6-4D83-9942-B0F8DBDCEF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97021F1-1675-4FF6-97DB-248529E0D1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5FA993C-20DB-4276-8005-C5146B7E28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AA18A-6F77-47E8-9C4F-34783600D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93EB731-8FEA-4293-8E5F-6BA504F9A4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EC017F4C-CE4F-4A95-9DCB-46473825B5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37E9ED90-3F9E-4739-A4EC-3E4C782F00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03BD0E83-A1C2-40C3-8CA7-08AB045CB9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68AE489-17B3-45C0-A9BA-83AC9A3576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B9EE6A9-4DF2-4100-B4C9-C9DD98F8D1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90449A6-30C9-4BFD-A8DE-8531F3F118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16CD219-AA08-47E4-A94D-3C424B8793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54A0B15-3933-4325-B9E8-513330CAAA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CADDB14-FFE6-4277-9149-D77505179D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99839-2A60-49CC-9E8F-32A093A5A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18ACE12-018C-4AE8-8825-011A7095BA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FF749B4-4982-4B4D-AFAA-A45F7EDF52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74ADA13-BC87-49BE-BD32-ABDA59A1DD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FB1B0B6-3BFB-43E8-B1C4-DA16EACB8A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1FBF8407-493F-4D60-840F-17549272E17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522C3234-4B75-46F0-8172-41B7FB711F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87B6242A-20A9-47FA-8D1D-36E7E4D908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688D89C-AE02-4059-AE36-8409154CD1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F30B15FD-7579-4461-9556-160C8C4A5D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5B9F6C85-9387-46D4-86E5-2FD621BC62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DEEE8-CAC9-4282-AF6D-8F3861DD7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5FFB11B2-03D9-422A-8A76-7C0FA2A1BD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57AA78C-3674-44A1-B84C-3D93BB717A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01FB9522-9402-452E-9A52-F38EC32DBF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4D55CA0-9F35-4A92-9C5A-463297AC7C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1B56C2B1-34D3-4CF9-8F5C-16746D3C1C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232C140F-7054-445A-A1EA-B96FA3B506A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A7F2AB62-8342-41E4-A553-2DEC54C132E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3A249394-48BA-4867-BFFB-1CD33AA69C0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08628B00-CEF0-46E3-BA9E-40BBDCF453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A992006E-2ECE-43EE-A92E-F01312F663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9D565-26C8-4AB1-893D-4318A830C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B4FEB004-FC6C-43D7-998E-AF8BBBA3399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CD40C95D-5B67-4B9A-BB2B-AD54C02C40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B7FB9092-3A49-4E3C-991D-13BCE20331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42881A3-D55C-487A-8FE5-E7B7610ECF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9C521FB2-F009-42D2-AAB3-30A5EEC49E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0A410C5-041D-4A5D-9EE9-91745358C7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7A0D66A-D4A0-4FE7-BE33-AB34B7C6759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206FA073-67BE-4947-A9F5-EF454D89A2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F10323F5-124F-440D-93B7-96E72FB3595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EC7D732-EF41-4329-932D-F4BF8BE2365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5337F-332E-40B5-8489-B6729E85D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9AA3FD2-913D-4ADE-8FF4-D9272C2584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6A90DF-8956-46EA-87E8-F7BA76E3E29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47B228B-F977-4E81-90F6-226D5C9164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6CE8BC-F920-424A-86B8-C8C8D95B37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1FBCEDF-5CC1-4FA0-8C47-2BCA688D0E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AA9FAC-0C27-4DBA-8B18-B3E3E051AF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FB73FA-DEE7-4E87-A304-3E961F8AA3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EAC3BB-812D-4D94-AC8D-4CFE7A77AD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DC906E-B7E8-4A4A-B5F3-C1297807AD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F47B16-D639-4278-857D-43C99820F3B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6FA04-EF56-4D67-89AE-721D93792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8CC1F64-8775-46BD-851B-A247ED449A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8BD9FE1-9F07-4E1B-9386-96CA80A50FA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87CC46-3984-47F4-AB70-644A374F08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BC3C2A7-7B79-4A29-840D-DBFE614127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196918-0147-4AA3-A750-7ED86B571B5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3A43B7-B620-4BBC-877E-A2541B00F7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C44110-5429-41A9-9EB1-5B0AEA72020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64531C-50C7-4303-AD6A-21AD4328E5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09EFBE-BB9F-46FE-A982-01DAEBCB7B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CE5A8D-767E-4D12-AA88-B36F731F9F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C907-B2AE-453F-ABD3-9CD4D8BA9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39A112B-89A4-4DD5-9A0E-1CBDFF59A36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1B9F7A-2B76-47D7-83DE-A16D1A0A601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F88654-1FEF-48B7-BF8E-14996124342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C78FC28-A7E9-4B15-A927-350F2DD5072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C9DD6C2-45D3-41B2-A184-E936F58F0DB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0B4ED3D-F9C8-4111-ADD3-F49D23D924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A4F188E-CFEC-4C6B-8E8F-024624FEDAE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E54A0D0-B411-42B7-A13F-53E1EBD90E9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18D319D-98B8-45F5-AF24-CBE5EE459ED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2CA72A-4EF0-44E5-9DCA-226535C798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3F5436-2D73-4E82-B976-98A415B33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D2DA0-1B11-43D6-9010-D8D680BB4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04D64A-D82B-476B-8819-13727446B4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58C449-ED63-443D-BE11-75C26B8C3FE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5FE1EB-7BE5-4563-B2CC-2371CD6E42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E663A7C-E616-494E-9E6F-B5E11516163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46A592B-5DB7-4A30-AD64-A3B86237C95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A080A3B-1DA6-4CAA-B2B7-034E0A6C91B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5932260-7FF4-466A-81F4-821DB7DBAB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788D6BE-DA02-45DD-8A46-C2A7AAE6F6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E64C77-DD37-4985-9AAB-978CB0B93B0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66E92EF-3D52-46CF-8094-6DAE0247D7D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D9BF8-FA09-4EAC-9D9A-489F8E41F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19D099A-0439-4FE2-9E27-6594013E97C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1E17DD-540D-4236-9F3E-A653666E63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883E0AA-A4B7-4FF3-8ABD-A569165203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E3836EE-269F-4FEC-9004-47C723E7B29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3E79374-4906-4455-82D3-D0835BF3977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15A3D7E-7BC4-4D9A-9A39-0910C04BCEC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1B44C09-4EE0-40E8-94C2-624B62A456B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714640E-4522-46DE-80C3-504594ED9AA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985BB19-D36F-4210-B8E2-E37B34BFC83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735D51E-14D0-42B6-8322-3F221B15C50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E597E-5074-46C5-BADC-F866F3006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72E2D1D-EB49-4669-8156-A0BD3DE119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948BC3A-81DD-4285-B591-40A5651017A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8624A7D-F19E-4518-8890-B025D68C048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AB84EDA-C799-4A82-B308-BD8133BDEA8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6AB320-774F-4394-8C15-9AB14A3975A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8FFF12A-5B54-4BEF-A4BF-DA809DF4D9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F81DFA5-B02E-45C1-98AB-51A3F1DF215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581D019-B7C2-4ED0-9BA6-673BDBC37C4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84983E2-37EA-497D-96C1-7135BF64C9B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C67950A-6A84-477F-B5C2-F4F13820B3E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25F32-20E0-402D-8848-A6D471F76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027346-E513-4C74-9EC6-1F23E992CE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E11617F-97F4-4D1D-9F89-B35E5793E93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BF8B01-0784-4E13-8D78-AFF2511321B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36B1428-D122-4585-85F2-EA29CC4ED38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EC322A7-7F2A-46F3-A806-DA0DA63048D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F2B1EA3-A361-42B7-9F5C-FF235444006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B56C9C-D07C-4B55-8CA2-A87D8CF089A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E4AF17-146F-482F-8073-6DFDAE75A44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ACBFD93-F247-4799-8361-C16D27A3140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044CFF7-4ED9-4BB5-9C27-11C4527DDC0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89BE3-4C9B-4B6A-98FD-5AC95AB0C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045D968-D9EA-49EC-9BFA-6925B0D3E37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9A533E8-9C9E-43B2-94EC-901EF894C9F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102CB9D-9B31-44B8-B1C9-C0E9380BFF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EF1E827-A1C1-411F-881E-DADCDFFFACE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95E4C9-1E9C-4067-9C03-4E3FAE35B8B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E522770-4708-4D46-BD05-A532A1AD50E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1EE000A-EDD7-4CB2-9F7F-92DFD084745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B0E7E14-EF30-49D0-8AE6-B6D1B6B7639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EA351E-4BB9-4E8F-A282-6396F1F5E36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9832379-DAD9-4904-94FB-8F13886AAED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2AD283-3F11-432D-AB44-4A3403ACD0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AE5BCB3-CBAA-4E97-B6C3-5D4B9DCDF6A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939E82E-42A2-4925-AEAC-43376C1AA6F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B948F74-4B4F-492E-8CCC-B76F9F5EACA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CB6D25F-6109-4E0C-9422-AE4445217FB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E0A5684-DC57-44E3-9D32-51D16D8507B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C947EF3-D3F1-4DE7-8259-61515055AFA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E050446-0B50-46FE-B68F-4C8FD2A0866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497576B-ECC3-4246-8D0A-6591E9B0CE0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1C7FCC4-CD38-4AA1-BE7A-7D1104B274D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F3CCB97-66FA-42EC-8708-259467F88D3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7F8F0-E69B-49F6-A392-D04C0FDE5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4463C5-C0AF-4A10-AACD-3B4C4BABA16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DB5A6E1-0AC6-4A56-9DC7-7E88B9CCA1C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CB0DE98-F649-4EE1-85E2-DE683B4BA1F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1079EE5-8CDE-435A-B7B3-ACEA1691895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B89185F-4732-4786-817D-5D3168E177D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05F6F11-38D6-4024-B695-9C525BDC13B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111A2C6-8221-4A97-899F-44EA3AB2946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CCEABF0-2C65-4C12-BFF2-0D0DDD3504B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D215AD6-A2B8-4526-A95B-15B15F3A7E1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E0B422C-582E-4B41-B76F-1C26DA8E000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1CE15-E03E-45D2-A185-FF97653BA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102F326-DBEF-4FB1-86F3-3BB2819514A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9AE68BE-1019-4628-8D75-0F5D2409D23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FF02D2C-EC65-40D0-8BAC-35B954529C5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26F0229-6102-4F4D-B58A-BFEA16D38B6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59B92CF-767E-4D84-A2D8-643721AF3DF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5927E7F-3CA2-4A80-9951-F64EA78C31F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A7CF481-AB60-47B1-A926-57BEE9A1D91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910B48E-DC19-4F20-9D58-62B0B3207B8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F576894-734D-4B07-B10C-FE1552200BC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FC3C0E5-D9CC-4152-949E-12F360AA8D1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5692C-13FD-4AD9-BD66-DE88125D6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EBDD1A0-9318-4B1D-B54A-16BE11B8B8A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7749FF3-FDEE-4C1E-817F-0476788F718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E1216D5-96F8-47AF-BE70-96E8120BF75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ACD93AC-D26B-4168-A905-5BED280F85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6C5124A-AC29-44A9-A2A9-30C474ABAFB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37957CF-4B5A-4310-8462-C7FC5CD747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89E23AD-1807-4B05-84B7-475DC2DA8A5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F0AB562-E0F7-476E-91A8-7AD437096C7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C123345-A126-45A9-BE05-C744361A9F1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974D210-AE68-425A-B3AA-BE7CC253623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16975-1EB6-4C1A-91ED-5D9181E86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1B36BDE-D918-4C04-B299-96C93F05A12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5392DBE-0377-403B-8521-450541C6286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6AB7EC6-9E35-4E1D-9B46-D94D6D8593A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3330A1D-AAC1-4F13-A248-D5CD524F229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07B6D09-822D-4CD8-B8B6-58F35FF329C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583A26F-F62A-474A-BB4F-6E8264CD2A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68CFF88-F42A-4E50-B973-71D467A570E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FF6A6B-F7E2-4983-A7A4-DB436378EFE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2D32B70-37E5-4FFA-AD0E-809EC47FA2F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CC24CA6-881E-468B-B69E-9451A784B08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219D60-9B40-4DCF-BB32-3B48A866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D1956-4BE8-45CC-9C4D-DE07DB375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B8E5F5C-5F46-415A-A839-194E2CAEEC8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AA3C2-B671-4A60-84C0-137F19C5B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CC61D-9557-4762-B5DF-9B7BA8450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0BB32-D422-4D5F-B792-2AA39AAAF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B73D6-339F-46A6-B381-9965678A48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CE24AB-CBDC-40CB-9E20-808052167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7C467-4233-4C65-AAF9-DF00EE8BE8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C95B3C1-EF06-4002-AEEF-855FE81C87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6BD9E09-945D-45D6-B784-8B87B0D5A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4F1EFD-DF76-486D-AA2B-3CADBDFC13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FC1630-54E2-42CB-AE6A-364DF8300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F039F79-345F-45F0-BE08-B371D780EA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778C2C-D33E-4B41-BAB9-9AEB406BE2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FD4A3A9-D8C5-4A86-B409-D4E422D79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73FE4C-E52E-40BE-87CE-F999E7989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C8E91B-A678-4437-982B-56871A9D17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8086F4-324D-47F4-A717-525E90D25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D2D460-A82F-41DC-8195-D71062D953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4B75E01-F04C-4966-8CCF-A0A034C261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54AD1D1-DCCA-4D63-BEA4-178802228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144A411-96E0-49B0-B825-262EE05EBF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5EC6E1-59C8-4378-81E0-E746C96A2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4EDA04-D609-41FA-A7B6-3ED2DD201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92F2E4-F959-479C-8FD8-8DF83D47F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04166FE-4CC0-4394-9B25-304ED59B8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09B0BC-F097-4381-A9DE-498DE5AB0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29C934-0911-4AD8-B2EC-4E834B175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297848-2158-453F-8BBB-8F7EC757E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AE782E-02A5-4731-B6D3-70A7A7CD3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1E2E56-5DA3-40E2-8984-67EE82DAB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52F574-CFF0-4B5D-8DAA-66FC573FD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4BCAB96-3930-4E83-91F8-7CF1E2FC18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6D9B69-BD4A-4A63-B665-AFFB8815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0E858B7-2A0E-4561-A88A-EF7EFF2C21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3AC9267-9558-4307-986E-14AFB13469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D8DFC1-893F-414C-81C9-92B4DD0798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B78C7E-04CD-412C-A85A-0457B0539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0D286F8-A28A-4F19-9CAB-A33CF1905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2BB0495-3010-4BC5-8E8A-B8FC8359F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B8D6775-595F-4259-B8CE-67BAE8FED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8D0775-9361-4862-B9E7-9D84F2C4A3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436FD09-0590-4A45-A1CE-7503A1575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CEB3C1-71AA-466E-AE72-AE2D5FAEC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2CFE5F-27FA-4B07-9D84-969E1D550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5D56926-28C9-48A1-917F-A82AEC72D9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56E9EB5-6C3F-43BC-91D6-C4E2A78D71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B007AEE-C275-4C86-94FF-6B9A25F8B3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23C21D8-1C22-4FE6-924C-D5450C81A4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83DFCC4-0493-4593-BD0F-577F3BC06C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DA33283-2858-4723-ABFC-69EF97DF2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5E5BD64-8ED9-42CD-8D3B-CEF9203799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43014F-FBB0-4931-A69E-4FA5F7571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0D9C966-E605-4B43-952E-B44A6BB3B8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05DB3C-1674-4CC5-84CB-9D6FBAE32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D741C9-9785-4CC8-848C-2DA3E0D2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B666A3-2BA0-4F35-B9D4-8B8049B283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5792000-AD35-4BD4-96AC-FE01426A8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EF9679C-70EC-40B3-83D7-DCD551C6A7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923570C-189B-4132-A2B5-819C171C70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E40104E-477D-4D86-9307-D3A9FC3ED0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49A0C76-BA4B-464B-8380-CC319D3D11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A0ED8D5-79DF-4D18-BC22-6C1528A3FD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1E691E5-23BD-4E45-8CE3-2A9A49AD1E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7601C60-F889-4D4D-85B1-A0618F5AE2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FCA2BE6-9C48-45BE-B4A7-A732450517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CC504E-6462-4F09-B1F5-3E2968194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FE07EDE-ACCC-4C04-8034-6A8E05D3F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AF6E0B1-3ADC-46B6-9DCC-E61063A2F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65138BC-F6BA-494D-A58B-791D63F30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5C9E537-3977-41A8-8E7E-EF1EC4FF0E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05339DC-E1F0-4BFD-A7A3-B209EFEBEE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F085201-132E-41F6-B5DE-99142CA5FE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BB53EC7-3EF2-45B0-99A5-CFE7BD0C8A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B5F1EC9-BF7B-42B0-842F-261D229AC9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D4D9AE7-9340-487C-984F-1C836F8C63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0C156C2-4002-43BE-8248-CE765E5BF1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2B89-319D-4D8D-8C60-F443BC85DD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89"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661B-C664-48A7-B758-2A630E2880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1"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30"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FA56-FF36-4AA5-ACC4-2333205278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2"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7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481E-79CE-4B8C-8BFB-98EEC33F0E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12"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CF45-ECDC-47AC-8CA9-7A4CCDD915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4"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53"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5010-E84D-404E-AE3D-3D76248DBD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5"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E653-03A8-4612-AEAE-177D3ED31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2C3A-AB9F-4476-AA87-528DADAF2B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6"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27F9-62AC-47E7-AC1B-E2C716DA0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DC78-3432-4129-B822-BDFC06F43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8"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DC3E-9EA4-46F6-A04C-05605ACB8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6386-3D54-404D-915E-8A5F6D232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ACF9-2402-467C-BA10-255ED54D4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0"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2DEF-B596-433D-A9F7-9D065CAD4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1"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898D-F186-4B2E-A84C-AE5275593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2"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598A-2F51-47DE-893C-053A2530E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3"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1CD0-1900-4469-BA0A-8D4D99067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4"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1A2E-05F5-4EF8-90FB-8848234B4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D5AF-8E85-439E-856F-0811C61307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7590-2841-4361-8B1B-B3D64EDDFE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5"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84"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268E-7DE0-4840-9285-AFA79372AB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25"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8260-401C-42A3-98A2-9311AA1CE2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66"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6EDB-8A67-41A1-8431-86F38A8E39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8"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7"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D634-F76A-4C06-9D86-CF3D7965FD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9"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48"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F10F-D5C9-4286-AFA7-A3982460A0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0"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1779120"/>
            <a:ext cx="77724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Operations Working Group</a:t>
            </a:r>
            <a:endParaRPr b="1" lang="en-US" sz="4400" spc="-1" strike="noStrike">
              <a:solidFill>
                <a:srgbClr val="e5e5ff"/>
              </a:solidFill>
              <a:latin typeface="Garamond"/>
            </a:endParaRPr>
          </a:p>
        </p:txBody>
      </p:sp>
      <p:sp>
        <p:nvSpPr>
          <p:cNvPr id="1051" name="PlaceHolder 2"/>
          <p:cNvSpPr>
            <a:spLocks noGrp="1"/>
          </p:cNvSpPr>
          <p:nvPr>
            <p:ph type="subTitle"/>
          </p:nvPr>
        </p:nvSpPr>
        <p:spPr>
          <a:xfrm>
            <a:off x="380880" y="3580920"/>
            <a:ext cx="830592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Reliability and Operations Sub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13 , 2009</a:t>
            </a:r>
            <a:endParaRPr b="0" lang="en-US" sz="3200" spc="-1" strike="noStrike">
              <a:solidFill>
                <a:srgbClr val="ffffff"/>
              </a:solidFill>
              <a:latin typeface="Garamond"/>
            </a:endParaRPr>
          </a:p>
        </p:txBody>
      </p:sp>
    </p:spTree>
  </p:cSld>
  <p:transition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OGRR Summary</a:t>
            </a:r>
            <a:endParaRPr b="1" lang="en-US" sz="4400" spc="-1" strike="noStrike">
              <a:solidFill>
                <a:srgbClr val="e5e5ff"/>
              </a:solidFill>
              <a:latin typeface="Garamond"/>
            </a:endParaRPr>
          </a:p>
        </p:txBody>
      </p:sp>
      <p:sp>
        <p:nvSpPr>
          <p:cNvPr id="1053" name="PlaceHolder 2"/>
          <p:cNvSpPr>
            <a:spLocks noGrp="1"/>
          </p:cNvSpPr>
          <p:nvPr>
            <p:ph/>
          </p:nvPr>
        </p:nvSpPr>
        <p:spPr>
          <a:xfrm>
            <a:off x="681120" y="1987200"/>
            <a:ext cx="7929360" cy="4135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 OG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17, 224, 226, and 229</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GRR223, Real Time Production Potential This OGRR needs to stay in sync with PRR811.</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228600" y="152280"/>
            <a:ext cx="87631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GRR217, Relay Misoperation Report Format Change</a:t>
            </a:r>
            <a:endParaRPr b="1" lang="en-US" sz="3200" spc="-1" strike="noStrike">
              <a:solidFill>
                <a:srgbClr val="e5e5ff"/>
              </a:solidFill>
              <a:latin typeface="Garamond"/>
            </a:endParaRPr>
          </a:p>
        </p:txBody>
      </p:sp>
      <p:graphicFrame>
        <p:nvGraphicFramePr>
          <p:cNvPr id="1055" name=""/>
          <p:cNvGraphicFramePr/>
          <p:nvPr/>
        </p:nvGraphicFramePr>
        <p:xfrm>
          <a:off x="457200" y="1370160"/>
          <a:ext cx="8077320" cy="4438440"/>
        </p:xfrm>
        <a:graphic>
          <a:graphicData uri="http://schemas.openxmlformats.org/drawingml/2006/table">
            <a:tbl>
              <a:tblPr/>
              <a:tblGrid>
                <a:gridCol w="2209680"/>
                <a:gridCol w="147816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OGRR changes the format for reporting yearly relay misoperations from a report format to a data form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new report format will help to improve the reliability of the transmission protection syste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new format will help to improve the reliability of the transmission protection syste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WG Decis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the July 27</a:t>
                      </a:r>
                      <a:r>
                        <a:rPr b="1" lang="en-US" sz="1600" spc="-1" strike="noStrike" baseline="30000">
                          <a:solidFill>
                            <a:srgbClr val="ffffff"/>
                          </a:solidFill>
                          <a:latin typeface="Garamond"/>
                        </a:rPr>
                        <a:t>th</a:t>
                      </a:r>
                      <a:r>
                        <a:rPr b="1" lang="en-US" sz="1600" spc="-1" strike="noStrike">
                          <a:solidFill>
                            <a:srgbClr val="ffffff"/>
                          </a:solidFill>
                          <a:latin typeface="Garamond"/>
                        </a:rPr>
                        <a:t> OWG meeting it was recommended for approval as revised by OW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CEO has no opinion on whether or not OGRR217 is 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GRR224, Special Protection System (SPS) Operations Under No Contingency</a:t>
            </a:r>
            <a:endParaRPr b="1" lang="en-US" sz="3200" spc="-1" strike="noStrike">
              <a:solidFill>
                <a:srgbClr val="e5e5ff"/>
              </a:solidFill>
              <a:latin typeface="Garamond"/>
            </a:endParaRPr>
          </a:p>
        </p:txBody>
      </p:sp>
      <p:graphicFrame>
        <p:nvGraphicFramePr>
          <p:cNvPr id="1057" name=""/>
          <p:cNvGraphicFramePr/>
          <p:nvPr/>
        </p:nvGraphicFramePr>
        <p:xfrm>
          <a:off x="533520" y="1752480"/>
          <a:ext cx="8076960" cy="4108680"/>
        </p:xfrm>
        <a:graphic>
          <a:graphicData uri="http://schemas.openxmlformats.org/drawingml/2006/table">
            <a:tbl>
              <a:tblPr/>
              <a:tblGrid>
                <a:gridCol w="2209680"/>
                <a:gridCol w="147780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The OGRR adds additional monitoring and control requirements for Special Protection Systems (SPS) that involve gener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duced Out of Merit Energy (OOME) Dispatch Instruct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ne anticipat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WG Decis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the July 27</a:t>
                      </a:r>
                      <a:r>
                        <a:rPr b="1" lang="en-US" sz="1600" spc="-1" strike="noStrike" baseline="30000">
                          <a:solidFill>
                            <a:srgbClr val="ffffff"/>
                          </a:solidFill>
                          <a:latin typeface="Garamond"/>
                        </a:rPr>
                        <a:t>th</a:t>
                      </a:r>
                      <a:r>
                        <a:rPr b="1" lang="en-US" sz="1600" spc="-1" strike="noStrike">
                          <a:solidFill>
                            <a:srgbClr val="ffffff"/>
                          </a:solidFill>
                          <a:latin typeface="Garamond"/>
                        </a:rPr>
                        <a:t> OWG meeting it was recommended for approval as revised by OW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GRR226, Generation Resource Response Time Requirement</a:t>
            </a:r>
            <a:endParaRPr b="1" lang="en-US" sz="3200" spc="-1" strike="noStrike">
              <a:solidFill>
                <a:srgbClr val="e5e5ff"/>
              </a:solidFill>
              <a:latin typeface="Garamond"/>
            </a:endParaRPr>
          </a:p>
        </p:txBody>
      </p:sp>
      <p:graphicFrame>
        <p:nvGraphicFramePr>
          <p:cNvPr id="1059" name=""/>
          <p:cNvGraphicFramePr/>
          <p:nvPr/>
        </p:nvGraphicFramePr>
        <p:xfrm>
          <a:off x="533520" y="1447920"/>
          <a:ext cx="8076960" cy="5105160"/>
        </p:xfrm>
        <a:graphic>
          <a:graphicData uri="http://schemas.openxmlformats.org/drawingml/2006/table">
            <a:tbl>
              <a:tblPr/>
              <a:tblGrid>
                <a:gridCol w="2209680"/>
                <a:gridCol w="147780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OGRR adds a new Section which documents the response times required by Generation Resource(s) upon receipt of specified  valid instructions from ERCOT or Transmission Service Providers (TSPs) or Distribution Service Providers (DSP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change will improve system reliabil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liability improvements will help all market participants; Generation Resource owners may have increased costs in order to comply with this require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st existing Generation Resources can comply with this requirement now. All new Generation Resources will have negligible costs to compl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WG Decis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the July 27</a:t>
                      </a:r>
                      <a:r>
                        <a:rPr b="1" lang="en-US" sz="1600" spc="-1" strike="noStrike" baseline="30000">
                          <a:solidFill>
                            <a:srgbClr val="ffffff"/>
                          </a:solidFill>
                          <a:latin typeface="Garamond"/>
                        </a:rPr>
                        <a:t>th</a:t>
                      </a:r>
                      <a:r>
                        <a:rPr b="1" lang="en-US" sz="1600" spc="-1" strike="noStrike">
                          <a:solidFill>
                            <a:srgbClr val="ffffff"/>
                          </a:solidFill>
                          <a:latin typeface="Garamond"/>
                        </a:rPr>
                        <a:t> OWG meeting it was recommended for approv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CEO has no opinion on whether or not OGRR217 is 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GRR229, Synchronization with PRR804, </a:t>
            </a:r>
            <a:br>
              <a:rPr sz="3200"/>
            </a:br>
            <a:r>
              <a:rPr b="1" lang="en-US" sz="3200" spc="-1" strike="noStrike">
                <a:solidFill>
                  <a:srgbClr val="e5e5ff"/>
                </a:solidFill>
                <a:latin typeface="Garamond"/>
              </a:rPr>
              <a:t>Revision to Section 21 Appeal Process</a:t>
            </a:r>
            <a:endParaRPr b="1" lang="en-US" sz="3200" spc="-1" strike="noStrike">
              <a:solidFill>
                <a:srgbClr val="e5e5ff"/>
              </a:solidFill>
              <a:latin typeface="Garamond"/>
            </a:endParaRPr>
          </a:p>
        </p:txBody>
      </p:sp>
      <p:graphicFrame>
        <p:nvGraphicFramePr>
          <p:cNvPr id="1061" name=""/>
          <p:cNvGraphicFramePr/>
          <p:nvPr/>
        </p:nvGraphicFramePr>
        <p:xfrm>
          <a:off x="533520" y="1692360"/>
          <a:ext cx="8076960" cy="4479840"/>
        </p:xfrm>
        <a:graphic>
          <a:graphicData uri="http://schemas.openxmlformats.org/drawingml/2006/table">
            <a:tbl>
              <a:tblPr/>
              <a:tblGrid>
                <a:gridCol w="2209680"/>
                <a:gridCol w="147780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OGRR revises Section 1.3, to provide that if a motion to approve request fails, the revision request shall be deemed rejected by the body considering it and subject to appeal, unless at the same meeting that body later votes to recommend approval, remand, or refer the revision reques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urther definition regarding what an appealable event is and clarity to the OGRR proc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WG Decis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the July 27</a:t>
                      </a:r>
                      <a:r>
                        <a:rPr b="1" lang="en-US" sz="1600" spc="-1" strike="noStrike" baseline="30000">
                          <a:solidFill>
                            <a:srgbClr val="ffffff"/>
                          </a:solidFill>
                          <a:latin typeface="Garamond"/>
                        </a:rPr>
                        <a:t>th</a:t>
                      </a:r>
                      <a:r>
                        <a:rPr b="1" lang="en-US" sz="1600" spc="-1" strike="noStrike">
                          <a:solidFill>
                            <a:srgbClr val="ffffff"/>
                          </a:solidFill>
                          <a:latin typeface="Garamond"/>
                        </a:rPr>
                        <a:t> OWG meeting it was recommended for approv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fowens</cp:lastModifiedBy>
  <dcterms:modified xsi:type="dcterms:W3CDTF">2009-08-12T19:20:35Z</dcterms:modified>
  <cp:revision>419</cp:revision>
  <dc:subject/>
  <dc:title>Protocol Revision Subcommittee</dc:title>
</cp:coreProperties>
</file>