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1474-32FE-4552-8622-380283EED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42F-6E3F-457C-9BA7-214E98FE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FBA-D971-4519-B792-EBE00C83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BF6B-490B-4B16-A2AF-AC70A48F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DE60-5B6D-4F42-BECE-E80A0314E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5859-7CF1-47F7-890B-7F19551419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B8BC-91F7-4A4F-B8D3-63B0A9E767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7138-819B-4C4A-A84A-7E8BC8EC3E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98E8-D9AE-4F38-923D-F1659A183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2F44-F82A-4876-B017-606589A606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E641-4C2A-4372-96EE-50F47F3D524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E66B-4BF5-41FE-96B4-0DF576976C9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3576-2321-4CB6-99C8-46DF630C042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11B5-7E79-46BF-8F98-63F547AC519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75F6-9B80-42EF-95BD-5693C95B41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DBD9-5E5F-48BA-A87C-D30A83E9D0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3EC4-5ED1-4FFA-BFCE-EED4F80950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A16D-EB71-4C83-A29E-7F3CD424F7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661D-FB36-4400-9296-FDBB3BBDF2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CD08-8165-42ED-A759-B4CF19FA59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C4E8-B84C-41DA-AF31-D599787808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17B0-70BC-40BC-A1CF-C15AEB32FF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1265-0147-48DE-B225-9DD0F59D73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4317-C8FC-4828-92A9-00B852BB62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F5CD-9AD8-4FEF-B6AE-668F1628C7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A9D4-6D50-4B70-8258-9AD9A9E3B8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4693-8DB2-43C6-A642-35055F74D2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1050-6E00-4582-977D-BF5F286295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1D74-4686-42B5-A21F-4B5ACE3C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5B522C-9092-4256-BD8D-1BB40674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C0BEE2-2AB7-4549-B1D7-4FF893CB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05EF65-C968-4258-8863-FB2D2227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FD6B80-4715-48B4-ADB3-A261FC0D9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5F0003-9297-4AB5-A693-404BA845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AAEF9B-5F95-44B5-A47E-B95CC56A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479EB0-59EE-4578-A216-B55ABD78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61E92E-3D1E-4885-89C4-EA74687B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2428B3-C78A-4C04-9206-E4248E93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1051DD-8D93-4C2A-859B-043ADE72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E47C58-7F6C-41FA-BC14-1FDB1D40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F7E18B-FB87-4EEF-BF11-BBC390FF4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55AFF8-3014-47D8-BB0F-D0488F04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7A44F1-6FC0-4E07-8D9D-E2D708DC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343D07-3B1D-4FBD-B3D8-42EDCAA1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6FBD6C-DA53-43DD-B762-520CD7AC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0BC077-7B2F-424A-89C0-400B9CED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E0E-82B3-4BAB-8395-D4C68B41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A8AEBF-0BFD-4884-B4BD-0C668F3F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291FF3-EE83-4840-8083-07E4F4A4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3ECFFD-B53D-4882-86F7-DC2BDADC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8D8D12-DF41-4A8A-AA93-5770F926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B0DB78-4C4F-4E1D-809B-76DCF574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2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1BF925-CAD4-4389-9B14-00087D2F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August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ugust 12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8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volution of 2010 Project Priority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4" name="Picture 4" descr="2010 PPL Approval Timeline.jpg"/>
          <p:cNvPicPr/>
          <p:nvPr/>
        </p:nvPicPr>
        <p:blipFill>
          <a:blip r:embed="rId1"/>
          <a:stretch/>
        </p:blipFill>
        <p:spPr>
          <a:xfrm>
            <a:off x="422280" y="1066680"/>
            <a:ext cx="8340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–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delivery is the focus of the organization in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al projects are limited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projects already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ay 1, 2010, production and testing environments will be locked down to reduce risk during the months preceding Nodal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constraints between Nodal and other efforts must be limited as much a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ject added by TAC on 8/6/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805 – Add AMS Meter Flag to Database Query Function on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0k Retail Operation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- Funding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R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 2009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2010 PPL as endorsed by TAC on 08/06/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2" name="Object 3188"/>
          <p:cNvGraphicFramePr/>
          <p:nvPr/>
        </p:nvGraphicFramePr>
        <p:xfrm>
          <a:off x="536400" y="782640"/>
          <a:ext cx="8298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782640"/>
                    <a:ext cx="8298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57200" y="327672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– Gated to Execution on June 30,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Object 3188"/>
          <p:cNvGraphicFramePr/>
          <p:nvPr/>
        </p:nvGraphicFramePr>
        <p:xfrm>
          <a:off x="380880" y="858960"/>
          <a:ext cx="8490240" cy="21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58960"/>
                    <a:ext cx="8490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3188"/>
          <p:cNvGraphicFramePr/>
          <p:nvPr/>
        </p:nvGraphicFramePr>
        <p:xfrm>
          <a:off x="457200" y="1143000"/>
          <a:ext cx="8496360" cy="121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2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496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TextBox 5"/>
          <p:cNvSpPr/>
          <p:nvPr/>
        </p:nvSpPr>
        <p:spPr>
          <a:xfrm>
            <a:off x="479520" y="2666880"/>
            <a:ext cx="55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24_01 – Initiated on June 5 and gated to Planning on June 29, 2009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On Hol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5" name="Object 3188"/>
          <p:cNvGraphicFramePr/>
          <p:nvPr/>
        </p:nvGraphicFramePr>
        <p:xfrm>
          <a:off x="152280" y="1011240"/>
          <a:ext cx="8856720" cy="15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6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1240"/>
                    <a:ext cx="88567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8" name="Object 3188"/>
          <p:cNvGraphicFramePr/>
          <p:nvPr/>
        </p:nvGraphicFramePr>
        <p:xfrm>
          <a:off x="457200" y="1120680"/>
          <a:ext cx="835488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9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0680"/>
                    <a:ext cx="8354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8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09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0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7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 Priority List – TAC Endor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8-10T19:21:47Z</dcterms:modified>
  <cp:revision>555</cp:revision>
  <dc:subject/>
  <dc:title>Role of Account Management at ERCOT</dc:title>
</cp:coreProperties>
</file>