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3563-6B4F-4303-A205-AF36E05D6F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5D2-A23C-4E99-A968-50A95406B6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B85-82B3-475B-BEA3-B47FE47342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EAB-D68D-4351-8F5E-24D9E7BFED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2356-1052-43F8-9321-2E586D05D2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DD31-BE2D-4E96-BD26-2DAC01AB73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BE4-6819-4715-B378-73509F4A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F04-AE1B-4D1C-B259-9083BC2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754-80C8-454C-9434-97DE737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09D-19C0-4D1D-99FC-45A6CF87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6F0-046D-4749-B3FF-22256D34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4388-3E96-4863-9E62-939CECAA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9D6-B9A6-48DE-ACD0-EC05FB1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09C-C3ED-42A0-BA43-4257D1E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B6C6-A3A3-4370-A553-F0B6A22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0763-4CAE-4265-B031-153101A0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0808-F94E-4C7A-911D-29AFFD0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53D-C4E8-45BF-AF18-B9B5C0D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8C93-1865-4FAE-A9D1-F0246D7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EF9-7392-4F69-AB0C-0DA9B5B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8E7-C80C-438A-A902-63CFC634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57D9-B5B8-401F-BA27-122FEA8A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1151-70B3-46BB-B289-284927A1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084-CBC4-497D-94FE-DA22E92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50C-1211-41C5-BD0A-45B37C1B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792-ABD0-4323-95EA-5F86B24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A65-5F88-4086-A996-8E6A4EA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AA3-1854-4763-884C-5DB8AEC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A9A-F3A2-41DC-BF89-86017ED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4EF-3875-408B-8495-878A622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96E9-40E4-4DDE-B4CB-1937E1CE35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37A1-3CA5-457E-9B39-1969F58CC1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09900"/>
                  </a:outerShdw>
                </a:effectLst>
                <a:latin typeface="Cambria"/>
              </a:rPr>
              <a:t>TAC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1143000" y="34290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Cambria"/>
              </a:rPr>
              <a:t>August 2009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4d6be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otocol Revision Request (PRR) (Vote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812, Wind Generator Forecast Scheduling (formerly, "Wind Generator Forecast for Scheduling Metric") - Appr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814, NOx Emissions Allowance Index Price - Urgent - Appr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816, CRE Determination Criteria - Urgent - Appr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819, Changes to Support Revisions to the PUCT POLR and Expedited Switch Rules - Urgent - Appr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820, Definition for Transmission and/or Distribution Service Provider - Urgent - Appr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00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874880"/>
            <a:ext cx="822960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ffbf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Nodal Protocol Revision Request (NPRR) (Vote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Cambria"/>
              </a:rPr>
              <a:t>NPRR174, FIP Modifications in Verifiable Startup and Minimum Energy Cost and Recovery of Exceptional Fuel Costs During RUC Intervals – Tabled</a:t>
            </a:r>
            <a:r>
              <a:rPr b="1" lang="en-US" sz="1800" spc="-1" strike="noStrike">
                <a:solidFill>
                  <a:srgbClr val="80808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76, Resource Status Input to RUC and Ancillary Service Awards from RUC 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77, Synchronization of Nodal Protocols with PRR808, Clean-up and Alignment of RECs Trading Program Language with PUCT Rules 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78, Regulation Reduction (GS-FR3) and Reg-Up/Reg-Down Allocation to QSEs 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80, Reconciliation of CRR Related Protocol Language 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82, Non-Protocol Postings on the Market Information System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PRR187, Definition for Transmission and/or Distribution Service Provider - Appro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00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9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RMS-Updat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PRR 805: AMS Indicator and POLR Customer Clas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TAC re-approved PRR805 with the addition of a “POLR Customer Class” definition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ERCOT’s projected timeline to implement AMS Flag is 3 months, tentatively scheduled to start in January 2010.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RMGRR076 : Synchronization of Retail Market Guide with PRR804, Revisions to Section 21 Appeal Proces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RMGRR079: Changes to Support Revisions to the PUCT POLR and Expedited Switch Rules 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Approved with MarkeTrak Task Force additional comments on the RMGRR07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00"/>
                  </a:outerShdw>
                </a:effectLst>
                <a:latin typeface="Cambria"/>
              </a:rPr>
              <a:t>Subcommittee Upd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9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2010 Project Priority List was approved by TA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05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1066680" y="3808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9900"/>
                  </a:outerShdw>
                </a:effectLst>
                <a:latin typeface="Cambria"/>
              </a:rPr>
              <a:t>Other Business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9900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08-11T00:14:18Z</dcterms:modified>
  <cp:revision>36</cp:revision>
  <dc:subject/>
  <dc:title>R.M.S UPDATE</dc:title>
</cp:coreProperties>
</file>