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4322CE3-66CD-482B-B4D8-86D9F7F9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296FCEA-01B0-43C9-8F79-1BD56273B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BC30EE1-4E59-4CFA-A3F9-DD57982C5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E4C06F9-A4A6-4D31-B65B-70CBE49F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62F5C0-8DD0-4D17-81F5-BEAD8A8AC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519DB95-98AD-41EA-BDBC-B7842F837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F24153-8D4A-448B-95B8-48CF37BCC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D8F95EC-3481-4F13-B3E4-8E3156FE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5C7-27EF-4FE5-9B55-F7D88E9F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DB9-154A-4F5A-9C7B-95EEB472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338-B89B-4034-9669-89502FDD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A3A-B124-407C-8DEC-C3D72729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A02-ED32-4C22-AB05-94E1A1DC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20E-0463-4195-A439-2D19641A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41F-CE79-4E03-8AE5-F69CA28C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4D5-A71F-4CF0-AB96-2DA6EF2D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119-AB51-475C-A5CF-E2CB997B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6A4-1058-4518-B5F4-9FFC70D5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C21-4A3F-46CD-80CE-41B38122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477-AF6D-49F4-9487-548B968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341A-B908-442A-8249-4C5400FEE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97BC-9431-46AC-92E2-00676725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505320" y="57895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. 12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D0BC-42CE-43A2-8403-C5E5527C1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ed ERCOT System Outages and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ed ERCOT Exemption Request for Aug 22/23 Maintenance window and RMS accepted with modification as to start time and stop time (36 hou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ed Retail Service Level 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ed AMIT LSE file interim sol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0211-8A14-4701-A945-EEA396B5A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y Felton reviewed the summary and detail pages of the incident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ef update on Aug 2 maintenance outage, and 72 minute overage due to batch processing requirements (not on current incident l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ERCOT Exemption Request for Aug 22/23 Maintenanc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TWG recommends that RMS approve the additional outage exception requested by ERCOT, outage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only approved shifting the window to start early, 06:00 AM Saturday, August 22 to 06:00 PM August 23. Change to start and end times (4th weekend; 36 hr maintenance outage windo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A879-8B26-4303-8F40-8774E4BE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Retail Service Level 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2010 SLA will be reviewed at 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L and MarkeTrak were above 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SLA presentation posted to TDTWG 8/05/09 me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ed AMIT LSE file size for Short Term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Farley discussed preliminary findings of optimal LSE file size for interim solution for submitting AMI settlement data to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E Flat file and format validation was tested in DEV environment with one T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include testing with additional TDSP for format and validation in the DE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932B-448D-4A0E-9614-1025CB126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9-08-07T19:12:48Z</dcterms:modified>
  <cp:revision>596</cp:revision>
  <dc:subject/>
  <dc:title>PowerPoint Presentation</dc:title>
</cp:coreProperties>
</file>