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C510-20E7-415D-A906-FD57EEF1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B576-F842-4572-BC56-95C80B9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B913-3843-4B4A-A485-B3C0DE7C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9BDF-BCDA-4EBF-920F-0F01B560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07E0-6F3A-42EC-9E76-47E2A358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26F5-B212-45C7-9225-056B4B3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3FE3-9FA2-4A68-99D9-DE7D7F9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C760-CEA6-49D1-B390-D380D489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8E1-5514-4883-A01B-8198718B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3DDA-9F0D-45A4-8A34-7D14A26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A5CF-D790-4856-86EE-07FBD8C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390A-5927-4C9F-ADA2-E04F2CC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D822-9556-4A68-8993-C9131161C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2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12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complete for Flight 0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338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New CRs (includes 2 Additional DU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additional territory added by an existing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hange of service provider by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ank change by an existing C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ignup begins 09/02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09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15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2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10/05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17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8-06T12:32:18Z</dcterms:modified>
  <cp:revision>116</cp:revision>
  <dc:subject/>
  <dc:title>Instructions</dc:title>
</cp:coreProperties>
</file>