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wmf" ContentType="image/x-wmf"/>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move the slide</a:t>
            </a:r>
            <a:endParaRPr b="1" lang="en-US" sz="4100" spc="-1" strike="noStrike">
              <a:solidFill>
                <a:srgbClr val="676a55"/>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D901-2C11-4F44-A86E-5DF16C27FC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38D8-53F9-46FE-8D71-9FCD980D26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7938-BF94-437B-94AB-F5625CD912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A8BB-5B06-48BD-B024-F68F36560B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D4BDC-4F44-4195-BB85-B581262DC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4A343-AAF3-4671-94FF-D60BEAFEA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E12AF-4009-4622-8CD2-E8B1BAFFE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D0F1C-C032-4447-A86B-9351D484B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11B5A-8A29-45EF-848F-FAA68684C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1CCFA-2B1A-4A63-BBCA-97011943E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23E35-7BB9-421B-A2BF-DAB7BCD77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508BC-0CD9-4B81-B0A6-BA13E11A4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A5951-A510-4978-8246-A4DAE7807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2C1A5-7C42-4A2D-BAB0-EB52EB431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6043-8BB1-47CB-A937-66EF7938D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96523-1B4E-4E15-A48F-03D765455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9C12C-A05D-4AD0-A358-9E38FBAED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5E3F8-0B20-4FA5-BCC0-9CCB96043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72AB9-BB37-4343-8F26-41FB5BF47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10C2B-1A2F-4352-8FB8-49A360152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4AA5C-DC2F-4FF5-8F55-ED590F8BE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E52A88-B3F6-4CF3-99FF-FB29A2B0B1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EBC10E-280C-4334-902D-671A367BE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6402A-621B-4AB4-AEE9-3D2E0015E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6D55E4-1DD8-47D0-A107-24D13C4A70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CF265F-5BC9-4D90-8D03-321568FA0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6EA18-3E6F-4F50-814F-40247E10C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0F4C53-18A6-4A1B-9B76-6039C099FD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7B5B0-3C25-4A49-AF2F-2D1EC7F2D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0657B-5AC7-4E29-BB87-AEBEFE2AA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17CFC-20FA-4B5E-AAFB-51E7450CA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9FE88-7C07-4ECB-8ABF-B3B300D20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221B8E-3C70-468E-A304-2271B675B7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30431A-D9DE-4473-B35E-6CE024D4C1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E26EB3-7432-4DBF-9BE7-E669E93F36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61A9B3-D142-4AD1-ACC7-76AD6D9E3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A577E5-B35F-444D-9714-D8AE26018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F737F-62A4-4C84-AA5B-63893B740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8E9D70-20F3-4038-891B-3BCF87677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50142E-5E78-46C7-8FEC-312E575536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355E2-D865-4FF1-94E4-39311B43A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848D47-C00D-4E19-B42A-64E90EAD9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FC30D-D561-4AE1-A930-A9245E07D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329B7-339C-4861-98C4-D82BE0B68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D00FD-C30A-4639-8097-C37F2EEF1C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224A3D-607A-483A-AE77-FB31B529DF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4831C8-203C-422A-B211-00F26A8541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103CDD-FB77-4189-8C45-2AF57D9DFB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E7A2B-59D4-4129-8F8B-3BDFAD7EC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1F47FD-D25C-4F11-8AE1-4407190943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D2B50B-3339-4801-9DC5-F34396D63B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687118-D67D-459C-80C7-E11EBA5F0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F156B9-2FBF-40C8-82BF-CE764B60DE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09ED3A-D319-45EE-ACD8-29750C96D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09040-AE3A-475B-A7E7-CA1200724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5CA1F-E5F2-47BF-AA36-45D6F260F9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A91CF-0C43-40F4-8B85-12963C5DE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18C7AD-DA4A-47C0-BC88-35670BE085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8F421A-A949-4531-B4F2-B1E902911F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5D926-472A-49DC-9F15-4EFC121CB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C1B578-C7BC-4580-94C4-3F6D252F40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74D4E7-A9A7-4301-93C9-428E9734C3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4FFDF5-CB1A-473E-B716-CF9F15633B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45F175-8D0F-416D-8830-DFBCDE8F0A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819CF3-CCE4-4BC2-9AEB-B0D4AC2276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F962D-D908-4560-93D2-B18F015983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8D77C4-0F2A-4FE1-9B9C-9E05678033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67005B-DE43-42C8-BED4-49858CAEFC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4B1F27-08DF-4967-8C90-ADEECF379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F6FBB-C8CE-49D4-98A0-0CC755AE8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6D5FF-E44C-4A86-ADEA-63BBB116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0D7E16-30E1-4CAF-86B1-0B40E628A5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803F2F-BB61-494C-9E1C-02B36A17B6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7840D0-F8F7-44A0-AC67-E25F79244C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B6EC5A-7043-4907-A67B-1879780020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A7E9FB-26B8-4F8D-92DD-C604A7DDAA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AA2E39-0B1F-42BE-8B02-13844A2250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599DB5-89B5-448D-ACCA-01714B2144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5C9D1A-3931-417D-9733-B1EC6A0BF7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7A911E-EB92-4A1C-A502-B6639722C8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7749B6-C5B6-4EA9-B30B-FC06AA9D2B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952B-A38B-4C6F-A640-2584E371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26277-B8F9-42B3-956E-A67670A4BF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D86FAC-1DB3-494F-96E5-C2E60ABEF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C7D6B9-E45B-4D5B-AFAC-A14E5C9E2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DFBD46-3975-469F-B700-E919BF669D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B14605-4097-45AA-8BCF-FD79C36D80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68DFFC-2879-46CC-B3C3-EA69EB02A4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A4D508-0C64-4479-AA14-A775528671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684550-6E9F-489E-8AB2-E1E4D6B79D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140599-2693-47B8-A03E-B4C6936EA3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76F99A-1C76-4855-A617-2762C82F48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E4B55-81A9-4386-BC1A-F4F42ACBC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1EA849-15BB-4A86-9775-83236B6A3C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15394-D14D-4FB7-AFF0-EC6E49D7D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EAB408-11C8-4BE4-A08C-64C71C339E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818025-36E4-4D71-A490-2022293BC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057C57-25BB-40B3-9DE3-254F1008BC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0213E2-6E22-4884-B5AA-D602677B69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77F03E-ACFF-473D-8C32-22AD6A1E484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4EE7-88D6-4889-A2FF-B90EE61758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3a6f3e"/>
              </a:gs>
              <a:gs pos="50000">
                <a:srgbClr val="80b984"/>
              </a:gs>
              <a:gs pos="100000">
                <a:srgbClr val="3a6f3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CDF8-5E3A-46BF-86AA-4ADDED005F6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BD20-410D-43FE-A18B-A0920899F0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4B1A-BDE7-483F-86AD-42E683AA34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EC61-3658-43A9-AD66-8473B160B4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C837-B328-4F8E-B630-873959BAFB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8069-C416-4AD9-B745-136167B13F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BF09-093F-41DB-BE2F-848386A684B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rcot.com/services/client_svcs/mktrk_info/"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92160" y="1749600"/>
            <a:ext cx="9016920" cy="1231560"/>
          </a:xfrm>
          <a:prstGeom prst="rect">
            <a:avLst/>
          </a:prstGeom>
          <a:ln w="0">
            <a:noFill/>
          </a:ln>
        </p:spPr>
      </p:pic>
      <p:sp>
        <p:nvSpPr>
          <p:cNvPr id="378" name="PlaceHolder 1"/>
          <p:cNvSpPr>
            <a:spLocks noGrp="1"/>
          </p:cNvSpPr>
          <p:nvPr>
            <p:ph type="subTitle"/>
          </p:nvPr>
        </p:nvSpPr>
        <p:spPr>
          <a:xfrm>
            <a:off x="685800" y="3428640"/>
            <a:ext cx="7772400" cy="1382760"/>
          </a:xfrm>
          <a:prstGeom prst="rect">
            <a:avLst/>
          </a:prstGeom>
          <a:noFill/>
          <a:ln w="0">
            <a:noFill/>
          </a:ln>
        </p:spPr>
        <p:txBody>
          <a:bodyPr lIns="45720" rIns="45720" anchor="t">
            <a:noAutofit/>
          </a:bodyPr>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Update to RMS</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August 12, 2009</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 </a:t>
            </a:r>
            <a:endParaRPr b="0" lang="en-US" sz="2400" spc="-1" strike="noStrike">
              <a:solidFill>
                <a:srgbClr val="000000"/>
              </a:solidFill>
              <a:latin typeface="Lucida Sans Unicode"/>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Taskforce meeting was held July 23, 2009. </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Tahoma"/>
              </a:rPr>
              <a:t>Task Force made revisions to the MarkeTrak User Guide to support the upcoming Expedited Switch Rule</a:t>
            </a:r>
            <a:endParaRPr b="0" lang="en-US" sz="2100" spc="-1" strike="noStrike">
              <a:solidFill>
                <a:srgbClr val="000000"/>
              </a:solidFill>
              <a:latin typeface="Lucida Sans Unicode"/>
            </a:endParaRPr>
          </a:p>
          <a:p>
            <a:pPr lvl="1" marL="6206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termined all enhancement suggestions for MarkeTrak Phase III should be submitted by March 31, 2010</a:t>
            </a:r>
            <a:endParaRPr b="0" lang="en-US" sz="2000" spc="-1" strike="noStrike">
              <a:solidFill>
                <a:srgbClr val="000000"/>
              </a:solidFill>
              <a:latin typeface="Lucida Sans Unicode"/>
            </a:endParaRPr>
          </a:p>
        </p:txBody>
      </p:sp>
      <p:pic>
        <p:nvPicPr>
          <p:cNvPr id="380" name="Rectangle 2" descr=""/>
          <p:cNvPicPr/>
          <p:nvPr/>
        </p:nvPicPr>
        <p:blipFill>
          <a:blip r:embed="rId1"/>
          <a:stretch/>
        </p:blipFill>
        <p:spPr>
          <a:xfrm>
            <a:off x="457200" y="282600"/>
            <a:ext cx="8229600" cy="1125360"/>
          </a:xfrm>
          <a:prstGeom prst="rect">
            <a:avLst/>
          </a:prstGeom>
          <a:ln w="0">
            <a:noFill/>
          </a:ln>
        </p:spPr>
      </p:pic>
      <p:sp>
        <p:nvSpPr>
          <p:cNvPr id="381" name=""/>
          <p:cNvSpPr/>
          <p:nvPr/>
        </p:nvSpPr>
        <p:spPr>
          <a:xfrm>
            <a:off x="228600" y="1371600"/>
            <a:ext cx="685800" cy="609480"/>
          </a:xfrm>
          <a:prstGeom prst="star5">
            <a:avLst/>
          </a:prstGeom>
          <a:solidFill>
            <a:srgbClr val="72a37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2" name=""/>
          <p:cNvSpPr/>
          <p:nvPr/>
        </p:nvSpPr>
        <p:spPr>
          <a:xfrm>
            <a:off x="304920" y="3124080"/>
            <a:ext cx="761760" cy="609840"/>
          </a:xfrm>
          <a:prstGeom prst="star5">
            <a:avLst/>
          </a:prstGeom>
          <a:solidFill>
            <a:srgbClr val="72a37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ceived a recommendation to review the current enhancements and determine which enhancements required a TIBCO change vs. a Non-TIBCO change.</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fter much discussion, it was decided to delay the review of the enhancements until Expedited Switch, POLR, AMS and load profiles for AMS were implemented into the market.   This will enable any necessary changes or enhancements to be incorporated all at one time to the tool.</a:t>
            </a:r>
            <a:endParaRPr b="0" lang="en-US" sz="2000" spc="-1" strike="noStrike">
              <a:solidFill>
                <a:srgbClr val="000000"/>
              </a:solidFill>
              <a:latin typeface="Lucida Sans Unicode"/>
            </a:endParaRPr>
          </a:p>
        </p:txBody>
      </p:sp>
      <p:pic>
        <p:nvPicPr>
          <p:cNvPr id="384" name="Rectangle 2" descr=""/>
          <p:cNvPicPr/>
          <p:nvPr/>
        </p:nvPicPr>
        <p:blipFill>
          <a:blip r:embed="rId1"/>
          <a:stretch/>
        </p:blipFill>
        <p:spPr>
          <a:xfrm>
            <a:off x="457200" y="282600"/>
            <a:ext cx="8229600" cy="1125360"/>
          </a:xfrm>
          <a:prstGeom prst="rect">
            <a:avLst/>
          </a:prstGeom>
          <a:ln w="0">
            <a:noFill/>
          </a:ln>
        </p:spPr>
      </p:pic>
      <p:sp>
        <p:nvSpPr>
          <p:cNvPr id="385" name=""/>
          <p:cNvSpPr/>
          <p:nvPr/>
        </p:nvSpPr>
        <p:spPr>
          <a:xfrm>
            <a:off x="457200" y="2286000"/>
            <a:ext cx="685800" cy="609480"/>
          </a:xfrm>
          <a:prstGeom prst="star5">
            <a:avLst/>
          </a:prstGeom>
          <a:solidFill>
            <a:srgbClr val="72a37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6" name=""/>
          <p:cNvSpPr/>
          <p:nvPr/>
        </p:nvSpPr>
        <p:spPr>
          <a:xfrm>
            <a:off x="228600" y="4495680"/>
            <a:ext cx="657360" cy="685800"/>
          </a:xfrm>
          <a:prstGeom prst="star5">
            <a:avLst/>
          </a:prstGeom>
          <a:solidFill>
            <a:srgbClr val="72a37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CR756-”Enhancements to the MarkeTrak Application”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as been recommended to table at RMS at this time until the “Parking Deck” is set up.</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8" name="Rectangle 2" descr=""/>
          <p:cNvPicPr/>
          <p:nvPr/>
        </p:nvPicPr>
        <p:blipFill>
          <a:blip r:embed="rId1"/>
          <a:stretch/>
        </p:blipFill>
        <p:spPr>
          <a:xfrm>
            <a:off x="457200" y="282600"/>
            <a:ext cx="8229600" cy="1125360"/>
          </a:xfrm>
          <a:prstGeom prst="rect">
            <a:avLst/>
          </a:prstGeom>
          <a:ln w="0">
            <a:noFill/>
          </a:ln>
        </p:spPr>
      </p:pic>
      <p:sp>
        <p:nvSpPr>
          <p:cNvPr id="389" name=""/>
          <p:cNvSpPr/>
          <p:nvPr/>
        </p:nvSpPr>
        <p:spPr>
          <a:xfrm>
            <a:off x="380880" y="1905120"/>
            <a:ext cx="457200" cy="333360"/>
          </a:xfrm>
          <a:custGeom>
            <a:avLst/>
            <a:gdLst>
              <a:gd name="textAreaLeft" fmla="*/ 0 w 457200"/>
              <a:gd name="textAreaRight" fmla="*/ 457560 w 457200"/>
              <a:gd name="textAreaTop" fmla="*/ 0 h 333360"/>
              <a:gd name="textAreaBottom" fmla="*/ 333720 h 333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2a37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066320"/>
            <a:ext cx="8229600" cy="494028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b5353"/>
                </a:solidFill>
                <a:uFillTx/>
                <a:latin typeface="Lucida Sans Unicode"/>
                <a:hlinkClick r:id="rId1"/>
              </a:rPr>
              <a:t>http://www.ercot.com/services/client_svcs/mktrk_info/</a:t>
            </a: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r Guide</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ulk Insert Template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Workflow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Tips and Trick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API WSDL/XSD</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lso direct link from MarkeTrak tool</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1" name="Title 2" descr=""/>
          <p:cNvPicPr/>
          <p:nvPr/>
        </p:nvPicPr>
        <p:blipFill>
          <a:blip r:embed="rId2"/>
          <a:stretch/>
        </p:blipFill>
        <p:spPr>
          <a:xfrm>
            <a:off x="195120" y="219240"/>
            <a:ext cx="8498160" cy="93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4" descr="MCj04042630000[1]"/>
          <p:cNvPicPr/>
          <p:nvPr/>
        </p:nvPicPr>
        <p:blipFill>
          <a:blip r:embed="rId1"/>
          <a:stretch/>
        </p:blipFill>
        <p:spPr>
          <a:xfrm>
            <a:off x="3652920" y="2897280"/>
            <a:ext cx="1838160" cy="1695240"/>
          </a:xfrm>
          <a:prstGeom prst="rect">
            <a:avLst/>
          </a:prstGeom>
          <a:ln w="0">
            <a:noFill/>
          </a:ln>
        </p:spPr>
      </p:pic>
      <p:pic>
        <p:nvPicPr>
          <p:cNvPr id="393" name="Rectang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9:55:41Z</dcterms:created>
  <dc:creator>00015621</dc:creator>
  <dc:description/>
  <dc:language>en-US</dc:language>
  <cp:lastModifiedBy>Reliant</cp:lastModifiedBy>
  <dcterms:modified xsi:type="dcterms:W3CDTF">2009-08-11T17:11:57Z</dcterms:modified>
  <cp:revision>479</cp:revision>
  <dc:subject/>
  <dc:title>MarkeTrak Task Force</dc:title>
</cp:coreProperties>
</file>