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A6D0-0A62-48ED-B2BB-3EED4CA3C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5BC2-D1A4-462C-83AB-08C45ED85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2CEA-1348-4766-8BD7-534226A12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F2B8-D4A7-4858-AA7E-20AEDF480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6F8E2F-50FF-45F4-8B50-9A1001BB0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3847EC-0BAF-48FC-84C5-02370BD02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7419F6-961D-4592-953D-2B1D3667C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72DD13-8773-473B-848E-E363C350E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2E4930-0E7F-4E02-A130-E9F982DEF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404803-3EE9-4B74-8354-68D4980BD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E3A6F6-1814-49FA-8C98-5C112AA0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2C5C-3945-4BAC-9C4C-111974998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8A40FB-5C37-4230-BCFD-1E8FA885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1CE363-E4DE-42A4-A373-4A915FA4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8CDFD0-8FBD-4DB5-8B81-4B2C326C0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2521B3-5B53-446B-A703-BC21A5B9A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AE1CA4-EF26-4233-94E3-7DD35260F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1861-D288-4C1A-8919-D825304BE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BDF4-A3D0-4E01-8C24-051827EBD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861E-4384-4100-98E6-4A4D91B65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3AE3-544D-447A-B24E-7E9C741F7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4EEC-DF2D-42C3-AB13-B592C74E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57E6-0F92-4E39-9D14-E3204CEA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8CCD-1748-4897-9202-3B3087D3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E82B2-965D-4060-BD13-E1BF3587D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89EA9-23AC-4DCD-B42A-D385832D6CF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8D22C-08E2-4C12-8056-24F6804634E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Arial"/>
              </a:rPr>
              <a:t>TX SET </a:t>
            </a:r>
            <a:br>
              <a:rPr sz="5400"/>
            </a:br>
            <a:r>
              <a:rPr b="0" lang="en-US" sz="5400" spc="-1" strike="noStrike">
                <a:solidFill>
                  <a:srgbClr val="000066"/>
                </a:solidFill>
                <a:latin typeface="Arial"/>
              </a:rPr>
              <a:t>Update to RM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ugust 12, 200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57CF1-2E49-4348-97EC-A624FAE068A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Issues Under Review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087 – PUCT Substantive Rule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§25.493 (e) states that ERCOT “shall develop procedures to facilitate the expeditious transfer of large numbers of customers from one REP to another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Next Step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Texas SET developing procedures for Long-term Solu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Tabled until implementation of Expedited Switch and POLR as to not interfere with those chang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FA44E-0B1A-4E7C-8D45-3990A55D1E3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Issues Under Review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099 – 814_27 Containing REF~IP~HUU does not close the Business Process at ERCO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Next Step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ERCOT to review possible solutions and bring recommendation back to Texas 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RMGRR Activ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44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RMGRR 079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– Changes to support revisions to the PUCT POLR and Expedited Switch Ru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Urgent Timelin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Next Step: R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D987B-63CB-4201-96FB-F279AEBDC3A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PRR Activ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PRR 805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– Adding POLR Customer Class and AMS Meter Flag to the Database Query Function on the M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Normal Timelin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Next Step: Remanded to TA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349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PRR 819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– Changes to support revisions to the PUCT POLR and Expedited Switch ru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Normal Timeline (at this time but will be requesting urgency at PR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Next Step: TA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2D288-9824-4A64-9A88-73EB71A55F9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70C5B-5C6D-49F6-B251-B915181703C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The next TX SET meeting </a:t>
            </a:r>
            <a:br>
              <a:rPr sz="3600"/>
            </a:b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will be August 24</a:t>
            </a:r>
            <a:r>
              <a:rPr b="0" lang="en-US" sz="3600" spc="-1" strike="noStrike" baseline="30000">
                <a:solidFill>
                  <a:srgbClr val="000066"/>
                </a:solidFill>
                <a:latin typeface="Tahoma"/>
              </a:rPr>
              <a:t>th</a:t>
            </a: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 and 25</a:t>
            </a:r>
            <a:r>
              <a:rPr b="0" lang="en-US" sz="3600" spc="-1" strike="noStrike" baseline="30000">
                <a:solidFill>
                  <a:srgbClr val="000066"/>
                </a:solidFill>
                <a:latin typeface="Tahoma"/>
              </a:rPr>
              <a:t>th</a:t>
            </a: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at ERCOT Met Center </a:t>
            </a:r>
            <a:br>
              <a:rPr sz="3600"/>
            </a:br>
            <a:br>
              <a:rPr sz="6000"/>
            </a:b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Any question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7:54:20Z</dcterms:created>
  <dc:creator>rbevill</dc:creator>
  <dc:description/>
  <dc:language>en-US</dc:language>
  <cp:lastModifiedBy>jfrederick</cp:lastModifiedBy>
  <dcterms:modified xsi:type="dcterms:W3CDTF">2009-08-05T16:25:18Z</dcterms:modified>
  <cp:revision>267</cp:revision>
  <dc:subject/>
  <dc:title>TX SET  Update to RMS</dc:title>
</cp:coreProperties>
</file>