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A672-4B69-444A-9D04-9FDA11E6F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05E8-3BCA-4836-8272-BDA0D0FD3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C191-5444-4B07-B8C9-D8B5010BB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9F1B-DA5F-4EEA-91FF-40108ADAA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37D4-3618-48B2-8A98-4DC37673C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DE7F-311E-4434-B59F-9EE6ED994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1FC9-28BC-4633-B042-23830357C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1DDF-0049-4120-9583-D317445E6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CDA9-CD1A-4EBD-876A-CD857C8BA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20ED-667A-4E51-9580-5A1D38D93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66FA-F5F8-4E3F-A6E3-40C771999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1BCB-B975-45B3-BA98-88CC6C95A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0CC8-AD20-4A23-A1A8-AC43CD12F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D97D-2C20-489A-AA37-AB85B3E7D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571C-7C97-41B6-BAE6-EB5C28083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CFCC-FE45-4D61-AFA4-E1E5FEE13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41A2-EB2D-467B-BB94-66D39ACF18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5049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ey Fel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T Account Mana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438280" y="487692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MS/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gust 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 and Comment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and Wholesale Systems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Transaction Process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July performance was 99.95%. This was above the service level target of 99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, TML Report Explorer, Retail AP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July performance was 99.95%. This was above the service level target of 9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ra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July performance was 99.88%. This was above the service level target of 9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765000" y="838080"/>
            <a:ext cx="78454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ly 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762120" y="836640"/>
            <a:ext cx="784836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700280" y="774720"/>
            <a:ext cx="636264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600200" y="779400"/>
            <a:ext cx="683568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610560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64668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9-08-04T18:59:41Z</dcterms:modified>
  <cp:revision>407</cp:revision>
  <dc:subject/>
  <dc:title>Instructions</dc:title>
</cp:coreProperties>
</file>