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CA3E7-99D0-4B62-88B1-7B0B08FB9F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5995-DE9C-4ED5-AC3E-1143909EA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DFAD5-542E-47A2-9AF6-B7D03F63B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01C89-ED0C-46CF-B858-17BB09284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63019-715E-446A-918A-E5B42A4E8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4A04A-D511-429B-A6B2-D7D424666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0130C-A87C-4914-83D2-775D4AE8E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7E941-5D6B-492E-8161-698DF8800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7F88B-6041-49E5-B38A-650861D02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30221-9A1C-4AF8-8AA5-471B961C1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C8EDF-EF07-485F-93A4-231CDDCF6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1F467-D55D-4A30-8B5B-4D133D50A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EFE8B-E260-4C29-B0AA-2F554C876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75B7D-EDB6-46D9-B17C-BBEE83D8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7C0C9-F57F-4ECE-9A94-969AC5883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B3D47-16B7-44B6-91A9-6B97F49F9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C281B-B67D-455B-BB85-6BDD495BE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7B902-6D60-4991-B5B7-66120A868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CDBFA-96FA-45C0-A70F-1FB554861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90D05-1584-465C-A443-49ACEC5B0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78625-AF56-4B72-867C-5B001BDF7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3A512-F3E0-4AC1-8EA2-2A3B5128C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FADF0-564E-4944-8062-AA1F8D6E3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2785E-B2BE-40F0-8A37-B07227CC0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454DD-EFA5-4E93-BF9A-E546E00DC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628E-334A-49CA-ABB8-271AAB995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20AE-3DC8-46DB-B2E2-F7DA525ED2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68FFE-3CBE-4DC4-B596-ADBED49698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August 11</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99" name="PlaceHolder 2"/>
          <p:cNvSpPr>
            <a:spLocks noGrp="1"/>
          </p:cNvSpPr>
          <p:nvPr>
            <p:ph/>
          </p:nvPr>
        </p:nvSpPr>
        <p:spPr>
          <a:xfrm>
            <a:off x="609480" y="2286000"/>
            <a:ext cx="7925040" cy="3733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CWG Update to COPS</a:t>
            </a:r>
            <a:endParaRPr b="0" lang="en-US" sz="44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gust 11, 2009</a:t>
            </a:r>
            <a:endParaRPr b="0" lang="en-US" sz="3200" spc="-1" strike="noStrike">
              <a:solidFill>
                <a:srgbClr val="000000"/>
              </a:solidFill>
              <a:latin typeface="Arial"/>
            </a:endParaRPr>
          </a:p>
        </p:txBody>
      </p:sp>
      <p:sp>
        <p:nvSpPr>
          <p:cNvPr id="10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D560-BD9F-4346-B2A0-DB6CF053E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August 11</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2" name="PlaceHolder 2"/>
          <p:cNvSpPr>
            <a:spLocks noGrp="1"/>
          </p:cNvSpPr>
          <p:nvPr>
            <p:ph/>
          </p:nvPr>
        </p:nvSpPr>
        <p:spPr>
          <a:xfrm>
            <a:off x="609480" y="1447560"/>
            <a:ext cx="7925040" cy="4800600"/>
          </a:xfrm>
          <a:prstGeom prst="rect">
            <a:avLst/>
          </a:prstGeom>
          <a:noFill/>
          <a:ln w="0">
            <a:noFill/>
          </a:ln>
        </p:spPr>
        <p:txBody>
          <a:bodyPr anchor="t">
            <a:normAutofit fontScale="93000"/>
          </a:bodyPr>
          <a:p>
            <a:pPr marL="318960" indent="-31896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 Voting Item</a:t>
            </a:r>
            <a:endParaRPr b="0" lang="en-US" sz="3200" spc="-1" strike="noStrike">
              <a:solidFill>
                <a:srgbClr val="000000"/>
              </a:solidFill>
              <a:latin typeface="Arial"/>
            </a:endParaRPr>
          </a:p>
          <a:p>
            <a:pPr lvl="1" marL="690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OPMGRR014, Synchronization of Commercial Operations Market Guide with PRR804, Revisions to Section 21 Appeal Process</a:t>
            </a:r>
            <a:r>
              <a:rPr b="0" lang="en-U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49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mmercial Operations Market Guide Revision Request (COPMGRR) revises Section 4 to provide that if a motion to approve a revision request fails, the revision request shall be deemed rejected by the body considering it and subject to appeal, unless at the same meeting that body later votes to recommend approval, remand or refer the revision request.  </a:t>
            </a:r>
            <a:endParaRPr b="0" lang="en-US" sz="2000" spc="-1" strike="noStrike">
              <a:solidFill>
                <a:srgbClr val="000000"/>
              </a:solidFill>
              <a:latin typeface="Arial"/>
            </a:endParaRPr>
          </a:p>
          <a:p>
            <a:pPr marL="318960" indent="-318960">
              <a:lnSpc>
                <a:spcPct val="90000"/>
              </a:lnSpc>
              <a:spcBef>
                <a:spcPts val="499"/>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PMGRR also proposes formatting and administrative changes. </a:t>
            </a:r>
            <a:endParaRPr b="0" lang="en-US" sz="2000" spc="-1" strike="noStrike">
              <a:solidFill>
                <a:srgbClr val="000000"/>
              </a:solidFill>
              <a:latin typeface="Arial"/>
            </a:endParaRPr>
          </a:p>
          <a:p>
            <a:pPr marL="3189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approve COPMGRR014, the Impact Analysis and Recommendation Report</a:t>
            </a:r>
            <a:endParaRPr b="0" lang="en-US" sz="24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2867-7CEA-48D3-B0B1-E3DFA32F7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August 11</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5" name="PlaceHolder 2"/>
          <p:cNvSpPr>
            <a:spLocks noGrp="1"/>
          </p:cNvSpPr>
          <p:nvPr>
            <p:ph/>
          </p:nvPr>
        </p:nvSpPr>
        <p:spPr>
          <a:xfrm>
            <a:off x="609480" y="1447920"/>
            <a:ext cx="7925040" cy="4952880"/>
          </a:xfrm>
          <a:prstGeom prst="rect">
            <a:avLst/>
          </a:prstGeom>
          <a:noFill/>
          <a:ln w="0">
            <a:noFill/>
          </a:ln>
        </p:spPr>
        <p:txBody>
          <a:bodyPr anchor="t">
            <a:normAutofit/>
          </a:bodyPr>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PMGRRs</a:t>
            </a:r>
            <a:endParaRPr b="0" lang="en-US" sz="36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PMGRR 012 , Creating Section 11, Disputes and Data Extract Varianc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499"/>
              </a:spcBef>
              <a:buClr>
                <a:srgbClr val="99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MGRR was remanded to CCWG to remove the dispute portion until a User Guide can be created</a:t>
            </a:r>
            <a:endParaRPr b="0" lang="en-US" sz="2000" spc="-1" strike="noStrike">
              <a:solidFill>
                <a:srgbClr val="000000"/>
              </a:solidFill>
              <a:latin typeface="Arial"/>
            </a:endParaRPr>
          </a:p>
          <a:p>
            <a:pPr lvl="1" marL="743040" indent="-285840">
              <a:spcBef>
                <a:spcPts val="499"/>
              </a:spcBef>
              <a:buClr>
                <a:srgbClr val="99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MGRR was tabled until comments are received from ERCOT SM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8869-4085-4DE4-9C9C-69C437924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August 11</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08" name="PlaceHolder 2"/>
          <p:cNvSpPr>
            <a:spLocks noGrp="1"/>
          </p:cNvSpPr>
          <p:nvPr>
            <p:ph/>
          </p:nvPr>
        </p:nvSpPr>
        <p:spPr>
          <a:xfrm>
            <a:off x="609480" y="1447920"/>
            <a:ext cx="7925040" cy="4952880"/>
          </a:xfrm>
          <a:prstGeom prst="rect">
            <a:avLst/>
          </a:prstGeom>
          <a:noFill/>
          <a:ln w="0">
            <a:noFill/>
          </a:ln>
        </p:spPr>
        <p:txBody>
          <a:bodyPr anchor="t">
            <a:normAutofit/>
          </a:bodyPr>
          <a:p>
            <a:pPr marL="343080" indent="-343080">
              <a:spcBef>
                <a:spcPts val="10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PMGRRs</a:t>
            </a:r>
            <a:endParaRPr b="0" lang="en-US" sz="4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aft COPMGRR</a:t>
            </a:r>
            <a:r>
              <a:rPr b="0" lang="en-US" sz="2400" spc="-1" strike="noStrike">
                <a:solidFill>
                  <a:srgbClr val="000000"/>
                </a:solidFill>
                <a:latin typeface="Arial"/>
              </a:rPr>
              <a:t>, Update to Section 12 for PRR808 and inclusion of Microgenerator Information</a:t>
            </a:r>
            <a:r>
              <a:rPr b="0" lang="en-US" sz="40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99"/>
              </a:spcBef>
              <a:buClr>
                <a:srgbClr val="99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MGRR will be considered in the CCWG August meeting and sent to Market Ru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4A16-929B-4812-BA69-361CF6C01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August 11</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11" name="PlaceHolder 2"/>
          <p:cNvSpPr>
            <a:spLocks noGrp="1"/>
          </p:cNvSpPr>
          <p:nvPr>
            <p:ph/>
          </p:nvPr>
        </p:nvSpPr>
        <p:spPr>
          <a:xfrm>
            <a:off x="456840" y="1371240"/>
            <a:ext cx="8077320" cy="4876920"/>
          </a:xfrm>
          <a:prstGeom prst="rect">
            <a:avLst/>
          </a:prstGeom>
          <a:noFill/>
          <a:ln w="0">
            <a:noFill/>
          </a:ln>
        </p:spPr>
        <p:txBody>
          <a:bodyPr anchor="t">
            <a:normAutofit/>
          </a:bodyPr>
          <a:p>
            <a:pPr marL="343080" indent="-343080">
              <a:lnSpc>
                <a:spcPct val="90000"/>
              </a:lnSpc>
              <a:spcBef>
                <a:spcPts val="774"/>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Commercial Operations Market Guide</a:t>
            </a:r>
            <a:endParaRPr b="0" lang="en-US" sz="3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7, Inputs to Settlement Process and Data Aggregation</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Load Aggregation sec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8, ERCOT Settlement and Invoice Process</a:t>
            </a:r>
            <a:endParaRPr b="0" lang="en-US" sz="2400" spc="-1" strike="noStrike">
              <a:solidFill>
                <a:srgbClr val="000000"/>
              </a:solidFill>
              <a:latin typeface="Arial"/>
            </a:endParaRPr>
          </a:p>
          <a:p>
            <a:pPr lvl="1" marL="743040" indent="-285840">
              <a:lnSpc>
                <a:spcPct val="90000"/>
              </a:lnSpc>
              <a:spcBef>
                <a:spcPts val="499"/>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e Process portion sent to Market Rules</a:t>
            </a:r>
            <a:endParaRPr b="0" lang="en-US" sz="2000" spc="-1" strike="noStrike">
              <a:solidFill>
                <a:srgbClr val="000000"/>
              </a:solidFill>
              <a:latin typeface="Arial"/>
            </a:endParaRPr>
          </a:p>
          <a:p>
            <a:pPr lvl="1" marL="743040" indent="-285840">
              <a:lnSpc>
                <a:spcPct val="90000"/>
              </a:lnSpc>
              <a:spcBef>
                <a:spcPts val="499"/>
              </a:spcBef>
              <a:buClr>
                <a:srgbClr val="99cc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Settlement, Statement and Invoice portion is in progres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9, Short Pay and Market Participant Default Proces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n the planning stage</a:t>
            </a:r>
            <a:endParaRPr b="0" lang="en-US" sz="2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A364-F6C2-4147-9061-8109E9DED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CWG August 11</a:t>
            </a:r>
            <a:r>
              <a:rPr b="0" lang="en-US" sz="4200" spc="-1" strike="noStrike" baseline="30000">
                <a:solidFill>
                  <a:srgbClr val="ffffff"/>
                </a:solidFill>
                <a:latin typeface="Arial"/>
              </a:rPr>
              <a:t>th</a:t>
            </a:r>
            <a:r>
              <a:rPr b="0" lang="en-US" sz="4200" spc="-1" strike="noStrike">
                <a:solidFill>
                  <a:srgbClr val="ffffff"/>
                </a:solidFill>
                <a:latin typeface="Arial"/>
              </a:rPr>
              <a:t> Meeting</a:t>
            </a:r>
            <a:endParaRPr b="0" lang="en-US" sz="4200" spc="-1" strike="noStrike">
              <a:solidFill>
                <a:srgbClr val="ffffff"/>
              </a:solidFill>
              <a:latin typeface="Arial"/>
            </a:endParaRPr>
          </a:p>
        </p:txBody>
      </p:sp>
      <p:sp>
        <p:nvSpPr>
          <p:cNvPr id="11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meeting is:</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25</a:t>
            </a:r>
            <a:r>
              <a:rPr b="0" lang="en-US" sz="2800" spc="-1" strike="noStrike" baseline="30000">
                <a:solidFill>
                  <a:srgbClr val="000000"/>
                </a:solidFill>
                <a:latin typeface="Arial"/>
              </a:rPr>
              <a:t>th</a:t>
            </a:r>
            <a:r>
              <a:rPr b="0" lang="en-US" sz="2800" spc="-1" strike="noStrike">
                <a:solidFill>
                  <a:srgbClr val="000000"/>
                </a:solidFill>
                <a:latin typeface="Arial"/>
              </a:rPr>
              <a:t>; 9:30am – 12:30pm</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tion of COPMGRR 12</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ation of COPMG Development</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a:t>
            </a:r>
            <a:r>
              <a:rPr b="0" lang="en-US" sz="2400" spc="-1" strike="noStrike" u="sng">
                <a:solidFill>
                  <a:srgbClr val="000000"/>
                </a:solidFill>
                <a:uFillTx/>
                <a:latin typeface="Arial"/>
              </a:rPr>
              <a:t>Section 8</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y Questions?</a:t>
            </a:r>
            <a:endParaRPr b="0" lang="en-US" sz="3200" spc="-1" strike="noStrike">
              <a:solidFill>
                <a:srgbClr val="000000"/>
              </a:solidFill>
              <a:latin typeface="Arial"/>
            </a:endParaRPr>
          </a:p>
        </p:txBody>
      </p:sp>
      <p:sp>
        <p:nvSpPr>
          <p:cNvPr id="115"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8DD4-4D84-4D16-BEB3-522070E441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5T15:58:45Z</dcterms:created>
  <dc:creator>BP - Judy Briscoe</dc:creator>
  <dc:description/>
  <dc:language>en-US</dc:language>
  <cp:lastModifiedBy>trenarym</cp:lastModifiedBy>
  <dcterms:modified xsi:type="dcterms:W3CDTF">2009-07-29T12:18:56Z</dcterms:modified>
  <cp:revision>161</cp:revision>
  <dc:subject/>
  <dc:title>CCWG 2006 Accomplishments</dc:title>
</cp:coreProperties>
</file>