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872D-00BF-47C0-B8D2-1157C5F2F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7659-6FA7-43AF-AA1D-6831C0138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CA7D-A1AD-4F56-9C37-612DBCDF9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778C2-02FA-4BC2-8F46-62B95D737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05E9-7EFD-48CD-8E8B-F75184A0C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65AB-494C-4F37-B65A-BF1AD7F3F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FA63-319A-43A2-88FD-92EA45361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105DB-97FE-42E3-9B10-FCB1AB81E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9605-9D93-4472-A470-6825DF144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E642-3C4A-4070-BAA7-ECE053C95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9EA6-FD2D-4FAC-ABA5-E5A4BA954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86F5-5392-4CDB-97FE-51EF6FC95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AFCB-991E-4D95-9778-397F902C7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3835-ADB2-4592-8F04-A340C240E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8C9D-885E-4498-8F3D-79FD1D685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8955-8D1B-4191-8ED6-2E47C6995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657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2AA1-0946-4B96-9B48-3A5851ACCC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formation Technolog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5049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rey Fel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T Account Mana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2438280" y="4876920"/>
            <a:ext cx="6477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MS/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gust 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 and Comment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ail and Wholesale Systems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 Transaction Process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July performance was 99.95%. This was above the service level target of 99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ML, TML Report Explorer, Retail AP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July performance was 99.95%. This was above the service level target of 9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ra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July performance was 99.88%. This was above the service level target of 9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18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9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18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765000" y="838080"/>
            <a:ext cx="78454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uly 2009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18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762120" y="836640"/>
            <a:ext cx="784836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18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18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700280" y="774720"/>
            <a:ext cx="636264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rak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18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600200" y="779400"/>
            <a:ext cx="6835680" cy="52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ML Report Explorer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18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6105600" cy="54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API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066680" y="6477120"/>
            <a:ext cx="1905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gust 18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64668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felton</cp:lastModifiedBy>
  <dcterms:modified xsi:type="dcterms:W3CDTF">2009-08-04T18:59:41Z</dcterms:modified>
  <cp:revision>407</cp:revision>
  <dc:subject/>
  <dc:title>Instructions</dc:title>
</cp:coreProperties>
</file>