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85A5-6B3F-47CD-B79E-A625F05B65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0886-011F-456E-AD8A-F9F81E7AF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E5E8-CF75-4326-8F95-547B91A9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4B64-C9B0-495E-A467-77E00E393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2459-E77F-4C73-86C2-7DE2DF442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9A5C-52F5-4B4F-A357-C7741EADD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626F-2343-4FA0-A32E-8B119F951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8DED-9DC4-4E72-8463-BA0FBE0F4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667D-6637-4C3A-A739-2793C013DC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090F-CD31-4AA6-8333-9DC3BB50A1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026A-A0A6-4F1D-8917-5837FDD9B1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C0D9-23FC-4F99-AFAA-B4EAE41B36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C062-CE52-44BF-94E4-0DB1A608F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7C7C-A80E-409C-ACEA-5DD89E037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92FD-B96D-4018-959B-BB179700B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9C91-10C2-41B0-90C7-462DCE5B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A683EC-DB31-41E0-BE1B-7D0688E0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06E8DE-01B5-496B-AB56-9096D2DB9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08990B-8E3F-4CCA-A89B-374DD7A57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11, 200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DC40F0-8CFE-4C0D-8607-C542346F4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Lucida Bright"/>
              </a:rPr>
              <a:t>August 2009 MO Projects Financial 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ugust 11, 2009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eather Day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view of project status on MO 2009 PP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 2009 Financ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2010 PPL as endorsed by TAC on 08/06/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5" name="Object 4328"/>
          <p:cNvGraphicFramePr/>
          <p:nvPr/>
        </p:nvGraphicFramePr>
        <p:xfrm>
          <a:off x="744480" y="762120"/>
          <a:ext cx="79898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Object 43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762120"/>
                    <a:ext cx="79898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08/01/2009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52280" y="762120"/>
          <a:ext cx="8763120" cy="4765680"/>
        </p:xfrm>
        <a:graphic>
          <a:graphicData uri="http://schemas.openxmlformats.org/drawingml/2006/table">
            <a:tbl>
              <a:tblPr/>
              <a:tblGrid>
                <a:gridCol w="2629080"/>
                <a:gridCol w="1035000"/>
                <a:gridCol w="509904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20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1.04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and run rates for active and not started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for 2009 on ILM is expected to be $1.079M.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($520k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 obtain funding from other CARTs to support ILM efforts (IO CART, etc.) as this is a critical need project.  This request will come at the Planning end date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 Project Priority List – TAC Endor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volution of 2010 Project Priority Li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41" name="Picture 4" descr="2010 PPL Approval Timeline.jpg"/>
          <p:cNvPicPr/>
          <p:nvPr/>
        </p:nvPicPr>
        <p:blipFill>
          <a:blip r:embed="rId1"/>
          <a:stretch/>
        </p:blipFill>
        <p:spPr>
          <a:xfrm>
            <a:off x="422280" y="1066680"/>
            <a:ext cx="8340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–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delivery is the focus of the organization in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al projects are limited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projects already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managemen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May 1, 2010, production and testing environments will be locked down to reduce risk during the months preceding Nodal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constraints between Nodal and other efforts must be limited as much a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ject added by TAC on 8/6/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805 – Add AMS Meter Flag to Database Query Function on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50k Retail Operation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0 Project Priority List - Funding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 Project Budgets and Project Counts by Program Are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09480" y="1447920"/>
          <a:ext cx="8077320" cy="4419360"/>
        </p:xfrm>
        <a:graphic>
          <a:graphicData uri="http://schemas.openxmlformats.org/drawingml/2006/table">
            <a:tbl>
              <a:tblPr/>
              <a:tblGrid>
                <a:gridCol w="2017800"/>
                <a:gridCol w="2225880"/>
                <a:gridCol w="2085840"/>
                <a:gridCol w="1747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Area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eque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s Started in 2008/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2010 Projec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4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6,1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 Center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31,9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Center Refresh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O)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7,5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or Cap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(CO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   75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 46,300,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9a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her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417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ay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Heather Day</dc:creator>
  <dc:description/>
  <dc:language>en-US</dc:language>
  <cp:lastModifiedBy>Heather Day</cp:lastModifiedBy>
  <dcterms:modified xsi:type="dcterms:W3CDTF">2009-08-10T19:18:08Z</dcterms:modified>
  <cp:revision>478</cp:revision>
  <dc:subject/>
  <dc:title>COPS Monthly Project Financials</dc:title>
</cp:coreProperties>
</file>