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0AE4D-ACA9-4FE4-866F-6F7989B4C0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6F9DC-7A84-4E08-882A-E17F2931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7452-882E-40DE-BB47-0A5263D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B4DE-AF13-4CE7-91C2-4BACE1A7D5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9CA-E311-4FC0-B0ED-A32F6EF596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9EB-F527-49D5-A5C8-0D8D49FAD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9ED-C07F-4215-9969-407409A387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E08-1224-4641-BA08-D8C39C2270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74D4-A0CB-4A98-A6EE-6C890E7B9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52F-3B09-4142-B18F-9487B98D1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558-42D3-4C81-959B-B852B603FC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E032-47AC-49C8-8F25-43F7A4AA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23B-8600-4536-B047-A9855299B3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BBA2-CF34-411F-AF24-BE9005023C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BEA-2304-4D15-B602-5F3B6A1BC7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FF7-9FB7-48EE-AFCD-CE4E28EEC8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AE8-B7E0-4048-B3EE-2F5D59FB0F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A66AE-167F-4A5F-83F5-F451E0E26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FC3C-1986-4D4A-9B0A-FE6E114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8FF7-89B0-4451-8E71-CC018CB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AF5E3-BAAC-4DDB-9312-88CE8CB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1F8C-1459-473B-8589-875ED320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F3E1-14A1-4E9A-A8D1-F5E4CD51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CD9F5-84D8-4D26-88C2-E250908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B4ADD-94BF-4698-BDA9-A2AA1BA8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E7FF9-F45E-4210-9053-6A403609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0D5B1-2536-4074-9FB6-0D36D00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00427-10E4-42F1-95DF-370B5DF0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4C87A-EC73-44BC-8097-C4BC55F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D6B07-AAC5-4DCA-A2BD-E85338C72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43BCD2-9A10-4877-9D24-97D175C0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E0DEF-E8B4-41D0-948B-38948FD0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DDE6D-F253-47AB-95B5-FBABE5B3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84D64-A960-4B06-9F39-CEFAABFC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4A0B2-AC37-4019-8280-16C42182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20980-362A-4132-A7E0-B797173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4497B-5180-4706-B4C0-B6C49F41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14219-3BE3-449A-8200-203B9F0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B3C63-C6A0-4D4C-AE29-3F4CAC7A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340B3-C53C-40B4-803A-52ED57F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C4559-898E-496E-A655-73C9054F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1F0BE-4084-4307-9D86-A67EE63A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BFF5C-5052-4B24-8A73-BE6FD128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D6DA-033A-4599-B883-4190BF51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0460-D747-461A-A943-576C0BDE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099F-D1EE-475D-83F6-DCCDA134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C2EB9-0B02-4DBC-BF11-AED4864A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E6EC-A382-4CDA-B79C-38B4303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AFE-20BE-49D9-8C48-AE3E85E0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1149-332F-45D1-9595-28C1CF62E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77EE-2243-402D-802B-AFD6989FD0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B06A-F675-47B7-99C4-CEFF74E4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9/06/20090624-PWG" TargetMode="External"/><Relationship Id="rId2" Type="http://schemas.openxmlformats.org/officeDocument/2006/relationships/hyperlink" Target="http://www.ercot.com/calendar/2009/06/20090722-PWG" TargetMode="External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yl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gust 11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1B87-88AD-4528-860A-F16DA39F35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26 and the 4th Wedn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879D0-0D7B-4A82-A884-07B43E9EEC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454040"/>
            <a:ext cx="8769600" cy="444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E3BC-DF22-4F97-AFA1-46243FF9D2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1600200"/>
            <a:ext cx="792504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Evaluate the methodology for profile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factors (per UFETF Nov. 16, 200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by ERCOT Staff demonstrates current methodology to be statistically better than proposed alternat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WG considers this goal comple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is can be found a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rcot.com/calendar/2009/07/20090722-P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1113-74F7-471A-89DB-7DE7A74D7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The shift in proportion of UFE to NIDR metered premises as AMS matu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spreadsheet calculations are posted to key documents a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09/06/20090624-P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calendar/2009/06/20090722-P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calculations validated by ERCOT Sta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hift in UFE is equally proportional to each group which implies no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PWG considers this goal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E007B-324F-4753-8573-91D229B3C9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54920" cy="299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9480" y="495288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9 AV on schedule no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Verdana"/>
              </a:rPr>
              <a:t>PWG discussed surveying MPs to see if, as a result of AMS rollout, AV 2010 i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4748-A100-4052-9A8C-6D70D4E12E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99840" y="1066680"/>
            <a:ext cx="8062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UFE allocation factors cons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S meter installa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er accuracy would be comparable for Loads with IDR or AMS metering which are served at Transmission Voltage and Distribution Vol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with IDR or AMS which are served at Transmission Voltage are likely to have less theft than Loads served at Distribution Volt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 with NIDR metering are likely to have more theft than IDR/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fication of UFE by cause is problematic if not im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ing UFE allocation factors the same would provide consistent treatment to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in UFE allocation would need significant analysis support for Stakeholder appr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Discussions shall continue at the next PWG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cc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Feasibility of analysis to support change is main 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2357B-0D3B-4767-B648-3FD9C88C4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 loss factors in relation to U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ication of UFE by cause is problematic if not im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SPs are encouraged to refresh loss load studies that support the ERCOT loss coefficient method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idea is to plot several key points in the latest loss load study and then regress to develop the coeffic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cc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Discussions shall continue at the next PWG meet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C94B4E-51BC-429B-8A23-5A69429DF5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34: Profile Model Spreadsheets - Calendar Extension and Delete Unused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99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onsensus at July P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.    IA shall be reviewed at the next PW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D89C6-61B1-45B5-B080-8287F42E88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PGRR0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chronization of Load Profiling Guide with PRR8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the TAC approval of LPGRR033 with Normal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rcot.com/mktrules/issues/lpgrr/025-049/033/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B5871-6CBC-4655-809B-3E69A62128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08-07T11:54:18Z</dcterms:modified>
  <cp:revision>348</cp:revision>
  <dc:subject/>
  <dc:title>PowerPoint Presentation</dc:title>
</cp:coreProperties>
</file>