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FB2B-BA25-4841-9FF1-E4DB6DF75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6184-76BB-4D28-AF6B-0A99767D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5D9-91F1-4BE5-A031-B9571212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EEE9-31F4-4ABE-A909-60CE1DA0F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A709-8BE6-4939-86D6-E194944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8B99-E5AE-4039-9D3C-6F5C6DF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E0E5-C3A4-4CEC-A506-8EAA7FB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4A70-9EC6-4A34-98DA-28AA2209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DEED-B494-4D4C-8440-CE5F52D9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47E5-C935-49E1-9AD1-453409E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6878-E4D4-4ED0-88EB-F68070D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0A7F-7CDA-4BC1-8007-D42874C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76B-EAE5-4173-9EF6-21E899B68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2A4F-8612-4C9F-8768-0CECF19B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6,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ing TAC approval of projects planned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C43D-3C00-4670-AC0A-77530AFC3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497664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vised 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, IO, MO, RO, 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ly 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gust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gust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D372-3755-4599-A999-4D2FBCB1B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– Introductory Com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Priorit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delivery is the focus of the organization nex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projects are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projects already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 managemen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1, 2010, production and testing environments will be locked down to reduce risk during the months preceding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straints between other efforts and Nodal must be limited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“Capability” line projected in 2010 due to multipl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2B7B-4D37-4316-B676-8411071AB4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- Funding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Budgets and Project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0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Refresh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6C15-2903-4565-89F9-4515136121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- Historical Dat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914400"/>
          <a:ext cx="8381880" cy="5257800"/>
        </p:xfrm>
        <a:graphic>
          <a:graphicData uri="http://schemas.openxmlformats.org/drawingml/2006/table">
            <a:tbl>
              <a:tblPr/>
              <a:tblGrid>
                <a:gridCol w="1108080"/>
                <a:gridCol w="1639800"/>
                <a:gridCol w="1481400"/>
                <a:gridCol w="1384200"/>
                <a:gridCol w="1384200"/>
                <a:gridCol w="13842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3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9,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3,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Refr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Inter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1,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9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2,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2,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4,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276720" y="932040"/>
            <a:ext cx="5486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vious Year Forecast (F) / Actuals (A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in 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ED73-E10C-4C7B-9574-91E2F9CD77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– Summary of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79056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Prioritization Note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1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arryover projects, a critical security project, and a document mgm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4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critical 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5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ation of Information Lifecycle Managemen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1,8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UCT projects and Data Research &amp; Reporting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   15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yover funding for two projects that might cross int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Cen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naged by C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31,9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multi-year project to replace the Me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Board of Directors in Feb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enter Refres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  7,5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m and Network Gear funding for Data Center Refresh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Planning funds for additional 2011 Data Center Refresh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31C4-6539-45EE-950D-8A9EF6BFC6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7-30T18:21:37Z</dcterms:modified>
  <cp:revision>391</cp:revision>
  <dc:subject/>
  <dc:title>Instructions</dc:title>
</cp:coreProperties>
</file>