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A4EA-9B58-480A-8A36-505EDE455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CCCC-5A07-48A9-88A6-718D10A5E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3CB6-4C46-42AC-A58D-34D1E47C2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EA0D-171E-4E83-B4CD-823F9644F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1A8E-1F88-4739-B670-028EAB73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A475-4FA7-4C34-B304-D11A7D72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0DF6-7638-47EB-865D-E3D1D24B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5AF2-8927-4C3B-811F-CCB8F292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D97E-CAC5-4C4A-A49C-2D3EAA65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527E-D4B5-4EE0-9D05-2C7FF3DC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E010-D2A7-47C9-A198-4DB7BBFA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A7BD-2759-47DA-84C0-79FDE144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D83E-615F-4A81-A374-7E7815B1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F9B4-7294-4612-8653-A65F02EB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75E5-FCA1-46DD-AC16-D6753CBF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F22E-0FD5-4BC1-9996-816E806D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2E3C-6BE8-4B2F-B581-84EF654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7F84-92D1-46AA-A6CB-8B053A2A6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August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1E56-7B9A-4615-9340-2170BC585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 August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38320"/>
            <a:ext cx="81532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adiness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560" y="3885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kki G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Readiness &amp; Transformation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August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adines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990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 Consolidation Compl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C Standards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izing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amond 5"/>
          <p:cNvSpPr/>
          <p:nvPr/>
        </p:nvSpPr>
        <p:spPr>
          <a:xfrm>
            <a:off x="457200" y="106668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iamond 8"/>
          <p:cNvSpPr/>
          <p:nvPr/>
        </p:nvSpPr>
        <p:spPr>
          <a:xfrm>
            <a:off x="457200" y="457200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August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Participant Readiness: Outreach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Content Placeholder 9" descr=""/>
          <p:cNvPicPr/>
          <p:nvPr/>
        </p:nvPicPr>
        <p:blipFill>
          <a:blip r:embed="rId1"/>
          <a:stretch/>
        </p:blipFill>
        <p:spPr>
          <a:xfrm>
            <a:off x="438120" y="1060560"/>
            <a:ext cx="82677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Readiness:  Process and Procedu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&amp;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are defined with increasing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August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28600" y="37339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28600" y="44197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28600" y="30481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28600" y="23623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1295280" y="23623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u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295280" y="30481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Identif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295280" y="37339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295280" y="44197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3429000" y="2362320"/>
            <a:ext cx="2133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3429000" y="3048120"/>
            <a:ext cx="2133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 Breakou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429000" y="4419720"/>
            <a:ext cx="2133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ed Discrete Bus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(where nee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3429000" y="5105520"/>
            <a:ext cx="2133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28600" y="51055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295280" y="51055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dur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715000" y="2362320"/>
            <a:ext cx="1981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e Power Syst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amp; Mar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715000" y="3048120"/>
            <a:ext cx="1981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e RT Pow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5715000" y="3733920"/>
            <a:ext cx="1981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Loa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Gene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5715000" y="4419720"/>
            <a:ext cx="1981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form LF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5715000" y="5105520"/>
            <a:ext cx="1981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 &amp; Control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rror Corr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7848720" y="3733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848720" y="44197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3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7848720" y="30481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7848720" y="23623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848720" y="51055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2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429000" y="3733920"/>
            <a:ext cx="2133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 of Discre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Rectangle 10"/>
          <p:cNvGrpSpPr/>
          <p:nvPr/>
        </p:nvGrpSpPr>
        <p:grpSpPr>
          <a:xfrm>
            <a:off x="1054080" y="1511280"/>
            <a:ext cx="2470320" cy="946080"/>
            <a:chOff x="1054080" y="1511280"/>
            <a:chExt cx="2470320" cy="946080"/>
          </a:xfrm>
        </p:grpSpPr>
        <p:pic>
          <p:nvPicPr>
            <p:cNvPr id="139" name="Rectangle 10" descr=""/>
            <p:cNvPicPr/>
            <p:nvPr/>
          </p:nvPicPr>
          <p:blipFill>
            <a:blip r:embed="rId1"/>
            <a:stretch/>
          </p:blipFill>
          <p:spPr>
            <a:xfrm>
              <a:off x="1054080" y="1511280"/>
              <a:ext cx="247032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295280" y="1752480"/>
              <a:ext cx="198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 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Rectangle 14"/>
          <p:cNvGrpSpPr/>
          <p:nvPr/>
        </p:nvGrpSpPr>
        <p:grpSpPr>
          <a:xfrm>
            <a:off x="3187800" y="1511280"/>
            <a:ext cx="2622600" cy="946080"/>
            <a:chOff x="3187800" y="1511280"/>
            <a:chExt cx="2622600" cy="946080"/>
          </a:xfrm>
        </p:grpSpPr>
        <p:pic>
          <p:nvPicPr>
            <p:cNvPr id="142" name="Rectangle 14" descr=""/>
            <p:cNvPicPr/>
            <p:nvPr/>
          </p:nvPicPr>
          <p:blipFill>
            <a:blip r:embed="rId2"/>
            <a:stretch/>
          </p:blipFill>
          <p:spPr>
            <a:xfrm>
              <a:off x="3187800" y="1511280"/>
              <a:ext cx="262260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429000" y="175248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Rectangle 10"/>
          <p:cNvGrpSpPr/>
          <p:nvPr/>
        </p:nvGrpSpPr>
        <p:grpSpPr>
          <a:xfrm>
            <a:off x="5473800" y="1511280"/>
            <a:ext cx="2469960" cy="946080"/>
            <a:chOff x="5473800" y="1511280"/>
            <a:chExt cx="2469960" cy="946080"/>
          </a:xfrm>
        </p:grpSpPr>
        <p:pic>
          <p:nvPicPr>
            <p:cNvPr id="145" name="Rectangle 10" descr=""/>
            <p:cNvPicPr/>
            <p:nvPr/>
          </p:nvPicPr>
          <p:blipFill>
            <a:blip r:embed="rId3"/>
            <a:stretch/>
          </p:blipFill>
          <p:spPr>
            <a:xfrm>
              <a:off x="5473800" y="1511280"/>
              <a:ext cx="246996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15000" y="1752480"/>
              <a:ext cx="19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Rectangle 9"/>
          <p:cNvGrpSpPr/>
          <p:nvPr/>
        </p:nvGrpSpPr>
        <p:grpSpPr>
          <a:xfrm>
            <a:off x="7607160" y="1511280"/>
            <a:ext cx="1019160" cy="946080"/>
            <a:chOff x="7607160" y="1511280"/>
            <a:chExt cx="1019160" cy="946080"/>
          </a:xfrm>
        </p:grpSpPr>
        <p:pic>
          <p:nvPicPr>
            <p:cNvPr id="148" name="Rectangle 9" descr=""/>
            <p:cNvPicPr/>
            <p:nvPr/>
          </p:nvPicPr>
          <p:blipFill>
            <a:blip r:embed="rId4"/>
            <a:stretch/>
          </p:blipFill>
          <p:spPr>
            <a:xfrm>
              <a:off x="7607160" y="1511280"/>
              <a:ext cx="101916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848720" y="17524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7"/>
          <p:cNvSpPr/>
          <p:nvPr/>
        </p:nvSpPr>
        <p:spPr>
          <a:xfrm>
            <a:off x="7848720" y="5715000"/>
            <a:ext cx="53316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iamond 40"/>
          <p:cNvSpPr/>
          <p:nvPr/>
        </p:nvSpPr>
        <p:spPr>
          <a:xfrm>
            <a:off x="533520" y="83808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42"/>
          <p:cNvSpPr/>
          <p:nvPr/>
        </p:nvSpPr>
        <p:spPr>
          <a:xfrm>
            <a:off x="7696080" y="5638680"/>
            <a:ext cx="762120" cy="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August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Participant Readiness: Outreach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990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ngagement on the market timelines and participant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and confidence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issue and question conso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site visits up to and into Market Trials based on a participant-selected menu of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existing training, manuals and specification to facilitate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expertise on-site to discuss project effort and market 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iamond 5"/>
          <p:cNvSpPr/>
          <p:nvPr/>
        </p:nvSpPr>
        <p:spPr>
          <a:xfrm>
            <a:off x="457200" y="106668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iamond 8"/>
          <p:cNvSpPr/>
          <p:nvPr/>
        </p:nvSpPr>
        <p:spPr>
          <a:xfrm>
            <a:off x="457200" y="3505320"/>
            <a:ext cx="228600" cy="2286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Nodal Communications</dc:creator>
  <dc:description/>
  <dc:language>en-US</dc:language>
  <cp:lastModifiedBy>tkleckner</cp:lastModifiedBy>
  <dcterms:modified xsi:type="dcterms:W3CDTF">2009-07-30T19:56:43Z</dcterms:modified>
  <cp:revision>498</cp:revision>
  <dc:subject>April Board Meeting</dc:subject>
  <dc:title>Nodal Program Update</dc:title>
</cp:coreProperties>
</file>