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B50-A4FF-4AA6-8A01-E0929AB7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90F-E285-495D-AFA7-1E812E79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289-000E-455C-871D-7B91F6FB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D81-435A-4965-A70C-1399BF29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154-4D79-4B48-96FC-7531709A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369-5043-4693-9FFF-521E2498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D95-F89C-4DFA-AFFF-36243B83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CB8-856D-49DB-8145-F131714C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980-C820-472C-886D-91C438CC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B36-1756-451E-BC5E-E7C4F257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6C8-B9DB-4078-B522-B0A7E567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ED6-14E4-45BC-A5F1-A199003E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55ED-E447-4736-B50C-2DB136BB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RTWG Report to T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ugust 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enry Durrwa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BBB-7C36-48FE-816D-419DF5FED9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 from July RTW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whitepaper on Wind Ramping Events (possible ways to deal with both low and high ramp rates of wind generation) – recommendation to be discussed at the August RTWG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results of the “NERC Special Report: Accommodating High Levels of Variable Generation” and determined that all issues were covered by the TRIP with the possible exception of distributed  variable generation – that issue will be added to the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FB5-5DD7-4032-9187-BFE1142222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 from July RTW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ERCOT Protocols and Operating Guide requirements for Ancillary Services with a Solar Thermal technology developer (Acciona Sola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ERCOT data related to capacity value of wind at p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3D5-6F01-4B3C-A650-EA9B55A300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pacity Value of 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now posts hourly load and wind data for the calendar years 2006, 2007 and 2008, which includes the installed amount of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peak load hour, the capacity value* of wind w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-13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 = 17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-13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= 3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-13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= 11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-13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(2006-2008) = 11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official ERCOT data for 2009 (July 8) indicates that the capacity value for wind was higher than previous years (1,610 MW out of 8,135 MW or 19.8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where capacity value = MW produced/MW inst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 Value of 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02C-956D-41CF-892C-5A9D5A3CD3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pacity Value of 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6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 Value of 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CEB-675B-4B2E-8144-156095533E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input from ERCOT Board on draft TRIP with the intent to finalize that document during the fall of 2009 (August 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review of solar technologies and their impact on grid planning and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s on solar technologies (Septe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n flywheel storage technology (August or Septe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ED8-7DC0-40F7-806C-B7762B2CB5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35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B3D-8591-48E4-8E57-2897A56558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3:49:35Z</dcterms:created>
  <dc:creator>Henry Durrwachter</dc:creator>
  <dc:description/>
  <dc:language>en-US</dc:language>
  <cp:lastModifiedBy>Henry Durrwachter</cp:lastModifiedBy>
  <dcterms:modified xsi:type="dcterms:W3CDTF">2009-07-29T15:10:54Z</dcterms:modified>
  <cp:revision>21</cp:revision>
  <dc:subject/>
  <dc:title>Slide 1</dc:title>
</cp:coreProperties>
</file>