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DE1-840B-407F-8A74-B0E0CA9B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D71-3FF2-4337-8C38-FF639D72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AD3-3299-47EA-8057-6E2F2CBF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4DA-01D7-4736-B403-E3822AC4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2753-FADE-45E0-A335-2B2FBD3C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8F7B-0D70-4AB7-8E67-89E0BD53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EA0B-5A05-45F9-BD29-54410B91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A955-F5F8-4F27-B637-764BCD99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F83D-054E-4ECE-A474-BC22DB00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22D3-9067-4524-817D-B0D546CF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9889-D83A-4C9D-A39A-73619B1F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B8F-2A5C-405D-9343-A08A01EA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4340-9C7E-4841-AB44-B02AD67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9A7C-E56E-4533-B358-B15F62B1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C0C9-1467-45A0-8D89-1563A85F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500E-AEBF-4E39-8FB4-668633D1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8416-C1B9-4B09-93E0-78102EB9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047-C12F-4A01-9A14-49B44522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CC4-3468-4486-8F0D-183CC403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CD1-8440-4B46-87A2-7F56351F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B6F-6925-486C-82FA-120B1651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D2B-5FB8-41AD-B0BD-3C3E405E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4D3-6A3B-4AD5-9F1E-7B984DA7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8DD-296E-49AE-BD2F-DE376D5F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7ADB-AF37-421B-9F5D-77DD150D5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EE48-BEEF-49CA-94AB-225A204F23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ugust 6, 200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ly 14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C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MGRR012, Creating Section 11, Disputes and Data Extract Var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anded back to CCW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 wants a Dispute ‘How to’ Users’ Guide, not screen shots and step by step processes in the COP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W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PRR179, ERCOT Polled Settlement Load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vote taken due to concern from MP that currently uses 867 and not 7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be further reviewed at SEW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ly 14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E DRG T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on 1: Approved with TF directed to create PRR to align zonal requirements with no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as generation and register; &gt;50 kW &amp; &lt; 1M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s preferred, NOIEs again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vote was 60% for, 40% again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on 2: Treated as load in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nsus at TF that this is bad 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on 3: Exemption from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IEs preferred, CRs again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July 14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ual Val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anticipated processing issues due to 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COPS &amp; RMS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holding on same day to maximize resources, but got little 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ipate keeping meetings as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Chuck Moore</cp:lastModifiedBy>
  <dcterms:modified xsi:type="dcterms:W3CDTF">2009-07-17T14:01:36Z</dcterms:modified>
  <cp:revision>6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8445676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OPS update to TAC - Aug 6</vt:lpwstr>
  </property>
  <property fmtid="{D5CDD505-2E9C-101B-9397-08002B2CF9AE}" pid="6" name="_NewReviewCycle">
    <vt:lpwstr/>
  </property>
</Properties>
</file>