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D353A9-1176-40BE-B7AA-6251F6FA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00ADCE-9389-4366-A6BD-CECD33E5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DED681-77D9-4DE9-95DD-AB2C0A29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3E095F-E587-43AD-BE83-63CC4A0A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F93E17-3549-4E52-A9A3-F5141801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335ACF-B6C4-4F58-BA71-E90F5BD8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0B8DC-3CAD-48E0-B817-7704B4F0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8E4E281-29A0-4D8A-BBE3-742B0B9A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cot.com/gridinfo/transmission/opsys-change-schedul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9CA1413-57CB-49A9-95DC-B6CB83AA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6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958CD96-FF27-4E91-A7A2-3931B5FE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and Approv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320" y="8380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remaining Stakeholder meeting dates for SEM discussion/approval of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-day Market Notice  - Au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SWG (key SEM stakeholders) - Aug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 - Aug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 - Aug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results and sign-off from Directors – Aug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TAC Aug 17 (if deemed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 - Aug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day Market Notice - Aug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 Go-Live - Aug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C can consider whether “Certification that all Market Readiness Criteria have been m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ining complete, and plans in place to support one 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activities are for ERCOT to complete/sign-off  mode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no protocol changes go into effect Aug 31 (system change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562C3D9-4CB8-4BF7-B486-71E00E34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D649F7A-70E8-4A22-B1EA-2BD7E58C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547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changes becomes NOMCRs on 8/31/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Network operations Model for reliability and dispatch remains Zonal/Genesys system until 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1932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09480" y="373392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632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362320" y="464832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594360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334120" y="373392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80060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7162920" y="464832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1905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705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6629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6320" y="571500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4800600" y="571500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572000" y="281952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1828800" y="508788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553080" y="508788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458E-6C1D-4035-8696-62C889F7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Network Operations Model Maintenance for TSP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5"/>
          <p:cNvSpPr/>
          <p:nvPr/>
        </p:nvSpPr>
        <p:spPr>
          <a:xfrm>
            <a:off x="914400" y="1295280"/>
            <a:ext cx="1676520" cy="1295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mits Service Request to 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7"/>
          <p:cNvGrpSpPr/>
          <p:nvPr/>
        </p:nvGrpSpPr>
        <p:grpSpPr>
          <a:xfrm>
            <a:off x="2590920" y="2514600"/>
            <a:ext cx="5181480" cy="2133720"/>
            <a:chOff x="2590920" y="2514600"/>
            <a:chExt cx="5181480" cy="2133720"/>
          </a:xfrm>
        </p:grpSpPr>
        <p:sp>
          <p:nvSpPr>
            <p:cNvPr id="121" name="Rectangle 11"/>
            <p:cNvSpPr/>
            <p:nvPr/>
          </p:nvSpPr>
          <p:spPr>
            <a:xfrm>
              <a:off x="2590920" y="3505320"/>
              <a:ext cx="5181480" cy="1143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RCOT Nodal NMM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odal testing model- CIM file for EMS/MMS/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Down Arrow 13"/>
            <p:cNvSpPr/>
            <p:nvPr/>
          </p:nvSpPr>
          <p:spPr>
            <a:xfrm>
              <a:off x="601992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Down Arrow 8"/>
            <p:cNvSpPr/>
            <p:nvPr/>
          </p:nvSpPr>
          <p:spPr>
            <a:xfrm>
              <a:off x="297180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Down Arrow 9"/>
            <p:cNvSpPr/>
            <p:nvPr/>
          </p:nvSpPr>
          <p:spPr>
            <a:xfrm>
              <a:off x="4495680" y="2514600"/>
              <a:ext cx="838440" cy="12952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0"/>
            <p:cNvSpPr/>
            <p:nvPr/>
          </p:nvSpPr>
          <p:spPr>
            <a:xfrm>
              <a:off x="2666880" y="26668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odic full copy and conversion of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zonal seed used for nodal syste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4"/>
          <p:cNvSpPr/>
          <p:nvPr/>
        </p:nvSpPr>
        <p:spPr>
          <a:xfrm>
            <a:off x="152280" y="1371600"/>
            <a:ext cx="762120" cy="1143000"/>
          </a:xfrm>
          <a:prstGeom prst="rect">
            <a:avLst/>
          </a:prstGeom>
          <a:solidFill>
            <a:srgbClr val="6699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C963-75B7-4031-BC73-B372A7CB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8/31/2009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TSP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2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32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33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7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8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39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5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6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7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3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4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55" name="TextBox 41"/>
            <p:cNvSpPr/>
            <p:nvPr/>
          </p:nvSpPr>
          <p:spPr>
            <a:xfrm>
              <a:off x="2895480" y="2833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NOMC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Striped Right Arrow 42"/>
          <p:cNvSpPr/>
          <p:nvPr/>
        </p:nvSpPr>
        <p:spPr>
          <a:xfrm>
            <a:off x="2743200" y="4724280"/>
            <a:ext cx="5029200" cy="10670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runs consistency checks to ensure models are aligned and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1"/>
          <p:cNvGrpSpPr/>
          <p:nvPr/>
        </p:nvGrpSpPr>
        <p:grpSpPr>
          <a:xfrm>
            <a:off x="152280" y="3390840"/>
            <a:ext cx="2438640" cy="1295640"/>
            <a:chOff x="152280" y="3390840"/>
            <a:chExt cx="2438640" cy="1295640"/>
          </a:xfrm>
        </p:grpSpPr>
        <p:sp>
          <p:nvSpPr>
            <p:cNvPr id="158" name="Right Arrow 5"/>
            <p:cNvSpPr/>
            <p:nvPr/>
          </p:nvSpPr>
          <p:spPr>
            <a:xfrm>
              <a:off x="914400" y="3390840"/>
              <a:ext cx="1676520" cy="129564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mits Model Change Request (NOMC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52280" y="3467160"/>
              <a:ext cx="762120" cy="11430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9C1-E4F4-4F5A-89DC-98E7C64B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Resource &amp; Q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day and post 8/31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3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68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69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0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1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2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3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4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5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6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7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8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9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0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1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2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3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4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5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6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7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8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9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0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91" name="TextBox 41"/>
            <p:cNvSpPr/>
            <p:nvPr/>
          </p:nvSpPr>
          <p:spPr>
            <a:xfrm>
              <a:off x="3276720" y="2833560"/>
              <a:ext cx="419076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5"/>
          <p:cNvGrpSpPr/>
          <p:nvPr/>
        </p:nvGrpSpPr>
        <p:grpSpPr>
          <a:xfrm>
            <a:off x="152280" y="4419720"/>
            <a:ext cx="8991720" cy="1800000"/>
            <a:chOff x="152280" y="4419720"/>
            <a:chExt cx="8991720" cy="1800000"/>
          </a:xfrm>
        </p:grpSpPr>
        <p:sp>
          <p:nvSpPr>
            <p:cNvPr id="195" name="Up Arrow 42"/>
            <p:cNvSpPr/>
            <p:nvPr/>
          </p:nvSpPr>
          <p:spPr>
            <a:xfrm>
              <a:off x="8229600" y="4495680"/>
              <a:ext cx="609480" cy="5335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44"/>
            <p:cNvGrpSpPr/>
            <p:nvPr/>
          </p:nvGrpSpPr>
          <p:grpSpPr>
            <a:xfrm>
              <a:off x="152280" y="4419720"/>
              <a:ext cx="8991720" cy="1800000"/>
              <a:chOff x="152280" y="4419720"/>
              <a:chExt cx="8991720" cy="1800000"/>
            </a:xfrm>
          </p:grpSpPr>
          <p:sp>
            <p:nvSpPr>
              <p:cNvPr id="197" name="Right Arrow 39"/>
              <p:cNvSpPr/>
              <p:nvPr/>
            </p:nvSpPr>
            <p:spPr>
              <a:xfrm>
                <a:off x="914400" y="515304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RAR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Resource Asset Reg Form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ight Arrow 5"/>
              <p:cNvSpPr/>
              <p:nvPr/>
            </p:nvSpPr>
            <p:spPr>
              <a:xfrm>
                <a:off x="914400" y="441972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ICCP Chan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ight Arrow Callout 40"/>
              <p:cNvSpPr/>
              <p:nvPr/>
            </p:nvSpPr>
            <p:spPr>
              <a:xfrm rot="16200000">
                <a:off x="5657760" y="2228760"/>
                <a:ext cx="1257120" cy="5715000"/>
              </a:xfrm>
              <a:prstGeom prst="rightArrowCallout">
                <a:avLst>
                  <a:gd name="adj1" fmla="val 25006"/>
                  <a:gd name="adj2" fmla="val 25004"/>
                  <a:gd name="adj3" fmla="val 25000"/>
                  <a:gd name="adj4" fmla="val 6497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RCOT pro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"/>
              <p:cNvSpPr/>
              <p:nvPr/>
            </p:nvSpPr>
            <p:spPr>
              <a:xfrm>
                <a:off x="152280" y="457200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Q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8"/>
              <p:cNvSpPr/>
              <p:nvPr/>
            </p:nvSpPr>
            <p:spPr>
              <a:xfrm>
                <a:off x="152280" y="533412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15273BB-5AC2-45D5-87B5-4F9FABB1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ed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3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5FC63A0-A8CD-4B87-A2DF-105F3778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757646D-842E-4B87-9570-52980AFC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current SEM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engagement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nd Market Criteria Status for Go-Live Aug 31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adiness Criteria approval consideration (possible vo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E00A9B5-1E00-4ED4-A23D-FE27CF1A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mmary of current SEM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/TSP engagement calendar for Single Entry Model Implement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- SEM Market Kick-off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4-  Began weekly ERCOT/TSP market calls for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8-  ERCOT deployed test system for TSP testing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- Training commenced on schedule 6-weeks of 3-day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0- Training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e are 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 August stakehold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1- SEM Go-Live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 commun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eported detailed progress on testing and training to market on SEM Weekly calls, NDSWG/ROS, NATF, and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ctivity highl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support of testing/training/questions/weekly-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ing final copy of 6/1/2009 of zonal operations model into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ing consumption of model into NMMS/EMS/MMS t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integration testing aligned to use post-SEM Go-L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9603D92-FCC3-42EC-8D9E-35BDA2B6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Market Engagement Dashboard (as of 6/30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576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2"/>
          <a:stretch/>
        </p:blipFill>
        <p:spPr>
          <a:xfrm>
            <a:off x="317520" y="1285920"/>
            <a:ext cx="8429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B41AC1E-FA10-4014-98A4-0B12EE21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5520" y="838080"/>
            <a:ext cx="8836200" cy="5376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Market Engagement Dashboard (as of 7/30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F82D471-9DE8-4E03-B298-A546E530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engagement summary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lent TSP engagement over the s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weeks of market calls (calls to continue through go-l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weeks of ad-hoc system testing by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weeks of instructor led training for 19 different TSPs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verity 1 or 2 defects identified by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20 TSPs engaged that will be responsible for ERCOT network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e TSP to catch-up on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plans to attend training after SEM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support this TSP (and any other TSP) with coordinating submission of NOM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6D82035-7DC3-4666-9701-23D108E4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SEM Go-Live ERCOT/Market Criteria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C650FF6-1FB0-4065-9C39-110672EA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ugust implementation activity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ement will shift gears from training to cut-over activ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coordination for access to produ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mpletes analysis and posting of key artifacts/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M Audit, Consistency Check, Rules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versions of user support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ing Guidelines final review at NDS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ing of CIM schema and data dictio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-to for granting access to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continue to test systems and ensure Service Level Agreement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.9% availability of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hour recover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25 concurrent modeling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testing to continue focus on system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1 Market notice sent reminding TSPs that no modeling Service Requests should be submitted after Aug 15 to allow synchronization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modeling changes will be accepted with approval from System Operations 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719280"/>
            <a:ext cx="6781680" cy="5481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Approval of Market Readiness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1B70B2B-4F4F-47F4-A503-AFFEB41D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7-31T14:18:27Z</dcterms:modified>
  <cp:revision>796</cp:revision>
  <dc:subject/>
  <dc:title>Texas Nodal Detailled Market Trials Planning Process 30 January 2007</dc:title>
</cp:coreProperties>
</file>