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084-275E-41A1-93B4-170924A6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612-6D52-4788-9972-23C59BEA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7EC-F07A-4E28-9BA5-74443714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907-BD09-4FB1-A70B-48236B03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14C-28C0-4010-8A34-EBDBE35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939-17E9-454A-8583-A71CE15F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54D-9217-4F07-9AB9-2BBAB72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D20-F8DB-4553-96FC-50289DB6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82D-901D-4631-B35C-D40CCAC1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316-ECE3-44CF-A112-1ED5F14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53A-6021-4B6C-BC1E-C472B0B8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E44-DD4B-4018-959F-71BC14FF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C95-22DF-4F8C-AEE9-6122F5F55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Credit Working Group Update to W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. July 22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Items for MC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of invoice timing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bottom up review of existing creditworthiness standards (after CCRO Best Practices eff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of settlement cycle due to PRR 568 (7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reductions in settlemen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ludes looking at the potential to reduce the settlement cycle 30% with improved me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Meeting ~MC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July 27, 2009  9:30 AM -11:00 CST (ph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WG May 2009 Updat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-to-face MCWG Meeting Monday June 2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tems for MC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CWG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e-to-face MCWG meeting Monday June 29, 2009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: DAM Proposals for Short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attendance, in person, phone and webex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s (Brazos, LC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U’s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 (Calpine, Luminant, PSEG, Sue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i (CPS, Austin, BTU, Den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arketers (Exelon, Keystone, Morgan Stanley, EPIC, NECC, Reli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’s (Direct, Stream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WG Face-to-face Meeting June 29th ( Discussion NPRR 14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WG DAM Short-pay Stra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of Short-p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Fund the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Allocation (Mutualiz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ing of Short-pay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eferred Method by MCW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Inc. to obtain a financing Vehicle to finance, which is then repaid by the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Question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nc. ability to obtain the necessary approvals to obtain such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the Vehicle –Also, how to allocate/charge losses greater than the amount of th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pays the financing fees for the Vehicle (who pays…DAM, CRR, RTM, all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ing of Short-pay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ternative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RCOT Inc. is unable to obtain a financing Vehicle to finance short-pays, then establish a Pool funded by th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Ques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‘fee’ assessed pre or post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e Pool funded (who pays…DAM, CRR, RTM, all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entering or exiting the market refunds and new charge for e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the Pool –Also, how to allocate/charge losses greater than the amount of th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ing of Short-pay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ternative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ended approach where ERCOT Inc. obtains a financing Vehicle to finance short-pay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keholders contribute to a Pool (blended approach), which is then repa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Ques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ool ‘fee’ assessed pre or post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e Pool funded (who pays…DAM, CRR, RTM, all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entering or exiting the market refunds and new charge for e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the Pool and size of the Vehicle –Also, how to allocate/charge losses greater than the amount of the Pool and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Vehicle or stakeholder’s Pool accessed first when there are loss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to Fund the Pool (if Preferred Method is not Vi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charge to fund the P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e of $0.01/MWh for generation and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e of $0.001/MWh for CR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analysis on the correct amounts would need to be undertaken (including how fast to fill the f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amount TBD but analysis to be undertaken to determine the amount (ideas ranged from $20-50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s Allocation (Mutualiz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es for ALL market activity allocated to all market participants on a TBD gross basis (with the DAM settlements being further accelerated, either settlement timeline or payment time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Ques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re days can be reduced from DAM settlements or payment timeline before go live and analyzing if further days can be accelerated post go l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ome market participants currently unable to accelerate DAM payments further without process changes on thei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erform the loss mutualizatio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Loss Allocated to Market in a Single One Month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urrent $2.5MM per month the right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oss methodology is expanded to all market participants, could the amount be doubled (to $5MM) or hig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11:00Z</dcterms:created>
  <dc:creator>daviesm</dc:creator>
  <dc:description/>
  <dc:language>en-US</dc:language>
  <cp:lastModifiedBy>daviesm</cp:lastModifiedBy>
  <dcterms:modified xsi:type="dcterms:W3CDTF">2009-07-22T14:52:39Z</dcterms:modified>
  <cp:revision>21</cp:revision>
  <dc:subject/>
  <dc:title>Market Credit Working Group Update to WMS</dc:title>
</cp:coreProperties>
</file>