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5F3-98C1-4455-A6F0-3D70280E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F38-9634-4748-9075-82DB4E1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7F9-29F8-4B0D-9C14-84D9780D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FEC-9A6D-407A-95BF-6BBA5D73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DD04-1003-4E27-81E8-50DCAC50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5F7-12B9-4A0B-A21E-EBEDF99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5C95-9A9F-4B17-A0A7-DC7A671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C29-2E02-4A59-9E1C-456BE6FD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F902-D319-4336-AB63-9F51A4C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2A51-6C21-4FE3-81DD-D5993FB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2E6C-5515-4FC7-AAED-2B9F5A7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15-A5B7-4D26-BEB5-734829A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A64-01EE-417B-B4A8-1010908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ED9-B510-4F0E-ABA3-63298C7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2A0-84EA-4289-9A8A-AF3BCF6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D81B-2ED3-4120-B267-146CB51F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446B-FF08-401A-84B8-F7BD61A7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4DF-3695-4CDE-B675-D1EC4A9E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DCA-4AFE-4E73-A02F-B9DEFA6C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4A1-A018-4426-9CB5-38968C94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300-8ECE-4E2E-9B00-0386E1AE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FDF-534E-4A80-A4A0-B00E065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79F-EBB2-4D13-94C2-B00A9BA0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9CF-A02A-482D-A0E0-D9CEF35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18C-F849-4D7A-A23A-94E033BB7D6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048-81CD-4C38-8868-D89B011DA1D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SE Managers Working Gro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eting No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 July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 to W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2 July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vid Detelich - Chairper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-90020 OOME Reliability To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ussed with Robert Sta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bert will email an updated exa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quest a Market Notice be issued in early Augus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dal ICCP hand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raft NOGR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Nodal Operating Guide Revision Request (NOGRR) incorporates the ERCOT Nodal ICCP Communication Handbook into the Nodal Operating Guides as new Attachment 8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recent version of the Handbook that was discussed by NIT on 6/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t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l Time Production Potenti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R811 &amp; OGRR223 – QMWG comments ready for vo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MWG recommends that real time data be telemetered, then EROCT can average or smooth the dat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rics may not be developed until a significant amount of data is collecte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Next Meeting: August, 2009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Topic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Nodal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GR ramp rate limit in Nod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date on PRR800 implem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95360" indent="-49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pics for Septem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cillary methodology; questions submitted by Market Participa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SE Managers Working Group Topic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SCR754 WGRPP Forecast delivery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WGRPP Forecast accuracy analysis - updat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PR-90020 OOME Reliability Tool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Nodal ICCP handbook draft NOGRR (vote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Real Time Production Potential PRR811 &amp; OGRR223. (vote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754 WGRPP Forecast prog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gration to production, completed on June 24,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lay of 10 minutes built in – data on web 10 minutes after em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gregate forecasts not being po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jects would be required to address these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Calculations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Additional Analysis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Quality of input data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"/>
              </a:rPr>
              <a:t>Methods for improvement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uracy Calcul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685800" y="2209680"/>
            <a:ext cx="8001000" cy="3554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71600" y="1447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d on Day Ahead resource plans submitted by QSE’s not directly on AWS forecas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tional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quest more views of the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tograms: distribution of the error by ho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lculate an adjusted STWF error based on the aggregate – compare 80% forecast to 50% forecas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Quality of input dat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1026"/>
          <p:cNvSpPr/>
          <p:nvPr/>
        </p:nvSpPr>
        <p:spPr>
          <a:xfrm>
            <a:off x="0" y="12952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 Narrow"/>
              </a:rPr>
              <a:t>Overview of WGR Data Issues from Wind Workshop June 26, 200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Rectangle 1027"/>
          <p:cNvSpPr/>
          <p:nvPr/>
        </p:nvSpPr>
        <p:spPr>
          <a:xfrm>
            <a:off x="60948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mpact of Data Quality Issu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revent forecast performance from reaching its potenti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Degrade forecast performa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ypes of Issu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Curtailme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Turbine Availabil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Missing dat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Erroneous or locked dat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Unrepresentative met dat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029200" y="1752480"/>
          <a:ext cx="3657600" cy="4686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Met Data Statu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 Narrow"/>
                        </a:rPr>
                        <a:t># of WG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Useable Dat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3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Very high degree of scat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High degree of scat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Data appears not to be in mp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No data or &lt; 10 data point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Less than 25% of data receive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eps to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rove Forecast Perform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olve WGR data iss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btain maximum information about curtailments and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turbine availabili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btain meteorological data from all WG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olve issues with meteorological data for many si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lement full statistical ensemble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pendent on quality of WGR power and meteorological dat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nsembles will help most in situations with large uncertain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ke advantage of regime-based and event-based techniq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gime-based M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vent-based M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porting Turbine Ou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WS has a software tool that can be used for this – screenshots show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request that MP’s volunteer to use th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ral attendees showed inter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to email details for consid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a trial period, may introduce a PR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David Detelich</cp:lastModifiedBy>
  <dcterms:modified xsi:type="dcterms:W3CDTF">2009-07-17T16:43:42Z</dcterms:modified>
  <cp:revision>77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