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BAC-9BD9-4B40-BDB9-056E7E0D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2F4-87B1-4F40-85E4-AC51965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D21-F4AD-4A87-A56E-9673B3D8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139-74B6-496A-BD79-8C88752F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5E0-BB7D-477A-A960-169EC91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BC3-4DF3-4409-B8AD-CEA1299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C31-783C-44E9-B0CC-1DD61A6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C33-1B1A-4BED-BABC-D0DD0C32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4F2-5671-4C20-A34B-A279BB3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778-B2B6-4F4D-9E47-AA328D3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2F0-0BCA-4122-9B2D-42E6BF1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5C6-CC95-4B2B-97BF-FAD50012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EC2-F56A-47D2-88C9-C79DD4516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ine for Posting Nodal Emissions Cost (currently in the VC M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365200" y="2146320"/>
          <a:ext cx="4413600" cy="25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2146320"/>
                    <a:ext cx="441360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109520" y="1881360"/>
          <a:ext cx="7272360" cy="21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81360"/>
                    <a:ext cx="727236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3200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ds 1/31/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:  Timeline for Posting One Monthly Proxy Heat Rat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2:  Timeline for Posting Two Monthly Proxy Heat Rate Valu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666880"/>
          <a:ext cx="81536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153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11430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P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572000"/>
            <a:ext cx="93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ds 1/11/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3520" y="2362320"/>
          <a:ext cx="78483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7848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11430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P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886200"/>
            <a:ext cx="93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ds 1/25/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6840" y="53352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2: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7:01:35Z</dcterms:created>
  <dc:creator>IGonzalez</dc:creator>
  <dc:description/>
  <dc:language>en-US</dc:language>
  <cp:lastModifiedBy>IGonzalez</cp:lastModifiedBy>
  <dcterms:modified xsi:type="dcterms:W3CDTF">2009-07-16T20:56:50Z</dcterms:modified>
  <cp:revision>7</cp:revision>
  <dc:subject/>
  <dc:title>Option 1- One monthly posting option of Proxy Heat Rate</dc:title>
</cp:coreProperties>
</file>