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8A81-8FCF-466F-ADB1-0CF38CA3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A9CE-E3ED-40A6-953E-61A1E3D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2F37-09FB-4FB5-920E-29686294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3A30-6F41-4F2F-9462-DA4C957F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8C10-CFB8-45B3-B9F5-D6A02024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EAB-9B07-4CF9-ADC0-5797108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B678-C440-4E0F-AC63-1BED8C07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F190-19B0-4007-BB70-83E211A2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F180-77B8-40C5-A05A-3F91216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81C5-A2FE-48E6-AA42-56E14A14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3492-E442-44B7-B2A7-0A134A7A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9CBB-4A12-423F-A7B4-28C2283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09D4-07EF-43D9-AA17-68D28F0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1E20-BB92-48C7-B5D7-935EA29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769-33BA-4735-BB8F-EBBC36F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52F9-5BAB-4872-8795-A6FBB138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30F-C38C-45E8-9E51-8393390F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15A9-1E7D-4BF2-9C57-0E07C545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3256-E359-4693-AFA3-7D117E22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20DF-F4B0-4FC6-914F-46CF5FE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1BF9-FC68-48DD-B81B-2A3941D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111A-A5E0-4770-9AD1-76229B6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9116-EBDF-4F40-A882-6F03F63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2788-1B67-42DB-B181-BF4245B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BC8-EF23-44E4-A968-E0FD9958F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869-C42B-46A0-BB31-7F6BBFAD18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22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CDBC-0A5B-4CDB-925F-B17D837483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Meeting July 15,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PRR 168 – Proxy Heat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wo Option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ption 1- Proxy Heat rate changes Monthl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8228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o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12112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an align with Emission Chang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12112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QSE offers will only have to change onc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3" marL="168228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12112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oxy heat rate is based on older dat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ption 2 - Proxy Heat rate changes twice monthly using the 1st and 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Tuesday of month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8228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12112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oxy Heat rates will be based on more current dat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12112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an align emissions change with the 3</a:t>
            </a:r>
            <a:r>
              <a:rPr b="1" lang="en-US" sz="16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Tuesda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3" marL="168228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121120" indent="-365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QSE offers will have to be changed more than once a month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CWG has consensus that more than twice a month would cause unnecessary hardship on Market Participants in putting in off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8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8DBB-2401-4E3E-A4C8-9A379BCF02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raft NPRR – Nodal Surcharge in Verifiable Costs. (Vot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nguage proposes adding the Nodal Implementation Surcharge to Startup costs for operating Resource from Breaker Close to LS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rifiable Costs Manual ( Vot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dd language for CAIR R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dd language for Emission Cost Calcul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dd Language for NPRR 167 QSE or Resources filing VC Cos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eneral correc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raft Affidavit for Resources filing Verifiable Costs. (vot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4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81D5-2627-4650-B05C-2E3FB92E21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921240" indent="-49608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ngoing Discussio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C costs for resources with no maintenance histor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clusion of labor costs in V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emand Char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reatment of maintenance lab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reatment of cost for new technolog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reatment of cost for new resources without cost histor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7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ext meeting August 12,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48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?’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3B4F-2F00-4E5C-8934-086CCAF3D2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9-07-21T13:55:20Z</dcterms:modified>
  <cp:revision>277</cp:revision>
  <dc:subject/>
  <dc:title>Protocol Revision Subcommittee</dc:title>
</cp:coreProperties>
</file>