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C53E-168D-4E98-A7FE-CE7EB008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888B-BB89-4FB1-8751-87CFFE69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3A504-BB36-4303-8777-FA469534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04C4-4C09-42FB-9472-70CFC160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760C-0C5F-44CA-B3E9-044E0228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17B1-B96E-4107-A7C7-1E98F8B2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C135-988A-4884-9F03-EA7C0516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931C-15B0-4651-B827-F332127D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1D0F-CD98-4B9E-BD0C-5BD0A146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C28E-CA75-42E9-A5E4-FB67EF9E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55FC-4E75-4147-8005-6EF5954F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B34A-399D-4A35-9AF5-128140BC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0722-FBD4-49A8-B26F-E6521E20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625C-3945-4BA8-953E-2B4EE91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107E-CB89-4726-AF3B-0F9B773B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57A0-0674-4E18-8FA2-6F6A993D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BF9A-06DE-413F-8353-1391B220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55F3-09D6-4EDA-AB53-1648A5BB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C581-0ACE-4298-8C75-330831DF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BF75-CE2B-4279-BDCF-B426B73F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E9ABF-A620-4805-9E5E-6F6E691D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D2E98-7671-4328-BA46-804B040D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C2E7-8032-492B-9E69-E63F7474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9C4E-B54D-4AC4-883A-1D38202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5F9F-5CA0-4134-ACBF-DD48C64D94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407B-9EEB-450B-ADAF-348C0FBC28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 Manual Update  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y 22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02DC-E50E-47F8-99C7-E2B78825579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Update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hanges made since last upd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dded rules associated with NPRR167: Options for Filing Verifiable Costs – QSEs or Resourc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cluded language on new emission rules (CAI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mission costs:  Changed effective day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Tuesday of month through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Monday of the next mont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PA Reference Resource cost:  Same effective day as cost of emiss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eneric Startup Cost for PP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ot Startup Cost = 0.5 x Cold Startup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termediate Startup Cost = 0.7 x Cold Startup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55B1-6322-481C-8363-FBD4062BE4D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IGonzalez</cp:lastModifiedBy>
  <dcterms:modified xsi:type="dcterms:W3CDTF">2009-07-20T15:59:01Z</dcterms:modified>
  <cp:revision>274</cp:revision>
  <dc:subject/>
  <dc:title>Protocol Revision Subcommittee</dc:title>
</cp:coreProperties>
</file>