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E207C-AB13-44E5-81E0-8C8BE5806F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700E9-FD8E-49A8-9F97-4A6C96A3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595D7-2A32-4621-9CFA-D5F4E588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D53A4-1903-4728-8F64-9A5BDC6683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6833E-5B95-442A-ABA9-61832683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B8444-CEED-44C7-BA9F-21E4EB8E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F46EE-43D3-4779-B592-B06A4856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0CE86-83BC-4A8A-A8DA-3F00B5CE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B3B82-C18F-436E-A46E-82884452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FDBA4-94A1-46E5-981B-D25A4920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EFB28-DE33-4879-9874-00A27A34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04163-0261-4658-AC6E-A17435F6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0D10-BA67-4E8E-8D70-6753DCAB0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8229600" y="62485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87EC-9358-4892-8243-6B393D551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4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rcot.com/content/meetings/finance_audit/keydocs/2009/0217/20090217_FA_Meeting_Materials.pdf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MO Update to PR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649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RCOT Program Management Offic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July 23, 2009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- 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0 Project Priorit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king PRS approval of projects planned fo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nt Project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13214-8320-4DC3-A16A-18EDB2EA48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4191120"/>
            <a:ext cx="167616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vised 2010 Project Prioritization Schedu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il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Ts develop draft 2010 project li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est and incorporate input from the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year project forecast referenced and 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l review at Market Subcommittee mee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y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y 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y 14 / May 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roval by market subcommitt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June 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June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June 11 / June 1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ly 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al by P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, IO, MO, RO, S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July 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al by TA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ugust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for F&amp;A and Board revie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ugust 1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01AFE-1264-4708-89B5-79F64F62C0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roject Priority List / Funding Level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0 Project Prioritization – Introductory Com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delivery is the focus of the organization next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al projects are limited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itical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on of projects already exec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rds management pro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y 1, 2010, production and testing environments will be locked down to reduce risk during the months preceding Nodal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constraints between other efforts and Nodal must be limited as much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“Capability” line projected in 2010 due to multiple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0F910-6A64-4054-8899-0EC17AFD2E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roject Priority List / Funding Level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077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0 Project Budgets and Project Counts by Program Are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480" y="1447920"/>
          <a:ext cx="8077320" cy="4419360"/>
        </p:xfrm>
        <a:graphic>
          <a:graphicData uri="http://schemas.openxmlformats.org/drawingml/2006/table">
            <a:tbl>
              <a:tblPr/>
              <a:tblGrid>
                <a:gridCol w="2017800"/>
                <a:gridCol w="2225880"/>
                <a:gridCol w="2085840"/>
                <a:gridCol w="17478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Requ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s Started in 2008/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2010 Proje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1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4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8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1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 Center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(C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31,9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Center Refresh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O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8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or Ca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(C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7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46,2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05C56-87B5-45F7-AFC5-989E111C91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roject Priority List / Funding Level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914400"/>
          <a:ext cx="8381880" cy="5257800"/>
        </p:xfrm>
        <a:graphic>
          <a:graphicData uri="http://schemas.openxmlformats.org/drawingml/2006/table">
            <a:tbl>
              <a:tblPr/>
              <a:tblGrid>
                <a:gridCol w="1108080"/>
                <a:gridCol w="1639800"/>
                <a:gridCol w="1481400"/>
                <a:gridCol w="1384200"/>
                <a:gridCol w="1384200"/>
                <a:gridCol w="1384200"/>
              </a:tblGrid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 Budget Requ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72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72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72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72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7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4,0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5,4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6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2,8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4,6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7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7,2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7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1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2,2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8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9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2,6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2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5,6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9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9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2,8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5,0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0,2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3,4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9,2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3,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 Cen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31,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 Refre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7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1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or C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8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3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8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3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l Interdepend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0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7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1,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9,2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46,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37,3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2,6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42,8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34,4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3276720" y="932040"/>
            <a:ext cx="54864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evious Year Forecast (F) / Actuals (A)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(in thous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A7919-007B-47A4-870B-EFE52F3959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roject Priority List / Funding Level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0 Project Prioritization Notes by Program A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$ 1,150,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carryover projects, a critical security project, and a document mgmt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$ 1,450,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critical infrastructure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$ 1,500,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ation of Information Lifecycle Management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$ 1,850,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PUCT projects and Data Research &amp; Reporting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$    150,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ryover funding for two projects that might cross into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 Cent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naged by CO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$31,900,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, multi-year project to replace the Met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ed by Board of Directors in Feb.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Center Refres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O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$  7,500,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ecom and Network Gear funding for Data Center Refresh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Planning funds for additional 2011 Data Center Refresh eff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AACFE-7188-4FAE-B092-47A4EA970C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YTD 2009 Project Implement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nuary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70007_0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rak Enhancements (SCR7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80003_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 Performanc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80038_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L Audit Ex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-80036_0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RCOT / TRE Accoun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ntent/meetings/finance_audit/keydocs/2009/0217/20090217_FA_Meeting_Materials.pdf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(p. 8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bruary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60058_0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Project Server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ttp://www.ercot.com/content/meetings/finance_audit/keydocs/2009/0317/20090317_FA_Meeting_Materials.pdf  (p. 4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ch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70046_0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 Enhan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80026_0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Vi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ttp://www.ercot.com/content/meetings/finance_audit/keydocs/2009/0422/20090422_FA_Meeting_Materials.pdf  (p. 69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0B784-9FC7-46A0-AFA2-4F5CF9E000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52280" y="3886200"/>
            <a:ext cx="8686800" cy="160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YTD 2009 Project Implement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ril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349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 PR-80016_01 Security Configur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 PR-80040_01 TIBCO Siebel Integration Enhanc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ttp://www.ercot.com/content/meetings/finance_audit/keydocs/2009/0616/20090616_FA_Meeting_Materials.pdf  (p. 25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ne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  PR-80044_01 Tape Hardware Backup Re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PR-90022_01 Zonal AWS Wind Gen Forecast for Q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CR754 / PRR7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4EF5A-388D-4384-BAB7-3643F08804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roy Anderson</cp:lastModifiedBy>
  <dcterms:modified xsi:type="dcterms:W3CDTF">2009-07-17T20:00:31Z</dcterms:modified>
  <cp:revision>386</cp:revision>
  <dc:subject/>
  <dc:title>Instructions</dc:title>
</cp:coreProperties>
</file>