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move the slide</a:t>
            </a:r>
            <a:endParaRPr b="0" lang="en-US" sz="2000" spc="-1" strike="noStrike">
              <a:solidFill>
                <a:srgbClr val="ffffff"/>
              </a:solidFill>
              <a:latin typeface="Arial Black"/>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AF9B-D56E-46FA-B283-D8ACC4C11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58A2-87A3-45F4-A291-1813FC1D6B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7D58-2EEC-42E2-9F2F-989D4B608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49FD61F-8957-46A8-AAED-A74A66BC51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6A0208-E248-4641-8E13-82DCD7F51F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7194022-66DA-45F3-BCAC-B5C0B22A94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5F77131D-EA3A-4895-BC73-326A4D85EC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5B7DB21-28F3-4A2B-9BD7-C02E9D8FC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2194BCA-A1E8-489A-969C-6A88B659AA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34AAF52-9E42-4DA9-AFCB-3E433159A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61F459F-79D0-4A1D-8F06-BBDC874630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5485CD6-E350-49E7-B2D6-63D0F16EAA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72F06B-CB7B-432D-B50C-A4E7282EAA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941F50-A467-48BA-B44F-3FF864B43A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DF506CB-07A0-4171-9C42-9A96D19C2B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67063-F482-4031-BB57-34ECC4151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PG</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6/19/2009</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4FD3-CFC4-4085-9C27-1AD7E95402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6/19/2009</a:t>
            </a:r>
            <a:endParaRPr b="0" lang="en-US" sz="18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PG</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6/19/2009</a:t>
            </a:r>
            <a:endParaRPr b="0" lang="en-US" sz="1800" spc="-1" strike="noStrike">
              <a:solidFill>
                <a:srgbClr val="000000"/>
              </a:solidFill>
              <a:latin typeface="Arial"/>
            </a:endParaRPr>
          </a:p>
        </p:txBody>
      </p:sp>
      <p:sp>
        <p:nvSpPr>
          <p:cNvPr id="98"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PG</a:t>
            </a:r>
            <a:endParaRPr b="0" lang="en-US" sz="1800" spc="-1" strike="noStrike">
              <a:solidFill>
                <a:srgbClr val="000000"/>
              </a:solidFill>
              <a:latin typeface="Arial"/>
            </a:endParaRPr>
          </a:p>
        </p:txBody>
      </p:sp>
      <p:sp>
        <p:nvSpPr>
          <p:cNvPr id="99"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Generation Re-Interconnection Issues </a:t>
            </a:r>
            <a:endParaRPr b="0" lang="en-US" sz="2400" spc="-1" strike="noStrike">
              <a:solidFill>
                <a:srgbClr val="ffffff"/>
              </a:solidFill>
              <a:latin typeface="Arial Black"/>
            </a:endParaRPr>
          </a:p>
        </p:txBody>
      </p:sp>
      <p:sp>
        <p:nvSpPr>
          <p:cNvPr id="100"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n Woodfin</a:t>
            </a:r>
            <a:endParaRPr b="1" lang="en-US" sz="1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irector, System Plann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0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
        <p:nvSpPr>
          <p:cNvPr id="10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a:t>
            </a:r>
            <a:endParaRPr b="0" lang="en-US" sz="2000" spc="-1" strike="noStrike">
              <a:solidFill>
                <a:srgbClr val="ffffff"/>
              </a:solidFill>
              <a:latin typeface="Arial Black"/>
            </a:endParaRPr>
          </a:p>
        </p:txBody>
      </p:sp>
      <p:sp>
        <p:nvSpPr>
          <p:cNvPr id="104"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 this discussion is intended to get input on general procedure; no discussion of any current requests</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pothetical: A generator that is currently interconnected to ERCOT grid wants to change its interconnection to a different poin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as “minor” as changing connection from 138kV to 345Kv bus at same substation; 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through building a new interconnection line to a different substation</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line might be private or TCO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0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
        <p:nvSpPr>
          <p:cNvPr id="10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at is the Issue?</a:t>
            </a:r>
            <a:endParaRPr b="0" lang="en-US" sz="2000" spc="-1" strike="noStrike">
              <a:solidFill>
                <a:srgbClr val="ffffff"/>
              </a:solidFill>
              <a:latin typeface="Arial Black"/>
            </a:endParaRPr>
          </a:p>
        </p:txBody>
      </p:sp>
      <p:sp>
        <p:nvSpPr>
          <p:cNvPr id="108"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uld these re-interconnections be processed through the Generation Interconnection Procedure or RPG Review Procedure?</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out any change in procedures, if a generator requests this type of project as a Generation Interconnection Request, then that is how it would be processed</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is the right approac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1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
        <p:nvSpPr>
          <p:cNvPr id="11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Other Considerations</a:t>
            </a:r>
            <a:endParaRPr b="0" lang="en-US" sz="2000" spc="-1" strike="noStrike">
              <a:solidFill>
                <a:srgbClr val="ffffff"/>
              </a:solidFill>
              <a:latin typeface="Arial Black"/>
            </a:endParaRPr>
          </a:p>
        </p:txBody>
      </p:sp>
      <p:sp>
        <p:nvSpPr>
          <p:cNvPr id="112"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may be differences in the indirect transmission projects that are warranted due to the changed interconnec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ght reduce or increase the number of other upgrades that would be warranted under planning criteri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re-interconnection might be suggested as an RPG project to resolve congestion, either by ERCOT or another party, if it is more economic than the line upgrades that would be warranted given the current interconnec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AC Action July 9, 2009</a:t>
            </a:r>
            <a:endParaRPr b="0" lang="en-US" sz="2000" spc="-1" strike="noStrike">
              <a:solidFill>
                <a:srgbClr val="ffffff"/>
              </a:solidFill>
              <a:latin typeface="Arial Black"/>
            </a:endParaRPr>
          </a:p>
        </p:txBody>
      </p:sp>
      <p:sp>
        <p:nvSpPr>
          <p:cNvPr id="114"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reed Nodal-Market and Policy Issues Remai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red to ROS and WMS for</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Specific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back to TAC</a:t>
            </a:r>
            <a:endParaRPr b="0" lang="en-US" sz="2000" spc="-1" strike="noStrike">
              <a:solidFill>
                <a:srgbClr val="000000"/>
              </a:solidFill>
              <a:latin typeface="Arial"/>
            </a:endParaRPr>
          </a:p>
        </p:txBody>
      </p:sp>
      <p:sp>
        <p:nvSpPr>
          <p:cNvPr id="115"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1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RPG Discussion June 19, 2009</a:t>
            </a:r>
            <a:endParaRPr b="0" lang="en-US" sz="2000" spc="-1" strike="noStrike">
              <a:solidFill>
                <a:srgbClr val="ffffff"/>
              </a:solidFill>
              <a:latin typeface="Arial Black"/>
            </a:endParaRPr>
          </a:p>
        </p:txBody>
      </p:sp>
      <p:sp>
        <p:nvSpPr>
          <p:cNvPr id="118"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rn about  Market Impact such as TCR and CRR calcul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ity to switch point of interconnec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affect existing planned transmission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justification of new transmission projects difficul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each plant have only one point of interconn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an existing plant requesting re-interconnection have the same level of confidentiality as new pla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plant changing point of interconnection have to submit Notice of Suspension of Oper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interconnects involving CREZ lines would go through RPG process</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G</a:t>
            </a:r>
            <a:endParaRPr b="0" lang="en-US" sz="1200" spc="-1" strike="noStrike">
              <a:solidFill>
                <a:srgbClr val="000000"/>
              </a:solidFill>
              <a:latin typeface="Arial"/>
            </a:endParaRPr>
          </a:p>
        </p:txBody>
      </p:sp>
      <p:sp>
        <p:nvSpPr>
          <p:cNvPr id="12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6/19/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Rectangle 4"/>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2" name="Line 5"/>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3" name="Text Box 6"/>
          <p:cNvSpPr/>
          <p:nvPr/>
        </p:nvSpPr>
        <p:spPr>
          <a:xfrm>
            <a:off x="1084320" y="2247840"/>
            <a:ext cx="7031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dditional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jteixeira</cp:lastModifiedBy>
  <dcterms:modified xsi:type="dcterms:W3CDTF">2009-07-16T14:12:40Z</dcterms:modified>
  <cp:revision>91</cp:revision>
  <dc:subject/>
  <dc:title>Instructions</dc:title>
</cp:coreProperties>
</file>