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08813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70092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97044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200240" y="692280"/>
            <a:ext cx="461016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Click to move the slide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701280" y="4381200"/>
            <a:ext cx="5607000" cy="4149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0" y="87595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970440" y="87595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A65909FE-E2D5-461C-B6BB-D7F6CDFDC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0024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01280" y="4381200"/>
            <a:ext cx="56070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970440" y="87598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E113168F-7E88-4E1A-A7DB-B060EE3CC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0024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01280" y="4381200"/>
            <a:ext cx="56070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970440" y="87598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fld id="{CEE8B5DB-28D2-43B3-817F-10565ABAC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876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608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4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876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608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6840" y="75960"/>
            <a:ext cx="8381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876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60800" y="106668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4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876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60800" y="3534840"/>
            <a:ext cx="23551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75960"/>
            <a:ext cx="8381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3080" y="353484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1066680"/>
            <a:ext cx="35697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3534840"/>
            <a:ext cx="73152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99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486400" y="6171840"/>
            <a:ext cx="3276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as RE Report                             July 16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7429AFD-0D99-4848-9D54-C5A4CD865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20"/>
          <p:cNvSpPr/>
          <p:nvPr/>
        </p:nvSpPr>
        <p:spPr>
          <a:xfrm>
            <a:off x="0" y="822240"/>
            <a:ext cx="9144000" cy="9216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21"/>
          <p:cNvSpPr/>
          <p:nvPr/>
        </p:nvSpPr>
        <p:spPr>
          <a:xfrm>
            <a:off x="0" y="6049800"/>
            <a:ext cx="9144000" cy="4608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25" descr="TRE Logo_rgb_no tag_medtransp_use for Word"/>
          <p:cNvPicPr/>
          <p:nvPr/>
        </p:nvPicPr>
        <p:blipFill>
          <a:blip r:embed="rId3"/>
          <a:stretch/>
        </p:blipFill>
        <p:spPr>
          <a:xfrm>
            <a:off x="304920" y="6135840"/>
            <a:ext cx="1752480" cy="72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0"/>
          <p:cNvSpPr/>
          <p:nvPr/>
        </p:nvSpPr>
        <p:spPr>
          <a:xfrm>
            <a:off x="0" y="6019920"/>
            <a:ext cx="9144000" cy="4608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3" descr="TRE Logo_rgb_2_medtransp_use for Word"/>
          <p:cNvPicPr/>
          <p:nvPr/>
        </p:nvPicPr>
        <p:blipFill>
          <a:blip r:embed="rId3"/>
          <a:stretch/>
        </p:blipFill>
        <p:spPr>
          <a:xfrm>
            <a:off x="457200" y="142920"/>
            <a:ext cx="3048120" cy="12571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24"/>
          <p:cNvSpPr/>
          <p:nvPr/>
        </p:nvSpPr>
        <p:spPr>
          <a:xfrm>
            <a:off x="0" y="1600200"/>
            <a:ext cx="9144000" cy="9216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100000">
                <a:srgbClr val="adad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914400" y="10666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9900"/>
              </a:buClr>
              <a:buFont typeface="Arial"/>
              <a:buChar char="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nerc.com/page.php?cid=1%7C8%7C169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nerc.com/filez/enforcement/index.html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puc.state.tx.us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8960" y="2438280"/>
            <a:ext cx="6391080" cy="123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Arial Black"/>
              </a:rPr>
              <a:t>Texas Regional Entity Compliance Report</a:t>
            </a:r>
            <a:endParaRPr b="0" lang="en-US" sz="40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066320" y="3733920"/>
            <a:ext cx="6502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296"/>
                </a:solidFill>
                <a:latin typeface="Arial Black"/>
              </a:rPr>
              <a:t>R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296"/>
                </a:solidFill>
                <a:latin typeface="Arial Black"/>
              </a:rPr>
              <a:t>July 16, 2009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ERCOT Protocol and Operating Guides Violation Monitoring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52280" y="990360"/>
            <a:ext cx="8839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thly monitored protocols using reports supported by ERC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ource Plan Metrics, SCPS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other protocols and operating guides rely on events or incidents to trigger reporting by ERC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olations may be uncovered alternatively by Texas RE via compliance audits (3 year and 6 year cycle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ooter Placeholder 4"/>
          <p:cNvSpPr/>
          <p:nvPr/>
        </p:nvSpPr>
        <p:spPr>
          <a:xfrm>
            <a:off x="5486400" y="617220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XAS RE REPORT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ly 16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ERCOT Protocol and Operating Guide Violation Policy Change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52280" y="990360"/>
            <a:ext cx="8839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mmend that all Protocols and Operating Guides includ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itions of metrics to be monitored by Texas R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ition of explicit pass/fail crite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nitoring methodology to be u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ponsible entity for developing and maintaining any reporting appl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vailability of resources to develop system applications for monitoring and identifying possible viol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5715000" y="6172200"/>
            <a:ext cx="3048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xas RE Report                           July 16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76320" y="7596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   </a:t>
            </a: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PRR 822 – Removing Access to Restricted Systems and Facilities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560" y="10666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as RE authored a PRR covering the requirement for market participants to manage access to restricted systems and facilities (per Board directio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ing criterion was included requiring market participants to adequately restrict access and report failures to Texas 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ibility is provided to allow market participants to address the need for security within their own framewor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ed as urgent (per Board directio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ooter Placeholder 3"/>
          <p:cNvSpPr/>
          <p:nvPr/>
        </p:nvSpPr>
        <p:spPr>
          <a:xfrm>
            <a:off x="6477120" y="617220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as RE Report                           July 16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PRR 787 – SCPS2 Metric &amp; Outage Definitions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" y="902880"/>
            <a:ext cx="87631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R 787: Defines enforcement methodology and adds exemptions to the SCPS2 scoring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S approved on June 1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sed CEO Impact Analysis reflects no change to Outage Schedul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dget reques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as RE will require an additional 0.75 FTE to monitor and process the new exemp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estimate is based o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cent exemptions requests from stakeholders, 300 to 400 exemptions per stakeholder (approximately 2 per mon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as RE is not able to independently verify the new exem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exemptions could impact ERCOT settlements process due to Texas RE’s time consuming manual review and approval process of exem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ooter Placeholder 3"/>
          <p:cNvSpPr/>
          <p:nvPr/>
        </p:nvSpPr>
        <p:spPr>
          <a:xfrm>
            <a:off x="6400800" y="6172200"/>
            <a:ext cx="2362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as RE Report                           July 16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PRR 811 – Real Time Production Potential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51920" y="979200"/>
            <a:ext cx="8991720" cy="49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R 811: Establishes a requirement for Win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eneration Resources to telemeter a real time signal indicat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real time production potential which will be a function of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ind and turbine availabili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 addressed at July 7 QMWG meeting to address data requirements and to prepare comments for P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as RE supports PRR 811 with modification to support compli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cern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metric and criteria that define passing and failing 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d as well as the method for monitoring the metric (e.g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ption report, ISO complain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pproved, Texas RE will coordinate with ERCOT ISO to develop Spot- Check performance query capabi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ooter Placeholder 3"/>
          <p:cNvSpPr/>
          <p:nvPr/>
        </p:nvSpPr>
        <p:spPr>
          <a:xfrm>
            <a:off x="6400800" y="6095880"/>
            <a:ext cx="2743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as RE Report                           July 16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PRR 812 – Wind Generator Forecasting for Scheduling Metric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74240" y="914400"/>
            <a:ext cx="8588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R 812: This PRR adds a requirement for wind-powered generatio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urces to update resource plans and schedules every hour using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ERCOT provided most likely short-term wind power forecast a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tandard for accurac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S approved on June 1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as RE supports this protocol with modification to support compli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cerns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etric and criteria that define passing and failing ar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d as well as the method for monitoring the metric (e.g. exceptio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ort, ISO complain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as RE is coordinating with ERCOT ISO to develop Texas RE’s capability t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uct Spot Check queries of Resource Plan performan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ooter Placeholder 3"/>
          <p:cNvSpPr/>
          <p:nvPr/>
        </p:nvSpPr>
        <p:spPr>
          <a:xfrm>
            <a:off x="6553080" y="6172200"/>
            <a:ext cx="2362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as RE Report                           July 16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OGRR 224 - Special Protection System (SPS) Operations Under No Contingency 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77920" y="1143000"/>
            <a:ext cx="8588160" cy="47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GRR 224:  Places an obligation on Resource owners who have a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S to monitor the flows monitored by the SPS in the base case an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duce output as needed before the arming point of the SPS 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ch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as RE supports the OGRR as writt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ooter Placeholder 3"/>
          <p:cNvSpPr/>
          <p:nvPr/>
        </p:nvSpPr>
        <p:spPr>
          <a:xfrm>
            <a:off x="5943600" y="6172200"/>
            <a:ext cx="3048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as RE Report                           July 16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May 2009 ERCOT’s CPS1 Monthly Performance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44" name="Footer Placeholder 3"/>
          <p:cNvSpPr/>
          <p:nvPr/>
        </p:nvSpPr>
        <p:spPr>
          <a:xfrm>
            <a:off x="5486400" y="617220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em 4a - Compliance Report                             June 15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Content Placeholder 4" descr=""/>
          <p:cNvPicPr/>
          <p:nvPr/>
        </p:nvPicPr>
        <p:blipFill>
          <a:blip r:embed="rId1"/>
          <a:stretch/>
        </p:blipFill>
        <p:spPr>
          <a:xfrm>
            <a:off x="146160" y="1060560"/>
            <a:ext cx="8851680" cy="47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Analysis of CPS1 Monthly Performance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9140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urpo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To maintain Interconnection steady-state frequency within defined limits by balancing real power demand and supply in real-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S1 is one reliability measure of how well the ERCOT region managed the B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COT region’s frequency performance is determined by NERC Control Performance Standard 1 (CPS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asonal fluctuation is expec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ores for individual months can be adversely affected by events (such as hurricane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detailed formula can be found in NERC Reliability Standard BAL-001-0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ooter Placeholder 5"/>
          <p:cNvSpPr/>
          <p:nvPr/>
        </p:nvSpPr>
        <p:spPr>
          <a:xfrm>
            <a:off x="5486400" y="617220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em 4a - Compliance Report                             June 15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Overview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RC Organization Registration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 Serving Entity (LSE) Registration JRO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RC Standards Self-Certification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RC Audit &amp; Enforcement Highl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tical Infrastructure Protection - Spot Che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tical Performance Metrics and Criteria for the ERCOT Nodal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onal PRR and OGRR pro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ooter Placeholder 5"/>
          <p:cNvSpPr/>
          <p:nvPr/>
        </p:nvSpPr>
        <p:spPr>
          <a:xfrm>
            <a:off x="5486400" y="617220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AS RE REPORT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16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NERC Organization Registration Update 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2280" y="990720"/>
            <a:ext cx="88394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as RE and other ERCOT Stakeholders submitted comments on the proposed changes to NERC Rules of Procedures (section 500); These changes can modify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ules dealing with organization registration and cer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endix 5, the Organization Registration and Certification Manual 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ents to changes are posted on the NERC website: </a:t>
            </a:r>
            <a:r>
              <a:rPr b="1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nerc.com/page.php?cid=1|8|16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as RE also provided comments on NERC’s technical feasibility exemptions (TFEs) procedure (CIP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5486400" y="617220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XAS RE REPORT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ly 16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NERC LSE Registration Update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28600" y="12189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keholders from the Load Serving Entity Registration Working Group (LSERWG) made additional comments for Texas RE staff to incorporate into the NERC LSE JRO Matrix and proposed Agreement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as RE met with Transmission Owners (TOs) on July 1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further streamline the proposed agreement and matrix cont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as RE made changes to the proposed agreement and matrix content, based on stakeholders comments and sent out for final revie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ooter Placeholder 3"/>
          <p:cNvSpPr/>
          <p:nvPr/>
        </p:nvSpPr>
        <p:spPr>
          <a:xfrm>
            <a:off x="6095880" y="617220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ooter Placeholder 4"/>
          <p:cNvSpPr/>
          <p:nvPr/>
        </p:nvSpPr>
        <p:spPr>
          <a:xfrm>
            <a:off x="6629400" y="617220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AS RE REPORT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16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NERC Standards Self-Certification Schedule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77920" y="1224000"/>
            <a:ext cx="861048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elf-Certification Activity by NERC Func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tar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tical Infrastructure Protection (CIP) Standards,                       July 1    August 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P-002-009 for Generator Owner (GO)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or Operator (GOP) and Transmission Owner (TO)                                                          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tion Provider (DP), Purchasing-Selling Entity (PSE),        August 3  Sept 3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mission Planner (TP) and 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on CIP Standard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submissions will be via the Texas RE Port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% of NERC GO/GOP self-certification submissions for non CIP Standards in June, were received by Texas 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GO, GOP and TO registrants are required to complete the CIP Self Certification even if they are being audited this yea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6095880" y="617220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ooter Placeholder 4"/>
          <p:cNvSpPr/>
          <p:nvPr/>
        </p:nvSpPr>
        <p:spPr>
          <a:xfrm>
            <a:off x="6477120" y="617220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XAS RE REPORT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ly 16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NERC Audit &amp; Enforcement Highlights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0" y="533520"/>
            <a:ext cx="91440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550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Seven (7)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NERC standards Audits; One (1) Protocol Audit conducted in June, as schedul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RC observers attended five (5) NERC standards Audits and provided favorable comments on the conduct of the audit te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as RE and the other seven (7) regions are continuing efforts to coordinate compliance activities for multi-region registered entities, with particular focus currently on PSEs (Purchasing Selling Entitie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550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cus in June has been to prepare for spot checks of NERC CIP standar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550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xas RE will conduct one spot-check in July for thirteen (13) requiremen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5486400" y="617220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XAS RE REPORT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ly 16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Public Notice of Penalties (NOP) Filed at FERC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52280" y="106668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olations and Settlements that have reached FERC are published a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nerc.com/filez/enforcement/index.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3"/>
          <p:cNvSpPr/>
          <p:nvPr/>
        </p:nvSpPr>
        <p:spPr>
          <a:xfrm>
            <a:off x="5486400" y="617220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AS RE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16,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Critical Infrastructure Protection - Spot Check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560" y="10666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spot check of CIP-002, Critical Cyber Asset identification was initiated in June, 200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market participant, who has not reached auditably compliant stage,  volunteered to provide their methodology for review as part of this spot che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effort will enable Texas RE to better understand the work load associated with CIP-002 standard auditing and enforc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review of the methodology found it to be very go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rn exists regarding how methodologies will be coordinated between Registered Ent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ooter Placeholder 3"/>
          <p:cNvSpPr/>
          <p:nvPr/>
        </p:nvSpPr>
        <p:spPr>
          <a:xfrm>
            <a:off x="6477120" y="617220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XAS RE REPORT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ly 16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76680" y="759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   </a:t>
            </a:r>
            <a:r>
              <a:rPr b="0" lang="en-US" sz="2400" spc="-1" strike="noStrike">
                <a:solidFill>
                  <a:srgbClr val="003296"/>
                </a:solidFill>
                <a:latin typeface="Arial Black"/>
              </a:rPr>
              <a:t>Critical Performance Metric and Criteria for the ERCOT Nodal Market</a:t>
            </a:r>
            <a:endParaRPr b="0" lang="en-US" sz="2400" spc="-1" strike="noStrike">
              <a:solidFill>
                <a:srgbClr val="003296"/>
              </a:solidFill>
              <a:latin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28240" y="9140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liminary measures and criteria were published on Jun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puc.state.tx.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under Hot Topic Briefs – ERCOT Nodal Metrics Project 3705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hops were conducted to collect stakeholder com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hop was held on: Friday, June 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the PUCT, and was well attende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workshop was held on July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the Met Center, room 20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6699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ject: draft NPRR, jointly authored by the PUCT, ERCOT ISO, and Texas RE to enhance existing nodal protocols with additional language, metrics, and pass/fail criter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ooter Placeholder 3"/>
          <p:cNvSpPr/>
          <p:nvPr/>
        </p:nvSpPr>
        <p:spPr>
          <a:xfrm>
            <a:off x="6477120" y="617220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XAS RE REPORT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ly 16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Todd_Brewer</dc:creator>
  <dc:description/>
  <dc:language>en-US</dc:language>
  <cp:lastModifiedBy>vbarry</cp:lastModifiedBy>
  <dcterms:modified xsi:type="dcterms:W3CDTF">2009-07-16T14:02:42Z</dcterms:modified>
  <cp:revision>585</cp:revision>
  <dc:subject/>
  <dc:title>Texas Regional Entity Presentation</dc:title>
</cp:coreProperties>
</file>