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34836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58720" y="130788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73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34836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58720" y="3609720"/>
            <a:ext cx="24854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09720" y="609120"/>
            <a:ext cx="7548480" cy="19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040" y="360972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040" y="1307880"/>
            <a:ext cx="37670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38360" y="3609720"/>
            <a:ext cx="771984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232680" y="5952960"/>
            <a:ext cx="2639880" cy="83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97480" y="5872320"/>
            <a:ext cx="278928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586560" y="6113520"/>
            <a:ext cx="2138400" cy="4111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09720" y="5940360"/>
            <a:ext cx="7777080" cy="0"/>
          </a:xfrm>
          <a:prstGeom prst="line">
            <a:avLst/>
          </a:prstGeom>
          <a:ln w="64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-165240">
              <a:spcBef>
                <a:spcPts val="499"/>
              </a:spcBef>
              <a:buClr>
                <a:srgbClr val="ff6633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749160" indent="-1774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028880" indent="-165240">
              <a:spcBef>
                <a:spcPts val="499"/>
              </a:spcBef>
              <a:buClr>
                <a:srgbClr val="ff6633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490760" indent="-233280"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490760" indent="-233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360" y="669600"/>
            <a:ext cx="7777080" cy="3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9720" y="609120"/>
            <a:ext cx="7548480" cy="41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imary Frequency Response – draft PRR – for ROS, July 2009</a:t>
            </a:r>
            <a:endParaRPr b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38360" y="1307880"/>
            <a:ext cx="77198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Wind Operations Task Force presents this draft PRR for ROS’ consideration and vot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ew def: Primary Frequency Response = “The automatic and naturally occurring responses to system frequency deviations provided by turbine governors and Loads within the first few seconds of a reportable frequency event.”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s PRR requires all generators that have capacity available must provide governor response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s PRR requires new WGRs (signed IA after 12/1) to provide primary frequency response, similar to 5% droop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77840" indent="-17784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nconsensus issue: Retrofitting older WGRs (see yellow highlight on page 3) – whether to tackle this now or later.  Technical infeasibility exception allowe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4:25:02Z</dcterms:created>
  <dc:creator>mgarrett</dc:creator>
  <dc:description/>
  <dc:language>en-US</dc:language>
  <cp:lastModifiedBy>mgarrett</cp:lastModifiedBy>
  <dcterms:modified xsi:type="dcterms:W3CDTF">2009-07-15T19:00:42Z</dcterms:modified>
  <cp:revision>24</cp:revision>
  <dc:subject/>
  <dc:title>Wind Operations Task Force</dc:title>
</cp:coreProperties>
</file>