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9640" rIns="89640" tIns="44640" bIns="44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8D482E4-380C-4BC8-BFC3-5E4CE6B9A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A0ADFA8-39A9-488E-A1D4-D7E01FACE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E93D442-AC0B-4A66-83AA-7FB7D55A9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B79C844-40B9-4244-95E6-66940EBF8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8782C5E-B0FD-4B6E-8D24-721B4D3E6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7806B87-08EA-4D09-B300-34374E757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CBCB657-199C-45FD-9B41-2BCF59FBE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-117720"/>
            <a:ext cx="8991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21D30560-48C4-4548-954B-2317B98C3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Line 7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Rectangle 9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0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nomcrhelp@ercot.com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rcot.com/gridinfo/transmission/opsys-change-schedule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odal.ercot.com/readiness/golive/index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13D23B36-95F8-492C-91AF-9B53FD516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2130120"/>
            <a:ext cx="6934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ngle Entry Model (SEM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o-Live Updat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00200" y="3885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S Up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ly 16,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1155600" y="640080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6F8C69A7-89AB-4B6B-8802-62BBEA783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M Go-Live Criteria and Approval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72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09480" y="16765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152280" y="685800"/>
            <a:ext cx="8915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76320" y="1752480"/>
            <a:ext cx="8915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y of remaining Stakeholder meeting dates for SEM discussion/approval of Go-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week- NDSWG - July 14  &amp;  ROS - July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D -  July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-day “Conditional upon Board Approval” Market Notice  - Aug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 - Aug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 - Aug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DSWG - Aug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publishes results and sign-off from Directors – Aug 20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&gt; Aug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D - Aug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-day Market Notice - Aug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 Go-Live - Aug 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"/>
          <p:cNvPicPr/>
          <p:nvPr/>
        </p:nvPicPr>
        <p:blipFill>
          <a:blip r:embed="rId1"/>
          <a:stretch/>
        </p:blipFill>
        <p:spPr>
          <a:xfrm>
            <a:off x="39600" y="900000"/>
            <a:ext cx="9104400" cy="5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CB815609-69A9-41B0-A3D3-B00715ED1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60948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76320" y="1066680"/>
            <a:ext cx="8915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PPEND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SEM Go-Live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summary during June – August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AA6F3DF7-4AA5-490E-B766-07D5CD9C7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M Go-Live Overview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685440"/>
            <a:ext cx="85471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Entry Model (SEM) Go-Live is the switchover on Aug 31, 2009 for TSP submissions of network operations model change reque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“Service Request” submissions via 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“NOMCR” submissions via the NM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System of record for model changes becomes NOMCRs on 8/31//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System of record for Network operations Model for reliability and dispatch remains Zonal/Genesys system until Dec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219320" y="2895480"/>
            <a:ext cx="152388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 A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609480" y="3733920"/>
            <a:ext cx="266724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mit 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ge via Service Requ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76320" y="4648320"/>
            <a:ext cx="1828800" cy="1066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Up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vc Reque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o Z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sys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2362320" y="4648320"/>
            <a:ext cx="1981080" cy="1066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pies/Conve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al Model “seed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o Nod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MMS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5943600" y="2895480"/>
            <a:ext cx="1523880" cy="533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 31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5334120" y="3733920"/>
            <a:ext cx="26668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mit Modeling Change v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CR/NMMS T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cludes ICC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4800600" y="4648320"/>
            <a:ext cx="1828800" cy="1066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Increment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verts  NOMC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o Svc Req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loads into Z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sys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7162920" y="4648320"/>
            <a:ext cx="1752480" cy="1066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COT upload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C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o Nod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MMS Model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port nodal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3"/>
          <p:cNvSpPr/>
          <p:nvPr/>
        </p:nvSpPr>
        <p:spPr>
          <a:xfrm>
            <a:off x="20574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4"/>
          <p:cNvSpPr/>
          <p:nvPr/>
        </p:nvSpPr>
        <p:spPr>
          <a:xfrm>
            <a:off x="990720" y="4343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5"/>
          <p:cNvSpPr/>
          <p:nvPr/>
        </p:nvSpPr>
        <p:spPr>
          <a:xfrm>
            <a:off x="1905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670572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7"/>
          <p:cNvSpPr/>
          <p:nvPr/>
        </p:nvSpPr>
        <p:spPr>
          <a:xfrm>
            <a:off x="7696080" y="4343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 flipH="1">
            <a:off x="6629400" y="5257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9"/>
          <p:cNvSpPr/>
          <p:nvPr/>
        </p:nvSpPr>
        <p:spPr>
          <a:xfrm>
            <a:off x="76320" y="5715000"/>
            <a:ext cx="426708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Consistency Checks are run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sure model synchronization/fide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0"/>
          <p:cNvSpPr/>
          <p:nvPr/>
        </p:nvSpPr>
        <p:spPr>
          <a:xfrm>
            <a:off x="4800600" y="5715000"/>
            <a:ext cx="4114800" cy="4572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 checks are run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sure model synchronization/fide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4572000" y="2819520"/>
            <a:ext cx="0" cy="34290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1828800" y="5087880"/>
            <a:ext cx="5335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6553080" y="5087880"/>
            <a:ext cx="7621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MC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1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BE60-9CDD-410A-98FA-5E41A0122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rrent Network Operations Model Maintenance for TSPs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2590920" y="1371600"/>
            <a:ext cx="52578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COT Zonal EMM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ystem of record through 12/1/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ight Arrow 5"/>
          <p:cNvSpPr/>
          <p:nvPr/>
        </p:nvSpPr>
        <p:spPr>
          <a:xfrm>
            <a:off x="914400" y="1295280"/>
            <a:ext cx="1676520" cy="129564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mits Service Request to Chang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47"/>
          <p:cNvGrpSpPr/>
          <p:nvPr/>
        </p:nvGrpSpPr>
        <p:grpSpPr>
          <a:xfrm>
            <a:off x="2590920" y="2514600"/>
            <a:ext cx="5181480" cy="2133720"/>
            <a:chOff x="2590920" y="2514600"/>
            <a:chExt cx="5181480" cy="2133720"/>
          </a:xfrm>
        </p:grpSpPr>
        <p:sp>
          <p:nvSpPr>
            <p:cNvPr id="138" name="Rectangle 11"/>
            <p:cNvSpPr/>
            <p:nvPr/>
          </p:nvSpPr>
          <p:spPr>
            <a:xfrm>
              <a:off x="2590920" y="3505320"/>
              <a:ext cx="5181480" cy="1143000"/>
            </a:xfrm>
            <a:prstGeom prst="rect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RCOT Nodal NMMS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nodal testing model- CIM file for EMS/MMS/et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Down Arrow 13"/>
            <p:cNvSpPr/>
            <p:nvPr/>
          </p:nvSpPr>
          <p:spPr>
            <a:xfrm>
              <a:off x="6019920" y="2514600"/>
              <a:ext cx="838080" cy="1295280"/>
            </a:xfrm>
            <a:prstGeom prst="downArrow">
              <a:avLst>
                <a:gd name="adj1" fmla="val 50000"/>
                <a:gd name="adj2" fmla="val 50001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Down Arrow 8"/>
            <p:cNvSpPr/>
            <p:nvPr/>
          </p:nvSpPr>
          <p:spPr>
            <a:xfrm>
              <a:off x="2971800" y="2514600"/>
              <a:ext cx="838080" cy="1295280"/>
            </a:xfrm>
            <a:prstGeom prst="downArrow">
              <a:avLst>
                <a:gd name="adj1" fmla="val 50000"/>
                <a:gd name="adj2" fmla="val 50001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Down Arrow 9"/>
            <p:cNvSpPr/>
            <p:nvPr/>
          </p:nvSpPr>
          <p:spPr>
            <a:xfrm>
              <a:off x="4495680" y="2514600"/>
              <a:ext cx="838440" cy="12952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Box 10"/>
            <p:cNvSpPr/>
            <p:nvPr/>
          </p:nvSpPr>
          <p:spPr>
            <a:xfrm>
              <a:off x="2666880" y="2666880"/>
              <a:ext cx="5029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iodic full copy and conversion of mode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zonal seed used for nodal system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Rectangle 4"/>
          <p:cNvSpPr/>
          <p:nvPr/>
        </p:nvSpPr>
        <p:spPr>
          <a:xfrm>
            <a:off x="152280" y="1371600"/>
            <a:ext cx="762120" cy="1143000"/>
          </a:xfrm>
          <a:prstGeom prst="rect">
            <a:avLst/>
          </a:prstGeom>
          <a:solidFill>
            <a:srgbClr val="6699ff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1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B84B-BFED-4A02-AC74-45B6E98A0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After 8/31/2009</a:t>
            </a:r>
            <a:r>
              <a:rPr b="1" lang="en-US" sz="1800" spc="-1" strike="noStrike">
                <a:solidFill>
                  <a:srgbClr val="ffcc00"/>
                </a:solidFill>
                <a:latin typeface="Arial Black"/>
              </a:rPr>
              <a:t>:</a:t>
            </a:r>
            <a:r>
              <a:rPr b="1" lang="en-US" sz="18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M Go-Liv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etwork Operations Model Maintenance for TSP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2590920" y="1371600"/>
            <a:ext cx="52578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COT Zonal EMM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ystem of record through 12/1/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2590920" y="3429000"/>
            <a:ext cx="5181480" cy="11430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COT Nodal NMM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nodal testing model- CIM file for EMS/MMS/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42"/>
          <p:cNvGrpSpPr/>
          <p:nvPr/>
        </p:nvGrpSpPr>
        <p:grpSpPr>
          <a:xfrm>
            <a:off x="2894040" y="2514240"/>
            <a:ext cx="4802400" cy="914760"/>
            <a:chOff x="2894040" y="2514240"/>
            <a:chExt cx="4802400" cy="914760"/>
          </a:xfrm>
        </p:grpSpPr>
        <p:grpSp>
          <p:nvGrpSpPr>
            <p:cNvPr id="149" name="Group 40"/>
            <p:cNvGrpSpPr/>
            <p:nvPr/>
          </p:nvGrpSpPr>
          <p:grpSpPr>
            <a:xfrm>
              <a:off x="2894040" y="2514240"/>
              <a:ext cx="4802400" cy="914760"/>
              <a:chOff x="2894040" y="2514240"/>
              <a:chExt cx="4802400" cy="914760"/>
            </a:xfrm>
          </p:grpSpPr>
          <p:cxnSp>
            <p:nvCxnSpPr>
              <p:cNvPr id="150" name="Straight Arrow Connector 14"/>
              <p:cNvCxnSpPr/>
              <p:nvPr/>
            </p:nvCxnSpPr>
            <p:spPr>
              <a:xfrm flipV="1">
                <a:off x="28940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51" name="Straight Arrow Connector 15"/>
              <p:cNvCxnSpPr/>
              <p:nvPr/>
            </p:nvCxnSpPr>
            <p:spPr>
              <a:xfrm flipV="1">
                <a:off x="31226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52" name="Straight Arrow Connector 16"/>
              <p:cNvCxnSpPr/>
              <p:nvPr/>
            </p:nvCxnSpPr>
            <p:spPr>
              <a:xfrm flipV="1">
                <a:off x="33512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53" name="Straight Arrow Connector 17"/>
              <p:cNvCxnSpPr/>
              <p:nvPr/>
            </p:nvCxnSpPr>
            <p:spPr>
              <a:xfrm flipV="1">
                <a:off x="35812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54" name="Straight Arrow Connector 18"/>
              <p:cNvCxnSpPr/>
              <p:nvPr/>
            </p:nvCxnSpPr>
            <p:spPr>
              <a:xfrm flipV="1">
                <a:off x="38098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55" name="Straight Arrow Connector 20"/>
              <p:cNvCxnSpPr/>
              <p:nvPr/>
            </p:nvCxnSpPr>
            <p:spPr>
              <a:xfrm flipV="1">
                <a:off x="40384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56" name="Straight Arrow Connector 22"/>
              <p:cNvCxnSpPr/>
              <p:nvPr/>
            </p:nvCxnSpPr>
            <p:spPr>
              <a:xfrm flipV="1">
                <a:off x="42638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57" name="Straight Arrow Connector 23"/>
              <p:cNvCxnSpPr/>
              <p:nvPr/>
            </p:nvCxnSpPr>
            <p:spPr>
              <a:xfrm flipV="1">
                <a:off x="44924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58" name="Straight Arrow Connector 24"/>
              <p:cNvCxnSpPr/>
              <p:nvPr/>
            </p:nvCxnSpPr>
            <p:spPr>
              <a:xfrm flipV="1">
                <a:off x="47210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59" name="Straight Arrow Connector 25"/>
              <p:cNvCxnSpPr/>
              <p:nvPr/>
            </p:nvCxnSpPr>
            <p:spPr>
              <a:xfrm flipV="1">
                <a:off x="49514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60" name="Straight Arrow Connector 26"/>
              <p:cNvCxnSpPr/>
              <p:nvPr/>
            </p:nvCxnSpPr>
            <p:spPr>
              <a:xfrm flipV="1">
                <a:off x="51800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61" name="Straight Arrow Connector 27"/>
              <p:cNvCxnSpPr/>
              <p:nvPr/>
            </p:nvCxnSpPr>
            <p:spPr>
              <a:xfrm flipV="1">
                <a:off x="54086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62" name="Straight Arrow Connector 28"/>
              <p:cNvCxnSpPr/>
              <p:nvPr/>
            </p:nvCxnSpPr>
            <p:spPr>
              <a:xfrm flipV="1">
                <a:off x="56386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63" name="Straight Arrow Connector 29"/>
              <p:cNvCxnSpPr/>
              <p:nvPr/>
            </p:nvCxnSpPr>
            <p:spPr>
              <a:xfrm flipV="1">
                <a:off x="58658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64" name="Straight Arrow Connector 30"/>
              <p:cNvCxnSpPr/>
              <p:nvPr/>
            </p:nvCxnSpPr>
            <p:spPr>
              <a:xfrm flipV="1">
                <a:off x="60944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65" name="Straight Arrow Connector 31"/>
              <p:cNvCxnSpPr/>
              <p:nvPr/>
            </p:nvCxnSpPr>
            <p:spPr>
              <a:xfrm flipV="1">
                <a:off x="63244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66" name="Straight Arrow Connector 32"/>
              <p:cNvCxnSpPr/>
              <p:nvPr/>
            </p:nvCxnSpPr>
            <p:spPr>
              <a:xfrm flipV="1">
                <a:off x="65530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67" name="Straight Arrow Connector 33"/>
              <p:cNvCxnSpPr/>
              <p:nvPr/>
            </p:nvCxnSpPr>
            <p:spPr>
              <a:xfrm flipV="1">
                <a:off x="67816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68" name="Straight Arrow Connector 34"/>
              <p:cNvCxnSpPr/>
              <p:nvPr/>
            </p:nvCxnSpPr>
            <p:spPr>
              <a:xfrm flipV="1">
                <a:off x="700740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69" name="Straight Arrow Connector 35"/>
              <p:cNvCxnSpPr/>
              <p:nvPr/>
            </p:nvCxnSpPr>
            <p:spPr>
              <a:xfrm flipV="1">
                <a:off x="723600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70" name="Straight Arrow Connector 36"/>
              <p:cNvCxnSpPr/>
              <p:nvPr/>
            </p:nvCxnSpPr>
            <p:spPr>
              <a:xfrm flipV="1">
                <a:off x="746460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71" name="Straight Arrow Connector 37"/>
              <p:cNvCxnSpPr/>
              <p:nvPr/>
            </p:nvCxnSpPr>
            <p:spPr>
              <a:xfrm flipV="1">
                <a:off x="76946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</p:grpSp>
        <p:sp>
          <p:nvSpPr>
            <p:cNvPr id="172" name="TextBox 41"/>
            <p:cNvSpPr/>
            <p:nvPr/>
          </p:nvSpPr>
          <p:spPr>
            <a:xfrm>
              <a:off x="2895480" y="2833560"/>
              <a:ext cx="480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RCOT enters NOMCRs into zonal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Striped Right Arrow 42"/>
          <p:cNvSpPr/>
          <p:nvPr/>
        </p:nvSpPr>
        <p:spPr>
          <a:xfrm>
            <a:off x="2743200" y="4724280"/>
            <a:ext cx="5029200" cy="1067040"/>
          </a:xfrm>
          <a:prstGeom prst="pie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RCOT runs consistency checks to ensure models are aligned and mainta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41"/>
          <p:cNvGrpSpPr/>
          <p:nvPr/>
        </p:nvGrpSpPr>
        <p:grpSpPr>
          <a:xfrm>
            <a:off x="152280" y="3390840"/>
            <a:ext cx="2438640" cy="1295640"/>
            <a:chOff x="152280" y="3390840"/>
            <a:chExt cx="2438640" cy="1295640"/>
          </a:xfrm>
        </p:grpSpPr>
        <p:sp>
          <p:nvSpPr>
            <p:cNvPr id="175" name="Right Arrow 5"/>
            <p:cNvSpPr/>
            <p:nvPr/>
          </p:nvSpPr>
          <p:spPr>
            <a:xfrm>
              <a:off x="914400" y="3390840"/>
              <a:ext cx="1676520" cy="1295640"/>
            </a:xfrm>
            <a:prstGeom prst="rightArrow">
              <a:avLst>
                <a:gd name="adj1" fmla="val 50000"/>
                <a:gd name="adj2" fmla="val 49992"/>
              </a:avLst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ubmits Model Change Request (NOMCR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4"/>
            <p:cNvSpPr/>
            <p:nvPr/>
          </p:nvSpPr>
          <p:spPr>
            <a:xfrm>
              <a:off x="152280" y="3467160"/>
              <a:ext cx="762120" cy="1143000"/>
            </a:xfrm>
            <a:prstGeom prst="rect">
              <a:avLst/>
            </a:prstGeom>
            <a:solidFill>
              <a:srgbClr val="6699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Rectangle 45"/>
          <p:cNvSpPr/>
          <p:nvPr/>
        </p:nvSpPr>
        <p:spPr>
          <a:xfrm>
            <a:off x="7848720" y="3429000"/>
            <a:ext cx="1295280" cy="11430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MM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tem of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46"/>
          <p:cNvSpPr/>
          <p:nvPr/>
        </p:nvSpPr>
        <p:spPr>
          <a:xfrm>
            <a:off x="7010280" y="83808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Nodal Go-Live 12/1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2"/>
          <p:cNvSpPr/>
          <p:nvPr/>
        </p:nvSpPr>
        <p:spPr>
          <a:xfrm>
            <a:off x="7810560" y="1295280"/>
            <a:ext cx="0" cy="441972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1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2EB8-7E4F-4960-9F98-F589B9EBF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etwork Operations Model Maintenance for Resource &amp; Q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(today and post 8/31/09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2590920" y="1371600"/>
            <a:ext cx="52578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COT Zonal EMM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ystem of record through 12/1/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"/>
          <p:cNvSpPr/>
          <p:nvPr/>
        </p:nvSpPr>
        <p:spPr>
          <a:xfrm>
            <a:off x="2590920" y="3429000"/>
            <a:ext cx="5181480" cy="11430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RCOT Nodal NMM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nodal testing model- CIM file for EMS/MMS/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43"/>
          <p:cNvGrpSpPr/>
          <p:nvPr/>
        </p:nvGrpSpPr>
        <p:grpSpPr>
          <a:xfrm>
            <a:off x="2894040" y="2514240"/>
            <a:ext cx="4802400" cy="914760"/>
            <a:chOff x="2894040" y="2514240"/>
            <a:chExt cx="4802400" cy="914760"/>
          </a:xfrm>
        </p:grpSpPr>
        <p:grpSp>
          <p:nvGrpSpPr>
            <p:cNvPr id="185" name="Group 40"/>
            <p:cNvGrpSpPr/>
            <p:nvPr/>
          </p:nvGrpSpPr>
          <p:grpSpPr>
            <a:xfrm>
              <a:off x="2894040" y="2514240"/>
              <a:ext cx="4802400" cy="914760"/>
              <a:chOff x="2894040" y="2514240"/>
              <a:chExt cx="4802400" cy="914760"/>
            </a:xfrm>
          </p:grpSpPr>
          <p:cxnSp>
            <p:nvCxnSpPr>
              <p:cNvPr id="186" name="Straight Arrow Connector 14"/>
              <p:cNvCxnSpPr/>
              <p:nvPr/>
            </p:nvCxnSpPr>
            <p:spPr>
              <a:xfrm flipV="1">
                <a:off x="28940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87" name="Straight Arrow Connector 15"/>
              <p:cNvCxnSpPr/>
              <p:nvPr/>
            </p:nvCxnSpPr>
            <p:spPr>
              <a:xfrm flipV="1">
                <a:off x="31226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88" name="Straight Arrow Connector 16"/>
              <p:cNvCxnSpPr/>
              <p:nvPr/>
            </p:nvCxnSpPr>
            <p:spPr>
              <a:xfrm flipV="1">
                <a:off x="33512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89" name="Straight Arrow Connector 17"/>
              <p:cNvCxnSpPr/>
              <p:nvPr/>
            </p:nvCxnSpPr>
            <p:spPr>
              <a:xfrm flipV="1">
                <a:off x="35812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90" name="Straight Arrow Connector 18"/>
              <p:cNvCxnSpPr/>
              <p:nvPr/>
            </p:nvCxnSpPr>
            <p:spPr>
              <a:xfrm flipV="1">
                <a:off x="38098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91" name="Straight Arrow Connector 20"/>
              <p:cNvCxnSpPr/>
              <p:nvPr/>
            </p:nvCxnSpPr>
            <p:spPr>
              <a:xfrm flipV="1">
                <a:off x="40384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92" name="Straight Arrow Connector 22"/>
              <p:cNvCxnSpPr/>
              <p:nvPr/>
            </p:nvCxnSpPr>
            <p:spPr>
              <a:xfrm flipV="1">
                <a:off x="42638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93" name="Straight Arrow Connector 23"/>
              <p:cNvCxnSpPr/>
              <p:nvPr/>
            </p:nvCxnSpPr>
            <p:spPr>
              <a:xfrm flipV="1">
                <a:off x="44924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94" name="Straight Arrow Connector 24"/>
              <p:cNvCxnSpPr/>
              <p:nvPr/>
            </p:nvCxnSpPr>
            <p:spPr>
              <a:xfrm flipV="1">
                <a:off x="47210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95" name="Straight Arrow Connector 25"/>
              <p:cNvCxnSpPr/>
              <p:nvPr/>
            </p:nvCxnSpPr>
            <p:spPr>
              <a:xfrm flipV="1">
                <a:off x="49514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96" name="Straight Arrow Connector 26"/>
              <p:cNvCxnSpPr/>
              <p:nvPr/>
            </p:nvCxnSpPr>
            <p:spPr>
              <a:xfrm flipV="1">
                <a:off x="51800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97" name="Straight Arrow Connector 27"/>
              <p:cNvCxnSpPr/>
              <p:nvPr/>
            </p:nvCxnSpPr>
            <p:spPr>
              <a:xfrm flipV="1">
                <a:off x="54086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98" name="Straight Arrow Connector 28"/>
              <p:cNvCxnSpPr/>
              <p:nvPr/>
            </p:nvCxnSpPr>
            <p:spPr>
              <a:xfrm flipV="1">
                <a:off x="56386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199" name="Straight Arrow Connector 29"/>
              <p:cNvCxnSpPr/>
              <p:nvPr/>
            </p:nvCxnSpPr>
            <p:spPr>
              <a:xfrm flipV="1">
                <a:off x="58658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200" name="Straight Arrow Connector 30"/>
              <p:cNvCxnSpPr/>
              <p:nvPr/>
            </p:nvCxnSpPr>
            <p:spPr>
              <a:xfrm flipV="1">
                <a:off x="60944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201" name="Straight Arrow Connector 31"/>
              <p:cNvCxnSpPr/>
              <p:nvPr/>
            </p:nvCxnSpPr>
            <p:spPr>
              <a:xfrm flipV="1">
                <a:off x="63244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202" name="Straight Arrow Connector 32"/>
              <p:cNvCxnSpPr/>
              <p:nvPr/>
            </p:nvCxnSpPr>
            <p:spPr>
              <a:xfrm flipV="1">
                <a:off x="65530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203" name="Straight Arrow Connector 33"/>
              <p:cNvCxnSpPr/>
              <p:nvPr/>
            </p:nvCxnSpPr>
            <p:spPr>
              <a:xfrm flipV="1">
                <a:off x="678168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204" name="Straight Arrow Connector 34"/>
              <p:cNvCxnSpPr/>
              <p:nvPr/>
            </p:nvCxnSpPr>
            <p:spPr>
              <a:xfrm flipV="1">
                <a:off x="700740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205" name="Straight Arrow Connector 35"/>
              <p:cNvCxnSpPr/>
              <p:nvPr/>
            </p:nvCxnSpPr>
            <p:spPr>
              <a:xfrm flipV="1">
                <a:off x="723600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206" name="Straight Arrow Connector 36"/>
              <p:cNvCxnSpPr/>
              <p:nvPr/>
            </p:nvCxnSpPr>
            <p:spPr>
              <a:xfrm flipV="1">
                <a:off x="746460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  <p:cxnSp>
            <p:nvCxnSpPr>
              <p:cNvPr id="207" name="Straight Arrow Connector 37"/>
              <p:cNvCxnSpPr/>
              <p:nvPr/>
            </p:nvCxnSpPr>
            <p:spPr>
              <a:xfrm flipV="1">
                <a:off x="7694640" y="2514240"/>
                <a:ext cx="2160" cy="915120"/>
              </a:xfrm>
              <a:prstGeom prst="straightConnector1">
                <a:avLst/>
              </a:prstGeom>
              <a:ln cap="rnd" w="25560">
                <a:solidFill>
                  <a:srgbClr val="33cc33"/>
                </a:solidFill>
                <a:miter/>
                <a:tailEnd len="med" type="arrow" w="med"/>
              </a:ln>
            </p:spPr>
          </p:cxnSp>
        </p:grpSp>
        <p:sp>
          <p:nvSpPr>
            <p:cNvPr id="208" name="TextBox 41"/>
            <p:cNvSpPr/>
            <p:nvPr/>
          </p:nvSpPr>
          <p:spPr>
            <a:xfrm>
              <a:off x="3276720" y="2833560"/>
              <a:ext cx="4190760" cy="368280"/>
            </a:xfrm>
            <a:prstGeom prst="rect">
              <a:avLst/>
            </a:prstGeom>
            <a:noFill/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RCOT enters into zonal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Rectangle 45"/>
          <p:cNvSpPr/>
          <p:nvPr/>
        </p:nvSpPr>
        <p:spPr>
          <a:xfrm>
            <a:off x="7848720" y="3429000"/>
            <a:ext cx="1295280" cy="11430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MM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ystem of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46"/>
          <p:cNvSpPr/>
          <p:nvPr/>
        </p:nvSpPr>
        <p:spPr>
          <a:xfrm>
            <a:off x="7010280" y="83808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Nodal Go-Live 12/1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45"/>
          <p:cNvGrpSpPr/>
          <p:nvPr/>
        </p:nvGrpSpPr>
        <p:grpSpPr>
          <a:xfrm>
            <a:off x="152280" y="4419720"/>
            <a:ext cx="8991720" cy="1800000"/>
            <a:chOff x="152280" y="4419720"/>
            <a:chExt cx="8991720" cy="1800000"/>
          </a:xfrm>
        </p:grpSpPr>
        <p:sp>
          <p:nvSpPr>
            <p:cNvPr id="212" name="Up Arrow 42"/>
            <p:cNvSpPr/>
            <p:nvPr/>
          </p:nvSpPr>
          <p:spPr>
            <a:xfrm>
              <a:off x="8229600" y="4495680"/>
              <a:ext cx="609480" cy="53352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Group 44"/>
            <p:cNvGrpSpPr/>
            <p:nvPr/>
          </p:nvGrpSpPr>
          <p:grpSpPr>
            <a:xfrm>
              <a:off x="152280" y="4419720"/>
              <a:ext cx="8991720" cy="1800000"/>
              <a:chOff x="152280" y="4419720"/>
              <a:chExt cx="8991720" cy="1800000"/>
            </a:xfrm>
          </p:grpSpPr>
          <p:sp>
            <p:nvSpPr>
              <p:cNvPr id="214" name="Right Arrow 39"/>
              <p:cNvSpPr/>
              <p:nvPr/>
            </p:nvSpPr>
            <p:spPr>
              <a:xfrm>
                <a:off x="914400" y="5153040"/>
                <a:ext cx="2514600" cy="1066680"/>
              </a:xfrm>
              <a:prstGeom prst="rightArrow">
                <a:avLst>
                  <a:gd name="adj1" fmla="val 50000"/>
                  <a:gd name="adj2" fmla="val 50007"/>
                </a:avLst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ubmits RARF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(Resource Asset Reg Form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via Service Reques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ight Arrow 5"/>
              <p:cNvSpPr/>
              <p:nvPr/>
            </p:nvSpPr>
            <p:spPr>
              <a:xfrm>
                <a:off x="914400" y="4419720"/>
                <a:ext cx="2514600" cy="1066680"/>
              </a:xfrm>
              <a:prstGeom prst="rightArrow">
                <a:avLst>
                  <a:gd name="adj1" fmla="val 50000"/>
                  <a:gd name="adj2" fmla="val 50007"/>
                </a:avLst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ubmits ICCP Chang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via Service Reques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ight Arrow Callout 40"/>
              <p:cNvSpPr/>
              <p:nvPr/>
            </p:nvSpPr>
            <p:spPr>
              <a:xfrm rot="16200000">
                <a:off x="5657760" y="2228760"/>
                <a:ext cx="1257120" cy="5715000"/>
              </a:xfrm>
              <a:prstGeom prst="rightArrowCallout">
                <a:avLst>
                  <a:gd name="adj1" fmla="val 25006"/>
                  <a:gd name="adj2" fmla="val 25004"/>
                  <a:gd name="adj3" fmla="val 25000"/>
                  <a:gd name="adj4" fmla="val 64977"/>
                </a:avLst>
              </a:pr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ERCOT proce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4"/>
              <p:cNvSpPr/>
              <p:nvPr/>
            </p:nvSpPr>
            <p:spPr>
              <a:xfrm>
                <a:off x="152280" y="4572000"/>
                <a:ext cx="762120" cy="685800"/>
              </a:xfrm>
              <a:prstGeom prst="rect">
                <a:avLst/>
              </a:prstGeom>
              <a:solidFill>
                <a:srgbClr val="6699ff"/>
              </a:solidFill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Q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38"/>
              <p:cNvSpPr/>
              <p:nvPr/>
            </p:nvSpPr>
            <p:spPr>
              <a:xfrm>
                <a:off x="152280" y="5334120"/>
                <a:ext cx="762120" cy="685800"/>
              </a:xfrm>
              <a:prstGeom prst="rect">
                <a:avLst/>
              </a:prstGeom>
              <a:solidFill>
                <a:srgbClr val="6699ff"/>
              </a:solidFill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Line 42"/>
          <p:cNvSpPr/>
          <p:nvPr/>
        </p:nvSpPr>
        <p:spPr>
          <a:xfrm>
            <a:off x="7810560" y="1295280"/>
            <a:ext cx="0" cy="441972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4D7C1959-3D36-4208-80B0-8E9A3AE2D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raining Updat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72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609480" y="16765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228600" y="914400"/>
            <a:ext cx="86104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P Testing and Training environments will be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sting system ac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le June 8 – Aug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MCR testing system will be on-line and available to all T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will establish dedicated email and have staff available to support question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mcrhelp@ercot.co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ructor Led Training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e hosted in Tayl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-SEM classes June 22 – Aug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plans for at least six 3-day sess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ning for 12-18 seats for each 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 dedicated training r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-SEM classes Sept 23- Oct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wer sessions and smaller classes (tb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-up classes, not just-in-time training for all staff after go-l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A93E6C97-E7AF-4B09-8534-CCA85CFE9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ransition summary during June-Aug’09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723600"/>
            <a:ext cx="854712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609480" y="1371600"/>
            <a:ext cx="693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76320" y="457200"/>
            <a:ext cx="8915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no limits on submissions (Market Notice sent March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clarify that there are no restrictions or “freezes” currently in place limiting network model change submissions via the service request process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perio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une 1- Aug 30, 2009 (objective to minimize SvcReq during this peri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o equipment name changes (defer until after SEM Go-Live 8/31/09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ubmit changes as far in advance a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 15-30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weeks no submissions, except for emergency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 31, 2009 - Feb 2010 (NOMCRs for any/all network chan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ly the NOMCR timeline will align with zonal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MCRs received and translated to zonal model 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-day lead-time, compliant with current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zonal database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is tracked and communicated via system em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s that did not go into zonal production will be converted to NOMCRs for verification and submission by TSPs in S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P gradually transitions to NodalProtocols(3.10) 90-day req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990720" y="1905120"/>
            <a:ext cx="7924680" cy="99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990720" y="2895480"/>
            <a:ext cx="7924680" cy="6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9"/>
          <p:cNvSpPr/>
          <p:nvPr/>
        </p:nvSpPr>
        <p:spPr>
          <a:xfrm>
            <a:off x="990720" y="3581280"/>
            <a:ext cx="7924680" cy="2590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D8AC8043-E85C-415A-BC9E-F3AB7492A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M Go-Liv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mary of current SEM Activ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and Market Criteria Status for Go-Live Aug 31, 20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SEM Go-Liv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Engagement/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summary during June – August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8A344879-647F-442F-8CAC-39F50C3CD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ummary of current SEM Activitie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/TSP engagement calendar for Single Entry Model Implementa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28- SEM Market Kick-off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4-  Began weekly ERCOT/TSP market calls for S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8-  ERCOT deployed test system for TSP testing on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23- Training commenced on schedule 6-weeks of 3-day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We are he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  July stakeholder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31- SEM Go-Live miles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activity highligh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ing market testing/training/questions/weekly-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ting final copy of 6/1/2009 of zonal operations model into noda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ng nodal data sets (such as RARF/Resource data) into the noda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rming consumption of model into NMMS/EMSNodal/MMS tes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integration testing aligned to use post-SEM Go-Liv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keholder commun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has reported detailed progress on testing and training to market on SEM Weekly calls, NDSWG/ROS, NIT, and T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1155600" y="640080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563F3CE6-4EC4-4821-A42F-F9134A268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M Go-Live Market Engagement Dashboard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72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152280" y="685800"/>
            <a:ext cx="8915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57040" y="882720"/>
            <a:ext cx="8658360" cy="57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3"/>
          <p:cNvSpPr/>
          <p:nvPr/>
        </p:nvSpPr>
        <p:spPr>
          <a:xfrm>
            <a:off x="1155600" y="640080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56E55F65-27DA-470C-950B-4910F19A2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M Go-Live Criteri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72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609480" y="16765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52280" y="685800"/>
            <a:ext cx="8915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M Go-Live Criteria defined in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EM Go-Live Procedu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odal.ercot.com/readiness/golive/index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tion 4- The following entry criteria shall be met for SEM Go-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TSPs &amp; ERCOT complete EDS 2 Release 4 activities (ie training and test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al network model validated and approved as baseline for SEM Go-Live by ERCOT System Ops and Market Ops Dire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publishes CIM model to be used for SEM Go-L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sufficiently staffed for maintenance of nodal &amp; zonal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al EMS is capable of consuming NMMS CIM files through the EMS CIM importer for use in the Nodal EMS application su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publishes the following documents for TS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Network Operations Model validation whitepa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Network Operations Model validation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MMS Modeling Guidelines / Validation Rules docu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est CIM data dictionary and sch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EM Go-Live readiness approved by TAC and ERCOT BOD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Zonal protocol req’t 21.12.3 for TAC/Board “certification that all Market Readiness Criteria have been met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Issue market notices 30 days and 10 days prior to SEM Go-L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3"/>
          <p:cNvSpPr/>
          <p:nvPr/>
        </p:nvSpPr>
        <p:spPr>
          <a:xfrm>
            <a:off x="1155600" y="640080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7176B2DA-3C2E-4371-89D2-0370A87E6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M Go-Live Criteria Dashboard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72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09480" y="16765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152280" y="685800"/>
            <a:ext cx="8915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1"/>
          <a:stretch/>
        </p:blipFill>
        <p:spPr>
          <a:xfrm>
            <a:off x="0" y="743040"/>
            <a:ext cx="913608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3"/>
          <p:cNvSpPr/>
          <p:nvPr/>
        </p:nvSpPr>
        <p:spPr>
          <a:xfrm>
            <a:off x="1155600" y="640080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5A1085DC-30BE-4D97-9491-70F0EBE21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M Go-Live Criteri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72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09480" y="16765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152280" y="685800"/>
            <a:ext cx="8915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"/>
          <p:cNvPicPr/>
          <p:nvPr/>
        </p:nvPicPr>
        <p:blipFill>
          <a:blip r:embed="rId1"/>
          <a:stretch/>
        </p:blipFill>
        <p:spPr>
          <a:xfrm>
            <a:off x="0" y="1371600"/>
            <a:ext cx="8991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1155600" y="640080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F05920C4-4F3D-4A0D-B3DC-1881C6B47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M Go-Live Criteri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72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09480" y="16765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152280" y="685800"/>
            <a:ext cx="8915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"/>
          <p:cNvPicPr/>
          <p:nvPr/>
        </p:nvPicPr>
        <p:blipFill>
          <a:blip r:embed="rId1"/>
          <a:stretch/>
        </p:blipFill>
        <p:spPr>
          <a:xfrm>
            <a:off x="76320" y="1219320"/>
            <a:ext cx="9067680" cy="99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"/>
          <p:cNvPicPr/>
          <p:nvPr/>
        </p:nvPicPr>
        <p:blipFill>
          <a:blip r:embed="rId2"/>
          <a:stretch/>
        </p:blipFill>
        <p:spPr>
          <a:xfrm>
            <a:off x="76320" y="2514600"/>
            <a:ext cx="9067680" cy="471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"/>
          <p:cNvPicPr/>
          <p:nvPr/>
        </p:nvPicPr>
        <p:blipFill>
          <a:blip r:embed="rId3"/>
          <a:stretch/>
        </p:blipFill>
        <p:spPr>
          <a:xfrm>
            <a:off x="76320" y="3262320"/>
            <a:ext cx="9067680" cy="471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"/>
          <p:cNvPicPr/>
          <p:nvPr/>
        </p:nvPicPr>
        <p:blipFill>
          <a:blip r:embed="rId4"/>
          <a:stretch/>
        </p:blipFill>
        <p:spPr>
          <a:xfrm>
            <a:off x="76320" y="4086360"/>
            <a:ext cx="906768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1155600" y="640080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BE2165AC-E86C-4FEC-AB53-CA368FDAD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1920" y="15732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M Go-Live Criteria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72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609480" y="1676520"/>
            <a:ext cx="693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52280" y="685800"/>
            <a:ext cx="8915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5" descr=""/>
          <p:cNvPicPr/>
          <p:nvPr/>
        </p:nvPicPr>
        <p:blipFill>
          <a:blip r:embed="rId1"/>
          <a:stretch/>
        </p:blipFill>
        <p:spPr>
          <a:xfrm>
            <a:off x="0" y="1028880"/>
            <a:ext cx="9144000" cy="723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"/>
          <p:cNvPicPr/>
          <p:nvPr/>
        </p:nvPicPr>
        <p:blipFill>
          <a:blip r:embed="rId2"/>
          <a:stretch/>
        </p:blipFill>
        <p:spPr>
          <a:xfrm>
            <a:off x="0" y="2209680"/>
            <a:ext cx="9144000" cy="533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"/>
          <p:cNvPicPr/>
          <p:nvPr/>
        </p:nvPicPr>
        <p:blipFill>
          <a:blip r:embed="rId3"/>
          <a:stretch/>
        </p:blipFill>
        <p:spPr>
          <a:xfrm>
            <a:off x="0" y="3200400"/>
            <a:ext cx="9144000" cy="533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"/>
          <p:cNvPicPr/>
          <p:nvPr/>
        </p:nvPicPr>
        <p:blipFill>
          <a:blip r:embed="rId4"/>
          <a:stretch/>
        </p:blipFill>
        <p:spPr>
          <a:xfrm>
            <a:off x="0" y="4114800"/>
            <a:ext cx="91440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13:37:36Z</dcterms:created>
  <dc:creator/>
  <dc:description/>
  <dc:language>en-US</dc:language>
  <cp:lastModifiedBy>mmereness</cp:lastModifiedBy>
  <dcterms:modified xsi:type="dcterms:W3CDTF">2009-07-15T21:48:38Z</dcterms:modified>
  <cp:revision>789</cp:revision>
  <dc:subject/>
  <dc:title>Texas Nodal Detailled Market Trials Planning Process 30 January 2007</dc:title>
</cp:coreProperties>
</file>