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1C9CAF5-50A7-4ABD-9399-2F37EDBA6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5426A8-A30F-446F-9F20-C1BBEB033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11766B-0115-43E1-BBAE-AA52102E8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7BF92D-3699-40E1-85F8-8383CB360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EE662A-B53C-495F-A995-CFB4F9C6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C3AFAC3-C356-4137-9B32-F14B8A2F6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FB873A-5A20-41A1-9FD3-5AA0890E3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D3A5D4C-69BC-4527-9D3F-B21FC491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098BA0-890D-4495-82C8-EC02593BC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577507F-D68F-45EE-8801-C553BBE1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141-EEE3-460A-BE55-AA19B811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5E6-D395-49F2-BA13-A4C3A4A5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D4B-D87A-4CA7-899D-355E45A3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D31-8212-4E60-8242-104B4673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32A-FAF6-49B8-B791-36657D8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11B-FB89-431F-BA88-67DD869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7F4-7BE5-421D-AEA2-59DECC6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BED-D236-4849-8B3F-BB51D742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03A-5AB1-455A-BBD0-7B842615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0EE-A4A2-415E-87BE-055E91B3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3AC-60B1-4412-B748-DB7647E1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2BC-8B47-46CD-B684-7A67DB0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D9C-72C6-4C45-A206-956D075D1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710E-27D5-43C8-85FF-09D14F5F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05320" y="57895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15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1592-F099-42C4-B250-FE03DB677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ERCOT System Outages an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ERCOT Exemption Request for Aug 22/23 Maintenance window and provided a recommendation for RMS conside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proposed changes to Retail SLA fo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Retail Service Level 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Sharing from Nodal Metrics Worksh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AMIT LSE file size for Short Te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A5E-5C9F-41D4-9F04-80EB4C01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 Katskee reviewed the summary and detail pages of the incident l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ERCOT Exemption Request for Aug 22/23 Maintenanc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requested SLA exception for “early start” on Aug 22 due to 12 hour estimated time required to complete several database mig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TWG recommends that RMS approve the additional outage exception requested by ERCOT, outage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6:00 AM Saturday August 22, 2009 through 12:00 AM  Monday August 24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7B59-67D9-4C96-BED8-17268666D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proposed changes to Retail SLA fo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TWG reviewed and asked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finalize draft for TDTWG August mee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Retail Service Level 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L and MarkeTrak were above 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Processing was .01%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presentation posted to TDTWG 7/8/09 me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Sharing from Nodal Metrics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ee no impacts to the Market Metrics Retail Quarterly repor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ed AMIT LSE file size for Short Term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Farley discussed preliminary findings of optimal LSE file size for Short Term Solution for submitting AMI settlement data to ERC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E Flat file with 25,000 – 50,000 transactions seems to be opt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7725-2A15-4232-9A5D-1E7C0D903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cott, Kathy D.</cp:lastModifiedBy>
  <cp:lastPrinted>2002-09-24T18:27:58Z</cp:lastPrinted>
  <dcterms:modified xsi:type="dcterms:W3CDTF">2009-07-08T22:30:50Z</dcterms:modified>
  <cp:revision>587</cp:revision>
  <dc:subject/>
  <dc:title>PowerPoint Presentation</dc:title>
</cp:coreProperties>
</file>