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6B4-780D-4FE6-B04F-AE610062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DF6-1DB0-48AF-B2FD-42760116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927-8A00-4D7A-B89B-7C8E6966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46-75BA-4FC7-B956-64B6D1D1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D4A-065D-4495-9984-43F7F2F2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211-560A-421F-AB0F-D016582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84E-F049-4EF5-AD78-5A5018AA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3C2-3F4A-4A62-8D3B-DBB77BC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D50-179A-4BD1-9160-7029A5C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318-3C60-486B-B5B8-44679FB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BA7-1E76-4D83-B845-49AB736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3B8-C59F-4B23-85F3-3CBF5E1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A3BA-7A0E-4273-B109-64B47824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15, 200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s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9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had a solid quarter for transaction perform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ransactions reported met or exceeded the 98% within protocol targ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wo transactions were at the 98% level; all others were 99% or 100%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 Move In Reject transaction (814_17)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 ID Create (814_20 Forward) were at 98%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two transactions have a one hour protocol turn around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cessing issue in October prevented reporting of selected market participant transactions in the fourth quarter 2008.  Comparisons are not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B4C-026D-49B4-83C5-378EFC5FC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447920"/>
          <a:ext cx="8686800" cy="4689360"/>
        </p:xfrm>
        <a:graphic>
          <a:graphicData uri="http://schemas.openxmlformats.org/drawingml/2006/table">
            <a:tbl>
              <a:tblPr/>
              <a:tblGrid>
                <a:gridCol w="2776680"/>
                <a:gridCol w="1801800"/>
                <a:gridCol w="1288800"/>
                <a:gridCol w="1716120"/>
                <a:gridCol w="110340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3,6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6,9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3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7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0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1,5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5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9,1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2,4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7,4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6,5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5,9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5,0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4,7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0,0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4,8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1,3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13C-D01F-404C-BBD6-5F700C78B9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610480" cy="4706640"/>
        </p:xfrm>
        <a:graphic>
          <a:graphicData uri="http://schemas.openxmlformats.org/drawingml/2006/table">
            <a:tbl>
              <a:tblPr/>
              <a:tblGrid>
                <a:gridCol w="2805120"/>
                <a:gridCol w="1690560"/>
                <a:gridCol w="1219320"/>
                <a:gridCol w="1776240"/>
                <a:gridCol w="111924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9,6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5,0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1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6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2,4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6,7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5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1,5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2,7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7,3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4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6,0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6,8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6,4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82,1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5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31,8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9B4-A301-4877-9B34-9861979E25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447920"/>
          <a:ext cx="8686440" cy="4771800"/>
        </p:xfrm>
        <a:graphic>
          <a:graphicData uri="http://schemas.openxmlformats.org/drawingml/2006/table">
            <a:tbl>
              <a:tblPr/>
              <a:tblGrid>
                <a:gridCol w="2717640"/>
                <a:gridCol w="1944360"/>
                <a:gridCol w="1081080"/>
                <a:gridCol w="1860840"/>
                <a:gridCol w="1082520"/>
              </a:tblGrid>
              <a:tr h="386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1,8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3,7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8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2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6,9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0,3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6,3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5,6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9,5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0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3,9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,8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8,5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8,4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0,6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7,7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3,5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C75-F54D-46ED-A42A-C03071614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447920"/>
          <a:ext cx="8458200" cy="4541760"/>
        </p:xfrm>
        <a:graphic>
          <a:graphicData uri="http://schemas.openxmlformats.org/drawingml/2006/table">
            <a:tbl>
              <a:tblPr/>
              <a:tblGrid>
                <a:gridCol w="2675160"/>
                <a:gridCol w="1825560"/>
                <a:gridCol w="1065240"/>
                <a:gridCol w="1825560"/>
                <a:gridCol w="106668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4,1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8,3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3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8,5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5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0,8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01,3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2,0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9,9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20E-BB23-48C0-B64A-73578831A1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 ID Create/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523880"/>
          <a:ext cx="8458200" cy="4227480"/>
        </p:xfrm>
        <a:graphic>
          <a:graphicData uri="http://schemas.openxmlformats.org/drawingml/2006/table">
            <a:tbl>
              <a:tblPr/>
              <a:tblGrid>
                <a:gridCol w="2614680"/>
                <a:gridCol w="1962360"/>
                <a:gridCol w="917280"/>
                <a:gridCol w="1873440"/>
                <a:gridCol w="1090440"/>
              </a:tblGrid>
              <a:tr h="460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,8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,7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,6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,0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6,6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20,2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5,8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27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ACF-2F06-45B5-95BC-040DC93F0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9-07-09T18:37:36Z</dcterms:modified>
  <cp:revision>449</cp:revision>
  <dc:subject/>
  <dc:title>PowerPoint Presentation</dc:title>
</cp:coreProperties>
</file>