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406A238-170B-4D20-84E4-5DB460536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DED207A-1F72-4087-BB04-9E13381FA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06640" y="696960"/>
            <a:ext cx="4647960" cy="3486240"/>
          </a:xfrm>
          <a:prstGeom prst="rect">
            <a:avLst/>
          </a:prstGeom>
          <a:ln w="0">
            <a:noFill/>
          </a:ln>
        </p:spPr>
      </p:sp>
      <p:sp>
        <p:nvSpPr>
          <p:cNvPr id="13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DDA4B4C-0EB0-41AC-9945-D9AC4E6D5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06640" y="696960"/>
            <a:ext cx="4647960" cy="3486240"/>
          </a:xfrm>
          <a:prstGeom prst="rect">
            <a:avLst/>
          </a:prstGeom>
          <a:ln w="0">
            <a:noFill/>
          </a:ln>
        </p:spPr>
      </p:sp>
      <p:sp>
        <p:nvSpPr>
          <p:cNvPr id="14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DF41DDD-694F-4DC3-9038-484204851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06640" y="696960"/>
            <a:ext cx="4647960" cy="3486240"/>
          </a:xfrm>
          <a:prstGeom prst="rect">
            <a:avLst/>
          </a:prstGeom>
          <a:ln w="0">
            <a:noFill/>
          </a:ln>
        </p:spPr>
      </p:sp>
      <p:sp>
        <p:nvSpPr>
          <p:cNvPr id="14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0CAE387-354D-4245-9153-429DEC901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06640" y="696960"/>
            <a:ext cx="4647960" cy="3486240"/>
          </a:xfrm>
          <a:prstGeom prst="rect">
            <a:avLst/>
          </a:prstGeom>
          <a:ln w="0">
            <a:noFill/>
          </a:ln>
        </p:spPr>
      </p:sp>
      <p:sp>
        <p:nvSpPr>
          <p:cNvPr id="14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D915592-C15D-437A-AA85-835CD2D43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06640" y="696960"/>
            <a:ext cx="4647960" cy="3486240"/>
          </a:xfrm>
          <a:prstGeom prst="rect">
            <a:avLst/>
          </a:prstGeom>
          <a:ln w="0">
            <a:noFill/>
          </a:ln>
        </p:spPr>
      </p:sp>
      <p:sp>
        <p:nvSpPr>
          <p:cNvPr id="149"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70A7B83-3B7F-4EB6-8759-37AD81072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06640" y="696960"/>
            <a:ext cx="4647960" cy="3486240"/>
          </a:xfrm>
          <a:prstGeom prst="rect">
            <a:avLst/>
          </a:prstGeom>
          <a:ln w="0">
            <a:noFill/>
          </a:ln>
        </p:spPr>
      </p:sp>
      <p:sp>
        <p:nvSpPr>
          <p:cNvPr id="152"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87BFB89-A8A6-4EC4-A79D-009C71DA5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06640" y="696960"/>
            <a:ext cx="4647960" cy="3486240"/>
          </a:xfrm>
          <a:prstGeom prst="rect">
            <a:avLst/>
          </a:prstGeom>
          <a:ln w="0">
            <a:noFill/>
          </a:ln>
        </p:spPr>
      </p:sp>
      <p:sp>
        <p:nvSpPr>
          <p:cNvPr id="15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83124F0-37BF-41A2-9374-79E3141CB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06640" y="696960"/>
            <a:ext cx="4647960" cy="3486240"/>
          </a:xfrm>
          <a:prstGeom prst="rect">
            <a:avLst/>
          </a:prstGeom>
          <a:ln w="0">
            <a:noFill/>
          </a:ln>
        </p:spPr>
      </p:sp>
      <p:sp>
        <p:nvSpPr>
          <p:cNvPr id="15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725D3-B117-45E3-970B-D69ABFC95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E663-E065-4351-8B55-A1E3F346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C50E2-8AE8-428C-A0C5-0A375440E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46A4A-CA80-489D-8316-797129A0B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205B6-ADAE-419F-B473-1189C0248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A8FD9-80D8-4001-ACCF-0361D446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02499-47E0-4729-8532-8FC907307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7B8B8-0E96-4B27-AD3B-116CE4C0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4DFBF-6B2D-4A12-9B78-5379C6516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021D-50FE-498F-8B9C-10370AF54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E21C9-5885-4249-9B12-A25653B2B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6C54-1E26-4CB5-BC95-AB144A94D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5CEB-51C9-4241-8B41-DFD035BCA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19B4-CC5F-4C44-914A-6813EAE52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A2D2-90FC-4818-ACB9-17803C20E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4"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6"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8"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3CCF-D1B9-4FC1-87ED-1B6F01172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2"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Picture 7" descr=""/>
          <p:cNvPicPr/>
          <p:nvPr/>
        </p:nvPicPr>
        <p:blipFill>
          <a:blip r:embed="rId1"/>
          <a:stretch/>
        </p:blipFill>
        <p:spPr>
          <a:xfrm>
            <a:off x="76320" y="1494000"/>
            <a:ext cx="8982000" cy="475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2A60-2C5F-4A9D-A9EF-139B1573D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9"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0"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2995-9E33-44BA-AB04-C2B204DCC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6"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7"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11B2-4D32-4EA0-B6EE-B2B83D16E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10"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Picture 6" descr=""/>
          <p:cNvPicPr/>
          <p:nvPr/>
        </p:nvPicPr>
        <p:blipFill>
          <a:blip r:embed="rId1"/>
          <a:stretch/>
        </p:blipFill>
        <p:spPr>
          <a:xfrm>
            <a:off x="85680" y="1935000"/>
            <a:ext cx="896796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6FA9-17BA-4C8B-B6E3-074A988ED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9"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20"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3972-C84A-4E86-90FC-08ACA491C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Picture 9" descr=""/>
          <p:cNvPicPr/>
          <p:nvPr/>
        </p:nvPicPr>
        <p:blipFill>
          <a:blip r:embed="rId1"/>
          <a:stretch/>
        </p:blipFill>
        <p:spPr>
          <a:xfrm>
            <a:off x="133200" y="179856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3D30-ED13-4BAC-82A3-D432EACD8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2"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4"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FF69-2596-4E5B-96CF-0291639B7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F04A-44D0-4E3A-A38F-5D38826A1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36A2-6F23-4E1B-91E8-6B2C1E8BF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6" descr=""/>
          <p:cNvPicPr/>
          <p:nvPr/>
        </p:nvPicPr>
        <p:blipFill>
          <a:blip r:embed="rId1"/>
          <a:stretch/>
        </p:blipFill>
        <p:spPr>
          <a:xfrm>
            <a:off x="458640" y="1494000"/>
            <a:ext cx="8228160" cy="475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762B-364C-4BF5-A205-B5BF82DE6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80BE-CC0E-4C63-90F1-DCF71E07D7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28600" y="3962520"/>
            <a:ext cx="86788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3438-74B0-4944-AA06-8C94003E8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46040" y="-1511280"/>
          <a:ext cx="7670880" cy="9906120"/>
        </p:xfrm>
        <a:graphic>
          <a:graphicData uri="http://schemas.openxmlformats.org/drawingml/2006/table">
            <a:tbl>
              <a:tblPr/>
              <a:tblGrid>
                <a:gridCol w="609480"/>
                <a:gridCol w="368640"/>
                <a:gridCol w="368280"/>
                <a:gridCol w="368280"/>
                <a:gridCol w="279360"/>
                <a:gridCol w="279360"/>
                <a:gridCol w="279360"/>
                <a:gridCol w="279360"/>
                <a:gridCol w="279360"/>
                <a:gridCol w="609840"/>
                <a:gridCol w="609480"/>
                <a:gridCol w="368280"/>
                <a:gridCol w="368280"/>
                <a:gridCol w="330120"/>
                <a:gridCol w="330120"/>
                <a:gridCol w="330480"/>
                <a:gridCol w="330120"/>
                <a:gridCol w="266760"/>
                <a:gridCol w="406440"/>
                <a:gridCol w="60948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2"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3" name="Picture 514" descr=""/>
          <p:cNvPicPr/>
          <p:nvPr/>
        </p:nvPicPr>
        <p:blipFill>
          <a:blip r:embed="rId1"/>
          <a:stretch/>
        </p:blipFill>
        <p:spPr>
          <a:xfrm>
            <a:off x="304920" y="1585800"/>
            <a:ext cx="842148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ACCE-71D6-4470-BBD6-290252B29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6"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4FEE-2575-4758-93A2-D004CF75E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9"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Picture 7" descr=""/>
          <p:cNvPicPr/>
          <p:nvPr/>
        </p:nvPicPr>
        <p:blipFill>
          <a:blip r:embed="rId1"/>
          <a:stretch/>
        </p:blipFill>
        <p:spPr>
          <a:xfrm>
            <a:off x="66600" y="1371600"/>
            <a:ext cx="90140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9-07-02T18:25:18Z</dcterms:modified>
  <cp:revision>853</cp:revision>
  <dc:subject/>
  <dc:title>PowerPoint Presentation</dc:title>
</cp:coreProperties>
</file>