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295-E09E-482B-BFC6-CE440059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608-4F20-48A0-961D-71951747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B6D-91D0-439A-B6B9-00044666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8CC-FB7A-46F2-9455-8D8E5C28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F3A-8AB1-4E16-AAD3-C749E1D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24F-ED5A-4A6B-8FDC-3F74538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793-7E06-47F0-99C0-AAC2940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2E2-74DD-4F67-B26A-0469A01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46A-5E3A-4D9F-AD3B-0DA20EA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C89-C2B8-43DB-8BC4-1C39DEE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F91-8F3D-46A7-AFF0-D662D555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711-A70B-4AC9-9796-DA73BB1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38A-173B-468B-A0AE-48A3F155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1120" y="213012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 Annual Valid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view of Residential Migr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46040" y="363528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2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4520" y="317520"/>
            <a:ext cx="7221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Annual Validation 2009 TDSP Mig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24240" y="990720"/>
            <a:ext cx="4278240" cy="301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57480" y="4005360"/>
            <a:ext cx="4813200" cy="222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D3E-5854-43E2-B135-53F3DF182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4520" y="317520"/>
            <a:ext cx="6837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Annual Validation 2009 TDSP Mig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13040" y="1012680"/>
            <a:ext cx="5261040" cy="494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1BC-9F98-44A7-ADC0-41843C6DE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57160" y="1147680"/>
            <a:ext cx="6419880" cy="456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4520" y="317520"/>
            <a:ext cx="68371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Annual Validation 2009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96E-69F8-4948-8939-EF9E19656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DOtt</cp:lastModifiedBy>
  <cp:lastPrinted>2002-05-17T20:57:43Z</cp:lastPrinted>
  <dcterms:modified xsi:type="dcterms:W3CDTF">2009-07-10T17:26:08Z</dcterms:modified>
  <cp:revision>392</cp:revision>
  <dc:subject/>
  <dc:title>Retail Transactions Report</dc:title>
</cp:coreProperties>
</file>