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E997-F88C-4A87-A967-F0C08430A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75A7-0712-4C37-9E57-0DEF5753E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7580-6AE1-4611-A68F-43DB623AE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7B82-890D-498A-BEDE-069D58847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5443-665C-415B-865E-6E15BAF75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C1C2-66A1-4F79-AF0B-4DE67F44C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ED83-F393-4EEA-AB16-6C202A4A3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7B0B-2FCE-4A46-9510-775C65481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CB60-7C81-432A-8E4D-EF49132F3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48C0-DFAD-4F62-B7B7-4E4DBE5F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DC13-B9DF-49EA-BCD7-F2C70C888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4E74-D231-4CF8-BE15-BF44585F2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BFC3-1D1B-4123-99B8-1CF82418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157-D8A5-4425-9D85-9AF5FC37F4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LA Exception Reque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ul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31 Retail Application Upgrade SLA Exception Reque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release includes several SIRs and Application patches, as well as DB Upgrades for PaperFree, NAESB and Sieb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concluded that database migration to Production could add 10-12 hours to th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is asking to begin the release at 6am on Saturday (6 hrs early), to ensure we finish by midnight Sun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affect Retail, MarkeTrak and 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2911320"/>
          <a:ext cx="495288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11320"/>
                    <a:ext cx="49528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43600" y="2819520"/>
            <a:ext cx="254952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43640" y="4724280"/>
            <a:ext cx="32004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7-14T20:53:17Z</dcterms:modified>
  <cp:revision>291</cp:revision>
  <dc:subject/>
  <dc:title>Instructions</dc:title>
</cp:coreProperties>
</file>