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2A1A-059C-4C72-B7A4-8B9EEA57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0C29-C27A-48BB-B7B6-C4F8D3CB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B774-D3C5-42A1-AADD-D55897A5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4976-94A6-4B2D-89D7-193F79D4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CE16-C046-4F1A-B074-A6F2B7EF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7E65-7D03-4905-BFF0-B1E671FF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4F31-97DF-4F7B-A424-C9B73F54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A162-E224-445E-8B4F-7FEC2DFE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497D-3EBE-48E8-AF0B-E60C8F93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AA04-B10C-490A-9ABC-2B935327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CB36-EED7-42F2-B992-09B31116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8A20-39E1-4EC0-8BC1-1E9F4DD1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1157-3022-42C1-B68B-0A628E5B7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1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ly 1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6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y 18; Approximately halfway point of transact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609 scheduled to conclude on 08/04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 on 08/25/09 (blackout period beg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6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Existing CRs have joined this flight (3 Change of Service Provider requests and 1 Bank Change reques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2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3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100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09/09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9/15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10/02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 Day 1 Transactions: 10/05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11/17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6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9-07-08T16:18:45Z</dcterms:modified>
  <cp:revision>111</cp:revision>
  <dc:subject/>
  <dc:title>Instructions</dc:title>
</cp:coreProperties>
</file>