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9CA-B8C1-4C49-B24D-20C336A6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67B-E246-49D9-8BEF-156D3D9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6A5-08F1-4CCC-82C0-93B004D1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F0F-DED9-4E3C-AA10-048A8DB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33607-0C36-41B6-87A9-1B8A0E6F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9B81-C4A1-4DA3-83BF-D14682F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9932-9DA3-4318-AD72-89B7B21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2494-A65A-468B-A3F5-A5476F21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03A3C-B8E0-4DDC-BDB8-5DF0346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78D3-FCA5-4BF8-97CB-EAC1B8F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EAF10-8C5B-4ED1-B698-5E7E742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C65-A56C-4B7D-A244-2CB34EA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7EBF-BF4A-4F2B-B3E4-ADB0A24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1BCB3-A278-4B50-B8BB-9C9093D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5B6E-8245-43E8-B557-59B1B39E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6F3F-A100-413B-B455-FD9CC911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7521-33A6-4528-B1E2-C7039257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CFF-F8A1-4721-8694-FA9D7BE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D01-3AEA-47B3-B005-A0D37974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72C-D3A5-4896-9064-559299E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533-7CFE-43EA-B043-3A97E393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B6A-26BA-433F-83EE-EAD931B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3B9-627E-4F1C-96F7-5A77CE62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37-22DE-420B-AC50-E3EF8FC1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643-930D-4C07-B2B6-1D159D51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1F50-AC7E-40CE-814D-B5BF781ED4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F98-80B1-4742-9634-17B5E53ED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uly 15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56D0-C805-40C7-A02A-15FA0E360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abled until implementation of Expedited Switch and POLR as to not interfere with those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A899-949A-4FB6-96A4-8932604B3B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091 – CNP received 814_08 A95 cancels on several 814_26 (historical usage) transactions from ERCOT in 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ERCOT has written a SIR to resolve this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095 – Disconnect and Reconnect for Non-Pay for Prepay ESI 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RMGRR 077 Submit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063-7F79-4D1E-9367-E855DCAD5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097 – Transaction Codes Related to Back-billed Tampering Char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CRs will provide each applicable TDSP with examples for review and discu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8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 E-mail to the Customer Billing Contact Information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Urgent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9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Changes to support revisions to the PUCT POLR and Expedited Switch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Urgent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003-0D9F-4495-AE8A-AE613ADD92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6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Re-Registration of Market Participant due to Mass Transition of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B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ing POLR Customer Class and AMS Meter Flag to the Database Query Function on the M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B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B99-62DB-4189-BEE3-55FD630998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19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Changes to support revisions to the PUCT POLR and Expedited Switch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(at this time but will be requesting urgency at P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D302-FBD4-404B-A05E-0678F439E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9335-2CDF-45BC-AB2E-CBB7CF5C2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July 27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nd 28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t ERCOT Met Center </a:t>
            </a:r>
            <a:br>
              <a:rPr sz="36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Texas SET</cp:lastModifiedBy>
  <dcterms:modified xsi:type="dcterms:W3CDTF">2009-07-09T00:39:53Z</dcterms:modified>
  <cp:revision>265</cp:revision>
  <dc:subject/>
  <dc:title>TX SET  Update to RMS</dc:title>
</cp:coreProperties>
</file>