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613C-523C-41A6-B981-D059705C3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722F-4F33-4E8C-81A6-A6F9D3A81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601F-4968-4AE1-8D8E-E07D957DA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FEB4-E4B2-437E-B79F-6F37665F3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9708-06BE-427E-B7FC-85BE8B794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BBD-E6EB-48E7-B734-E9FF3FB2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4F9-5EDF-4C37-A824-84FD324C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606-2665-4280-AD37-9FE7E06A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D63-D0E0-4036-8149-AEA5EA5C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EE1D-1F78-4D5B-9948-8D908D78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F7D3-B4CE-423B-879B-5854C453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854A-DCBC-4016-B851-D2C56FC8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061C-F223-4A45-B82B-AAAA4FAC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F6CB-2108-42F1-85EA-66368AAF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D0C5-4A8D-494F-8CA4-F21C527F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583B-B948-4C4F-8724-940F6CCB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7E7-CF45-4D0F-A82F-6151B501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6BFE-90C4-4AFC-9CA9-56112DAA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1C09-14F1-4CE5-9CB3-FE34B25B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FAC3-C3BF-4B10-92FA-5193BAD7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513A-EB9E-4A28-B4B1-9E85EE0E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5ADE-A3C9-4EAE-87A3-89FFD99D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8CC5-4F1D-446A-9916-8E2482D0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E6A5-49A7-46CD-8B62-DBB61B71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52FB0-A489-4320-BB43-82E2AA1D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48211-5FE4-452A-A075-12D72A07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B93D-C85C-4362-9863-FDF8533F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766-BBCF-40B1-9A0F-1B2D5514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32DBE-3219-4266-B87B-89C626CE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8B23-6826-4DA1-BEF8-A97608F2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B56DF-12D4-42DC-B7D6-0F57288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64DA-6492-40B5-9C59-A06EE2F5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9AC15-A8BD-4B24-A766-E406DB21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47CC2-CC17-4EF5-B832-A248C6CF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CEDB7-71FA-4E3D-8500-7B75738A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8C3E-7063-4A97-8919-662A3238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7EB5F-3A09-472C-B896-7BC62145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EF085-CAAA-48D7-8165-C6E0D22C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118-FE9A-48B8-8C50-D39E139A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334E5-1421-4A4E-8F6F-F295E692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8BD1-06E4-4C2D-942D-7544EF44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92088-2E46-4655-88EA-CAF1A9A0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9366E-1D9D-476A-A60F-E0F0661B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34AA0-552D-4FFD-B624-DF56AE6F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1EBB3-8F5C-493F-A0B1-6DFBD5C7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DD7A-BAA1-48B0-8C87-7E3B7BBB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06C07-3B7E-45B2-AE82-458DDEB0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C3D95-7A6C-4C2C-A205-447EF83B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98B3-BADA-4C4A-993F-739FDBA6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531-2DF8-4317-BDAD-21EC6E2F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DC7F-DB89-48CF-8AF4-DC99104D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4D935-91A0-4843-A0FF-CE2D87BA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E6A08-ED3C-4315-ACCF-47232220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F6785-7190-4DF4-B415-538881B0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4F326-550C-44BA-BB4F-6D433634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BB6D-13ED-44B8-93E1-3C469D1F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10E28-7DE2-4718-B058-B49CBC06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6C4C-860D-498C-99C3-8EA51084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021BE-A016-40E4-8BD8-66E5DC1D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592AC-C81C-453D-8190-42678FDB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898-956F-426E-9C07-5A4BFB38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AB68D-AA9E-4A45-BA80-727C5E60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0AC86-541A-4862-A794-C6B5D97E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AA299-054C-4903-914F-77CBF12F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2931E-25FA-4544-9EB3-D9393880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70B4A-5E30-4994-AD37-E315DF46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91AFE-8F2A-4945-8924-AB289BDB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2DF66-EF02-41CB-9D75-37DC39D8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91D1F-2BB0-4F09-B369-3EBB40B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4A5D1-99D4-45B7-85A5-DD5DC741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771E0-84F6-4111-81C5-9A3D17C7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B21-E4C2-428C-8D28-728145C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2E71A-030C-4D43-9F3D-30ECDE44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A7F74-E88D-413F-839B-8829688D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6AABF-0BA1-4D95-9997-E8914D9E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7F14E-D1DC-4523-A657-4992776A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2B925-F340-4888-A115-F3E31722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EECD5-423E-43D1-85BC-6D4DE60B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2CED1-B222-454F-8CB2-85B9F084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9E957-85F2-4FE0-A60B-EA1E5394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72639-E208-49E5-A8E3-43417618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F2439-1C66-49F2-BA16-6183C7F7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0EE-2C24-43CE-9EBD-28AA85E5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ECD09-FD18-46AD-8C88-E1DC24C7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D0C98-0140-4206-8234-093C9C2D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29B1C-78B4-4695-A9D2-20F9C137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941EF-2381-4F1B-A8CB-92A02ADC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2C7CB-A46E-453A-820B-1935F155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8ABCE-481F-4494-B7E7-CA54C450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4D819-D017-411D-8DA6-FCE6226E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6279F-D19F-4CAB-9365-C5FC7057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5AFD1-F40A-4229-A1EE-6692AE60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C7B6D-DD02-4A9F-A6B3-68F9B8F1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116-C44A-4BED-9F93-1969038A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A843A-99CA-44A5-B244-A231782C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B7436-C602-46E7-974B-13B586BB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DD1A1-59EC-4035-91D9-C3B38CE0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13791-7780-4BAB-ACF4-FE3C9FDE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D05C7-5163-46C5-BCDD-12202B21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D2540-83DF-4106-AF9A-D2B5F946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4770E-324B-4B73-B02D-376D7B64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1718-C39B-4A04-8A9F-1D02054A0A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93BA-24E6-451C-A00D-91C817BE88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683F-3E4B-449C-8F7C-A805980CBE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9B20-AC4B-4D60-8252-8879B8CE2C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18D5-5F52-4A20-8117-63E3528733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B4C5-64C3-4B87-9D39-025A90F290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B554-AAED-4BD8-8037-A3747FF4A1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07DA-1617-4BD3-95A3-515DACA942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lient_svcs/mktrk_inf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92160" y="1749600"/>
            <a:ext cx="9016920" cy="1231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382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July 15, 200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Taskforce meeting was held July 8, 2009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scussed what changes need to be made to the tool and how issues will be submitted to support the Expedited Switch Ru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termined rescission based marketrak issues will be required to contain the following text in the comments field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Customer rescission-please process this issue per PUC rule 25.474n. “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ext meeting: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Tahoma"/>
              </a:rPr>
              <a:t>WebEx conference call scheduled for July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 Unicode"/>
                <a:ea typeface="Tahoma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Tahoma"/>
              </a:rPr>
              <a:t>Revise/Update MarkeTrak User Guide to support the Expedited Switch Rul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Tahoma"/>
              </a:rPr>
              <a:t>Discuss and determine appropriate deadline to submit suggestions for enhancement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Tahoma"/>
              </a:rPr>
              <a:t>The MT Taskforce is encouraging all Market Participants who utilize the tool to atte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1447920"/>
            <a:ext cx="609480" cy="457200"/>
          </a:xfrm>
          <a:prstGeom prst="star5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4419720"/>
            <a:ext cx="609480" cy="457200"/>
          </a:xfrm>
          <a:prstGeom prst="star5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CR756-”Enhancements to the MarkeTrak Application” – Further review is requir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80880" y="1905120"/>
            <a:ext cx="457200" cy="333360"/>
          </a:xfrm>
          <a:custGeom>
            <a:avLst/>
            <a:gdLst>
              <a:gd name="textAreaLeft" fmla="*/ 0 w 457200"/>
              <a:gd name="textAreaRight" fmla="*/ 457560 w 4572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www.ercot.com/services/client_svcs/mktrk_info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r Gui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k Insert Templ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Workflow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Tips and Tric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API WSDL/XS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so direct link from MarkeTrak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MCj04042630000[1]"/>
          <p:cNvPicPr/>
          <p:nvPr/>
        </p:nvPicPr>
        <p:blipFill>
          <a:blip r:embed="rId1"/>
          <a:stretch/>
        </p:blipFill>
        <p:spPr>
          <a:xfrm>
            <a:off x="3652920" y="2897280"/>
            <a:ext cx="1838160" cy="169524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Reliant</cp:lastModifiedBy>
  <dcterms:modified xsi:type="dcterms:W3CDTF">2009-07-14T17:45:02Z</dcterms:modified>
  <cp:revision>463</cp:revision>
  <dc:subject/>
  <dc:title>MarkeTrak Task Force</dc:title>
</cp:coreProperties>
</file>