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36A2-625D-4EE9-A063-297FA7C44A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2B34A-A66E-4CC4-8BF8-3BEC022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B4C04-AAEC-4F32-8E44-1177F69B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4356-E122-404E-A7F8-A128A8EC11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60F-15A0-4C2A-976E-ECC5580B7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4DD-7099-4008-88B8-61B80737DB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DA2-E36C-43D5-8A87-1D880DFF8D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55B-DAF4-4127-8AE8-FA85B75AEC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31AB-AFF8-4FDE-9F24-828CB95539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28A-67FE-4DE5-8824-CFBB07E1FD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C2A9-D51B-4277-8D41-51F65005F4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9BD9-789C-43C7-8F78-639BE431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F70-5CB1-4EB5-B91E-37CEAC80B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8D9-4F3E-4E21-9D69-8248BBDB4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1D3-65ED-46CC-B0B3-36C05F597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985A-3690-4608-B46D-70353E1F35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F2B-3622-474F-A02F-B8E31A5BDB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86595-001F-440F-A151-2FA18B435C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9B4C9-13E3-4C80-B7B2-6C3A977A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5EC47-701F-48BB-B320-30DDDBF0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544C7-ED5E-44EA-890C-776C1A1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D7BF-7C7A-4522-AC84-BE90C35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1A54-A084-4245-8B10-FEFD0E8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D0C98-2E87-4560-B5F5-C3EFDCE9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96DBA-B191-4B05-A75C-D62ED21A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7E30D-DE28-40BE-B9D8-F345092B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6CF0F-919B-4D8F-B75E-98C70671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D086D-0FC5-4086-B9FF-21F63B31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8B498-7EEF-4FF4-AECC-EDB7DBA8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7BD24-8608-4B63-8141-32B097D884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5354B-113B-4570-B8BB-39D03B0E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E766C-CB23-476A-8E5A-62CDA856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B4360A-57E5-4700-82A3-87E247C4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1EC9-4E17-4DCC-9A6D-0035ED6D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FA671-3179-4844-92CF-60F38455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A70FF9-1677-4EA1-AEBA-A1D9C237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3741-BC77-401B-9DC6-7DB6E98D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C4906-ECA5-4CEE-A553-024AC164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7DCD2-197A-4316-ABC8-FAF3B03B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F2E56-A877-4E93-967C-C23F708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67C97-BDF0-487E-8729-EE1285D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2F101-D2C0-4D74-8EC2-BEBEB80A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94E92-5191-4539-846F-11CBF4C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8A11-DA2F-449E-89A0-2D7717C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4556-EAE5-40DA-81D7-6D45972C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01FF-EE8C-45D3-924D-2AC894AF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94CCB-A41D-4646-BB24-D50B6A1D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32BFA-91F9-40B4-81DE-FAD07EE7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42E-A56E-4DAE-B0E2-94A715A0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A441-48BE-44AD-AEFC-5EC7F366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125-7A49-40D8-886F-65905123518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4DF-B808-45A3-947D-78924AE86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9/06/20090624-PWG" TargetMode="External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yl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uly 14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453B-8CE5-4975-98F1-0F1155AC9E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" y="1405080"/>
            <a:ext cx="8686800" cy="47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491F4-5766-434E-83CD-7F1297774F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09480" y="2328840"/>
            <a:ext cx="7954920" cy="299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00101-5BD2-4229-895C-3CBAC9100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FE allocation factors in lieu of AMS meter installation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R/AMS on Transmission vs. IDR Distribution Voltage would seem to have similar meter accu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R/AMS on Transmission would likely have less theft so UFE for Distribution metered premised perhaps should be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DR is likely to have more theft than IDR/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fication of UFE by cause is problematic if not im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eping the allocations the same at least allows the market to be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in the allocation would need significant analysis support for Stakeholder appro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ussions shall continue at the next PWG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781B2-3B89-4286-B717-282DCA7FBD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hift in proportion of UFE to NIDR metered premises as AMS matu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preadsheet calculations are posted to key document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09/06/20090624-PW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for agenda item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calculations validated by ERCOT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ift in UFE is equally proportional to each group which implies no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s shall continue at the next PWG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F775C-FFDD-44AA-839E-A2D7D1851A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ion loss factors in relation to UF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ication of UFE by cause is problematic if not im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DSPs are encouraged to refresh loss load studies that support the ERCOT loss coefficient method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idea is to plot several key points in the latest loss load study and then regress to develop the coeffic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ing Discussions shall continue at the next PWG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WG discussions on June 24,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32BE5-6468-40CC-A0FF-343207AAEA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00200" y="1066680"/>
            <a:ext cx="77580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33: Synchronization of Load Profiling Guide with PRR8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. First PWG revie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. The IA shall be at the next PWG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34: Profile Model Spreadsheets - Calendar Extension and Delete Unused Mode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9999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Draft F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. Shall be reviewed at the next PWG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2A01D-479F-4476-9BE6-5D475093E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2 and the 4th Wedn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5715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eting may change to be a conference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65D6-01C0-439B-ADBE-778B090753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07-07T14:25:13Z</dcterms:modified>
  <cp:revision>344</cp:revision>
  <dc:subject/>
  <dc:title>PowerPoint Presentation</dc:title>
</cp:coreProperties>
</file>