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93F-DBE0-44F3-8D2A-936F8D6D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78F-CB30-455F-91F3-48E40D7C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BB2-47BC-4F5D-A572-262747AB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E7B-8DAD-4230-BFBB-DA4CBB0A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2E46-6C47-4E6F-AB89-A7C64EE1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DA9D-A9D5-432B-A917-0C70B113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7B9-6D8B-4A75-A4B1-41AE88BB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1555-E7B0-48EF-897D-E1557F48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4807-B27E-4082-9A0A-29DA5D61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D353-2483-4CE6-AD99-57EB7057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DA63-CB16-440D-8475-2039A6BE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77C-4495-44ED-AD12-913F223A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657C-50AF-46BE-8D31-80431151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ACBF-371C-492E-92D1-423FCBD2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E84B-DFAC-4C67-ABD7-A31ED76F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AE31-4AEB-472C-A8EA-6B1997E4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0557-FA5D-4098-9495-BF8C31CF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C45-CEC0-46AF-9DF6-47B9B681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A88-93D9-4083-BA5F-6BCE1816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E187-8837-47B8-8356-5747C1DB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92F-6BA0-452C-876F-0E47F3E5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F98-4B0D-470F-9838-55974A55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67D-67EC-4820-8471-43E51FD0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B7B-DF0A-4AF1-A97B-EDD4616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B884-13DE-486A-85D9-B363B823B5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C35A-2565-4C1F-9BC2-B90DF4FA19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sl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reports/index.html" TargetMode="External"/><Relationship Id="rId2" Type="http://schemas.openxmlformats.org/officeDocument/2006/relationships/hyperlink" Target="http://nodal.ercot.com/readiness/reports/index.html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EWG 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7/14/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reported on the Extract and Report issues from the mid April to M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rcot.com/services/sla/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issues continue to be on the decline, only 2 events in the last peri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lete Extracts for 3 market 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L outage 103 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al CO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’s report summary monthly identifies key updates to the technical requirements for the Nodal reports and extrac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site is updated every Friday with the latest information regarding reports and extra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2"/>
              </a:rPr>
              <a:t>nodal.ercot.com/readiness/reports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FE Annual Repor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reviewed the annual UFE Report as had been previously provided to CO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wants to pursue further the implications regarding the UFE during Hurricane Ike period as costs were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has the bandwidth to do additional analysis on the hurricane period which may include the impact to UFE and the market for no profile adjust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 for ERCOT to have updates on additional analysis in the August-September time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PRR 179 EPS Load Da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R requests the removal of the requirement for ERCOT to provide EPS Load Data via 867_0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the Load data is available through the 727 Extract, language in current protocols before implementation of 72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 to ERCOT is a reduction of duplicative efforts and reduction in proce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endorsed unanimously, but requested ERCOT to address COPS and RMS on the NPRR to ensure full vi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pcoming I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G will continue to monitor DRG decisions for settlement impl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Retail and Wholesale SLA’s for reports/extracts be combin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FE analysis on settlement impacts to cost and cash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 on COMS and Extract iss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9-07-13T14:35:46Z</dcterms:modified>
  <cp:revision>42</cp:revision>
  <dc:subject/>
  <dc:title>DEWG Meeting Summary</dc:title>
</cp:coreProperties>
</file>