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5ED-7E5F-4F4D-8969-9CA1485E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860-5406-401E-9A6A-18B0035D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F21B-F29A-4409-9F44-E90EE4F7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2E1B-4D00-4CB8-9D1D-F9D7FF12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2E53-F84E-4C76-A72F-4C14B21F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28B4-5619-4E0A-A037-A9700F1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C96C-7981-4337-961B-AE126B47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9234-DA51-4C9D-9801-C2D4EE51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DF0F-2F90-47E1-B01A-ADB216DE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3254-2439-44AB-8F3D-AF2CE61E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A620-A8F1-4E87-B9AF-6EB70F4F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7F22-12B0-499F-9308-BB5115BB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B780-D406-4F46-9D75-EB0C2501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63E1-165D-42E8-9337-CE4F3AF4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EEA7-DC0E-498E-B7E1-9437FF6B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769D-8168-4E05-8CBA-BE9935E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AD77-13E5-443A-BEA3-6B065DEB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7A5-EBAC-41BB-B5CF-B3FB5DA2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92A-C40D-4F8F-8D5A-737B0D27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A14-2781-4733-957F-250D6C32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A93-1379-482D-A64B-D5372ACF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5B3-6168-486A-ABB7-C211B930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F3A-F747-49C5-9484-3E07DFE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9E29-0D7C-4F19-ADCD-F1BC91B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7523-F787-4665-A852-41F6D95CC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89FE-872A-4EFA-B0FC-248E8C46B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914400"/>
            <a:ext cx="784836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ffff00"/>
                </a:solidFill>
                <a:latin typeface="Arial"/>
              </a:rPr>
              <a:t>MCW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arket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redit W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orking </a:t>
            </a: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roup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pdate to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COP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July 14, 200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5867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e Starr - B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MCWG – June 29</a:t>
            </a:r>
            <a:r>
              <a:rPr b="0" lang="en-US" sz="4000" spc="-1" strike="noStrike" u="sng" baseline="30000">
                <a:solidFill>
                  <a:srgbClr val="ffff00"/>
                </a:solidFill>
                <a:uFillTx/>
                <a:latin typeface="Arial"/>
              </a:rPr>
              <a:t>th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Meetin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d discussion of NPRR147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unding of DAM “Short-P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ous suggestions discussed/conside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CWG’s preferred method is for ERCOT Inc., to obtain a facility which would enable the DAM to be paid immediately, and then repaid by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COT, Inc. is not approved to do this at this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read losses to all markets participants, not just load.  For changing the loss methodology it was proposed to accelerate the DAM (nex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celeration of DAM invoice pay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voice rendered 2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day after operating d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ly payment is due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busine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ay after invoice d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ggested payment date be accelerated to next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ban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business day following receipt of DAM invoic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trawman was developed by the MCWG incorporating the above and will be presented to W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ollowing discussion, it was suggested that COPS be advised of the suggestion and review for process implications.   I volunteered to present the issue for discussion, review, and comment by COPS.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ee R. Starr</cp:lastModifiedBy>
  <dcterms:modified xsi:type="dcterms:W3CDTF">2009-07-08T14:20:00Z</dcterms:modified>
  <cp:revision>29</cp:revision>
  <dc:subject/>
  <dc:title>Slide 1</dc:title>
</cp:coreProperties>
</file>