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3714C-A042-4162-BB48-075B0D351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839A-05E2-4303-ABC9-C0935C81C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1C33D-41B4-47AF-97FE-3AE1EFF59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6294-A417-4E62-8D02-BE238993E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2A432-32ED-47FB-B8BD-39C013421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10E95-65A6-4E7F-B9E9-321E09813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32481-96D5-4680-B71D-BDC3566513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BC6DB-8229-496A-85E4-04F0270F1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BBF9D-75D9-47DE-822A-30CE5D0D3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47840-665E-4EBF-8795-E4E613D07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6F029-B16B-497B-9514-08B900D107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D1B75-F1D1-4695-928A-3EC882E52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E9C4-D5BB-459C-8225-E799FFAA5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657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6ED1-3562-435B-98F5-F9B0FAA6C38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IT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43240" y="320004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CO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July 2009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2438280" y="4876920"/>
            <a:ext cx="6477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ey Fel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Account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80031 Retail Application Upgrade SLA Exception Reques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release includes several SIRs and Application patches, as well as DB Upgrades for PaperFree, NAESB and Sieb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concluded that database migration to Production could add 10-12 hours to the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is asking to begin the release at 6am on Saturday (6 hrs early), to ensure we finish by midnight Sunda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affect Retail, MarkeTrak and 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62120" y="2911320"/>
          <a:ext cx="4952880" cy="26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11320"/>
                    <a:ext cx="4952880" cy="26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943600" y="2819520"/>
            <a:ext cx="2549520" cy="3200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543640" y="4724280"/>
            <a:ext cx="320040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felton</cp:lastModifiedBy>
  <dcterms:modified xsi:type="dcterms:W3CDTF">2009-07-10T18:25:54Z</dcterms:modified>
  <cp:revision>291</cp:revision>
  <dc:subject/>
  <dc:title>Instructions</dc:title>
</cp:coreProperties>
</file>